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16C97-B8C3-48AA-89D5-1F8012238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12308-9D43-45AD-A2AD-B2B13FC25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75032-4C98-468E-A3B9-8C970D8AF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DCD22-4925-4372-B5F8-76D8AFA27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639C2-2E4D-47FC-8198-989EA1963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6959A-7C33-4398-9CB9-AD0315B7C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5F84B-F9BD-47B4-A09C-9902B3DFC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24E7C-469E-4C51-98CE-8F573C4EB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DB959-978C-48AB-9C80-0AF8DF7B8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11B52-0783-4057-B3B8-12F2190B4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20382-57AE-4654-80E5-E3E847D85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37ABB-721A-4B33-9926-F2D246037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A3518-A3C2-4225-AB78-D1459388C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5E984-1C64-4F51-8ABE-774D3B8ED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0A9D5-98A9-4608-83A1-00CAB1820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1B217-62C8-4D69-AE2C-C317AB2DF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E2BDD-5095-4E8B-A1D2-47082D60E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DF2FF-0987-4FE8-924E-641C17A93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71064-670F-455F-8528-959A08AC6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D3691-F862-4AF0-9C06-B7B872415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F03C1-E0E8-4003-8807-378D5D8F3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CFD2D-9C52-4BA5-AE20-2448BCC93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AE133-61B9-4271-8709-8AE90D006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EDE63-7D23-4027-94E8-09954A9DB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8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05280" y="4680"/>
            <a:ext cx="17538120" cy="27381240"/>
            <a:chOff x="-8405280" y="4680"/>
            <a:chExt cx="17538120" cy="273812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464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05280" y="4680"/>
              <a:ext cx="773094112920" cy="2738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0"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A2E76-281A-40D9-9A6C-E78B7339481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8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93752280" y="1463760"/>
            <a:ext cx="171988200" cy="21589560"/>
            <a:chOff x="-93752280" y="1463760"/>
            <a:chExt cx="171988200" cy="2158956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464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93752280" y="1463760"/>
              <a:ext cx="171988200" cy="2158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"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129528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8DCCF-DD2A-4684-91CF-830335C3360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99cc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wmf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8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Организм как биосистема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203280" y="4797360"/>
            <a:ext cx="5638680" cy="187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Автор : Кудяшева Вера Григорьевна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МОУ СОШ №12 Имени ОЛЕГА Кошевого Сыктывкара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8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Каждый организм обладает общими свойствами  живого : </a:t>
            </a:r>
            <a:br>
              <a:rPr sz="3200"/>
            </a:b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Химический состав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Обмен веществ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Клеточное строение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Размножение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Рост и развитие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Раздражимость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Саморегуляция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8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Организм как биосистема –единица жизни , с совокупностью жизненных свойств самосовершенствующая , восстанавливающая система  ( И. П. Павлов ) 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55640" y="2205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Чем управляется и регулируется эта система 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8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Гуморальная регуляция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У растений процессами роста и развития осуществляют биологически активные вещества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( стимуляторы 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Ауксины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Гибберилины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Цитокинины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447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4140360" y="1628640"/>
            <a:ext cx="4528800" cy="47530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8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Arial"/>
              </a:rPr>
              <a:t>Управление процессов у одноклеточных</a:t>
            </a: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организмов 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У водорослей , грибов, простейших большую роль играют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ионы кальция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447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4356000" y="1989000"/>
            <a:ext cx="4176720" cy="41259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8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Орган управления у высших организмов 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50560" y="1981080"/>
            <a:ext cx="288108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Нервная регуляция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Более быстрая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Адресована строго определённому органу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447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952720" y="1916280"/>
            <a:ext cx="6191280" cy="43527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8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Нервно –гуморальная  регуляция  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У позвоночных животных и человека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Гуморальная подчиняется нервной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Нормальное функционирование в изменяющихся условиях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47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38382" r="0" b="0"/>
          <a:stretch/>
        </p:blipFill>
        <p:spPr>
          <a:xfrm>
            <a:off x="4284720" y="1844640"/>
            <a:ext cx="4680000" cy="43210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8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432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Организм –биосистема –реально существующая живая система , свойства которой усложнялись в процессе эволюции.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8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Домашняя работа  </a:t>
            </a:r>
            <a:br>
              <a:rPr sz="4000"/>
            </a:b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рочитать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§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2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тветить на вопросы  в конце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§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бочая тетрадь стр .5 Задания 1-7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8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Контрольные  вопросы: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Как осуществляется регуляция у организмов –одноклеточных, растений , у высших животных?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Поясните , что любое живое существо является биосистемой 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Медведь, кукуруза, человек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8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Организм как биосистема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 rot="10800000">
            <a:off x="5580000" y="5443920"/>
            <a:ext cx="3564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1 класс 2 урок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8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93840" y="762120"/>
            <a:ext cx="7772400" cy="468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Организм представляет собой биосистему , состоящую из взаимодействующих элементов.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3428640" y="2085840"/>
            <a:ext cx="5638680" cy="1038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8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Организмы бывают: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66"/>
                </a:solidFill>
                <a:latin typeface="Times New Roman"/>
              </a:rPr>
              <a:t>Одноклеточные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Водоросли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Бактерии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Грибы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животные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447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66"/>
                </a:solidFill>
                <a:latin typeface="Times New Roman"/>
              </a:rPr>
              <a:t>Многоклеточные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Растения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Животные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Грибы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Человек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8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Одноклеточные организмы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Частями клетки являются </a:t>
            </a:r>
            <a:r>
              <a:rPr b="1" lang="en-US" sz="2800" spc="-1" strike="noStrike">
                <a:solidFill>
                  <a:srgbClr val="66ff66"/>
                </a:solidFill>
                <a:latin typeface="Rockwell Extra Bold"/>
              </a:rPr>
              <a:t>органоиды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66"/>
                </a:solidFill>
                <a:latin typeface="Rockwell Extra Bold"/>
              </a:rPr>
              <a:t>Митохондрии,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66"/>
                </a:solidFill>
                <a:latin typeface="Rockwell Extra Bold"/>
              </a:rPr>
              <a:t>Пластиды, рибосомы,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66"/>
                </a:solidFill>
                <a:latin typeface="Rockwell Extra Bold"/>
              </a:rPr>
              <a:t>Вакуоли .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447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56000" y="1628640"/>
            <a:ext cx="4248360" cy="46087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8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Многоклеточный организм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Части организма: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Клетки, ткани, органы , системы органов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447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4716360" y="1557360"/>
            <a:ext cx="3775320" cy="49496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8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Разнообразие организмов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66"/>
                </a:solidFill>
                <a:latin typeface="Times New Roman"/>
              </a:rPr>
              <a:t>По питанию</a:t>
            </a: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 :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Автотрофы –зелёные растения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Гетеротрофы –животные, часть грибов, бактерии , человек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Хемотрофы –бактерии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8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Разнообразие по добыванию пищи : 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349280" y="1981080"/>
            <a:ext cx="2476440" cy="198144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500720" y="1916280"/>
            <a:ext cx="3170160" cy="1946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1663560" y="4114800"/>
          <a:ext cx="1846440" cy="1981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63560" y="4114800"/>
                    <a:ext cx="1846440" cy="19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2" name="" descr=""/>
          <p:cNvPicPr/>
          <p:nvPr/>
        </p:nvPicPr>
        <p:blipFill>
          <a:blip r:embed="rId5"/>
          <a:stretch/>
        </p:blipFill>
        <p:spPr>
          <a:xfrm>
            <a:off x="3114720" y="4365720"/>
            <a:ext cx="2979720" cy="19810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8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93840" y="762120"/>
            <a:ext cx="7772400" cy="5114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Организм обладает определённым индивидуальным запасом наследственной информации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3T13:26:36Z</dcterms:created>
  <dc:creator>Admin</dc:creator>
  <dc:description/>
  <dc:language>en-US</dc:language>
  <cp:lastModifiedBy>КарМаН</cp:lastModifiedBy>
  <dcterms:modified xsi:type="dcterms:W3CDTF">2011-10-18T00:03:12Z</dcterms:modified>
  <cp:revision>6</cp:revision>
  <dc:subject/>
  <dc:title>Организм как биосистема</dc:title>
</cp:coreProperties>
</file>