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9D6D-9673-49D0-9BA7-0A510F428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A13B-AF0D-4EE0-B38E-1C4A92D1A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17F6-587A-4872-BF9F-86D058754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7C81-70AA-4B08-B974-D01D4EE14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0A95B-93D4-48B1-B14E-C38196D17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25865-95A5-4C85-BBAF-37681D3E5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1DDA1-53A8-4D2D-B41C-101E9A9DC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E7399-8217-4136-8017-04F04ECA7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6F438-04A7-4594-B402-E87E3BE3E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B52B0-C936-4B0F-8B7C-1FF3BE0BF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85442-2F9F-4963-ADC9-316BCCEF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75D6-D6F6-4BE4-95CA-CFEF18CAA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22D8F-553B-40B8-BE25-CC464496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FEF7D-0AF4-46CD-AAB5-CB2CB544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54A2A-B6CD-48CF-8A6D-47350ED53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D59D4-A071-420C-B23B-0C690321F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F9D58-73F9-426B-9121-BD40B5711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4191-12EC-4202-AD23-1C81E97C0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79F6-1E02-49D9-B75A-0F0508AE0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69A6-4F61-4201-94F0-8A05FE6EE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2A4E-1ADD-4D9B-9A90-344DF7F56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B869-EC6B-4EFE-97E9-9C4282AE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B673-FF77-4291-9BF8-99AE2B30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4594-EC91-4D49-9EC3-F8C52FD5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5DC94-BCA3-4231-BE1C-F273D22B55B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2943B-5D17-4E21-A59B-4F763B77CB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99c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Организм как биосистема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203280" y="4797360"/>
            <a:ext cx="5638680" cy="187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Автор : Кудяшева Вера Григорьевна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МОУ СОШ №12 Имени ОЛЕГА Кошевого Сыктывкар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Каждый организм обладает общими свойствами  живого : 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Химический состав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бмен веществ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леточное строени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азмножени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ост и развити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аздражимость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аморегуляция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Организм как биосистема –единица жизни , с совокупностью жизненных свойств самосовершенствующая , восстанавливающая система  ( И. П. Павлов )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564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Чем управляется и регулируется эта система 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Гуморальная регуляция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 растений процессами роста и развития осуществляют биологически активные вещества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( стимуляторы 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Ауксины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Гибберилин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Цитокинин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140360" y="1628640"/>
            <a:ext cx="4528800" cy="4753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Управление процессов у одноклеточных</a:t>
            </a: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организмов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 водорослей , грибов, простейших большую роль играют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ионы кальция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356000" y="1989000"/>
            <a:ext cx="4176720" cy="4125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Орган управления у высших организмов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28810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ервная регуляция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Более быстра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дресована строго определённому органу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952720" y="1916280"/>
            <a:ext cx="6191280" cy="4352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Нервно –гуморальная  регуляция 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 позвоночных животных и человека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Гуморальная подчиняется нервной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ормальное функционирование в изменяющихся условиях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38382" r="0" b="0"/>
          <a:stretch/>
        </p:blipFill>
        <p:spPr>
          <a:xfrm>
            <a:off x="4284720" y="1844640"/>
            <a:ext cx="4680000" cy="4321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Организм –биосистема –реально существующая живая система , свойства которой усложнялись в процессе эволюци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Домашняя работа  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читать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§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ить на вопросы  в конце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§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бочая тетрадь стр .5 Задания 1-7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Контрольные  вопросы: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ак осуществляется регуляция у организмов –одноклеточных, растений , у высших животных?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оясните , что любое живое существо является биосистемой 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Медведь, кукуруза, человек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Организм как биосистем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 rot="10800000">
            <a:off x="5580000" y="5443920"/>
            <a:ext cx="3564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1 класс 2 уро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3840" y="76212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Организм представляет собой биосистему , состоящую из взаимодействующих элементов.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428640" y="2085840"/>
            <a:ext cx="563868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Организмы бывают: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Times New Roman"/>
              </a:rPr>
              <a:t>Одноклеточные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одоросл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Бактерии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Грибы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животны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Times New Roman"/>
              </a:rPr>
              <a:t>Многоклеточные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астени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Животны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Гриб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Человек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Одноклеточные организмы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Частями клетки являются </a:t>
            </a:r>
            <a:r>
              <a:rPr b="1" lang="en-US" sz="2800" spc="-1" strike="noStrike">
                <a:solidFill>
                  <a:srgbClr val="66ff66"/>
                </a:solidFill>
                <a:latin typeface="Rockwell Extra Bold"/>
              </a:rPr>
              <a:t>органоиды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Rockwell Extra Bold"/>
              </a:rPr>
              <a:t>Митохондрии,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Rockwell Extra Bold"/>
              </a:rPr>
              <a:t>Пластиды, рибосомы,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Rockwell Extra Bold"/>
              </a:rPr>
              <a:t>Вакуоли .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56000" y="1628640"/>
            <a:ext cx="4248360" cy="4608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Многоклеточный организм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Части организма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летки, ткани, органы , системы орган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716360" y="1557360"/>
            <a:ext cx="3775320" cy="4949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Разнообразие организмов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66"/>
                </a:solidFill>
                <a:latin typeface="Times New Roman"/>
              </a:rPr>
              <a:t>По питанию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Автотрофы –зелёные растения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Гетеротрофы –животные, часть грибов, бактерии , человек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Хемотрофы –бактери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Разнообразие по добыванию пищи :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349280" y="1981080"/>
            <a:ext cx="2476440" cy="1981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500720" y="1916280"/>
            <a:ext cx="3170160" cy="1946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1663560" y="4114800"/>
          <a:ext cx="1846440" cy="19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63560" y="4114800"/>
                    <a:ext cx="184644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3114720" y="4365720"/>
            <a:ext cx="2979720" cy="1981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3840" y="762120"/>
            <a:ext cx="7772400" cy="511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Организм обладает определённым индивидуальным запасом наследственной информации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3T13:26:36Z</dcterms:created>
  <dc:creator>Admin</dc:creator>
  <dc:description/>
  <dc:language>en-US</dc:language>
  <cp:lastModifiedBy>КарМаН</cp:lastModifiedBy>
  <dcterms:modified xsi:type="dcterms:W3CDTF">2011-10-18T00:03:12Z</dcterms:modified>
  <cp:revision>6</cp:revision>
  <dc:subject/>
  <dc:title>Организм как биосистема</dc:title>
</cp:coreProperties>
</file>