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DCC-64DE-4936-BCD8-59EECF40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65BD-81B2-41E2-88BF-5137DB41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703-9FAC-4A93-96C6-FAFE64FB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3FAF-4928-4050-A6A4-124B73E0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626E-2C0E-4ECB-B8D9-46E6D9B4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5A16-602B-46D3-A310-AE089A40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4754-8F6F-451B-8D83-5A177E22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2F37-CB6B-445A-AE3B-F45A548B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AE21-BD6B-45F2-A5A7-2F524721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0328-C5F9-4138-828E-6DEFB750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1440-902B-4BFD-A3D4-028DE658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BC56-C506-4781-9919-C476C9BC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FFA5-C6B3-40B1-BF7B-43BF5821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6F57-88D2-45DA-B443-43F10691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98C3-EFE3-42B5-B863-302C0DF6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0F95-99EA-46B5-AC85-54AD7B8E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3300-304E-4D53-B3C9-6C2C93CD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D80-82AC-4672-8F18-B6B4AAEF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400-FDEE-41F6-A309-174012E9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EAA-9666-4832-B9B5-3E41D0A4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F7B-BC53-43CA-9121-4E5A10FF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3B1-FE8F-4E22-ADED-B409636D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676-C9FB-4062-9BE4-5B140249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E22-41A5-4449-A565-9035709C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AB4B-734C-42A9-908B-064AC8B51A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071B-2E50-4D97-A86D-7D20CC9EC2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03280" y="4797360"/>
            <a:ext cx="563868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Автор : Кудяшева Вера Григорьевна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МОУ СОШ №12 Имени ОЛЕГА Кошевого Сыктывкар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Каждый организм обладает общими свойствами  живого : 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мический соста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мен вещест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леточное стро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множ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ост и развит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дражимост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аморегуляц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Организм как биосистема –единица жизни , с совокупностью жизненных свойств самосовершенствующая , восстанавливающая система  ( И. П. Павлов )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Чем управляется и регулируется эта система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Гуморальная регуляция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растений процессами роста и развития осуществляют биологически активные вещества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 стимуляторы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Ауксин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Гибберил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Цитокин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52880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Управление процессов у одноклеточных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организмов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водорослей , грибов, простейших большую роль играют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оны кальц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56000" y="1989000"/>
            <a:ext cx="4176720" cy="412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Орган управления у высших организмов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2881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рвная регуляция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лее быстр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дресована строго определённому органу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52720" y="1916280"/>
            <a:ext cx="6191280" cy="435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Нервно –гуморальная  регуляция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позвоночных животных и человека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уморальная подчиняется нервн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ормальное функционирование в изменяющихся условия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38382" r="0" b="0"/>
          <a:stretch/>
        </p:blipFill>
        <p:spPr>
          <a:xfrm>
            <a:off x="4284720" y="1844640"/>
            <a:ext cx="468000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–биосистема –реально существующая живая система , свойства которой усложнялись в процессе эволюци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Домашняя работа 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ить на вопросы  в конц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чая тетрадь стр .5 Задания 1-7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онтрольные  вопросы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осуществляется регуляция у организмов –одноклеточных, растений , у высших животных?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ясните , что любое живое существо является биосистемой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дведь, кукуруза, челове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 rot="10800000">
            <a:off x="5580000" y="5443920"/>
            <a:ext cx="356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1 класс 2 ур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представляет собой биосистему , состоящую из взаимодействующих элементов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ы бывают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Одноклеточные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дорос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ктерии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Многоклеточные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елове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дноклеточные организмы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ями клетки являются </a:t>
            </a: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органоиды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Митохондрии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Пластиды, рибосомы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Вакуоли 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24836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Многоклеточный организм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Части организма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, ткани, органы , системы орга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775320" cy="49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азнообразие организмов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По питанию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втотрофы –зелёные растения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етеротрофы –животные, часть грибов, бактерии , челов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емотрофы –бактер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Разнообразие по добыванию пищи :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49280" y="1981080"/>
            <a:ext cx="2476440" cy="198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317016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1663560" y="4114800"/>
          <a:ext cx="184644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4114800"/>
                    <a:ext cx="1846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114720" y="4365720"/>
            <a:ext cx="297972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обладает определённым индивидуальным запасом наследственной информа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3:26:36Z</dcterms:created>
  <dc:creator>Admin</dc:creator>
  <dc:description/>
  <dc:language>en-US</dc:language>
  <cp:lastModifiedBy>КарМаН</cp:lastModifiedBy>
  <dcterms:modified xsi:type="dcterms:W3CDTF">2011-10-18T00:03:12Z</dcterms:modified>
  <cp:revision>6</cp:revision>
  <dc:subject/>
  <dc:title>Организм как биосистема</dc:title>
</cp:coreProperties>
</file>