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6FEF-1411-4740-A2C9-9E6784E8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4EFF-E4B6-455A-860A-6851BCDE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F238-904D-433C-9D41-2FB62F17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57FF-9D33-45AC-BCB1-412FC783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4F5D-1F71-4A2F-9FED-3F343EEC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B8E2-917E-4041-8675-CD96F5D7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0B6A-BE62-473A-83D1-E8779706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11D3-8E9C-4BC3-A2C5-DE300AA5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D927-0B59-4982-B1FA-07F59C47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B457-B566-448C-B549-8EE3E733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A5C0-8BCB-4F70-AAFD-93C31574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26DE-656B-4C62-9044-741F571B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57F6-9170-48AC-A83D-8AB2A2FF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E3F9-C70C-453B-A08F-DE4DA349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6F0E-72A3-444D-957D-CEA59428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9C33-539C-4DAD-9386-8D6318E6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017B-827D-487B-9891-BBB3DA24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D96E-76FD-46AC-AC8E-77D776F6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C848-19B2-4ABC-BCFF-7A78D19D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60A1-14ED-4191-8BD2-995FC2CB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D5F6-19F8-4C22-A9A0-092E5123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9F5F-140A-421E-A097-6B9B0B37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2E25-53CF-41AD-8C9A-7D846200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1F70-42EB-4AAE-ACAB-D784CACD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0A8E-7CCE-453B-BFA1-8B7366D55C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3F69-6619-4E70-8006-4515E2B055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99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как биосистема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203280" y="4797360"/>
            <a:ext cx="5638680" cy="18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Автор : Кудяшева Вера Григорьевна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МОУ СОШ №12 Имени ОЛЕГА Кошевого Сыктывкар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Каждый организм обладает общими свойствами  живого : 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имический соста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бмен вещест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леточное стро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множ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ост и развит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дражимост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аморегуляц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Организм как биосистема –единица жизни , с совокупностью жизненных свойств самосовершенствующая , восстанавливающая система  ( И. П. Павлов )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Чем управляется и регулируется эта система 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Гуморальная регуляция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растений процессами роста и развития осуществляют биологически активные вещества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 стимуляторы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Ауксины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Гибберилин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Цитокинин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52880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Управление процессов у одноклеточных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организмов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водорослей , грибов, простейших большую роль играют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ионы кальция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356000" y="1989000"/>
            <a:ext cx="4176720" cy="4125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Орган управления у высших организмов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28810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рвная регуляция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олее быстра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дресована строго определённому органу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52720" y="1916280"/>
            <a:ext cx="6191280" cy="4352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Нервно –гуморальная  регуляция 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позвоночных животных и человека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уморальная подчиняется нервн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ормальное функционирование в изменяющихся условия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38382" r="0" b="0"/>
          <a:stretch/>
        </p:blipFill>
        <p:spPr>
          <a:xfrm>
            <a:off x="4284720" y="1844640"/>
            <a:ext cx="468000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–биосистема –реально существующая живая система , свойства которой усложнялись в процессе эволюци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Домашняя работа 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читат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ить на вопросы  в конц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чая тетрадь стр .5 Задания 1-7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Контрольные  вопросы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 осуществляется регуляция у организмов –одноклеточных, растений , у высших животных?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ясните , что любое живое существо является биосистемой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едведь, кукуруза, человек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Организм как биосистем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 rot="10800000">
            <a:off x="5580000" y="5443920"/>
            <a:ext cx="356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1 класс 2 уро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представляет собой биосистему , состоящую из взаимодействующих элементов.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ы бывают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Одноклеточные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доросл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актерии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рибы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ивот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Многоклеточные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стени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ивот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риб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елове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дноклеточные организмы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астями клетки являются </a:t>
            </a: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органоиды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Митохондрии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Пластиды, рибосомы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Вакуоли 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248360" cy="460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Многоклеточный организм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Части организма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етки, ткани, органы , системы орга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3775320" cy="494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азнообразие организмов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По питанию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втотрофы –зелёные растения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етеротрофы –животные, часть грибов, бактерии , челове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емотрофы –бактер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Разнообразие по добыванию пищи :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49280" y="1981080"/>
            <a:ext cx="2476440" cy="1981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00720" y="1916280"/>
            <a:ext cx="3170160" cy="194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1663560" y="4114800"/>
          <a:ext cx="184644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4114800"/>
                    <a:ext cx="18464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114720" y="4365720"/>
            <a:ext cx="2979720" cy="198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обладает определённым индивидуальным запасом наследственной информа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3:26:36Z</dcterms:created>
  <dc:creator>Admin</dc:creator>
  <dc:description/>
  <dc:language>en-US</dc:language>
  <cp:lastModifiedBy>КарМаН</cp:lastModifiedBy>
  <dcterms:modified xsi:type="dcterms:W3CDTF">2011-10-18T00:03:12Z</dcterms:modified>
  <cp:revision>6</cp:revision>
  <dc:subject/>
  <dc:title>Организм как биосистема</dc:title>
</cp:coreProperties>
</file>