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7368-0BD4-43AB-AC38-2CE6D1B68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DA72-B2BA-43E6-BFA6-1A014DDC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0507-E046-4012-B61C-603AEA09B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977C-DC5E-4094-8F6C-3349395DE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0E29-65B0-4C85-81EF-B146AC7D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DF2E-2FF3-4A70-B120-2DF9FCAA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2D1D-CDA5-4E39-9F9B-34E730A5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60F6-3C01-4A31-8507-DD79A8D3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69F1-A2D6-48CD-AE36-4556D0E2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ED06-1407-4A87-9236-F916F15E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94DA-198F-4D92-BCB7-0919D326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FC86-5E4E-47D8-9869-99C2DC99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7142-20A0-4225-BDE0-1314EE5B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BB0F-30D9-40B2-BC15-2E42F6D9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EF08-F669-4581-B53A-5270C4F8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B466-4BAE-4669-BC5F-725D35F72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B8BD-AC68-4151-961F-165323761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ACAF-2BFD-4056-81CD-26D85C26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BD26-976D-4794-A9E2-F397259D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F1F5-C2B2-48F4-88E2-CBD1464D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CC4D-B06A-414B-A12C-C3A41C7D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3018-BCA5-4546-897B-71CC327D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F338-2480-4357-B7C1-846C5CC2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CDB5-C161-4897-8E95-C48FB4CF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AC15-F5A5-4E0B-A441-23A2C2801A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3C4A-5173-47A2-A873-AB27486146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99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как биосистема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203280" y="4797360"/>
            <a:ext cx="5638680" cy="18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Автор : Кудяшева Вера Григорьевна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МОУ СОШ №12 Имени ОЛЕГА Кошевого Сыктывкар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Каждый организм обладает общими свойствами  живого : 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имический состав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бмен веществ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леточное стро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множ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ост и развит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дражимост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аморегуляци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Организм как биосистема –единица жизни , с совокупностью жизненных свойств самосовершенствующая , восстанавливающая система  ( И. П. Павлов )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Чем управляется и регулируется эта система 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Гуморальная регуляция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растений процессами роста и развития осуществляют биологически активные вещества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 стимуляторы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Ауксины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Гибберилин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Цитокинин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528800" cy="47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Управление процессов у одноклеточных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организмов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водорослей , грибов, простейших большую роль играют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ионы кальция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356000" y="1989000"/>
            <a:ext cx="4176720" cy="4125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Орган управления у высших организмов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28810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рвная регуляция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олее быстра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дресована строго определённому органу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952720" y="1916280"/>
            <a:ext cx="6191280" cy="4352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Нервно –гуморальная  регуляция 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позвоночных животных и человека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уморальная подчиняется нервн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ормальное функционирование в изменяющихся условия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38382" r="0" b="0"/>
          <a:stretch/>
        </p:blipFill>
        <p:spPr>
          <a:xfrm>
            <a:off x="4284720" y="1844640"/>
            <a:ext cx="4680000" cy="432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–биосистема –реально существующая живая система , свойства которой усложнялись в процессе эволюци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Домашняя работа 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читат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ить на вопросы  в конце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чая тетрадь стр .5 Задания 1-7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Контрольные  вопросы: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 осуществляется регуляция у организмов –одноклеточных, растений , у высших животных?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ясните , что любое живое существо является биосистемой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едведь, кукуруза, человек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Организм как биосистем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 rot="10800000">
            <a:off x="5580000" y="5443920"/>
            <a:ext cx="3564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1 класс 2 уро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3840" y="76212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представляет собой биосистему , состоящую из взаимодействующих элементов.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ы бывают: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Times New Roman"/>
              </a:rPr>
              <a:t>Одноклеточные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доросл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актерии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рибы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ивотны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Times New Roman"/>
              </a:rPr>
              <a:t>Многоклеточные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астени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ивотны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риб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елове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дноклеточные организмы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астями клетки являются </a:t>
            </a: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органоиды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Митохондрии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Пластиды, рибосомы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Вакуоли 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56000" y="1628640"/>
            <a:ext cx="4248360" cy="460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Многоклеточный организм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Части организма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летки, ткани, органы , системы орган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716360" y="1557360"/>
            <a:ext cx="3775320" cy="494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Разнообразие организмов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По питанию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втотрофы –зелёные растения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етеротрофы –животные, часть грибов, бактерии , челове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емотрофы –бактер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Разнообразие по добыванию пищи :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349280" y="1981080"/>
            <a:ext cx="2476440" cy="1981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00720" y="1916280"/>
            <a:ext cx="3170160" cy="194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1663560" y="4114800"/>
          <a:ext cx="184644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4114800"/>
                    <a:ext cx="18464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114720" y="4365720"/>
            <a:ext cx="2979720" cy="198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3840" y="76212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обладает определённым индивидуальным запасом наследственной информаци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3:26:36Z</dcterms:created>
  <dc:creator>Admin</dc:creator>
  <dc:description/>
  <dc:language>en-US</dc:language>
  <cp:lastModifiedBy>КарМаН</cp:lastModifiedBy>
  <dcterms:modified xsi:type="dcterms:W3CDTF">2011-10-18T00:03:12Z</dcterms:modified>
  <cp:revision>6</cp:revision>
  <dc:subject/>
  <dc:title>Организм как биосистема</dc:title>
</cp:coreProperties>
</file>