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875-DF61-4773-87DF-69F20AC9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09E-F53F-4E29-876B-DEF2FCFC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626-2DCB-408E-8AC6-5A5374C3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BD33-C6F3-471B-8CA3-1EE7AD10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B184-612A-44D5-9A16-B4D9A7F4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B901-508A-4F83-BCF1-5874A856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9AE4-2DFA-415B-B095-66248B4C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260-657D-47BF-A214-8025CC1F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3DFB-D6C4-4F86-AA78-7CFBC341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EBA-463E-4B6E-AF8E-7ABA2432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A1C2-155C-44CE-B8B1-6156D254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F3FA-E409-4065-AB56-79E1800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A9A0-174C-480D-9F9B-C3CB8EBB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AB5A-81A0-4B0E-9864-D7BB46D8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76C-37C9-4117-9050-6FE987D1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9FA6-D83C-4944-83A0-292A735F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1446-26A2-45B8-AC26-037B564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477-E279-435D-8474-8264AEC2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D4A-9C47-44CC-99F2-C7AE4A1E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32E-4534-4D26-8B9D-D6BE7F20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D66-7064-4F98-914A-F708D391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B43-1EA8-4290-B45E-E59689DA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C67-C110-47E2-BC5B-A5811EA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A85-3909-4BA0-AD47-0DA63D4C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A270-9A7B-4587-97B6-83F97419B8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E193-E39B-4093-BE17-9FB1011BC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203280" y="4797360"/>
            <a:ext cx="5638680" cy="18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Автор : Кудяшева Вера Григорьевна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МОУ СОШ №12 Имени ОЛЕГА Кошевого Сыктывкар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Каждый организм обладает общими свойствами  живого : 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мический соста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мен вещест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леточное стро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множен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 и развити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дражимо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аморегуля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рганизм как биосистема –единица жизни , с совокупностью жизненных свойств самосовершенствующая , восстанавливающая система  ( И. П. Павлов )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Чем управляется и регулируется эта система 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Гуморальная регуляция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растений процессами роста и развития осуществляют биологически активные вещест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 стимуляторы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Ауксины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Гибберил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Цитокинин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52880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Управление процессов у одноклеточных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организмов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водорослей , грибов, простейших большую роль играю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оны кальция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412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Орган управления у высших организмов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28810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рвная регуляция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олее быстр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дресована строго определённому органу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2720" y="1916280"/>
            <a:ext cx="6191280" cy="4352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Нервно –гуморальная  регуляция 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позвоночных животных и человека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уморальная подчиняется нерв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ормальное функционирование в изменяющихся условия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38382" r="0" b="0"/>
          <a:stretch/>
        </p:blipFill>
        <p:spPr>
          <a:xfrm>
            <a:off x="4284720" y="1844640"/>
            <a:ext cx="468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–биосистема –реально существующая живая система , свойства которой усложнялись в процессе эволюци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Домашняя работа 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ить на вопросы  в конц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чая тетрадь стр .5 Задания 1-7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онтрольные  вопросы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 осуществляется регуляция у организмов –одноклеточных, растений , у высших животных?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ясните , что любое живое существо является биосистемой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дведь, кукуруза, человек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Организм как биосистем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 rot="10800000">
            <a:off x="5580000" y="5443920"/>
            <a:ext cx="356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 класс 2 ур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представляет собой биосистему , состоящую из взаимодействующих элементов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ы бывают: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Одноклеточные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дорос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ктери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Многоклеточные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риб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елове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дноклеточные организмы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Частями клетки являются </a:t>
            </a: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органоиды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Митохондрии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Пластиды, рибосомы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Rockwell Extra Bold"/>
              </a:rPr>
              <a:t>Вакуоли 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56000" y="1628640"/>
            <a:ext cx="4248360" cy="460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Многоклеточный организм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Части организма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, ткани, органы , системы орга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47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3775320" cy="49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азнообразие организмов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По питанию</a:t>
            </a:r>
            <a:r>
              <a:rPr b="0" lang="en-US" sz="3200" spc="-1" strike="noStrike">
                <a:solidFill>
                  <a:srgbClr val="66ff66"/>
                </a:solidFill>
                <a:latin typeface="Times New Roman"/>
              </a:rPr>
              <a:t> 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втотрофы –зелёные растени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етеротрофы –животные, часть грибов, бактерии , челов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емотрофы –бактери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Разнообразие по добыванию пищи :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349280" y="1981080"/>
            <a:ext cx="2476440" cy="1981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00720" y="1916280"/>
            <a:ext cx="317016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663560" y="4114800"/>
          <a:ext cx="18464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4114800"/>
                    <a:ext cx="1846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114720" y="4365720"/>
            <a:ext cx="2979720" cy="198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Организм обладает определённым индивидуальным запасом наследственной информа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3:26:36Z</dcterms:created>
  <dc:creator>Admin</dc:creator>
  <dc:description/>
  <dc:language>en-US</dc:language>
  <cp:lastModifiedBy>КарМаН</cp:lastModifiedBy>
  <dcterms:modified xsi:type="dcterms:W3CDTF">2011-10-18T00:03:12Z</dcterms:modified>
  <cp:revision>6</cp:revision>
  <dc:subject/>
  <dc:title>Организм как биосистема</dc:title>
</cp:coreProperties>
</file>