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7.gif" ContentType="image/gif"/>
  <Override PartName="/ppt/media/image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8.gif" ContentType="image/gif"/>
  <Override PartName="/ppt/media/image19.wmf" ContentType="image/x-wmf"/>
  <Override PartName="/ppt/media/image18.jpeg" ContentType="image/jpeg"/>
  <Override PartName="/ppt/media/image9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4725-639F-479B-90B9-42FC7CF3F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A2FB-1C16-42F1-A338-6091F4D9A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9622-E33B-4290-8FC6-554E2E0F4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1FD6-2798-4209-8005-F61125F6F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F904-9A08-475A-9D0F-FA3E3F519A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5918D-AA44-43DA-966A-E1A67A09BF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9BBC-3D1B-4113-A124-AAD5C7FDEC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DCE4F-C8D0-4BEA-A5E9-1BA0A17D11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DBEAE-FA26-434C-B3CC-0B3D976661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73019-8E4F-434F-BC3C-D892465FC6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9C75-F749-4BCD-AFFD-03751B397E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1A02-5FB6-460A-9897-722A98CAE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B2CB-5C5B-4114-80FE-84C6230A66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8B001-EFA6-45E0-8DC2-DC83572066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2CA1B-CC1F-4C78-8C3A-11F9F105CC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11473-39B9-487B-88C1-09F2C21580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7EC3-F4F6-43C2-9141-7DF75650F2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93B-AFA6-4AB8-A92F-7841A4DAC5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637-D9EB-44D0-9C07-D607F7970D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D27-8F97-4F15-950D-6827605BA0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284-E55A-4E27-969B-159095E660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16B-E158-45F4-AD6E-445F1A688B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6DAA-73B2-4AF4-942D-2F0DC91B04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1AA-8100-493C-84CC-2F703B4B05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71A-C276-4390-A90A-F13BF1A78C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BB8-0A06-4623-9042-0077F0367A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2E6-3B26-4F3F-9E87-6F121E9822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1D0-72DA-4B82-9B09-8E548E6D18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ED5-C94E-4422-82E0-CB82D2EC8D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21F-839A-434C-8EEC-90A603A05E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7AD1D-F167-4897-ABDE-0F6EA4465E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3C7D6-E540-4EA7-AB7F-474DDC9B85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86849-1B0A-4981-A0D4-98F72EC92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705F-C00F-4E4A-8E17-7AEFD2609A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30B21-5062-48CD-BF72-CB3E269759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43A81-38DB-49F5-A780-766CC49D99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9957E-DFF0-499A-B848-8255522166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A1C14-AD2F-4921-8E79-1F49D2A851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71E67-A156-424D-B8C6-80AA09BE80C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FE6FA-DDAA-441A-AC9C-638EF1AFEF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C23B7-44AB-401D-B4F9-188B3ECB16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BC8F4-15E0-4DF1-9926-E9C14DEBE5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EA5B2-55E7-4C85-AFE7-D52C49CF8D9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9B03A-74C1-488D-AAF1-2B9B37430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154A-E747-4D78-AA4C-0D82AD427B1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97382-1F35-4AD8-A5EA-161F1D0F57F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74717-39E4-4346-97CC-D90C66BF485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C3199-6424-47EC-BA5E-896B49BDE4E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10991-7CF8-4BE9-B2D6-B06247FA701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282AD-2FB7-4141-B382-96AC05573D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0657D-230E-4C22-8531-74426F4885E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E2725-08A4-49DA-8D51-62FED96F39C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7289C-643B-4CF4-9AEE-EB4D48856F5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30204-CBF9-4503-B197-A4AE7DF0A37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F3DA7-5AB7-4330-85AE-E17FF09E7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6A32-3C43-453C-9997-A9709E1FA0B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80593-10F7-4750-A68C-8680C7B3631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CE61-B0AC-4410-8968-829C172C163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9FE0-B14B-44B2-866F-0230BDC101E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10E6-5F6E-499A-934B-7FF7505CFA8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7849-541F-4FDC-8C8E-FC863FDA4A4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BE8C-9576-4EC8-A15A-60EB4255A00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3D85-0779-4733-9D3F-18DA9412641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C11A-9DE3-4877-A8A9-8AC755A2978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2965-DFDE-4627-AD59-1477F409071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A205-9797-4EC0-A7A5-EADD3865C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0A79-BF29-4639-9F59-7490448ECDD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3AC9-8A42-47DE-BFF2-9812E41F55A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25BE-53C5-45BD-AE53-86DB6DADD65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3286-433A-455E-B5B8-64971522EAC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FAED0F-6D92-4228-B7E3-64F023DC183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01FEF0-E326-4D40-9F5B-5D82ACD4138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9B505C-3D21-4358-BA20-DF4B193E2D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466186-C7A1-4BED-A62A-C1115B6A910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DE276-31DE-4670-8B1D-9480589D387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D17272-CD14-4AA3-9F9E-E4AD80DF7E5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932542-4889-4D7D-81F1-FB068684A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F0DD-18D0-42AF-8DB1-74E28263370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A1D1CA-64C4-4293-9462-ECA40139ABD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1D90BD-0B78-4940-B98B-D23933FD08F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5A0A14-01C7-4FCD-8E50-07DF9174435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386CE7-6703-466A-B1FE-DEA97BCE04C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DBEAD6-FDA7-4400-A9DE-BF736FD0404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9F17-87FA-4699-9603-0DD02CB7A21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78965B-2F57-4071-A4E1-89BE28A4A55B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9097920" y="22212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1146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1325520" y="4929120"/>
            <a:ext cx="571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D6ADDF-098E-4F39-8565-6B98090A4E18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F96BCF-FA58-434A-BBC9-E67C47587EF1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9096480" y="2174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1146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1339560" y="4929120"/>
            <a:ext cx="5713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24579B-6EF6-41AD-952A-2612B2106F92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AC9D50-A9A1-481C-93FB-4E7C807D9C7D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18ADD5-25F0-4EF5-8F5B-CEEA21E21D4C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057AF8-7E38-44FD-9BDC-A0A3C5CA5292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539640" y="642960"/>
            <a:ext cx="7920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ОЕКТ НА ТЕМ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«НЕГАТИВНОЕ ВЛИЯНИЕ ШУМА Н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ДОРОВЬЕ ЧЕЛОВЕ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4859280" y="3240000"/>
            <a:ext cx="360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ыполнили 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Иноземцева Т.Н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Фролова Н.А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-360360" y="8810640"/>
            <a:ext cx="2801880" cy="1449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574560" y="2824200"/>
            <a:ext cx="4286520" cy="3295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5759280" y="711360"/>
            <a:ext cx="2802240" cy="1449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"/>
          <p:cNvSpPr/>
          <p:nvPr/>
        </p:nvSpPr>
        <p:spPr>
          <a:xfrm>
            <a:off x="452520" y="314280"/>
            <a:ext cx="74674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Рекомендации </a:t>
            </a:r>
            <a:br>
              <a:rPr sz="2600"/>
            </a:b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по ослаблению негативного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влияния шума на организм челов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57200" y="1979640"/>
            <a:ext cx="746748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Ограничить ежедневное прослушивание громкой музыки, телевизионных передач, работу за компьютером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 выполнении шумной работы, через каждый час делать 10 минутный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перерыв или прослушивать успокаивающую музы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Следить за разговорной речью: не кричать, не повышать голос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егулярное медицинское обследова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садка деревьев вокруг зда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дпочтение отдавать отдыху на природе, а не дискоте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менение средств  защиты от шум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наушники из шумоизолирующих материал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тивошумные вкладыш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2300dc"/>
              </a:buClr>
              <a:buFont typeface="Wingdings" charset="2"/>
              <a:buChar char="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Информационная работа по профилактике влияния шума на здоровье обучающихся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720720" y="720720"/>
            <a:ext cx="73803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В результате ограничения прослушивания громкой музыки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боты        за компьютером улучшился сон у 30% учащихс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2.  Повысилось внимание и активизировалась учебная деятельность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3. Снизилась доля конфликтов между учащимися на 2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4. В течение зимних каникул 60% учащихся предпочли ежедневное    катание на коньках и лыжах ежедневному сидению у компьютера и    телевизора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5. Провели беседу о негативном влиянии шума на учеников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пагандировали здоровый образ жизни в 4 начальных класс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7. После медицинского обследования 10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евятиклассников получили рекоменд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 лечению и восстановлению слух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232000" cy="1511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2880"/>
            <a:ext cx="7466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ЧЕЛОВЕК 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1600200"/>
            <a:ext cx="74660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, столь мало уважаемое в юных летах, делается в летах зрелости истинным благом; самое чувство жизни бывает гораздо милее тогда, когда уже пролетела ее быстрая половина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М.Карамз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 никогда не может потерять своей цены в глазах человека, потому что и в довольстве и в роскоши плохо жить без здоровья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Г.Черныше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Берегите уши!  Будьте здоровы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Удачи</a:t>
            </a:r>
            <a:r>
              <a:rPr b="0" lang="ru-RU" sz="2400" spc="-1" strike="noStrike">
                <a:solidFill>
                  <a:srgbClr val="3333cc"/>
                </a:solidFill>
                <a:latin typeface="Century Schoolbook"/>
                <a:ea typeface="Arial Unicode MS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539640" y="485928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2"/>
          <a:stretch/>
        </p:blipFill>
        <p:spPr>
          <a:xfrm>
            <a:off x="6659640" y="53964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57200" y="720720"/>
            <a:ext cx="746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Используем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1413000"/>
            <a:ext cx="746748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пользование коммуникативных средств при выполнении проектов как фактор формирования социальной компетентности педагога и учащихся. -Саратов: ИЦ «РАТА», 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ОБЖ, 9 класс, поурочное планирование.-Волгоград: Учитель,200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Материалы Интернет с сайт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mhtv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fil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//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еливерстова Д.Н., Селиверстова В.В., Селиверстов В.Н.Формула здоровья.- Волгоград: Зацарицынский вестник, 19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льичев А.А. Популярная энциклопедия для выживания подростков.-М:ЭКСМО-Пресс,20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олесов Д.В. Учебник «Биология», 8 класс,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6673680" y="4881600"/>
            <a:ext cx="1785960" cy="1417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671400" y="635040"/>
            <a:ext cx="7790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39640" y="4316400"/>
            <a:ext cx="3421080" cy="1984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539640" y="2160720"/>
            <a:ext cx="3419640" cy="19796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720720" y="720720"/>
            <a:ext cx="755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Обоснование выбора темы про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82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основание выбора темы проекта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4319640" y="2340000"/>
            <a:ext cx="414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гативное влияние шума сказывается на органах слуха, сердечно-сосудистой системе, на работе печени, к истощению и перенапряжению нервных клеток, к изменениям в стволовых клетках. Ослабленные клетки нервной системы не могут достаточно четко координировать работу различных систем организма. Различные виды шумов приводят к развитию шумовой болезни.  Проведенные научные исследования показали, что у людей, находящихся в шумной обстановке,  в результате систематического воздействия шума, производительность труда падает на 10% и увеличивается заболеваемость на 3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3"/>
          <a:stretch/>
        </p:blipFill>
        <p:spPr>
          <a:xfrm>
            <a:off x="7020000" y="1260360"/>
            <a:ext cx="1218960" cy="1171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274680"/>
            <a:ext cx="641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ЦЕЛЬ ПРОЕКТА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азработа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екомендации по защите от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негативного воздействия шума   на организм человека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6200" cy="2357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1779480" y="431964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АДАЧ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95280" y="1628640"/>
            <a:ext cx="8115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Выяснить, что такое шу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Выявить источники шума в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окружающе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Выявить опасный предел шума д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осприятия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Рекомендовать способы защиты 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шу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6300720" y="1440000"/>
            <a:ext cx="1643040" cy="1714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619280" y="189000"/>
            <a:ext cx="7035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РИТЕР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35080" y="1481040"/>
            <a:ext cx="9001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     Красоч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     Доступ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изложения материа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     Информатив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     Достовер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480960" y="5040360"/>
            <a:ext cx="1859040" cy="1463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5425920" y="4500720"/>
            <a:ext cx="3033720" cy="1800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3"/>
          <a:stretch/>
        </p:blipFill>
        <p:spPr>
          <a:xfrm>
            <a:off x="5265720" y="1265400"/>
            <a:ext cx="3193920" cy="179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28760" y="735120"/>
            <a:ext cx="79200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то такое шум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беспорядочное сочетание различ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по</a:t>
            </a: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силе и частоте зву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громкие звуки, слившиеся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естройное    звуч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-явление всепроникающее и негатив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воздействующее на организм человека 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совокупности с другими фактор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(вредными       примесями в воздухе и вод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электромагнитным   излучением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апряженностью труда и т.д.).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450120" y="720720"/>
            <a:ext cx="2009520" cy="1079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5219640" y="4140360"/>
            <a:ext cx="3060720" cy="2160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"/>
          <p:cNvSpPr/>
          <p:nvPr/>
        </p:nvSpPr>
        <p:spPr>
          <a:xfrm>
            <a:off x="539640" y="549360"/>
            <a:ext cx="76662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точники шу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Работа бытовых приборов: телевизор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агнитофон, стиральная машина, ради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ранспорт железнодорожны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авиационный,    автомобильны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Строительные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Природные явления: гром, цунам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землетрясение, обвал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узы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лест лист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пот, разгово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ечение воды из кра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Крики, виз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30320" y="1440000"/>
            <a:ext cx="40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0000" y="539640"/>
            <a:ext cx="7559640" cy="63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Физические характеристики шу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Уровень шума измеряется в единицах звукового давления — децибелах (дБ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Болевой порог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                                                        1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кетный двигатель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4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ая музыка                                                               12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робильная машина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1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сс, метро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Уровень шума, вредный для слуха                              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9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Товарный поезд(на расстоянии 33 м)                            8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ылесос (на  расстоянии 3м)                                            7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Автомобильное движение на автостраде                       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зговор                               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Шелест листвы                                                                  1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ий разговор в классе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Хлопанье в ладоши на представлении                           88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«Ура»- хором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Девчачий визг                                                                  127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57120" y="539640"/>
            <a:ext cx="7740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оздействие шума проявля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260360" y="1357200"/>
            <a:ext cx="2995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луховой аппарат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нервную систему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ердечно-сосудистую систем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репродуктивную функцию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3357720" y="2500200"/>
            <a:ext cx="54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Человек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2571840" y="3143160"/>
            <a:ext cx="5759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танови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Раздражительным, нервным, слабым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забывчив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Тревожным, испуганным, плохо види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ухудшается  интеллектуальная деятель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ыстро утомляем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иобрет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Гипертоническую болезн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ессонниц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еправильный обмен вещест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Снижается порог чувствительности нервных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клеток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539640" y="3351240"/>
            <a:ext cx="1981440" cy="2049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0:41:28Z</dcterms:created>
  <dc:creator>Ванек</dc:creator>
  <dc:description/>
  <dc:language>en-US</dc:language>
  <cp:lastModifiedBy>КарМаН</cp:lastModifiedBy>
  <dcterms:modified xsi:type="dcterms:W3CDTF">2011-08-23T12:14:27Z</dcterms:modified>
  <cp:revision>12</cp:revision>
  <dc:subject/>
  <dc:title>Проект на тему: «Негативное влияние шума на  здоровье человека»</dc:title>
</cp:coreProperties>
</file>