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8.gif" ContentType="image/gif"/>
  <Override PartName="/ppt/media/image19.wmf" ContentType="image/x-wmf"/>
  <Override PartName="/ppt/media/image18.jpeg" ContentType="image/jpeg"/>
  <Override PartName="/ppt/media/image9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FC03-FADD-4E6E-BBB0-1C34F385A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2455-FD84-404F-95ED-83206C1A9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D535-AB5D-4896-A535-9410BDE43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C2DD-7BF1-4572-BAA8-221AD4A1C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7D5B-9CEA-4A91-B714-ABEACD4DEE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DD97D-4CF4-4164-BEC1-C6536F6989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585F-F5C4-4574-B552-C99DF2AC15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3081-0647-4A38-A03B-1AB84D700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BE46-5D73-4831-96DA-97291A86A2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ABA5-7B8D-403F-B20C-1E4B92E6B0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EFCC-BF78-4609-91FE-556A0B613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84E7-C1F8-42C0-B9FB-C4852AAF1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D8F0-EC79-44DC-96E1-AFAF74B253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AB1D-3D6B-408C-AAC3-928B6FEA59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85E88-8DC2-4398-8671-6E7EEEC754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576A-5A07-4B83-B0BF-8CE49B8849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95FF-3DDD-4606-9CBF-7ED667AF19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05C-7ACE-41FE-A8DE-13D40AF5A9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60F-91AE-48B9-A0F6-0373D422C8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989-1E97-43D3-B777-2337A11A61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B80-ED85-40D6-93C5-E822E79EA2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68A-C05F-44AB-98B8-F0F5818A4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2798-1DD8-48DA-8A84-C524EE0D4D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804-D87C-49C3-9597-8EFFBEC3A5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9E2-9586-4255-AE0D-8CA203A7DA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C6E-64E7-4027-9AE3-389F9A3BB4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6BF-FF11-4374-B772-0422F07544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E41-9991-4220-9E6F-82AF0ED16D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67B-E93A-4E03-B543-7FA7405CE8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74B-554E-4D26-AFED-6996EACB5E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A859-8A43-4E37-BDA0-4660962415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21F43-0CC4-445A-967E-7CF2A6F1B7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33307-669E-4465-873E-00E2DF70D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A018-FE85-48A3-BDF5-6D5EFA922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0D445-8D93-4EBC-AB4F-BB45C4CD44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66659-7B99-4914-B8CB-174390F0D8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4ADC-9497-4280-9B99-5C0FFEC3D5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74D0C-12ED-4DAD-A7EF-F2123C548A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19DDD-8923-448D-83DC-7CA6EA3594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6DDBB-A67F-46A9-BA79-FD768DC172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8A52C-80FA-46FC-908D-D9F1E77310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9BA98-FAFD-42D6-B2AF-743E1CC6F2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CC8D1-BDC2-464D-932B-10B0730234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7ED00-326B-4857-9317-7EEFB207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2BE2-905E-4C8A-AA8A-6FC725F622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125C8-2181-485C-81BA-7ABE7DAC79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EAE65-2ADE-49C8-8B2E-90C435A774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560C-A2CA-467E-88DB-0904D0ABAA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F6FF5-F595-4308-A43C-4FDF460806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03007-C583-45DE-B537-2D5D290DEB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D817-5BBE-45DE-A8E8-CD577DE5C45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E9051-1C2B-40F5-BC04-4F64EFDA9B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DAC7B-7074-4060-827C-44DC1D5C9F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8B3BF-A7E2-4E39-8298-5392426925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C36F8-DB2D-41D9-B670-32A43E807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997E-72A6-4A3E-93B1-4B8B41F358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BA2EE-BD91-40AD-A729-AEE499D5B1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58A-DB79-4682-A591-FA7CDC70E1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F5BE-2EFE-4B78-8C9C-7D8B2810A7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96DA-70BF-489B-9A05-8B0765CD05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68B8-5807-4579-8986-AAD81DA69C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AC83-A6CB-420F-AA51-F5CC4EADAD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8E0E-1F0D-4436-B2B4-3643E38C4B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BE6A-807C-44C6-8756-D9F26EF893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2C23-1204-4962-97CC-4C5F5B90F7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4E78-2FBE-4943-BF78-B0A5ACDAA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FC04-E757-40C2-9529-C6D16FA5E2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35B1-7FD6-4292-8F04-080A089179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DBE2-87FB-4143-9562-F66B3B5576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00D-97D8-4954-A4C5-9EB13F2481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44D1D-119E-4A4B-A946-D00A68D004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291AA-52C5-431E-8DB7-16875F8F6A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4ED8B-CB98-45A6-9A5E-0D21CA2C11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03060-790F-4E33-9D75-F17A749FA2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3B3BF-1C1A-487C-92B2-A0AF6BE0EE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38C61-EAE1-4AF8-B1F5-9AF1F53A71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F8C60-CA7D-4C3F-B8AA-96944073A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261B-ED0B-40EE-A3E5-7196147421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B089F-5874-4AD8-943C-A145BA06FA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0C20D-5D23-4685-9CF5-7D2ACE8828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5AEF2-FE63-4658-9107-2034987D6E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A8288-DB90-4486-A001-B4D914A6F1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344BE-8D8D-4803-A991-26AB2520A3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1A46-B42C-4C02-82CA-C1C8F365B1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78536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45920" y="4290120"/>
            <a:ext cx="76136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7240" y="193824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4592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47240" y="4290120"/>
            <a:ext cx="371520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20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4280" y="193824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4592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20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4280" y="4290120"/>
            <a:ext cx="24512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133EC9-EC46-4BE5-B216-18D2AA90F4D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9097920" y="22212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1146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520" y="4929120"/>
            <a:ext cx="571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BCFA36-8FE6-4126-8B79-922A1B354371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78D9A5-5F96-4BD8-B8CF-54765094CDF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9096480" y="2174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1146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9120"/>
            <a:ext cx="5713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E2F356-0C7F-4F3D-A0C9-13046E99E8B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140CAD-8312-43C4-9BE4-7FDABCAD4964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5E5C46-3958-46C9-8303-DEE721C897DF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29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29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8786880" y="268200"/>
            <a:ext cx="19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57168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FA4FC0-2D53-4A78-84FA-1E8D1DB5B9A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702792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536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13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539640" y="642960"/>
            <a:ext cx="7920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ОЕКТ НА ТЕМ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«НЕГАТИВНОЕ ВЛИЯНИЕ ШУМА 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ДОРОВЬЕ ЧЕЛОВЕ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859280" y="3240000"/>
            <a:ext cx="360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ыполнили 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Иноземцева Т.Н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3668c4"/>
                </a:solidFill>
                <a:latin typeface="Arial"/>
                <a:ea typeface="Arial Unicode MS"/>
              </a:rPr>
              <a:t>Фролова Н.А.МОУ «СОШ № 103» г.Сара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-360360" y="8810640"/>
            <a:ext cx="2801880" cy="1449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574560" y="2824200"/>
            <a:ext cx="4286520" cy="329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5759280" y="711360"/>
            <a:ext cx="2802240" cy="1449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452520" y="314280"/>
            <a:ext cx="74674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Рекомендации </a:t>
            </a:r>
            <a:br>
              <a:rPr sz="2600"/>
            </a:b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по ослаблению негативного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влияния шума на организм чело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979640"/>
            <a:ext cx="74674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Ограничить ежедневное прослушивание громкой музыки, телевизионных передач, работу за компьютером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 выполнении шумной работы, через каждый час делать 10 минутный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перерыв или прослушивать успокаивающую музы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Следить за разговорной речью: не кричать, не повышать голос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егулярное медицинское обследо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садка деревьев вокруг здани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дпочтение отдавать отдыху на природе, а не дискоте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именение средств  защиты от шума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наушники из шумоизолирующих материал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тивошумные вкладыш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buClr>
                <a:srgbClr val="2300dc"/>
              </a:buClr>
              <a:buFont typeface="Wingdings" charset="2"/>
              <a:buChar char=""/>
              <a:tabLst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Информационная работа по профилактике влияния шума на здоровье обучающихся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9356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77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720720" y="720720"/>
            <a:ext cx="73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В результате ограничения прослушивания громкой музыки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боты        за компьютером улучшился сон у 30% учащих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2.  Повысилось внимание и активизировалась учебная деятельность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3. Снизилась доля конфликтов между учащимися на 2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4. В течение зимних каникул 60% учащихся предпочли ежедневное    катание на коньках и лыжах ежедневному сидению у компьютера и    телевизора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5. Провели беседу о негативном влиянии шума на учеников 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опагандировали здоровый образ жизни в 4 начальных класс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7. После медицинского обследования 10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евятиклассников получили рекоменд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о лечению и восстановлению слух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2880"/>
            <a:ext cx="7466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ЧЕЛОВЕК 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1600200"/>
            <a:ext cx="74660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, столь мало уважаемое в юных летах, делается в летах зрелости истинным благом; самое чувство жизни бывает гораздо милее тогда, когда уже пролетела ее быстрая половина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М.Карамз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Здоровье никогда не может потерять своей цены в глазах человека, потому что и в довольстве и в роскоши плохо жить без здоровья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Н.Г.Черныше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Берегите уши!  Будьте здоровы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Удач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  <a:ea typeface="Arial Unicode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539640" y="485928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57200" y="720720"/>
            <a:ext cx="7467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Используем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пользование коммуникативных средств при выполнении проектов как фактор формирования социальной компетентности педагога и учащихся. -Саратов: ИЦ «РАТА», 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ОБЖ, 9 класс, поурочное планирование.-Волгоград: Учитель,20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Материалы Интернет с сайта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mhtv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fil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:/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еливерстова Д.Н., Селиверстова В.В., Селиверстов В.Н.Формула здоровья.- Волгоград: Зацарицынский вестник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льичев А.А. Популярная энциклопедия для выживания подростков.-М:ЭКСМО-Пресс,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олесов Д.В. Учебник «Биология», 8 класс,20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6673680" y="4881600"/>
            <a:ext cx="1785960" cy="141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671400" y="635040"/>
            <a:ext cx="7790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9640" y="4316400"/>
            <a:ext cx="3421080" cy="1984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720720" y="72072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  <a:ea typeface="Arial Unicode MS"/>
              </a:rPr>
              <a:t>Обоснование выбора темы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882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нование выбора темы проекта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319640" y="2340000"/>
            <a:ext cx="414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егативное влияние шума сказывается на органах слуха, сердечно-сосудистой системе, на работе печени, к истощению и перенапряжению нервных клеток, к изменениям в стволовых клетках. Ослабленные клетки нервной системы не могут достаточно четко координировать работу различных систем организма. Различные виды шумов приводят к развитию шумовой болезни.  Проведенные научные исследования показали, что у людей, находящихся в шумной обстановке,  в результате систематического воздействия шума, производительность труда падает на 10% и увеличивается заболеваемость на 3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3"/>
          <a:stretch/>
        </p:blipFill>
        <p:spPr>
          <a:xfrm>
            <a:off x="7020000" y="1260360"/>
            <a:ext cx="1218960" cy="11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274680"/>
            <a:ext cx="641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ЦЕЛЬ ПРОЕКТА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азработат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235080"/>
                <a:tab algn="l" pos="6825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рекомендации по защите от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</a:t>
            </a:r>
            <a:r>
              <a:rPr b="0" lang="en-US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негативного воздействия шума   на организм человек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6200" cy="2357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1779480" y="4319640"/>
            <a:ext cx="20005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ЗАДАЧ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395280" y="1628640"/>
            <a:ext cx="8115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Выяснить, что такое шу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Выявить источники шума в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окружающе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Выявить опасный предел шума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восприяти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Рекомендовать способы защиты 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</a:t>
            </a:r>
            <a:r>
              <a:rPr b="0" lang="ru-RU" sz="32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шу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300720" y="144000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619280" y="189000"/>
            <a:ext cx="7035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КРИТЕР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35080" y="1481040"/>
            <a:ext cx="900108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1.     Красоч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2.     Доступ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изложения материал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3.     Информа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4.     Достовер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668c4"/>
                </a:solidFill>
                <a:latin typeface="Times New Roman"/>
                <a:ea typeface="Arial Unicode MS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480960" y="5040360"/>
            <a:ext cx="1859040" cy="1463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25920" y="4500720"/>
            <a:ext cx="3033720" cy="180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3"/>
          <a:stretch/>
        </p:blipFill>
        <p:spPr>
          <a:xfrm>
            <a:off x="5265720" y="1265400"/>
            <a:ext cx="3193920" cy="179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28760" y="735120"/>
            <a:ext cx="79200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такое шум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беспорядочное сочетание разли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по</a:t>
            </a:r>
            <a:r>
              <a:rPr b="0" lang="en-US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силе и частоте зву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 — громкие звуки, слившиеся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естройное    звуч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Шум-явление всепроникающее и негатив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воздействующее на организм человека 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совокупности с другими фактор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(вредными       примесями в воздухе и вод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электромагнитным   излучением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напряженностью труда и т.д.).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r>
              <a:rPr b="0" lang="ru-RU" sz="2800" spc="-1" strike="noStrike">
                <a:solidFill>
                  <a:srgbClr val="2323dc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50120" y="720720"/>
            <a:ext cx="2009520" cy="1079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5219640" y="4140360"/>
            <a:ext cx="3060720" cy="2160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539640" y="549360"/>
            <a:ext cx="76662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Источники шу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Работа бытовых приборов: телевизор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агнитофон, стиральная машина, ради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ранспорт железнодорожн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авиационный,    автомобильны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Строительные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Природные явления: гром, цуна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 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землетрясение, обвал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Музы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лест лис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Шепот, разгово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Течение воды из кра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 </a:t>
            </a:r>
            <a:r>
              <a:rPr b="0" lang="ru-RU" sz="2800" spc="-1" strike="noStrike">
                <a:solidFill>
                  <a:srgbClr val="2323dc"/>
                </a:solidFill>
                <a:latin typeface="Century Schoolbook"/>
                <a:ea typeface="Arial Unicode MS"/>
              </a:rPr>
              <a:t>Крики, виз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30320" y="1440000"/>
            <a:ext cx="40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900000" y="539640"/>
            <a:ext cx="755964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Физические характеристики ш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Уровень шума измеряется в единицах звукового давления — децибелах (дБ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Болевой порог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                                                               1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кетный двигатель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4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ая музыка                                                               12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Дробильная машина                                                       </a:t>
            </a:r>
            <a:r>
              <a:rPr b="0" lang="ru-RU" sz="18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110д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ресс, метро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Уровень шума, вредный для слуха                               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9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Товарный поезд(на расстоянии 33 м)                            8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Пылесос (на  расстоянии 3м)                                            7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Автомобильное движение на автостраде                       6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Разговор                               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Шелест листвы                                                                  1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Громкий разговор в классе                                               4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Хлопанье в ладоши на представлении                           88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300dc"/>
                </a:solidFill>
                <a:latin typeface="Century Schoolbook"/>
                <a:ea typeface="Arial Unicode MS"/>
              </a:rPr>
              <a:t>«Ура»- хором                                                                     100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  <a:ea typeface="Arial Unicode MS"/>
              </a:rPr>
              <a:t>Девчачий визг                                                                  127д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357120" y="539640"/>
            <a:ext cx="7740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Воздействие шума проявляе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1260360" y="1357200"/>
            <a:ext cx="2995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луховой аппарат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нервную систему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сердечно-сосудистую систем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а репродуктивную функцию человек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357720" y="2500200"/>
            <a:ext cx="54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Человек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71840" y="3143160"/>
            <a:ext cx="5759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Станови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Раздражительным, нервным, слабым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забывчив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Тревожным, испуганным, плохо види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ухудшается  интеллектуальн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ыстро утомляемы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Arial Unicode MS"/>
              </a:rPr>
              <a:t>Приобрет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Гипертоническую болезн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Бессонниц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Неправильный обмен вещест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Снижается порог чувствительности нервных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4700b8"/>
                </a:solidFill>
                <a:latin typeface="Century Schoolbook"/>
                <a:ea typeface="Arial Unicode MS"/>
              </a:rPr>
              <a:t>клеток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539640" y="3351240"/>
            <a:ext cx="1981440" cy="2049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41:28Z</dcterms:created>
  <dc:creator>Ванек</dc:creator>
  <dc:description/>
  <dc:language>en-US</dc:language>
  <cp:lastModifiedBy>КарМаН</cp:lastModifiedBy>
  <dcterms:modified xsi:type="dcterms:W3CDTF">2011-08-23T12:14:27Z</dcterms:modified>
  <cp:revision>12</cp:revision>
  <dc:subject/>
  <dc:title>Проект на тему: «Негативное влияние шума на  здоровье человека»</dc:title>
</cp:coreProperties>
</file>