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2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811E-6DBE-4496-82F0-4D217F3E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0BC-EBDF-4984-B7D2-2B1ACC14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72B-68E7-48BB-929D-552011E1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246-0A6C-4C30-ABD0-D12D491C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DACB-37A9-4527-81DA-AE676EF0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363A-80DB-4566-BCDC-8E05E6F8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36CA-3C37-43FB-9141-FC0C88BD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C828-29D5-461E-8D4A-AD1925CB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9BB5-0A8D-44D5-B5EE-D8D29278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8A01-93C3-427D-BE02-019D2C47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D719-3D12-41E6-9991-9A2EFB3D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4E3-E020-46B4-BE79-CBBD6F7F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2F88-9F29-495B-8856-48EE64F9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AEBD-ABA0-4D9C-A252-7A9BBAA7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2465-372C-4907-A78F-9FF29D37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A906-9CED-497F-9613-17A95325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5719-558B-4F8B-A1F8-168F0640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E3B-B755-4580-84B8-5F968B35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ED9-28D7-44C8-B500-44DD131A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9F1-D2A4-4633-81E6-81CD5811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FBE5-DE97-4921-92E5-50436A74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A8C-A383-4018-B5C5-A4A9F604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BE5-339E-46F1-894B-B111A841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56D-E89C-43C4-8C2A-DDBF4168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C097-5852-4C74-998B-3A0D75FC9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2563-24D7-4129-A39C-8FA08ED467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krasdo.ucoz.ru/ee383358c499.png" TargetMode="External"/><Relationship Id="rId4" Type="http://schemas.openxmlformats.org/officeDocument/2006/relationships/hyperlink" Target="http://www.grafamania.net/uploads/posts/2008-08/1219611582_7.jpg" TargetMode="External"/><Relationship Id="rId5" Type="http://schemas.openxmlformats.org/officeDocument/2006/relationships/hyperlink" Target="http://meddoct.ru/tag/aktg/" TargetMode="External"/><Relationship Id="rId6" Type="http://schemas.openxmlformats.org/officeDocument/2006/relationships/hyperlink" Target="http://rafaelbotello.es/mc-pituitary-glands-of-frog/" TargetMode="External"/><Relationship Id="rId7" Type="http://schemas.openxmlformats.org/officeDocument/2006/relationships/hyperlink" Target="http://www.hinsdale86.org/staff/kgabric/Disease09/Scales.Boling.Kallmann%20Syndrome/visualrepresentations.htm" TargetMode="External"/><Relationship Id="rId8" Type="http://schemas.openxmlformats.org/officeDocument/2006/relationships/hyperlink" Target="http://humming-carabus.livejournal.com/60869.html" TargetMode="External"/><Relationship Id="rId9" Type="http://schemas.openxmlformats.org/officeDocument/2006/relationships/hyperlink" Target="http://humming-carabus.livejournal.com/60869.html" TargetMode="External"/><Relationship Id="rId10" Type="http://schemas.openxmlformats.org/officeDocument/2006/relationships/hyperlink" Target="http://humming-carabus.livejournal.com/60869.html" TargetMode="External"/><Relationship Id="rId11" Type="http://schemas.openxmlformats.org/officeDocument/2006/relationships/hyperlink" Target="http://humming-carabus.livejournal.com/60869.html" TargetMode="External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earn-another-language.org/3561.html" TargetMode="External"/><Relationship Id="rId3" Type="http://schemas.openxmlformats.org/officeDocument/2006/relationships/hyperlink" Target="http://doctor24.com.ua/217095658/" TargetMode="External"/><Relationship Id="rId4" Type="http://schemas.openxmlformats.org/officeDocument/2006/relationships/hyperlink" Target="http://kakulia.okis.ru/foto.65583.html" TargetMode="External"/><Relationship Id="rId5" Type="http://schemas.openxmlformats.org/officeDocument/2006/relationships/hyperlink" Target="http://www.medical-guru.ru/schitovidnaya-jeleza/1871-morfologicheskie_priznaki_bazedovifikacii_2.html" TargetMode="External"/><Relationship Id="rId6" Type="http://schemas.openxmlformats.org/officeDocument/2006/relationships/hyperlink" Target="http://www.medical-guru.ru/schitovidnaya-jeleza/1871-morfologicheskie_priznaki_bazedovifikacii_2.html" TargetMode="External"/><Relationship Id="rId7" Type="http://schemas.openxmlformats.org/officeDocument/2006/relationships/hyperlink" Target="http://www.medical-guru.ru/schitovidnaya-jeleza/1871-morfologicheskie_priznaki_bazedovifikacii_2.html" TargetMode="External"/><Relationship Id="rId8" Type="http://schemas.openxmlformats.org/officeDocument/2006/relationships/hyperlink" Target="http://www.medical-guru.ru/schitovidnaya-jeleza/1871-morfologicheskie_priznaki_bazedovifikacii_2.html" TargetMode="External"/><Relationship Id="rId9" Type="http://schemas.openxmlformats.org/officeDocument/2006/relationships/hyperlink" Target="http://www.medical-guru.ru/schitovidnaya-jeleza/1871-morfologicheskie_priznaki_bazedovifikacii_2.html" TargetMode="External"/><Relationship Id="rId10" Type="http://schemas.openxmlformats.org/officeDocument/2006/relationships/hyperlink" Target="http://www.medical-guru.ru/schitovidnaya-jeleza/1871-morfologicheskie_priznaki_bazedovifikacii_2.html" TargetMode="External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63280" y="3428640"/>
            <a:ext cx="5451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Галковская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Ирина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Ивановна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учитель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биологии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МОУ «П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етровская СОШ Урюпинский район Волгоград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Arial"/>
              </a:rPr>
              <a:t>2011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1628640"/>
            <a:ext cx="71535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Тренажер для 8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"Железы организма челове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мен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тое тело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ременная железа внутренней секреции, развивающаяся в яичнике млекопитающих после овуляции и вырабатывающая гормоны (главным образом прогестерон). Образуется на месте фолликула под действием  гормона гипофиза. Представляет собой многослойную массу изменённых фолликулярных,  клеток, в которую врастают кровеносные капилляры. Продолжительность функции желтого тела различна у разных групп животных. У человека желтое тело рассасывается после 6 месяцев берем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8244000" y="5805360"/>
            <a:ext cx="684000" cy="68292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1634" h="21600">
                <a:moveTo>
                  <a:pt x="0" y="0"/>
                </a:moveTo>
                <a:lnTo>
                  <a:pt x="21634" y="0"/>
                </a:lnTo>
                <a:lnTo>
                  <a:pt x="21634" y="21600"/>
                </a:lnTo>
                <a:lnTo>
                  <a:pt x="0" y="21600"/>
                </a:lnTo>
                <a:close/>
              </a:path>
              <a:path fill="lightenLess" w="21634" h="21600">
                <a:moveTo>
                  <a:pt x="0" y="0"/>
                </a:moveTo>
                <a:lnTo>
                  <a:pt x="21634" y="0"/>
                </a:lnTo>
                <a:lnTo>
                  <a:pt x="20234" y="1400"/>
                </a:lnTo>
                <a:lnTo>
                  <a:pt x="1400" y="1400"/>
                </a:lnTo>
                <a:close/>
              </a:path>
              <a:path fill="darken" w="21634" h="21600">
                <a:moveTo>
                  <a:pt x="21634" y="0"/>
                </a:moveTo>
                <a:lnTo>
                  <a:pt x="21634" y="21600"/>
                </a:lnTo>
                <a:lnTo>
                  <a:pt x="20234" y="20200"/>
                </a:lnTo>
                <a:lnTo>
                  <a:pt x="20234" y="1400"/>
                </a:lnTo>
                <a:close/>
              </a:path>
              <a:path fill="darkenLess" w="21634" h="21600">
                <a:moveTo>
                  <a:pt x="21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4" y="20200"/>
                </a:lnTo>
                <a:close/>
              </a:path>
              <a:path fill="lighten" w="21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4" h="21600">
                <a:moveTo>
                  <a:pt x="3811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я из желез внутренней секреции управляет всеми гормональными процессами организ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1968120" y="310824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68840" y="3828960"/>
            <a:ext cx="254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9200" y="454968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8680" y="5342040"/>
            <a:ext cx="16149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0984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84640" y="386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4640" y="3068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534816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900000" y="306864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900000" y="3789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900000" y="450864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>
            <a:off x="90000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8172360" y="595008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5" h="21600">
                <a:moveTo>
                  <a:pt x="5091" y="3794"/>
                </a:moveTo>
                <a:lnTo>
                  <a:pt x="19104" y="10800"/>
                </a:lnTo>
                <a:lnTo>
                  <a:pt x="509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ет гормон тироксин, содержащий й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ирует обмен веществ. Повышает возбудимость нервной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22976" t="17165" r="20340" b="12277"/>
          <a:stretch/>
        </p:blipFill>
        <p:spPr>
          <a:xfrm>
            <a:off x="755640" y="1484280"/>
            <a:ext cx="2949480" cy="4464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028000" y="566100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3794" y="10832"/>
                </a:moveTo>
                <a:lnTo>
                  <a:pt x="17806" y="3825"/>
                </a:lnTo>
                <a:lnTo>
                  <a:pt x="17806" y="1783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слой образует гормоны адреналин и норадреналин. Они повышают уровень глюкозы в крови, стимулируют сердцебиение, повышают кровяное давление, ускоряют дых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ковый слой образует кортикоиды, влияют на жировой, белковый обмен и минеральн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60720" cy="38764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802800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инсулин снижает уровень глюкозы в крови, стимулируя ее превращение в гликоген в печ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глюкагон повышает уровень глюкозы в крови, стимулируя расщепление гликогена в пе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16360" cy="3087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0840" y="5300640"/>
            <a:ext cx="357480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987640" y="4149360"/>
            <a:ext cx="71640" cy="115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8028000" y="566100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4441320"/>
            <a:ext cx="8686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роста соматотропин регулирует рост организма; вазопрессин регулирует интенсивность мочевыд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физ – дирижер оркестра гормонов (половых, щитовидной железы, надпочечник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0" t="5875" r="14977" b="13816"/>
          <a:stretch/>
        </p:blipFill>
        <p:spPr>
          <a:xfrm>
            <a:off x="684360" y="1341360"/>
            <a:ext cx="5182920" cy="29527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493920"/>
          </a:xfrm>
          <a:custGeom>
            <a:avLst/>
            <a:gdLst>
              <a:gd name="textAreaLeft" fmla="*/ 31680 w 609480"/>
              <a:gd name="textAreaRight" fmla="*/ 577800 w 60948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6650" h="21600">
                <a:moveTo>
                  <a:pt x="0" y="0"/>
                </a:moveTo>
                <a:lnTo>
                  <a:pt x="26650" y="0"/>
                </a:lnTo>
                <a:lnTo>
                  <a:pt x="26650" y="21600"/>
                </a:lnTo>
                <a:lnTo>
                  <a:pt x="0" y="21600"/>
                </a:lnTo>
                <a:close/>
              </a:path>
              <a:path fill="lightenLess" w="26650" h="21600">
                <a:moveTo>
                  <a:pt x="0" y="0"/>
                </a:moveTo>
                <a:lnTo>
                  <a:pt x="26650" y="0"/>
                </a:lnTo>
                <a:lnTo>
                  <a:pt x="25250" y="1400"/>
                </a:lnTo>
                <a:lnTo>
                  <a:pt x="1400" y="1400"/>
                </a:lnTo>
                <a:close/>
              </a:path>
              <a:path fill="darken" w="26650" h="21600">
                <a:moveTo>
                  <a:pt x="26650" y="0"/>
                </a:moveTo>
                <a:lnTo>
                  <a:pt x="26650" y="21600"/>
                </a:lnTo>
                <a:lnTo>
                  <a:pt x="25250" y="20200"/>
                </a:lnTo>
                <a:lnTo>
                  <a:pt x="25250" y="1400"/>
                </a:lnTo>
                <a:close/>
              </a:path>
              <a:path fill="darkenLess" w="26650" h="21600">
                <a:moveTo>
                  <a:pt x="26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0" y="20200"/>
                </a:lnTo>
                <a:close/>
              </a:path>
              <a:path fill="lighten" w="26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50" h="21600">
                <a:moveTo>
                  <a:pt x="6319" y="10800"/>
                </a:moveTo>
                <a:lnTo>
                  <a:pt x="20331" y="3794"/>
                </a:lnTo>
                <a:lnTo>
                  <a:pt x="203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арушениями функций какой из желез связано заболевание базедовой болезн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2293920" y="2604960"/>
            <a:ext cx="28447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00840" y="3468600"/>
            <a:ext cx="2259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1920" y="4405320"/>
            <a:ext cx="2736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71760" y="5268960"/>
            <a:ext cx="1660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40280" y="2637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11560" y="5157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1156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1042920" y="256536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042920" y="3429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042920" y="4365720"/>
            <a:ext cx="649440" cy="609480"/>
          </a:xfrm>
          <a:custGeom>
            <a:avLst/>
            <a:gdLst>
              <a:gd name="textAreaLeft" fmla="*/ 39240 w 649440"/>
              <a:gd name="textAreaRight" fmla="*/ 610200 w 649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042920" y="5373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ыток гормона вызывает резкое понижение сахара в крови, наступает инсулиновый (гипогликемический)шок, нарушение деятельности мозга, судороги, потеря с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к гормона приводит к сахарному диабету –увеличению сахара в крови, невозможности использования глюкозы клетками для получения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8028000" y="580536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114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едова болезнь, при повышенном содержании гормона. Проявляется в возбудимости нервной системы и появлении зо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816360" cy="3411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14503" t="19381" r="10159" b="7906"/>
          <a:stretch/>
        </p:blipFill>
        <p:spPr>
          <a:xfrm>
            <a:off x="4932360" y="3716280"/>
            <a:ext cx="3095640" cy="267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7236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гормонов: раннее половое созревание с быстрым прекращением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: бронзовая болезнь (бронзовый оттенок кожи, слабость, похудение).Удаление когы надпочечников приводит к смерти, вследствие потери большого количества натр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30984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82560"/>
          </a:xfrm>
          <a:custGeom>
            <a:avLst/>
            <a:gdLst>
              <a:gd name="textAreaLeft" fmla="*/ 43920 w 753840"/>
              <a:gd name="textAreaRight" fmla="*/ 709920 w 7538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4921" y="10800"/>
                </a:moveTo>
                <a:lnTo>
                  <a:pt x="18934" y="3794"/>
                </a:lnTo>
                <a:lnTo>
                  <a:pt x="1893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организма человека, отвечающая за гуморальную регуляцию функций организма, называе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442960" y="2997360"/>
            <a:ext cx="219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ном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1920" y="3763800"/>
            <a:ext cx="245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гет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9560" y="4629240"/>
            <a:ext cx="237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кри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20640" y="5421240"/>
            <a:ext cx="2375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0640" y="465300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01840" y="29718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792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47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971640" y="465300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971640" y="299736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971640" y="3789360"/>
            <a:ext cx="610920" cy="6112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971640" y="5445000"/>
            <a:ext cx="647640" cy="54000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8101080" y="5805360"/>
            <a:ext cx="684000" cy="540000"/>
          </a:xfrm>
          <a:custGeom>
            <a:avLst/>
            <a:gdLst>
              <a:gd name="textAreaLeft" fmla="*/ 34920 w 684000"/>
              <a:gd name="textAreaRight" fmla="*/ 649080 w 684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7356" h="21600">
                <a:moveTo>
                  <a:pt x="0" y="0"/>
                </a:moveTo>
                <a:lnTo>
                  <a:pt x="27356" y="0"/>
                </a:lnTo>
                <a:lnTo>
                  <a:pt x="27356" y="21600"/>
                </a:lnTo>
                <a:lnTo>
                  <a:pt x="0" y="21600"/>
                </a:lnTo>
                <a:close/>
              </a:path>
              <a:path fill="lightenLess" w="27356" h="21600">
                <a:moveTo>
                  <a:pt x="0" y="0"/>
                </a:moveTo>
                <a:lnTo>
                  <a:pt x="27356" y="0"/>
                </a:lnTo>
                <a:lnTo>
                  <a:pt x="25956" y="1400"/>
                </a:lnTo>
                <a:lnTo>
                  <a:pt x="1400" y="1400"/>
                </a:lnTo>
                <a:close/>
              </a:path>
              <a:path fill="darken" w="27356" h="21600">
                <a:moveTo>
                  <a:pt x="27356" y="0"/>
                </a:moveTo>
                <a:lnTo>
                  <a:pt x="27356" y="21600"/>
                </a:lnTo>
                <a:lnTo>
                  <a:pt x="25956" y="20200"/>
                </a:lnTo>
                <a:lnTo>
                  <a:pt x="25956" y="1400"/>
                </a:lnTo>
                <a:close/>
              </a:path>
              <a:path fill="darkenLess" w="27356" h="21600">
                <a:moveTo>
                  <a:pt x="27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6" y="20200"/>
                </a:lnTo>
                <a:close/>
              </a:path>
              <a:path fill="lighten" w="27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6" h="21600">
                <a:moveTo>
                  <a:pt x="6672" y="3794"/>
                </a:moveTo>
                <a:lnTo>
                  <a:pt x="20685" y="10800"/>
                </a:lnTo>
                <a:lnTo>
                  <a:pt x="667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овые горм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 гормоны: эст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гормоны: анд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ют половую функцию организма, развитие вторичных половых функ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00000" y="1557360"/>
            <a:ext cx="3961080" cy="2209680"/>
            <a:chOff x="900000" y="1557360"/>
            <a:chExt cx="3961080" cy="220968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900000" y="1557360"/>
              <a:ext cx="39610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780000" y="2637000"/>
              <a:ext cx="91440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2301840" cy="3024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04680" y="5734080"/>
            <a:ext cx="39009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половые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61960" y="3375000"/>
            <a:ext cx="142596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из перечисленных химических соединений не является гормон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2707560" y="2708280"/>
            <a:ext cx="1590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7560" y="3500280"/>
            <a:ext cx="1558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9000" y="4437000"/>
            <a:ext cx="2584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9200" y="5300640"/>
            <a:ext cx="1720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2428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2428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24280" y="530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16720" y="3429000"/>
            <a:ext cx="12222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1258920" y="263700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1332000" y="350028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>
            <a:off x="1332000" y="436572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>
            <a:off x="1332000" y="530064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6" action="ppaction://hlinksldjump"/>
          </p:cNvPr>
          <p:cNvSpPr/>
          <p:nvPr/>
        </p:nvSpPr>
        <p:spPr>
          <a:xfrm flipV="1">
            <a:off x="8172360" y="5733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ает содержание сахара в крови, задерживая распад гликогена и синтез глюкозы в печени. В то же время инсулин повышает проницаемость клеточных мембран для глюкозы, способствуя её переходу в ткани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671640" cy="388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84520" y="5392800"/>
            <a:ext cx="3050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8028000" y="5805360"/>
            <a:ext cx="684360" cy="64800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811" h="21600">
                <a:moveTo>
                  <a:pt x="0" y="0"/>
                </a:moveTo>
                <a:lnTo>
                  <a:pt x="22811" y="0"/>
                </a:lnTo>
                <a:lnTo>
                  <a:pt x="22811" y="21600"/>
                </a:lnTo>
                <a:lnTo>
                  <a:pt x="0" y="21600"/>
                </a:lnTo>
                <a:close/>
              </a:path>
              <a:path fill="lightenLess" w="22811" h="21600">
                <a:moveTo>
                  <a:pt x="0" y="0"/>
                </a:moveTo>
                <a:lnTo>
                  <a:pt x="22811" y="0"/>
                </a:lnTo>
                <a:lnTo>
                  <a:pt x="21411" y="1400"/>
                </a:lnTo>
                <a:lnTo>
                  <a:pt x="1400" y="1400"/>
                </a:lnTo>
                <a:close/>
              </a:path>
              <a:path fill="darken" w="22811" h="21600">
                <a:moveTo>
                  <a:pt x="22811" y="0"/>
                </a:moveTo>
                <a:lnTo>
                  <a:pt x="22811" y="21600"/>
                </a:lnTo>
                <a:lnTo>
                  <a:pt x="21411" y="20200"/>
                </a:lnTo>
                <a:lnTo>
                  <a:pt x="21411" y="1400"/>
                </a:lnTo>
                <a:close/>
              </a:path>
              <a:path fill="darkenLess" w="22811" h="21600">
                <a:moveTo>
                  <a:pt x="22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1" y="20200"/>
                </a:lnTo>
                <a:close/>
              </a:path>
              <a:path fill="lighten" w="22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1" h="21600">
                <a:moveTo>
                  <a:pt x="4399" y="10800"/>
                </a:moveTo>
                <a:lnTo>
                  <a:pt x="18412" y="3794"/>
                </a:lnTo>
                <a:lnTo>
                  <a:pt x="184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 — фермен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щепляющий пептид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белки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 синтезируется в поджелудочной жел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Поджелудочная железа синтезирует не только гормоны, но и фермен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85240" y="4672080"/>
            <a:ext cx="29757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трип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11280"/>
          </a:xfrm>
          <a:custGeom>
            <a:avLst/>
            <a:gdLst>
              <a:gd name="textAreaLeft" fmla="*/ 39600 w 753840"/>
              <a:gd name="textAreaRight" fmla="*/ 714240 w 7538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34" h="21600">
                <a:moveTo>
                  <a:pt x="0" y="0"/>
                </a:moveTo>
                <a:lnTo>
                  <a:pt x="26634" y="0"/>
                </a:lnTo>
                <a:lnTo>
                  <a:pt x="26634" y="21600"/>
                </a:lnTo>
                <a:lnTo>
                  <a:pt x="0" y="21600"/>
                </a:lnTo>
                <a:close/>
              </a:path>
              <a:path fill="lightenLess" w="26634" h="21600">
                <a:moveTo>
                  <a:pt x="0" y="0"/>
                </a:moveTo>
                <a:lnTo>
                  <a:pt x="26634" y="0"/>
                </a:lnTo>
                <a:lnTo>
                  <a:pt x="25234" y="1400"/>
                </a:lnTo>
                <a:lnTo>
                  <a:pt x="1400" y="1400"/>
                </a:lnTo>
                <a:close/>
              </a:path>
              <a:path fill="darken" w="26634" h="21600">
                <a:moveTo>
                  <a:pt x="26634" y="0"/>
                </a:moveTo>
                <a:lnTo>
                  <a:pt x="26634" y="21600"/>
                </a:lnTo>
                <a:lnTo>
                  <a:pt x="25234" y="20200"/>
                </a:lnTo>
                <a:lnTo>
                  <a:pt x="25234" y="1400"/>
                </a:lnTo>
                <a:close/>
              </a:path>
              <a:path fill="darkenLess" w="26634" h="21600">
                <a:moveTo>
                  <a:pt x="26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4" y="20200"/>
                </a:lnTo>
                <a:close/>
              </a:path>
              <a:path fill="lighten" w="26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34" h="21600">
                <a:moveTo>
                  <a:pt x="6311" y="10800"/>
                </a:moveTo>
                <a:lnTo>
                  <a:pt x="20324" y="3794"/>
                </a:lnTo>
                <a:lnTo>
                  <a:pt x="203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ом роста соматотропин называют за то, что у детей и подростков, а также молодых людей с ещё не закрывшимися зонами роста в костях он вызывает выраженное ускорение линейного (в длину) роста, в основном за счет роста длинных трубчатых костей конеч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733840" cy="3809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63480" y="5464080"/>
            <a:ext cx="3762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антизм, выз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ом гормона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гормон щитовидной желе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достатке тироксина у взрослых людей развивается микседема. Недостаток тироксина, в раннем детстве или является врожденной, вызывает кретин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гиперфункции тироксина развивается базедова болезн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66665" t="0" r="0" b="0"/>
          <a:stretch/>
        </p:blipFill>
        <p:spPr>
          <a:xfrm>
            <a:off x="2124000" y="2781360"/>
            <a:ext cx="2441520" cy="352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0" t="9068" r="70537" b="5752"/>
          <a:stretch/>
        </p:blipFill>
        <p:spPr>
          <a:xfrm>
            <a:off x="324000" y="1341360"/>
            <a:ext cx="201600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1188000" y="5805360"/>
            <a:ext cx="169704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т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8101080" y="5805360"/>
            <a:ext cx="682560" cy="6130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3080"/>
              <a:gd name="textAreaBottom" fmla="*/ 573480 h 613080"/>
            </a:gdLst>
            <a:ahLst/>
            <a:rect l="textAreaLeft" t="textAreaTop" r="textAreaRight" b="textAreaBottom"/>
            <a:pathLst>
              <a:path w="24046" h="21600">
                <a:moveTo>
                  <a:pt x="0" y="0"/>
                </a:moveTo>
                <a:lnTo>
                  <a:pt x="24046" y="0"/>
                </a:lnTo>
                <a:lnTo>
                  <a:pt x="24046" y="21600"/>
                </a:lnTo>
                <a:lnTo>
                  <a:pt x="0" y="21600"/>
                </a:lnTo>
                <a:close/>
              </a:path>
              <a:path fill="lightenLess" w="24046" h="21600">
                <a:moveTo>
                  <a:pt x="0" y="0"/>
                </a:moveTo>
                <a:lnTo>
                  <a:pt x="24046" y="0"/>
                </a:lnTo>
                <a:lnTo>
                  <a:pt x="22646" y="1400"/>
                </a:lnTo>
                <a:lnTo>
                  <a:pt x="1400" y="1400"/>
                </a:lnTo>
                <a:close/>
              </a:path>
              <a:path fill="darken" w="24046" h="21600">
                <a:moveTo>
                  <a:pt x="24046" y="0"/>
                </a:moveTo>
                <a:lnTo>
                  <a:pt x="24046" y="21600"/>
                </a:lnTo>
                <a:lnTo>
                  <a:pt x="22646" y="20200"/>
                </a:lnTo>
                <a:lnTo>
                  <a:pt x="22646" y="1400"/>
                </a:lnTo>
                <a:close/>
              </a:path>
              <a:path fill="darkenLess" w="24046" h="21600">
                <a:moveTo>
                  <a:pt x="2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6" y="20200"/>
                </a:lnTo>
                <a:close/>
              </a:path>
              <a:path fill="lighten" w="2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6" h="21600">
                <a:moveTo>
                  <a:pt x="5017" y="10800"/>
                </a:moveTo>
                <a:lnTo>
                  <a:pt x="19030" y="3794"/>
                </a:lnTo>
                <a:lnTo>
                  <a:pt x="1903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аболевание  возникает при  гиперфункции гипофиз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2924640" y="2852640"/>
            <a:ext cx="2335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5040" y="3757680"/>
            <a:ext cx="20538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6120" y="4621320"/>
            <a:ext cx="321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6120" y="5484960"/>
            <a:ext cx="312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4028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4028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15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9920" y="292428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1476360" y="285264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1476360" y="3645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1476360" y="450864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147636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8028000" y="5734080"/>
            <a:ext cx="755640" cy="682560"/>
          </a:xfrm>
          <a:custGeom>
            <a:avLst/>
            <a:gdLst>
              <a:gd name="textAreaLeft" fmla="*/ 43920 w 755640"/>
              <a:gd name="textAreaRight" fmla="*/ 711720 w 7556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911" h="21600">
                <a:moveTo>
                  <a:pt x="0" y="0"/>
                </a:moveTo>
                <a:lnTo>
                  <a:pt x="23911" y="0"/>
                </a:lnTo>
                <a:lnTo>
                  <a:pt x="23911" y="21600"/>
                </a:lnTo>
                <a:lnTo>
                  <a:pt x="0" y="21600"/>
                </a:lnTo>
                <a:close/>
              </a:path>
              <a:path fill="lightenLess" w="23911" h="21600">
                <a:moveTo>
                  <a:pt x="0" y="0"/>
                </a:moveTo>
                <a:lnTo>
                  <a:pt x="23911" y="0"/>
                </a:lnTo>
                <a:lnTo>
                  <a:pt x="22511" y="1400"/>
                </a:lnTo>
                <a:lnTo>
                  <a:pt x="1400" y="1400"/>
                </a:lnTo>
                <a:close/>
              </a:path>
              <a:path fill="darken" w="23911" h="21600">
                <a:moveTo>
                  <a:pt x="23911" y="0"/>
                </a:moveTo>
                <a:lnTo>
                  <a:pt x="23911" y="21600"/>
                </a:lnTo>
                <a:lnTo>
                  <a:pt x="22511" y="20200"/>
                </a:lnTo>
                <a:lnTo>
                  <a:pt x="22511" y="1400"/>
                </a:lnTo>
                <a:close/>
              </a:path>
              <a:path fill="darkenLess" w="23911" h="21600">
                <a:moveTo>
                  <a:pt x="23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1" y="20200"/>
                </a:lnTo>
                <a:close/>
              </a:path>
              <a:path fill="lighten" w="23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1" h="21600">
                <a:moveTo>
                  <a:pt x="4949" y="3794"/>
                </a:moveTo>
                <a:lnTo>
                  <a:pt x="18962" y="10800"/>
                </a:lnTo>
                <a:lnTo>
                  <a:pt x="494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чное действие гормона роста гипофиза(гиперфункция) у взрослых приводит к заболеванию акромегалия. Это усиленный рост костей лицевого отдела черепа, кистей, сто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527280" cy="323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11280" y="4408560"/>
            <a:ext cx="3529080" cy="2112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слизистый отек, вызывается недостаточной функций щитовидной железы. Сердце работает слабо, температура тела понижена.Кровь застаивается в венах и капиллярах, образуется много тканевой жидкости, начинается от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390920" cy="226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12" name="">
            <a:hlinkClick r:id="rId3" action="ppaction://hlinksldjump"/>
          </p:cNvPr>
          <p:cNvSpPr/>
          <p:nvPr/>
        </p:nvSpPr>
        <p:spPr>
          <a:xfrm>
            <a:off x="8028000" y="5734080"/>
            <a:ext cx="684360" cy="64764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6" y="10800"/>
                </a:moveTo>
                <a:lnTo>
                  <a:pt x="18418" y="3794"/>
                </a:lnTo>
                <a:lnTo>
                  <a:pt x="1841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избытке (гиперфункции) гормонов щитовидной железы освобождается много энергии. Процессы распада в организме идут быстро, человек худеет, развивается пучеглазие. Человек становится раздраж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492360" cy="44452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 является желез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400480" y="2316240"/>
            <a:ext cx="3766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1200" y="3108240"/>
            <a:ext cx="3777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шанно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9560" y="4044960"/>
            <a:ext cx="33156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9200" y="4908600"/>
            <a:ext cx="2044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24280" y="2276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5560" y="4869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24280" y="3933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23920" y="306864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258920" y="4076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1258920" y="2276640"/>
            <a:ext cx="649080" cy="61092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1258920" y="306864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1258920" y="4869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7956720" y="5589720"/>
            <a:ext cx="826920" cy="755640"/>
          </a:xfrm>
          <a:custGeom>
            <a:avLst/>
            <a:gdLst>
              <a:gd name="textAreaLeft" fmla="*/ 48960 w 826920"/>
              <a:gd name="textAreaRight" fmla="*/ 777960 w 826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37" y="1400"/>
                </a:lnTo>
                <a:lnTo>
                  <a:pt x="1400" y="140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37" y="20200"/>
                </a:lnTo>
                <a:lnTo>
                  <a:pt x="22237" y="140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7" y="2020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7" h="21600">
                <a:moveTo>
                  <a:pt x="4812" y="3794"/>
                </a:moveTo>
                <a:lnTo>
                  <a:pt x="18825" y="10800"/>
                </a:lnTo>
                <a:lnTo>
                  <a:pt x="48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ный диабет характеризуется повышением уровня глюкозы в кров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ы возникновения диабетической стопы у больных диабетом кроются в нарушении кровоснабжения и иннервации ног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57600" y="4959360"/>
            <a:ext cx="32104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бетическая 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7956720" y="5589720"/>
            <a:ext cx="753840" cy="75384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мон какой железы регулирует концентрацию в крови каль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2401560" y="274968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01560" y="3613320"/>
            <a:ext cx="4364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6280" y="440532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99760" y="5268960"/>
            <a:ext cx="23281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71560" y="357336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8464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592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55920" y="522936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1187280" y="357336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1187280" y="270828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1187280" y="4365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1187280" y="5229360"/>
            <a:ext cx="611280" cy="53964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66" h="21600">
                <a:moveTo>
                  <a:pt x="0" y="0"/>
                </a:moveTo>
                <a:lnTo>
                  <a:pt x="24466" y="0"/>
                </a:lnTo>
                <a:lnTo>
                  <a:pt x="24466" y="21600"/>
                </a:lnTo>
                <a:lnTo>
                  <a:pt x="0" y="21600"/>
                </a:lnTo>
                <a:close/>
              </a:path>
              <a:path fill="lightenLess" w="24466" h="21600">
                <a:moveTo>
                  <a:pt x="0" y="0"/>
                </a:moveTo>
                <a:lnTo>
                  <a:pt x="24466" y="0"/>
                </a:lnTo>
                <a:lnTo>
                  <a:pt x="23066" y="1400"/>
                </a:lnTo>
                <a:lnTo>
                  <a:pt x="1400" y="1400"/>
                </a:lnTo>
                <a:close/>
              </a:path>
              <a:path fill="darken" w="24466" h="21600">
                <a:moveTo>
                  <a:pt x="24466" y="0"/>
                </a:moveTo>
                <a:lnTo>
                  <a:pt x="24466" y="21600"/>
                </a:lnTo>
                <a:lnTo>
                  <a:pt x="23066" y="20200"/>
                </a:lnTo>
                <a:lnTo>
                  <a:pt x="23066" y="1400"/>
                </a:lnTo>
                <a:close/>
              </a:path>
              <a:path fill="darkenLess" w="24466" h="21600">
                <a:moveTo>
                  <a:pt x="24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6" y="20200"/>
                </a:lnTo>
                <a:close/>
              </a:path>
              <a:path fill="lighten" w="24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щитовидная железа регулирует уровень кальция в организме в узких рамках, так чтобы нервная и двигательная системы функционировали норма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железы -  паратгорм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rcRect l="0" t="4772" r="0" b="0"/>
          <a:stretch/>
        </p:blipFill>
        <p:spPr>
          <a:xfrm>
            <a:off x="468360" y="1341360"/>
            <a:ext cx="3484440" cy="4310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960" y="5589720"/>
            <a:ext cx="485928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щитовидная железа №3 и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 железа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53820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9" h="21600">
                <a:moveTo>
                  <a:pt x="5223" y="10800"/>
                </a:moveTo>
                <a:lnTo>
                  <a:pt x="19236" y="3794"/>
                </a:lnTo>
                <a:lnTo>
                  <a:pt x="1923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возбудимость нервной системы, регулирует обмен веществ. Не влияет на содержание кальция в кро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еми́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об — увеличение щитовидной железы, связанное с дефицит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й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реде об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25044" t="16554" r="18816" b="13468"/>
          <a:stretch/>
        </p:blipFill>
        <p:spPr>
          <a:xfrm>
            <a:off x="826920" y="1413000"/>
            <a:ext cx="3230640" cy="489564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8028000" y="573408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гуляции кальция в крови не имеет от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ственная железа, которая синтезирует ферменты и гормоны, т.е участвует в пищеварении и регуляции обмена веществ в органи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rcRect l="34863" t="29320" r="34863" b="41167"/>
          <a:stretch/>
        </p:blipFill>
        <p:spPr>
          <a:xfrm>
            <a:off x="826920" y="2746440"/>
            <a:ext cx="3673800" cy="2685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30480" y="1916280"/>
            <a:ext cx="197604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11280" y="1484280"/>
            <a:ext cx="2448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бат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р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960" y="5589720"/>
            <a:ext cx="6333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 вырабатывающие гормон глюка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484000" y="4581000"/>
            <a:ext cx="71640" cy="100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3068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24360" y="2852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2205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57200" y="2246400"/>
            <a:ext cx="4038480" cy="3233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- отдел головного мозга, расположенный ниже талам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контролирует деятельность эндокринной системы благодаря тому, что его нейроны секретируют нейрогормоны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зопрессин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2346480" y="1916280"/>
            <a:ext cx="2021760" cy="459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55640" y="2349360"/>
            <a:ext cx="647640" cy="165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3" action="ppaction://hlinksldjump"/>
          </p:cNvPr>
          <p:cNvSpPr/>
          <p:nvPr/>
        </p:nvSpPr>
        <p:spPr>
          <a:xfrm>
            <a:off x="8101080" y="5805360"/>
            <a:ext cx="611280" cy="54000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4449" h="21600">
                <a:moveTo>
                  <a:pt x="0" y="0"/>
                </a:moveTo>
                <a:lnTo>
                  <a:pt x="24449" y="0"/>
                </a:lnTo>
                <a:lnTo>
                  <a:pt x="24449" y="21600"/>
                </a:lnTo>
                <a:lnTo>
                  <a:pt x="0" y="21600"/>
                </a:lnTo>
                <a:close/>
              </a:path>
              <a:path fill="lightenLess" w="24449" h="21600">
                <a:moveTo>
                  <a:pt x="0" y="0"/>
                </a:moveTo>
                <a:lnTo>
                  <a:pt x="24449" y="0"/>
                </a:lnTo>
                <a:lnTo>
                  <a:pt x="23049" y="1400"/>
                </a:lnTo>
                <a:lnTo>
                  <a:pt x="1400" y="1400"/>
                </a:lnTo>
                <a:close/>
              </a:path>
              <a:path fill="darken" w="24449" h="21600">
                <a:moveTo>
                  <a:pt x="24449" y="0"/>
                </a:moveTo>
                <a:lnTo>
                  <a:pt x="24449" y="21600"/>
                </a:lnTo>
                <a:lnTo>
                  <a:pt x="23049" y="20200"/>
                </a:lnTo>
                <a:lnTo>
                  <a:pt x="23049" y="1400"/>
                </a:lnTo>
                <a:close/>
              </a:path>
              <a:path fill="darkenLess" w="24449" h="21600">
                <a:moveTo>
                  <a:pt x="24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49" y="20200"/>
                </a:lnTo>
                <a:close/>
              </a:path>
              <a:path fill="lighten" w="24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49" h="21600">
                <a:moveTo>
                  <a:pt x="5218" y="10800"/>
                </a:moveTo>
                <a:lnTo>
                  <a:pt x="19231" y="3794"/>
                </a:lnTo>
                <a:lnTo>
                  <a:pt x="192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2"/>
          <a:stretch/>
        </p:blipFill>
        <p:spPr>
          <a:xfrm>
            <a:off x="420840" y="176040"/>
            <a:ext cx="8242200" cy="914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928800" y="1428840"/>
            <a:ext cx="7758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krasdo.ucoz.ru/ee383358c499.p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grafamania.net/uploads/posts/2008-08/1219611582_7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meddoct.ru/tag/akt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afaelbotello.es/mc-pituitary-glands-of-fro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hinsdale86.org/staff/kgabric/Disease09/Scales.Boling.Kallmann Syndrome/visualrepresentations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umming-carabus.livejournal.co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60869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2"/>
          <a:stretch/>
        </p:blipFill>
        <p:spPr>
          <a:xfrm>
            <a:off x="357120" y="1357200"/>
            <a:ext cx="595440" cy="606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Мои документы\Мои рисунки\Рисунок16.png"/>
          <p:cNvPicPr/>
          <p:nvPr/>
        </p:nvPicPr>
        <p:blipFill>
          <a:blip r:embed="rId13"/>
          <a:stretch/>
        </p:blipFill>
        <p:spPr>
          <a:xfrm>
            <a:off x="395280" y="2133720"/>
            <a:ext cx="500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earn-another-language.org/3561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doctor24.com.u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kulia.okis.ru/foto.65583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gyie.ru/index.php?option=com_remository&amp;Itemid=30&amp;func=select&amp;id=2&amp;orderby=4&amp;page=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medical-guru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chitovidnaya-jelez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1871-morfologicheskie_priznaki_bazedovifikacii_2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apa-vlad.ru/photo/chelovek/_Organy-tela.files/012-Podzheludochnaja-zhele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diagnoz-rak.info/2010/09/uzi-nadpochechnikov/?utm_source=feedburner&amp;utm_medium=feed&amp;utm_campaign=Feed:+diagnoz-rak/blog+(Esli+diagnoz+-+r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ikemaster.ru/images/page.php?page=acromeg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my-article.net/get/наука/медицина/эндокринология/акромегалия-и-гигант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рагомилов А.Г.,Маш Р.Д. Биология:Человек: Учебник для учащихся 8 класса общеобразовательных учреждений.-2-е изд.,переработ. – М.:Вентана – Граф,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bioword.narod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анова Е.А.,Антонова И.П., Биология человека.В таблицах и схемах. М.,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ндокрин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ь основных желез внутренней секреции, согласованная деятельность которых обеспечивает регуляцию функций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0958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101080" y="587700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6688" y="10800"/>
                </a:moveTo>
                <a:lnTo>
                  <a:pt x="20701" y="3794"/>
                </a:lnTo>
                <a:lnTo>
                  <a:pt x="207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одзаголовок 2"/>
          <p:cNvSpPr/>
          <p:nvPr/>
        </p:nvSpPr>
        <p:spPr>
          <a:xfrm>
            <a:off x="1908000" y="2349360"/>
            <a:ext cx="5000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Автор</a:t>
            </a: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шаблона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Ермолаева Ири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учитель инфор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МОУ «Павл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ном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егетативная) нервная система, регулирует работу внутренних органов, желез, кровеносных сосудов и серд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гетативные центры находятся в гипоталаму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032" t="17512" r="39680" b="31294"/>
          <a:stretch/>
        </p:blipFill>
        <p:spPr>
          <a:xfrm>
            <a:off x="539640" y="3068640"/>
            <a:ext cx="3889440" cy="322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033200">
            <a:off x="538920" y="5373720"/>
            <a:ext cx="2025720" cy="45972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4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0520" y="3213000"/>
            <a:ext cx="313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1080" y="3645000"/>
            <a:ext cx="321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4149720"/>
            <a:ext cx="214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66960" y="4724280"/>
            <a:ext cx="101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5229360"/>
            <a:ext cx="157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1800" y="5734080"/>
            <a:ext cx="312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3573360"/>
            <a:ext cx="2016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68360" y="4148280"/>
            <a:ext cx="2519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6000" y="4581000"/>
            <a:ext cx="208728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411280" y="5013360"/>
            <a:ext cx="2089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734080"/>
            <a:ext cx="18716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5300640"/>
            <a:ext cx="576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47640" y="4508280"/>
            <a:ext cx="72072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101080" y="5734080"/>
            <a:ext cx="682560" cy="60948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ая нерв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ает в себя головной и спи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2735280" cy="5185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16360" y="206064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3284640"/>
            <a:ext cx="20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3159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75320" y="42670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н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3825" y="10800"/>
                </a:moveTo>
                <a:lnTo>
                  <a:pt x="17838" y="3794"/>
                </a:lnTo>
                <a:lnTo>
                  <a:pt x="17838" y="17806"/>
                </a:lnTo>
                <a:close/>
              </a:path>
            </a:pathLst>
          </a:custGeom>
          <a:gradFill rotWithShape="0">
            <a:gsLst>
              <a:gs pos="0">
                <a:srgbClr val="243b57"/>
              </a:gs>
              <a:gs pos="50000">
                <a:srgbClr val="4f81bd"/>
              </a:gs>
              <a:gs pos="100000">
                <a:srgbClr val="243b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ешней секре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, имеющие выводные протоки и выделяющие свои секреты на поверхность тела или в полости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31640" y="2421000"/>
            <a:ext cx="8208000" cy="4031280"/>
            <a:chOff x="431640" y="2421000"/>
            <a:chExt cx="8208000" cy="4031280"/>
          </a:xfrm>
        </p:grpSpPr>
        <p:cxnSp>
          <p:nvCxnSpPr>
            <p:cNvPr id="147" name="_s38931"/>
            <p:cNvCxnSpPr>
              <a:stCxn id="148" idx="0"/>
              <a:endCxn id="149" idx="2"/>
            </p:cNvCxnSpPr>
            <p:nvPr/>
          </p:nvCxnSpPr>
          <p:spPr>
            <a:xfrm flipV="1">
              <a:off x="674532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38929"/>
            <p:cNvCxnSpPr>
              <a:stCxn id="151" idx="0"/>
              <a:endCxn id="152" idx="2"/>
            </p:cNvCxnSpPr>
            <p:nvPr/>
          </p:nvCxnSpPr>
          <p:spPr>
            <a:xfrm flipV="1">
              <a:off x="232524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38926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5388480" y="2575080"/>
              <a:ext cx="504360" cy="221004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38925"/>
            <p:cNvCxnSpPr>
              <a:stCxn id="152" idx="0"/>
              <a:endCxn id="154" idx="2"/>
            </p:cNvCxnSpPr>
            <p:nvPr/>
          </p:nvCxnSpPr>
          <p:spPr>
            <a:xfrm flipH="1" flipV="1" rot="5400000">
              <a:off x="3178800" y="2574720"/>
              <a:ext cx="504360" cy="221076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38921"/>
            <p:cNvSpPr/>
            <p:nvPr/>
          </p:nvSpPr>
          <p:spPr>
            <a:xfrm>
              <a:off x="2642040" y="242100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Железы внеш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екре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8922"/>
            <p:cNvSpPr/>
            <p:nvPr/>
          </p:nvSpPr>
          <p:spPr>
            <a:xfrm>
              <a:off x="43164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 на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верхность 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8923"/>
            <p:cNvSpPr/>
            <p:nvPr/>
          </p:nvSpPr>
          <p:spPr>
            <a:xfrm>
              <a:off x="485136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полости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8928"/>
            <p:cNvSpPr/>
            <p:nvPr/>
          </p:nvSpPr>
          <p:spPr>
            <a:xfrm>
              <a:off x="43164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товые, сальные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езные, пол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8930"/>
            <p:cNvSpPr/>
            <p:nvPr/>
          </p:nvSpPr>
          <p:spPr>
            <a:xfrm>
              <a:off x="485136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юнные, печен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джелудочн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ишечника, желуд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885080" y="3141720"/>
            <a:ext cx="684360" cy="682560"/>
          </a:xfrm>
          <a:custGeom>
            <a:avLst/>
            <a:gdLst>
              <a:gd name="textAreaLeft" fmla="*/ 43920 w 684360"/>
              <a:gd name="textAreaRight" fmla="*/ 640440 w 684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57" h="21600">
                <a:moveTo>
                  <a:pt x="0" y="0"/>
                </a:moveTo>
                <a:lnTo>
                  <a:pt x="21657" y="0"/>
                </a:lnTo>
                <a:lnTo>
                  <a:pt x="21657" y="21600"/>
                </a:lnTo>
                <a:lnTo>
                  <a:pt x="0" y="21600"/>
                </a:lnTo>
                <a:close/>
              </a:path>
              <a:path fill="lightenLess" w="21657" h="21600">
                <a:moveTo>
                  <a:pt x="0" y="0"/>
                </a:moveTo>
                <a:lnTo>
                  <a:pt x="21657" y="0"/>
                </a:lnTo>
                <a:lnTo>
                  <a:pt x="20257" y="1400"/>
                </a:lnTo>
                <a:lnTo>
                  <a:pt x="1400" y="1400"/>
                </a:lnTo>
                <a:close/>
              </a:path>
              <a:path fill="darken" w="21657" h="21600">
                <a:moveTo>
                  <a:pt x="21657" y="0"/>
                </a:moveTo>
                <a:lnTo>
                  <a:pt x="21657" y="21600"/>
                </a:lnTo>
                <a:lnTo>
                  <a:pt x="20257" y="20200"/>
                </a:lnTo>
                <a:lnTo>
                  <a:pt x="20257" y="1400"/>
                </a:lnTo>
                <a:close/>
              </a:path>
              <a:path fill="darkenLess" w="21657" h="21600">
                <a:moveTo>
                  <a:pt x="21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7" y="20200"/>
                </a:lnTo>
                <a:close/>
              </a:path>
              <a:path fill="lighten" w="21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7" h="21600">
                <a:moveTo>
                  <a:pt x="3822" y="10800"/>
                </a:moveTo>
                <a:lnTo>
                  <a:pt x="17835" y="3794"/>
                </a:lnTo>
                <a:lnTo>
                  <a:pt x="1783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утренне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, не имеющие выводных протоков и выделяющие, вырабатываемые ими гормоны непосредственно в кров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280" y="3213000"/>
            <a:ext cx="3452760" cy="2836080"/>
            <a:chOff x="395280" y="3213000"/>
            <a:chExt cx="3452760" cy="2836080"/>
          </a:xfrm>
        </p:grpSpPr>
        <p:grpSp>
          <p:nvGrpSpPr>
            <p:cNvPr id="160" name=""/>
            <p:cNvGrpSpPr/>
            <p:nvPr/>
          </p:nvGrpSpPr>
          <p:grpSpPr>
            <a:xfrm>
              <a:off x="395280" y="3213000"/>
              <a:ext cx="3452760" cy="2836080"/>
              <a:chOff x="395280" y="3213000"/>
              <a:chExt cx="3452760" cy="283608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95280" y="3213000"/>
                <a:ext cx="3452760" cy="2836080"/>
                <a:chOff x="395280" y="3213000"/>
                <a:chExt cx="3452760" cy="283608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95280" y="3213000"/>
                  <a:ext cx="3452760" cy="2836080"/>
                  <a:chOff x="395280" y="3213000"/>
                  <a:chExt cx="3452760" cy="2836080"/>
                </a:xfrm>
              </p:grpSpPr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3452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" name=""/>
                  <p:cNvSpPr/>
                  <p:nvPr/>
                </p:nvSpPr>
                <p:spPr>
                  <a:xfrm>
                    <a:off x="689400" y="5589360"/>
                    <a:ext cx="1297800" cy="459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d6c67"/>
                      </a:gs>
                      <a:gs pos="50000">
                        <a:srgbClr val="eeece1"/>
                      </a:gs>
                      <a:gs pos="100000">
                        <a:srgbClr val="6d6c67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Эпифиз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2274120" y="5589360"/>
                  <a:ext cx="1412280" cy="45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d6c67"/>
                    </a:gs>
                    <a:gs pos="50000">
                      <a:srgbClr val="eeece1"/>
                    </a:gs>
                    <a:gs pos="100000">
                      <a:srgbClr val="6d6c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Гипофиз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flipH="1" flipV="1">
                <a:off x="1906200" y="4652640"/>
                <a:ext cx="1800" cy="9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2410920" y="5373360"/>
              <a:ext cx="4316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1224000" cy="367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145760" y="5516640"/>
            <a:ext cx="1052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82840" y="2997360"/>
            <a:ext cx="1959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5660640"/>
            <a:ext cx="503280" cy="14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3429000"/>
            <a:ext cx="57636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51200" y="4653000"/>
            <a:ext cx="2404080" cy="155700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ещ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7885080" y="3860640"/>
            <a:ext cx="827280" cy="648000"/>
          </a:xfrm>
          <a:custGeom>
            <a:avLst/>
            <a:gdLst>
              <a:gd name="textAreaLeft" fmla="*/ 41760 w 827280"/>
              <a:gd name="textAreaRight" fmla="*/ 785520 w 827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rcRect l="0" t="0" r="0" b="12084"/>
          <a:stretch/>
        </p:blipFill>
        <p:spPr>
          <a:xfrm>
            <a:off x="4211640" y="3500280"/>
            <a:ext cx="3924360" cy="2776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смешанно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 имеющие выводные протоки и выделяющие секреты как в полости тела, так и непосредственно в кр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: половые желе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3716280"/>
            <a:ext cx="158436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795672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Василий</cp:lastModifiedBy>
  <dcterms:modified xsi:type="dcterms:W3CDTF">2011-10-18T14:54:26Z</dcterms:modified>
  <cp:revision>77</cp:revision>
  <dc:subject/>
  <dc:title>Слайд 1</dc:title>
</cp:coreProperties>
</file>