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2.jpeg" ContentType="image/jpeg"/>
  <Override PartName="/ppt/media/image3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12.png" ContentType="image/png"/>
  <Override PartName="/ppt/media/image2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25F-F66A-4941-A2A3-250E6186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E85-1893-4816-AB55-A9929C0E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E53-6206-4D9A-8451-4AFB41ED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8CD1-C982-4E22-85DC-8B8CBE1D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E6A1-1961-45A5-97E3-CEA8E597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2AF4-08F1-4280-BAA9-BA9ECDCD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60B8-B28C-4551-B83C-4FBCD73B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76FC-F975-40B0-A128-9BAB27C2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779F-77EC-446E-8010-275B974F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7821-10E9-4C24-BECA-374445B6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9D6D-EB00-4B3E-85A6-58C9F323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4352-CBB7-49D0-A517-00861776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6B53-9DAE-413F-BA7E-D0627686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D263-5F5E-41FA-A79B-4E0459E8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4B4B-AF04-47AE-AAC6-68AAF5FD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4625-6E86-43EB-9044-0B371C31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F42C-168C-43CD-8EEB-505D766B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4A2-2A4B-4FA9-8BEF-E12C4170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8EB-26E1-4FE3-A0AD-C92C27F8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1DC-7220-4570-B7F0-CF997018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5014-E734-42CB-B86D-8882C3E4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CE10-3852-4320-ABE7-92776317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312-0108-451C-BC8B-F348E5C7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AB5-1D0A-4DCA-B854-2D856A01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1C91-E5C4-4F26-95CF-E9BDCE2D6E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1C37-EE0E-4538-AFB0-851902ED2C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34.xml"/><Relationship Id="rId5" Type="http://schemas.openxmlformats.org/officeDocument/2006/relationships/slide" Target="slide35.xml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hyperlink" Target="http://krasdo.ucoz.ru/ee383358c499.png" TargetMode="External"/><Relationship Id="rId4" Type="http://schemas.openxmlformats.org/officeDocument/2006/relationships/hyperlink" Target="http://www.grafamania.net/uploads/posts/2008-08/1219611582_7.jpg" TargetMode="External"/><Relationship Id="rId5" Type="http://schemas.openxmlformats.org/officeDocument/2006/relationships/hyperlink" Target="http://meddoct.ru/tag/aktg/" TargetMode="External"/><Relationship Id="rId6" Type="http://schemas.openxmlformats.org/officeDocument/2006/relationships/hyperlink" Target="http://rafaelbotello.es/mc-pituitary-glands-of-frog/" TargetMode="External"/><Relationship Id="rId7" Type="http://schemas.openxmlformats.org/officeDocument/2006/relationships/hyperlink" Target="http://www.hinsdale86.org/staff/kgabric/Disease09/Scales.Boling.Kallmann%20Syndrome/visualrepresentations.htm" TargetMode="External"/><Relationship Id="rId8" Type="http://schemas.openxmlformats.org/officeDocument/2006/relationships/hyperlink" Target="http://humming-carabus.livejournal.com/60869.html" TargetMode="External"/><Relationship Id="rId9" Type="http://schemas.openxmlformats.org/officeDocument/2006/relationships/hyperlink" Target="http://humming-carabus.livejournal.com/60869.html" TargetMode="External"/><Relationship Id="rId10" Type="http://schemas.openxmlformats.org/officeDocument/2006/relationships/hyperlink" Target="http://humming-carabus.livejournal.com/60869.html" TargetMode="External"/><Relationship Id="rId11" Type="http://schemas.openxmlformats.org/officeDocument/2006/relationships/hyperlink" Target="http://humming-carabus.livejournal.com/60869.html" TargetMode="External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learn-another-language.org/3561.html" TargetMode="External"/><Relationship Id="rId3" Type="http://schemas.openxmlformats.org/officeDocument/2006/relationships/hyperlink" Target="http://doctor24.com.ua/217095658/" TargetMode="External"/><Relationship Id="rId4" Type="http://schemas.openxmlformats.org/officeDocument/2006/relationships/hyperlink" Target="http://kakulia.okis.ru/foto.65583.html" TargetMode="External"/><Relationship Id="rId5" Type="http://schemas.openxmlformats.org/officeDocument/2006/relationships/hyperlink" Target="http://www.medical-guru.ru/schitovidnaya-jeleza/1871-morfologicheskie_priznaki_bazedovifikacii_2.html" TargetMode="External"/><Relationship Id="rId6" Type="http://schemas.openxmlformats.org/officeDocument/2006/relationships/hyperlink" Target="http://www.medical-guru.ru/schitovidnaya-jeleza/1871-morfologicheskie_priznaki_bazedovifikacii_2.html" TargetMode="External"/><Relationship Id="rId7" Type="http://schemas.openxmlformats.org/officeDocument/2006/relationships/hyperlink" Target="http://www.medical-guru.ru/schitovidnaya-jeleza/1871-morfologicheskie_priznaki_bazedovifikacii_2.html" TargetMode="External"/><Relationship Id="rId8" Type="http://schemas.openxmlformats.org/officeDocument/2006/relationships/hyperlink" Target="http://www.medical-guru.ru/schitovidnaya-jeleza/1871-morfologicheskie_priznaki_bazedovifikacii_2.html" TargetMode="External"/><Relationship Id="rId9" Type="http://schemas.openxmlformats.org/officeDocument/2006/relationships/hyperlink" Target="http://www.medical-guru.ru/schitovidnaya-jeleza/1871-morfologicheskie_priznaki_bazedovifikacii_2.html" TargetMode="External"/><Relationship Id="rId10" Type="http://schemas.openxmlformats.org/officeDocument/2006/relationships/hyperlink" Target="http://www.medical-guru.ru/schitovidnaya-jeleza/1871-morfologicheskie_priznaki_bazedovifikacii_2.html" TargetMode="External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763280" y="3428640"/>
            <a:ext cx="54514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Автор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Галковская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Ирина 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Ивановна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учитель 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биологии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МОУ «П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етровская СОШ Урюпинский район Волгоградская обл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Arial"/>
              </a:rPr>
              <a:t>2011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1628640"/>
            <a:ext cx="71535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ece1"/>
                    </a:gs>
                    <a:gs pos="100000">
                      <a:srgbClr val="6d6c67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Тренажер для 8 класс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ece1"/>
                  </a:gs>
                  <a:gs pos="100000">
                    <a:srgbClr val="6d6c67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ece1"/>
                    </a:gs>
                    <a:gs pos="100000">
                      <a:srgbClr val="6d6c67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"Железы организма человек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ece1"/>
                  </a:gs>
                  <a:gs pos="100000">
                    <a:srgbClr val="6d6c67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ремен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тое тело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временная железа внутренней секреции, развивающаяся в яичнике млекопитающих после овуляции и вырабатывающая гормоны (главным образом прогестерон). Образуется на месте фолликула под действием  гормона гипофиза. Представляет собой многослойную массу изменённых фолликулярных,  клеток, в которую врастают кровеносные капилляры. Продолжительность функции желтого тела различна у разных групп животных. У человека желтое тело рассасывается после 6 месяцев беремен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8244000" y="5805360"/>
            <a:ext cx="684000" cy="682920"/>
          </a:xfrm>
          <a:custGeom>
            <a:avLst/>
            <a:gdLst>
              <a:gd name="textAreaLeft" fmla="*/ 44280 w 684000"/>
              <a:gd name="textAreaRight" fmla="*/ 639720 w 684000"/>
              <a:gd name="textAreaTop" fmla="*/ 44280 h 682920"/>
              <a:gd name="textAreaBottom" fmla="*/ 638640 h 682920"/>
            </a:gdLst>
            <a:ahLst/>
            <a:rect l="textAreaLeft" t="textAreaTop" r="textAreaRight" b="textAreaBottom"/>
            <a:pathLst>
              <a:path w="21634" h="21600">
                <a:moveTo>
                  <a:pt x="0" y="0"/>
                </a:moveTo>
                <a:lnTo>
                  <a:pt x="21634" y="0"/>
                </a:lnTo>
                <a:lnTo>
                  <a:pt x="21634" y="21600"/>
                </a:lnTo>
                <a:lnTo>
                  <a:pt x="0" y="21600"/>
                </a:lnTo>
                <a:close/>
              </a:path>
              <a:path fill="lightenLess" w="21634" h="21600">
                <a:moveTo>
                  <a:pt x="0" y="0"/>
                </a:moveTo>
                <a:lnTo>
                  <a:pt x="21634" y="0"/>
                </a:lnTo>
                <a:lnTo>
                  <a:pt x="20234" y="1400"/>
                </a:lnTo>
                <a:lnTo>
                  <a:pt x="1400" y="1400"/>
                </a:lnTo>
                <a:close/>
              </a:path>
              <a:path fill="darken" w="21634" h="21600">
                <a:moveTo>
                  <a:pt x="21634" y="0"/>
                </a:moveTo>
                <a:lnTo>
                  <a:pt x="21634" y="21600"/>
                </a:lnTo>
                <a:lnTo>
                  <a:pt x="20234" y="20200"/>
                </a:lnTo>
                <a:lnTo>
                  <a:pt x="20234" y="1400"/>
                </a:lnTo>
                <a:close/>
              </a:path>
              <a:path fill="darkenLess" w="21634" h="21600">
                <a:moveTo>
                  <a:pt x="21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4" y="20200"/>
                </a:lnTo>
                <a:close/>
              </a:path>
              <a:path fill="lighten" w="21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4" h="21600">
                <a:moveTo>
                  <a:pt x="3811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ая из желез внутренней секреции управляет всеми гормональными процессами организм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1968120" y="3108240"/>
            <a:ext cx="3555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68840" y="3828960"/>
            <a:ext cx="2547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9200" y="4549680"/>
            <a:ext cx="4140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38680" y="5342040"/>
            <a:ext cx="16149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09840" y="4653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84640" y="3860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84640" y="3068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48360" y="5348160"/>
            <a:ext cx="122256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900000" y="3068640"/>
            <a:ext cx="647640" cy="53964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900000" y="378936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4" action="ppaction://hlinksldjump"/>
          </p:cNvPr>
          <p:cNvSpPr/>
          <p:nvPr/>
        </p:nvSpPr>
        <p:spPr>
          <a:xfrm>
            <a:off x="900000" y="450864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2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2" y="20200"/>
                </a:lnTo>
                <a:lnTo>
                  <a:pt x="22732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2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5" action="ppaction://hlinksldjump"/>
          </p:cNvPr>
          <p:cNvSpPr/>
          <p:nvPr/>
        </p:nvSpPr>
        <p:spPr>
          <a:xfrm>
            <a:off x="900000" y="537372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6" action="ppaction://hlinksldjump"/>
          </p:cNvPr>
          <p:cNvSpPr/>
          <p:nvPr/>
        </p:nvSpPr>
        <p:spPr>
          <a:xfrm>
            <a:off x="8172360" y="5950080"/>
            <a:ext cx="684360" cy="610920"/>
          </a:xfrm>
          <a:custGeom>
            <a:avLst/>
            <a:gdLst>
              <a:gd name="textAreaLeft" fmla="*/ 39600 w 684360"/>
              <a:gd name="textAreaRight" fmla="*/ 644760 w 6843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95" h="21600">
                <a:moveTo>
                  <a:pt x="0" y="0"/>
                </a:moveTo>
                <a:lnTo>
                  <a:pt x="24195" y="0"/>
                </a:lnTo>
                <a:lnTo>
                  <a:pt x="24195" y="21600"/>
                </a:lnTo>
                <a:lnTo>
                  <a:pt x="0" y="21600"/>
                </a:lnTo>
                <a:close/>
              </a:path>
              <a:path fill="lightenLess" w="24195" h="21600">
                <a:moveTo>
                  <a:pt x="0" y="0"/>
                </a:moveTo>
                <a:lnTo>
                  <a:pt x="24195" y="0"/>
                </a:lnTo>
                <a:lnTo>
                  <a:pt x="22795" y="1400"/>
                </a:lnTo>
                <a:lnTo>
                  <a:pt x="1400" y="1400"/>
                </a:lnTo>
                <a:close/>
              </a:path>
              <a:path fill="darken" w="24195" h="21600">
                <a:moveTo>
                  <a:pt x="24195" y="0"/>
                </a:moveTo>
                <a:lnTo>
                  <a:pt x="24195" y="21600"/>
                </a:lnTo>
                <a:lnTo>
                  <a:pt x="22795" y="20200"/>
                </a:lnTo>
                <a:lnTo>
                  <a:pt x="22795" y="1400"/>
                </a:lnTo>
                <a:close/>
              </a:path>
              <a:path fill="darkenLess" w="24195" h="21600">
                <a:moveTo>
                  <a:pt x="24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5" y="20200"/>
                </a:lnTo>
                <a:close/>
              </a:path>
              <a:path fill="lighten" w="24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5" h="21600">
                <a:moveTo>
                  <a:pt x="5091" y="3794"/>
                </a:moveTo>
                <a:lnTo>
                  <a:pt x="19104" y="10800"/>
                </a:lnTo>
                <a:lnTo>
                  <a:pt x="509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батывает гормон тироксин, содержащий й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гулирует обмен веществ. Повышает возбудимость нервной сист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22976" t="17165" r="20340" b="12277"/>
          <a:stretch/>
        </p:blipFill>
        <p:spPr>
          <a:xfrm>
            <a:off x="755640" y="1484280"/>
            <a:ext cx="2949480" cy="446400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8028000" y="566100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  <a:path fill="darken" w="21600" h="21664">
                <a:moveTo>
                  <a:pt x="3794" y="10832"/>
                </a:moveTo>
                <a:lnTo>
                  <a:pt x="17806" y="3825"/>
                </a:lnTo>
                <a:lnTo>
                  <a:pt x="17806" y="1783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зговой слой образует гормоны адреналин и норадреналин. Они повышают уровень глюкозы в крови, стимулируют сердцебиение, повышают кровяное давление, ускоряют дых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ковый слой образует кортикоиды, влияют на жировой, белковый обмен и минеральных ве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960720" cy="387648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802800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мон инсулин снижает уровень глюкозы в крови, стимулируя ее превращение в гликоген в печ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мон глюкагон повышает уровень глюкозы в крови, стимулируя расщепление гликогена в печ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16360" cy="3087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90840" y="5300640"/>
            <a:ext cx="357480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987640" y="4149360"/>
            <a:ext cx="71640" cy="115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3" action="ppaction://hlinksldjump"/>
          </p:cNvPr>
          <p:cNvSpPr/>
          <p:nvPr/>
        </p:nvSpPr>
        <p:spPr>
          <a:xfrm>
            <a:off x="8028000" y="566100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4441320"/>
            <a:ext cx="8686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 роста соматотропин регулирует рост организма; вазопрессин регулирует интенсивность мочевыде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физ – дирижер оркестра гормонов (половых, щитовидной железы, надпочечник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rcRect l="0" t="5875" r="14977" b="13816"/>
          <a:stretch/>
        </p:blipFill>
        <p:spPr>
          <a:xfrm>
            <a:off x="684360" y="1341360"/>
            <a:ext cx="5182920" cy="295272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8101080" y="5805360"/>
            <a:ext cx="609480" cy="493920"/>
          </a:xfrm>
          <a:custGeom>
            <a:avLst/>
            <a:gdLst>
              <a:gd name="textAreaLeft" fmla="*/ 31680 w 609480"/>
              <a:gd name="textAreaRight" fmla="*/ 577800 w 609480"/>
              <a:gd name="textAreaTop" fmla="*/ 31680 h 493920"/>
              <a:gd name="textAreaBottom" fmla="*/ 462240 h 493920"/>
            </a:gdLst>
            <a:ahLst/>
            <a:rect l="textAreaLeft" t="textAreaTop" r="textAreaRight" b="textAreaBottom"/>
            <a:pathLst>
              <a:path w="26650" h="21600">
                <a:moveTo>
                  <a:pt x="0" y="0"/>
                </a:moveTo>
                <a:lnTo>
                  <a:pt x="26650" y="0"/>
                </a:lnTo>
                <a:lnTo>
                  <a:pt x="26650" y="21600"/>
                </a:lnTo>
                <a:lnTo>
                  <a:pt x="0" y="21600"/>
                </a:lnTo>
                <a:close/>
              </a:path>
              <a:path fill="lightenLess" w="26650" h="21600">
                <a:moveTo>
                  <a:pt x="0" y="0"/>
                </a:moveTo>
                <a:lnTo>
                  <a:pt x="26650" y="0"/>
                </a:lnTo>
                <a:lnTo>
                  <a:pt x="25250" y="1400"/>
                </a:lnTo>
                <a:lnTo>
                  <a:pt x="1400" y="1400"/>
                </a:lnTo>
                <a:close/>
              </a:path>
              <a:path fill="darken" w="26650" h="21600">
                <a:moveTo>
                  <a:pt x="26650" y="0"/>
                </a:moveTo>
                <a:lnTo>
                  <a:pt x="26650" y="21600"/>
                </a:lnTo>
                <a:lnTo>
                  <a:pt x="25250" y="20200"/>
                </a:lnTo>
                <a:lnTo>
                  <a:pt x="25250" y="1400"/>
                </a:lnTo>
                <a:close/>
              </a:path>
              <a:path fill="darkenLess" w="26650" h="21600">
                <a:moveTo>
                  <a:pt x="26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50" y="20200"/>
                </a:lnTo>
                <a:close/>
              </a:path>
              <a:path fill="lighten" w="26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50" h="21600">
                <a:moveTo>
                  <a:pt x="6319" y="10800"/>
                </a:moveTo>
                <a:lnTo>
                  <a:pt x="20331" y="3794"/>
                </a:lnTo>
                <a:lnTo>
                  <a:pt x="2033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нарушениями функций какой из желез связано заболевание базедовой болезн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2293920" y="2604960"/>
            <a:ext cx="284472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00840" y="3468600"/>
            <a:ext cx="2259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01920" y="4405320"/>
            <a:ext cx="2736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поче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71760" y="5268960"/>
            <a:ext cx="1660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ов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40280" y="2637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11560" y="5157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1156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3500280"/>
            <a:ext cx="122256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1042920" y="256536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1042920" y="342900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4" action="ppaction://hlinksldjump"/>
          </p:cNvPr>
          <p:cNvSpPr/>
          <p:nvPr/>
        </p:nvSpPr>
        <p:spPr>
          <a:xfrm>
            <a:off x="1042920" y="4365720"/>
            <a:ext cx="649440" cy="609480"/>
          </a:xfrm>
          <a:custGeom>
            <a:avLst/>
            <a:gdLst>
              <a:gd name="textAreaLeft" fmla="*/ 39240 w 649440"/>
              <a:gd name="textAreaRight" fmla="*/ 610200 w 649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3015" h="21600">
                <a:moveTo>
                  <a:pt x="0" y="0"/>
                </a:moveTo>
                <a:lnTo>
                  <a:pt x="23015" y="0"/>
                </a:lnTo>
                <a:lnTo>
                  <a:pt x="23015" y="21600"/>
                </a:lnTo>
                <a:lnTo>
                  <a:pt x="0" y="21600"/>
                </a:lnTo>
                <a:close/>
              </a:path>
              <a:path fill="lightenLess" w="23015" h="21600">
                <a:moveTo>
                  <a:pt x="0" y="0"/>
                </a:moveTo>
                <a:lnTo>
                  <a:pt x="23015" y="0"/>
                </a:lnTo>
                <a:lnTo>
                  <a:pt x="21615" y="1400"/>
                </a:lnTo>
                <a:lnTo>
                  <a:pt x="1400" y="1400"/>
                </a:lnTo>
                <a:close/>
              </a:path>
              <a:path fill="darken" w="23015" h="21600">
                <a:moveTo>
                  <a:pt x="23015" y="0"/>
                </a:moveTo>
                <a:lnTo>
                  <a:pt x="23015" y="21600"/>
                </a:lnTo>
                <a:lnTo>
                  <a:pt x="21615" y="20200"/>
                </a:lnTo>
                <a:lnTo>
                  <a:pt x="21615" y="1400"/>
                </a:lnTo>
                <a:close/>
              </a:path>
              <a:path fill="darkenLess" w="23015" h="21600">
                <a:moveTo>
                  <a:pt x="23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15" y="20200"/>
                </a:lnTo>
                <a:close/>
              </a:path>
              <a:path fill="lighten" w="23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5" action="ppaction://hlinksldjump"/>
          </p:cNvPr>
          <p:cNvSpPr/>
          <p:nvPr/>
        </p:nvSpPr>
        <p:spPr>
          <a:xfrm>
            <a:off x="1042920" y="537372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6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быток гормона вызывает резкое понижение сахара в крови, наступает инсулиновый (гипогликемический)шок, нарушение деятельности мозга, судороги, потеря с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остаток гормона приводит к сахарному диабету –увеличению сахара в крови, невозможности использования глюкозы клетками для получения энерг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8028000" y="5805360"/>
            <a:ext cx="755640" cy="61128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98" h="21600">
                <a:moveTo>
                  <a:pt x="0" y="0"/>
                </a:moveTo>
                <a:lnTo>
                  <a:pt x="26698" y="0"/>
                </a:lnTo>
                <a:lnTo>
                  <a:pt x="26698" y="21600"/>
                </a:lnTo>
                <a:lnTo>
                  <a:pt x="0" y="21600"/>
                </a:lnTo>
                <a:close/>
              </a:path>
              <a:path fill="lightenLess" w="26698" h="21600">
                <a:moveTo>
                  <a:pt x="0" y="0"/>
                </a:moveTo>
                <a:lnTo>
                  <a:pt x="26698" y="0"/>
                </a:lnTo>
                <a:lnTo>
                  <a:pt x="25298" y="1400"/>
                </a:lnTo>
                <a:lnTo>
                  <a:pt x="1400" y="1400"/>
                </a:lnTo>
                <a:close/>
              </a:path>
              <a:path fill="darken" w="26698" h="21600">
                <a:moveTo>
                  <a:pt x="26698" y="0"/>
                </a:moveTo>
                <a:lnTo>
                  <a:pt x="26698" y="21600"/>
                </a:lnTo>
                <a:lnTo>
                  <a:pt x="25298" y="20200"/>
                </a:lnTo>
                <a:lnTo>
                  <a:pt x="25298" y="1400"/>
                </a:lnTo>
                <a:close/>
              </a:path>
              <a:path fill="darkenLess" w="26698" h="21600">
                <a:moveTo>
                  <a:pt x="26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8" y="20200"/>
                </a:lnTo>
                <a:close/>
              </a:path>
              <a:path fill="lighten" w="26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8" h="21600">
                <a:moveTo>
                  <a:pt x="6343" y="10800"/>
                </a:moveTo>
                <a:lnTo>
                  <a:pt x="20356" y="3794"/>
                </a:lnTo>
                <a:lnTo>
                  <a:pt x="2035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0" y="1341360"/>
            <a:ext cx="41148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зедова болезнь, при повышенном содержании гормона. Проявляется в возбудимости нервной системы и появлении зо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3816360" cy="3411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3"/>
          <a:srcRect l="14503" t="19381" r="10159" b="7906"/>
          <a:stretch/>
        </p:blipFill>
        <p:spPr>
          <a:xfrm>
            <a:off x="4932360" y="3716280"/>
            <a:ext cx="3095640" cy="267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817236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ыток гормонов: раннее половое созревание с быстрым прекращением ро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к: бронзовая болезнь (бронзовый оттенок кожи, слабость, похудение).Удаление когы надпочечников приводит к смерти, вследствие потери большого количества натр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3309840" cy="410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7956720" y="5734080"/>
            <a:ext cx="753840" cy="682560"/>
          </a:xfrm>
          <a:custGeom>
            <a:avLst/>
            <a:gdLst>
              <a:gd name="textAreaLeft" fmla="*/ 43920 w 753840"/>
              <a:gd name="textAreaRight" fmla="*/ 709920 w 7538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855" h="21600">
                <a:moveTo>
                  <a:pt x="0" y="0"/>
                </a:moveTo>
                <a:lnTo>
                  <a:pt x="23855" y="0"/>
                </a:lnTo>
                <a:lnTo>
                  <a:pt x="23855" y="21600"/>
                </a:lnTo>
                <a:lnTo>
                  <a:pt x="0" y="21600"/>
                </a:lnTo>
                <a:close/>
              </a:path>
              <a:path fill="lightenLess" w="23855" h="21600">
                <a:moveTo>
                  <a:pt x="0" y="0"/>
                </a:moveTo>
                <a:lnTo>
                  <a:pt x="23855" y="0"/>
                </a:lnTo>
                <a:lnTo>
                  <a:pt x="22455" y="1400"/>
                </a:lnTo>
                <a:lnTo>
                  <a:pt x="1400" y="1400"/>
                </a:lnTo>
                <a:close/>
              </a:path>
              <a:path fill="darken" w="23855" h="21600">
                <a:moveTo>
                  <a:pt x="23855" y="0"/>
                </a:moveTo>
                <a:lnTo>
                  <a:pt x="23855" y="21600"/>
                </a:lnTo>
                <a:lnTo>
                  <a:pt x="22455" y="20200"/>
                </a:lnTo>
                <a:lnTo>
                  <a:pt x="22455" y="1400"/>
                </a:lnTo>
                <a:close/>
              </a:path>
              <a:path fill="darkenLess" w="23855" h="21600">
                <a:moveTo>
                  <a:pt x="23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55" y="20200"/>
                </a:lnTo>
                <a:close/>
              </a:path>
              <a:path fill="lighten" w="23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55" h="21600">
                <a:moveTo>
                  <a:pt x="4921" y="10800"/>
                </a:moveTo>
                <a:lnTo>
                  <a:pt x="18934" y="3794"/>
                </a:lnTo>
                <a:lnTo>
                  <a:pt x="1893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организма человека, отвечающая за гуморальную регуляцию функций организма, называе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2442960" y="2997360"/>
            <a:ext cx="21924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тоном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01920" y="3763800"/>
            <a:ext cx="2457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гета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9560" y="4629240"/>
            <a:ext cx="23724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кри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20640" y="5421240"/>
            <a:ext cx="23752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нтр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20640" y="465300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01840" y="29718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7920" y="3716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44760" y="5445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971640" y="4653000"/>
            <a:ext cx="610920" cy="538200"/>
          </a:xfrm>
          <a:custGeom>
            <a:avLst/>
            <a:gdLst>
              <a:gd name="textAreaLeft" fmla="*/ 34560 w 610920"/>
              <a:gd name="textAreaRight" fmla="*/ 576360 w 610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17" h="21600">
                <a:moveTo>
                  <a:pt x="0" y="0"/>
                </a:moveTo>
                <a:lnTo>
                  <a:pt x="24517" y="0"/>
                </a:lnTo>
                <a:lnTo>
                  <a:pt x="24517" y="21600"/>
                </a:lnTo>
                <a:lnTo>
                  <a:pt x="0" y="21600"/>
                </a:lnTo>
                <a:close/>
              </a:path>
              <a:path fill="lightenLess" w="24517" h="21600">
                <a:moveTo>
                  <a:pt x="0" y="0"/>
                </a:moveTo>
                <a:lnTo>
                  <a:pt x="24517" y="0"/>
                </a:lnTo>
                <a:lnTo>
                  <a:pt x="23117" y="1400"/>
                </a:lnTo>
                <a:lnTo>
                  <a:pt x="1400" y="1400"/>
                </a:lnTo>
                <a:close/>
              </a:path>
              <a:path fill="darken" w="24517" h="21600">
                <a:moveTo>
                  <a:pt x="24517" y="0"/>
                </a:moveTo>
                <a:lnTo>
                  <a:pt x="24517" y="21600"/>
                </a:lnTo>
                <a:lnTo>
                  <a:pt x="23117" y="20200"/>
                </a:lnTo>
                <a:lnTo>
                  <a:pt x="23117" y="1400"/>
                </a:lnTo>
                <a:close/>
              </a:path>
              <a:path fill="darkenLess" w="24517" h="21600">
                <a:moveTo>
                  <a:pt x="24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7" y="20200"/>
                </a:lnTo>
                <a:close/>
              </a:path>
              <a:path fill="lighten" w="24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971640" y="299736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971640" y="3789360"/>
            <a:ext cx="610920" cy="611280"/>
          </a:xfrm>
          <a:custGeom>
            <a:avLst/>
            <a:gdLst>
              <a:gd name="textAreaLeft" fmla="*/ 39600 w 610920"/>
              <a:gd name="textAreaRight" fmla="*/ 571320 w 610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971640" y="5445000"/>
            <a:ext cx="647640" cy="54000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8101080" y="5805360"/>
            <a:ext cx="684000" cy="540000"/>
          </a:xfrm>
          <a:custGeom>
            <a:avLst/>
            <a:gdLst>
              <a:gd name="textAreaLeft" fmla="*/ 34920 w 684000"/>
              <a:gd name="textAreaRight" fmla="*/ 649080 w 684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7356" h="21600">
                <a:moveTo>
                  <a:pt x="0" y="0"/>
                </a:moveTo>
                <a:lnTo>
                  <a:pt x="27356" y="0"/>
                </a:lnTo>
                <a:lnTo>
                  <a:pt x="27356" y="21600"/>
                </a:lnTo>
                <a:lnTo>
                  <a:pt x="0" y="21600"/>
                </a:lnTo>
                <a:close/>
              </a:path>
              <a:path fill="lightenLess" w="27356" h="21600">
                <a:moveTo>
                  <a:pt x="0" y="0"/>
                </a:moveTo>
                <a:lnTo>
                  <a:pt x="27356" y="0"/>
                </a:lnTo>
                <a:lnTo>
                  <a:pt x="25956" y="1400"/>
                </a:lnTo>
                <a:lnTo>
                  <a:pt x="1400" y="1400"/>
                </a:lnTo>
                <a:close/>
              </a:path>
              <a:path fill="darken" w="27356" h="21600">
                <a:moveTo>
                  <a:pt x="27356" y="0"/>
                </a:moveTo>
                <a:lnTo>
                  <a:pt x="27356" y="21600"/>
                </a:lnTo>
                <a:lnTo>
                  <a:pt x="25956" y="20200"/>
                </a:lnTo>
                <a:lnTo>
                  <a:pt x="25956" y="1400"/>
                </a:lnTo>
                <a:close/>
              </a:path>
              <a:path fill="darkenLess" w="27356" h="21600">
                <a:moveTo>
                  <a:pt x="27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6" y="20200"/>
                </a:lnTo>
                <a:close/>
              </a:path>
              <a:path fill="lighten" w="27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6" h="21600">
                <a:moveTo>
                  <a:pt x="6672" y="3794"/>
                </a:moveTo>
                <a:lnTo>
                  <a:pt x="20685" y="10800"/>
                </a:lnTo>
                <a:lnTo>
                  <a:pt x="667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овые гормо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нские гормоны: эстрог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жские гормоны: андрог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ивают половую функцию организма, развитие вторичных половых функц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900000" y="1557360"/>
            <a:ext cx="3961080" cy="2209680"/>
            <a:chOff x="900000" y="1557360"/>
            <a:chExt cx="3961080" cy="220968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900000" y="1557360"/>
              <a:ext cx="396108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780000" y="2637000"/>
              <a:ext cx="91440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2301840" cy="3024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704680" y="5734080"/>
            <a:ext cx="390096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жские половые 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61960" y="3375000"/>
            <a:ext cx="1425960" cy="119124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н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4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из перечисленных химических соединений не является гормон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2707560" y="2708280"/>
            <a:ext cx="15904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07560" y="3500280"/>
            <a:ext cx="155844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ип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9000" y="4437000"/>
            <a:ext cx="25840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матотроп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9200" y="5300640"/>
            <a:ext cx="17200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рок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24280" y="2708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2428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24280" y="5300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16720" y="3429000"/>
            <a:ext cx="12222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1258920" y="263700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2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2" y="20200"/>
                </a:lnTo>
                <a:lnTo>
                  <a:pt x="22732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2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1332000" y="350028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4" action="ppaction://hlinksldjump"/>
          </p:cNvPr>
          <p:cNvSpPr/>
          <p:nvPr/>
        </p:nvSpPr>
        <p:spPr>
          <a:xfrm>
            <a:off x="1332000" y="436572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5" action="ppaction://hlinksldjump"/>
          </p:cNvPr>
          <p:cNvSpPr/>
          <p:nvPr/>
        </p:nvSpPr>
        <p:spPr>
          <a:xfrm>
            <a:off x="1332000" y="530064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6" action="ppaction://hlinksldjump"/>
          </p:cNvPr>
          <p:cNvSpPr/>
          <p:nvPr/>
        </p:nvSpPr>
        <p:spPr>
          <a:xfrm flipV="1">
            <a:off x="8172360" y="573336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4376" y="3794"/>
                </a:moveTo>
                <a:lnTo>
                  <a:pt x="18388" y="10800"/>
                </a:lnTo>
                <a:lnTo>
                  <a:pt x="437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ает содержание сахара в крови, задерживая распад гликогена и синтез глюкозы в печени. В то же время инсулин повышает проницаемость клеточных мембран для глюкозы, способствуя её переходу в ткани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671640" cy="388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884520" y="5392800"/>
            <a:ext cx="30502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ы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3" action="ppaction://hlinksldjump"/>
          </p:cNvPr>
          <p:cNvSpPr/>
          <p:nvPr/>
        </p:nvSpPr>
        <p:spPr>
          <a:xfrm>
            <a:off x="8028000" y="5805360"/>
            <a:ext cx="684360" cy="648000"/>
          </a:xfrm>
          <a:custGeom>
            <a:avLst/>
            <a:gdLst>
              <a:gd name="textAreaLeft" fmla="*/ 41760 w 684360"/>
              <a:gd name="textAreaRight" fmla="*/ 642600 w 684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2811" h="21600">
                <a:moveTo>
                  <a:pt x="0" y="0"/>
                </a:moveTo>
                <a:lnTo>
                  <a:pt x="22811" y="0"/>
                </a:lnTo>
                <a:lnTo>
                  <a:pt x="22811" y="21600"/>
                </a:lnTo>
                <a:lnTo>
                  <a:pt x="0" y="21600"/>
                </a:lnTo>
                <a:close/>
              </a:path>
              <a:path fill="lightenLess" w="22811" h="21600">
                <a:moveTo>
                  <a:pt x="0" y="0"/>
                </a:moveTo>
                <a:lnTo>
                  <a:pt x="22811" y="0"/>
                </a:lnTo>
                <a:lnTo>
                  <a:pt x="21411" y="1400"/>
                </a:lnTo>
                <a:lnTo>
                  <a:pt x="1400" y="1400"/>
                </a:lnTo>
                <a:close/>
              </a:path>
              <a:path fill="darken" w="22811" h="21600">
                <a:moveTo>
                  <a:pt x="22811" y="0"/>
                </a:moveTo>
                <a:lnTo>
                  <a:pt x="22811" y="21600"/>
                </a:lnTo>
                <a:lnTo>
                  <a:pt x="21411" y="20200"/>
                </a:lnTo>
                <a:lnTo>
                  <a:pt x="21411" y="1400"/>
                </a:lnTo>
                <a:close/>
              </a:path>
              <a:path fill="darkenLess" w="22811" h="21600">
                <a:moveTo>
                  <a:pt x="22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1" y="20200"/>
                </a:lnTo>
                <a:close/>
              </a:path>
              <a:path fill="lighten" w="22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11" h="21600">
                <a:moveTo>
                  <a:pt x="4399" y="10800"/>
                </a:moveTo>
                <a:lnTo>
                  <a:pt x="18412" y="3794"/>
                </a:lnTo>
                <a:lnTo>
                  <a:pt x="1841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ипс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псин — фермен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сщепляющий пептид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белки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псин синтезируется в поджелудочной желе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Поджелудочная железа синтезирует не только гормоны, но и фермен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885240" y="4672080"/>
            <a:ext cx="297576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 трип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3" action="ppaction://hlinksldjump"/>
          </p:cNvPr>
          <p:cNvSpPr/>
          <p:nvPr/>
        </p:nvSpPr>
        <p:spPr>
          <a:xfrm>
            <a:off x="7956720" y="5734080"/>
            <a:ext cx="753840" cy="611280"/>
          </a:xfrm>
          <a:custGeom>
            <a:avLst/>
            <a:gdLst>
              <a:gd name="textAreaLeft" fmla="*/ 39600 w 753840"/>
              <a:gd name="textAreaRight" fmla="*/ 714240 w 7538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34" h="21600">
                <a:moveTo>
                  <a:pt x="0" y="0"/>
                </a:moveTo>
                <a:lnTo>
                  <a:pt x="26634" y="0"/>
                </a:lnTo>
                <a:lnTo>
                  <a:pt x="26634" y="21600"/>
                </a:lnTo>
                <a:lnTo>
                  <a:pt x="0" y="21600"/>
                </a:lnTo>
                <a:close/>
              </a:path>
              <a:path fill="lightenLess" w="26634" h="21600">
                <a:moveTo>
                  <a:pt x="0" y="0"/>
                </a:moveTo>
                <a:lnTo>
                  <a:pt x="26634" y="0"/>
                </a:lnTo>
                <a:lnTo>
                  <a:pt x="25234" y="1400"/>
                </a:lnTo>
                <a:lnTo>
                  <a:pt x="1400" y="1400"/>
                </a:lnTo>
                <a:close/>
              </a:path>
              <a:path fill="darken" w="26634" h="21600">
                <a:moveTo>
                  <a:pt x="26634" y="0"/>
                </a:moveTo>
                <a:lnTo>
                  <a:pt x="26634" y="21600"/>
                </a:lnTo>
                <a:lnTo>
                  <a:pt x="25234" y="20200"/>
                </a:lnTo>
                <a:lnTo>
                  <a:pt x="25234" y="1400"/>
                </a:lnTo>
                <a:close/>
              </a:path>
              <a:path fill="darkenLess" w="26634" h="21600">
                <a:moveTo>
                  <a:pt x="26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34" y="20200"/>
                </a:lnTo>
                <a:close/>
              </a:path>
              <a:path fill="lighten" w="26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34" h="21600">
                <a:moveTo>
                  <a:pt x="6311" y="10800"/>
                </a:moveTo>
                <a:lnTo>
                  <a:pt x="20324" y="3794"/>
                </a:lnTo>
                <a:lnTo>
                  <a:pt x="2032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матотроп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ом роста соматотропин называют за то, что у детей и подростков, а также молодых людей с ещё не закрывшимися зонами роста в костях он вызывает выраженное ускорение линейного (в длину) роста, в основном за счет роста длинных трубчатых костей конечнос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2733840" cy="38098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63480" y="5464080"/>
            <a:ext cx="376200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антизм, выз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ком гормона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3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рокс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гормон щитовидной желез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достатке тироксина у взрослых людей развивается микседема. Недостаток тироксина, в раннем детстве или является врожденной, вызывает кретин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гиперфункции тироксина развивается базедова болезнь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66665" t="0" r="0" b="0"/>
          <a:stretch/>
        </p:blipFill>
        <p:spPr>
          <a:xfrm>
            <a:off x="2124000" y="2781360"/>
            <a:ext cx="2441520" cy="3529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rcRect l="0" t="9068" r="70537" b="5752"/>
          <a:stretch/>
        </p:blipFill>
        <p:spPr>
          <a:xfrm>
            <a:off x="324000" y="1341360"/>
            <a:ext cx="2016000" cy="2808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1188000" y="5805360"/>
            <a:ext cx="169704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ет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4" action="ppaction://hlinksldjump"/>
          </p:cNvPr>
          <p:cNvSpPr/>
          <p:nvPr/>
        </p:nvSpPr>
        <p:spPr>
          <a:xfrm>
            <a:off x="8101080" y="5805360"/>
            <a:ext cx="682560" cy="6130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3080"/>
              <a:gd name="textAreaBottom" fmla="*/ 573480 h 613080"/>
            </a:gdLst>
            <a:ahLst/>
            <a:rect l="textAreaLeft" t="textAreaTop" r="textAreaRight" b="textAreaBottom"/>
            <a:pathLst>
              <a:path w="24046" h="21600">
                <a:moveTo>
                  <a:pt x="0" y="0"/>
                </a:moveTo>
                <a:lnTo>
                  <a:pt x="24046" y="0"/>
                </a:lnTo>
                <a:lnTo>
                  <a:pt x="24046" y="21600"/>
                </a:lnTo>
                <a:lnTo>
                  <a:pt x="0" y="21600"/>
                </a:lnTo>
                <a:close/>
              </a:path>
              <a:path fill="lightenLess" w="24046" h="21600">
                <a:moveTo>
                  <a:pt x="0" y="0"/>
                </a:moveTo>
                <a:lnTo>
                  <a:pt x="24046" y="0"/>
                </a:lnTo>
                <a:lnTo>
                  <a:pt x="22646" y="1400"/>
                </a:lnTo>
                <a:lnTo>
                  <a:pt x="1400" y="1400"/>
                </a:lnTo>
                <a:close/>
              </a:path>
              <a:path fill="darken" w="24046" h="21600">
                <a:moveTo>
                  <a:pt x="24046" y="0"/>
                </a:moveTo>
                <a:lnTo>
                  <a:pt x="24046" y="21600"/>
                </a:lnTo>
                <a:lnTo>
                  <a:pt x="22646" y="20200"/>
                </a:lnTo>
                <a:lnTo>
                  <a:pt x="22646" y="1400"/>
                </a:lnTo>
                <a:close/>
              </a:path>
              <a:path fill="darkenLess" w="24046" h="21600">
                <a:moveTo>
                  <a:pt x="24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46" y="20200"/>
                </a:lnTo>
                <a:close/>
              </a:path>
              <a:path fill="lighten" w="24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46" h="21600">
                <a:moveTo>
                  <a:pt x="5017" y="10800"/>
                </a:moveTo>
                <a:lnTo>
                  <a:pt x="19030" y="3794"/>
                </a:lnTo>
                <a:lnTo>
                  <a:pt x="19030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заболевание  возникает при  гиперфункции гипофиз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/>
          <p:nvPr/>
        </p:nvSpPr>
        <p:spPr>
          <a:xfrm>
            <a:off x="2924640" y="2852640"/>
            <a:ext cx="2335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ромег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75040" y="3757680"/>
            <a:ext cx="20538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ксид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6120" y="4621320"/>
            <a:ext cx="32151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зедова боле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76120" y="5484960"/>
            <a:ext cx="31251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харный диаб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40280" y="3716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40280" y="4653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11560" y="5445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9920" y="292428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1476360" y="285264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1476360" y="3645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rId4" action="ppaction://hlinksldjump"/>
          </p:cNvPr>
          <p:cNvSpPr/>
          <p:nvPr/>
        </p:nvSpPr>
        <p:spPr>
          <a:xfrm>
            <a:off x="1476360" y="4508640"/>
            <a:ext cx="684360" cy="610920"/>
          </a:xfrm>
          <a:custGeom>
            <a:avLst/>
            <a:gdLst>
              <a:gd name="textAreaLeft" fmla="*/ 39600 w 684360"/>
              <a:gd name="textAreaRight" fmla="*/ 644760 w 6843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95" h="21600">
                <a:moveTo>
                  <a:pt x="0" y="0"/>
                </a:moveTo>
                <a:lnTo>
                  <a:pt x="24195" y="0"/>
                </a:lnTo>
                <a:lnTo>
                  <a:pt x="24195" y="21600"/>
                </a:lnTo>
                <a:lnTo>
                  <a:pt x="0" y="21600"/>
                </a:lnTo>
                <a:close/>
              </a:path>
              <a:path fill="lightenLess" w="24195" h="21600">
                <a:moveTo>
                  <a:pt x="0" y="0"/>
                </a:moveTo>
                <a:lnTo>
                  <a:pt x="24195" y="0"/>
                </a:lnTo>
                <a:lnTo>
                  <a:pt x="22795" y="1400"/>
                </a:lnTo>
                <a:lnTo>
                  <a:pt x="1400" y="1400"/>
                </a:lnTo>
                <a:close/>
              </a:path>
              <a:path fill="darken" w="24195" h="21600">
                <a:moveTo>
                  <a:pt x="24195" y="0"/>
                </a:moveTo>
                <a:lnTo>
                  <a:pt x="24195" y="21600"/>
                </a:lnTo>
                <a:lnTo>
                  <a:pt x="22795" y="20200"/>
                </a:lnTo>
                <a:lnTo>
                  <a:pt x="22795" y="1400"/>
                </a:lnTo>
                <a:close/>
              </a:path>
              <a:path fill="darkenLess" w="24195" h="21600">
                <a:moveTo>
                  <a:pt x="24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5" y="20200"/>
                </a:lnTo>
                <a:close/>
              </a:path>
              <a:path fill="lighten" w="24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5" action="ppaction://hlinksldjump"/>
          </p:cNvPr>
          <p:cNvSpPr/>
          <p:nvPr/>
        </p:nvSpPr>
        <p:spPr>
          <a:xfrm>
            <a:off x="1476360" y="537372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6" action="ppaction://hlinksldjump"/>
          </p:cNvPr>
          <p:cNvSpPr/>
          <p:nvPr/>
        </p:nvSpPr>
        <p:spPr>
          <a:xfrm>
            <a:off x="8028000" y="5734080"/>
            <a:ext cx="755640" cy="682560"/>
          </a:xfrm>
          <a:custGeom>
            <a:avLst/>
            <a:gdLst>
              <a:gd name="textAreaLeft" fmla="*/ 43920 w 755640"/>
              <a:gd name="textAreaRight" fmla="*/ 711720 w 7556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911" h="21600">
                <a:moveTo>
                  <a:pt x="0" y="0"/>
                </a:moveTo>
                <a:lnTo>
                  <a:pt x="23911" y="0"/>
                </a:lnTo>
                <a:lnTo>
                  <a:pt x="23911" y="21600"/>
                </a:lnTo>
                <a:lnTo>
                  <a:pt x="0" y="21600"/>
                </a:lnTo>
                <a:close/>
              </a:path>
              <a:path fill="lightenLess" w="23911" h="21600">
                <a:moveTo>
                  <a:pt x="0" y="0"/>
                </a:moveTo>
                <a:lnTo>
                  <a:pt x="23911" y="0"/>
                </a:lnTo>
                <a:lnTo>
                  <a:pt x="22511" y="1400"/>
                </a:lnTo>
                <a:lnTo>
                  <a:pt x="1400" y="1400"/>
                </a:lnTo>
                <a:close/>
              </a:path>
              <a:path fill="darken" w="23911" h="21600">
                <a:moveTo>
                  <a:pt x="23911" y="0"/>
                </a:moveTo>
                <a:lnTo>
                  <a:pt x="23911" y="21600"/>
                </a:lnTo>
                <a:lnTo>
                  <a:pt x="22511" y="20200"/>
                </a:lnTo>
                <a:lnTo>
                  <a:pt x="22511" y="1400"/>
                </a:lnTo>
                <a:close/>
              </a:path>
              <a:path fill="darkenLess" w="23911" h="21600">
                <a:moveTo>
                  <a:pt x="23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1" y="20200"/>
                </a:lnTo>
                <a:close/>
              </a:path>
              <a:path fill="lighten" w="23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1" h="21600">
                <a:moveTo>
                  <a:pt x="4949" y="3794"/>
                </a:moveTo>
                <a:lnTo>
                  <a:pt x="18962" y="10800"/>
                </a:lnTo>
                <a:lnTo>
                  <a:pt x="4949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кромегал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очное действие гормона роста гипофиза(гиперфункция) у взрослых приводит к заболеванию акромегалия. Это усиленный рост костей лицевого отдела черепа, кистей, сто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527280" cy="3238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611280" y="4408560"/>
            <a:ext cx="3529080" cy="211284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rId4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сид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 слизистый отек, вызывается недостаточной функций щитовидной железы. Сердце работает слабо, температура тела понижена.Кровь застаивается в венах и капиллярах, образуется много тканевой жидкости, начинается от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390920" cy="2268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12" name="">
            <a:hlinkClick r:id="rId3" action="ppaction://hlinksldjump"/>
          </p:cNvPr>
          <p:cNvSpPr/>
          <p:nvPr/>
        </p:nvSpPr>
        <p:spPr>
          <a:xfrm>
            <a:off x="8028000" y="5734080"/>
            <a:ext cx="684360" cy="647640"/>
          </a:xfrm>
          <a:custGeom>
            <a:avLst/>
            <a:gdLst>
              <a:gd name="textAreaLeft" fmla="*/ 41760 w 684360"/>
              <a:gd name="textAreaRight" fmla="*/ 642600 w 684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6" y="10800"/>
                </a:moveTo>
                <a:lnTo>
                  <a:pt x="18418" y="3794"/>
                </a:lnTo>
                <a:lnTo>
                  <a:pt x="18418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зедова болез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избытке (гиперфункции) гормонов щитовидной железы освобождается много энергии. Процессы распада в организме идут быстро, человек худеет, развивается пучеглазие. Человек становится раздражитель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492360" cy="444528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rId3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 является желез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400480" y="2316240"/>
            <a:ext cx="3766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утренне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01200" y="3108240"/>
            <a:ext cx="37774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ешанно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9560" y="4044960"/>
            <a:ext cx="33156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шне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9200" y="4908600"/>
            <a:ext cx="204444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м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24280" y="2276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95560" y="4869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24280" y="3933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23920" y="306864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1258920" y="40766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1258920" y="2276640"/>
            <a:ext cx="649080" cy="610920"/>
          </a:xfrm>
          <a:custGeom>
            <a:avLst/>
            <a:gdLst>
              <a:gd name="textAreaLeft" fmla="*/ 39600 w 649080"/>
              <a:gd name="textAreaRight" fmla="*/ 609480 w 64908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1258920" y="306864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1258920" y="4869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7956720" y="5589720"/>
            <a:ext cx="826920" cy="755640"/>
          </a:xfrm>
          <a:custGeom>
            <a:avLst/>
            <a:gdLst>
              <a:gd name="textAreaLeft" fmla="*/ 48960 w 826920"/>
              <a:gd name="textAreaRight" fmla="*/ 777960 w 82692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3637" h="21600">
                <a:moveTo>
                  <a:pt x="0" y="0"/>
                </a:moveTo>
                <a:lnTo>
                  <a:pt x="23637" y="0"/>
                </a:lnTo>
                <a:lnTo>
                  <a:pt x="23637" y="21600"/>
                </a:lnTo>
                <a:lnTo>
                  <a:pt x="0" y="21600"/>
                </a:lnTo>
                <a:close/>
              </a:path>
              <a:path fill="lightenLess" w="23637" h="21600">
                <a:moveTo>
                  <a:pt x="0" y="0"/>
                </a:moveTo>
                <a:lnTo>
                  <a:pt x="23637" y="0"/>
                </a:lnTo>
                <a:lnTo>
                  <a:pt x="22237" y="1400"/>
                </a:lnTo>
                <a:lnTo>
                  <a:pt x="1400" y="1400"/>
                </a:lnTo>
                <a:close/>
              </a:path>
              <a:path fill="darken" w="23637" h="21600">
                <a:moveTo>
                  <a:pt x="23637" y="0"/>
                </a:moveTo>
                <a:lnTo>
                  <a:pt x="23637" y="21600"/>
                </a:lnTo>
                <a:lnTo>
                  <a:pt x="22237" y="20200"/>
                </a:lnTo>
                <a:lnTo>
                  <a:pt x="22237" y="1400"/>
                </a:lnTo>
                <a:close/>
              </a:path>
              <a:path fill="darkenLess" w="23637" h="21600">
                <a:moveTo>
                  <a:pt x="23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7" y="20200"/>
                </a:lnTo>
                <a:close/>
              </a:path>
              <a:path fill="lighten" w="23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7" h="21600">
                <a:moveTo>
                  <a:pt x="4812" y="3794"/>
                </a:moveTo>
                <a:lnTo>
                  <a:pt x="18825" y="10800"/>
                </a:lnTo>
                <a:lnTo>
                  <a:pt x="481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харный диаб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харный диабет характеризуется повышением уровня глюкозы в кров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чины возникновения диабетической стопы у больных диабетом кроются в нарушении кровоснабжения и иннервации ног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02040" cy="2925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57600" y="4959360"/>
            <a:ext cx="32104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абетическая ст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7956720" y="5589720"/>
            <a:ext cx="753840" cy="753840"/>
          </a:xfrm>
          <a:custGeom>
            <a:avLst/>
            <a:gdLst>
              <a:gd name="textAreaLeft" fmla="*/ 48600 w 753840"/>
              <a:gd name="textAreaRight" fmla="*/ 705240 w 75384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мон какой железы регулирует концентрацию в крови кальц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/>
          <p:nvPr/>
        </p:nvSpPr>
        <p:spPr>
          <a:xfrm>
            <a:off x="2401560" y="2749680"/>
            <a:ext cx="3555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01560" y="3613320"/>
            <a:ext cx="43642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66280" y="4405320"/>
            <a:ext cx="4140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99760" y="5268960"/>
            <a:ext cx="232812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171560" y="357336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8464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55920" y="2708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955920" y="522936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2" action="ppaction://hlinksldjump"/>
          </p:cNvPr>
          <p:cNvSpPr/>
          <p:nvPr/>
        </p:nvSpPr>
        <p:spPr>
          <a:xfrm>
            <a:off x="1187280" y="3573360"/>
            <a:ext cx="609840" cy="53820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73" h="21600">
                <a:moveTo>
                  <a:pt x="0" y="0"/>
                </a:moveTo>
                <a:lnTo>
                  <a:pt x="24473" y="0"/>
                </a:lnTo>
                <a:lnTo>
                  <a:pt x="24473" y="21600"/>
                </a:lnTo>
                <a:lnTo>
                  <a:pt x="0" y="21600"/>
                </a:lnTo>
                <a:close/>
              </a:path>
              <a:path fill="lightenLess" w="24473" h="21600">
                <a:moveTo>
                  <a:pt x="0" y="0"/>
                </a:moveTo>
                <a:lnTo>
                  <a:pt x="24473" y="0"/>
                </a:lnTo>
                <a:lnTo>
                  <a:pt x="23073" y="1400"/>
                </a:lnTo>
                <a:lnTo>
                  <a:pt x="1400" y="1400"/>
                </a:lnTo>
                <a:close/>
              </a:path>
              <a:path fill="darken" w="24473" h="21600">
                <a:moveTo>
                  <a:pt x="24473" y="0"/>
                </a:moveTo>
                <a:lnTo>
                  <a:pt x="24473" y="21600"/>
                </a:lnTo>
                <a:lnTo>
                  <a:pt x="23073" y="20200"/>
                </a:lnTo>
                <a:lnTo>
                  <a:pt x="23073" y="1400"/>
                </a:lnTo>
                <a:close/>
              </a:path>
              <a:path fill="darkenLess" w="24473" h="21600">
                <a:moveTo>
                  <a:pt x="24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3" y="20200"/>
                </a:lnTo>
                <a:close/>
              </a:path>
              <a:path fill="lighten" w="24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3" action="ppaction://hlinksldjump"/>
          </p:cNvPr>
          <p:cNvSpPr/>
          <p:nvPr/>
        </p:nvSpPr>
        <p:spPr>
          <a:xfrm>
            <a:off x="1187280" y="2708280"/>
            <a:ext cx="609840" cy="53820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73" h="21600">
                <a:moveTo>
                  <a:pt x="0" y="0"/>
                </a:moveTo>
                <a:lnTo>
                  <a:pt x="24473" y="0"/>
                </a:lnTo>
                <a:lnTo>
                  <a:pt x="24473" y="21600"/>
                </a:lnTo>
                <a:lnTo>
                  <a:pt x="0" y="21600"/>
                </a:lnTo>
                <a:close/>
              </a:path>
              <a:path fill="lightenLess" w="24473" h="21600">
                <a:moveTo>
                  <a:pt x="0" y="0"/>
                </a:moveTo>
                <a:lnTo>
                  <a:pt x="24473" y="0"/>
                </a:lnTo>
                <a:lnTo>
                  <a:pt x="23073" y="1400"/>
                </a:lnTo>
                <a:lnTo>
                  <a:pt x="1400" y="1400"/>
                </a:lnTo>
                <a:close/>
              </a:path>
              <a:path fill="darken" w="24473" h="21600">
                <a:moveTo>
                  <a:pt x="24473" y="0"/>
                </a:moveTo>
                <a:lnTo>
                  <a:pt x="24473" y="21600"/>
                </a:lnTo>
                <a:lnTo>
                  <a:pt x="23073" y="20200"/>
                </a:lnTo>
                <a:lnTo>
                  <a:pt x="23073" y="1400"/>
                </a:lnTo>
                <a:close/>
              </a:path>
              <a:path fill="darkenLess" w="24473" h="21600">
                <a:moveTo>
                  <a:pt x="24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3" y="20200"/>
                </a:lnTo>
                <a:close/>
              </a:path>
              <a:path fill="lighten" w="24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rId4" action="ppaction://hlinksldjump"/>
          </p:cNvPr>
          <p:cNvSpPr/>
          <p:nvPr/>
        </p:nvSpPr>
        <p:spPr>
          <a:xfrm>
            <a:off x="1187280" y="436572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rId5" action="ppaction://hlinksldjump"/>
          </p:cNvPr>
          <p:cNvSpPr/>
          <p:nvPr/>
        </p:nvSpPr>
        <p:spPr>
          <a:xfrm>
            <a:off x="1187280" y="5229360"/>
            <a:ext cx="611280" cy="539640"/>
          </a:xfrm>
          <a:custGeom>
            <a:avLst/>
            <a:gdLst>
              <a:gd name="textAreaLeft" fmla="*/ 34920 w 611280"/>
              <a:gd name="textAreaRight" fmla="*/ 576360 w 611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4466" h="21600">
                <a:moveTo>
                  <a:pt x="0" y="0"/>
                </a:moveTo>
                <a:lnTo>
                  <a:pt x="24466" y="0"/>
                </a:lnTo>
                <a:lnTo>
                  <a:pt x="24466" y="21600"/>
                </a:lnTo>
                <a:lnTo>
                  <a:pt x="0" y="21600"/>
                </a:lnTo>
                <a:close/>
              </a:path>
              <a:path fill="lightenLess" w="24466" h="21600">
                <a:moveTo>
                  <a:pt x="0" y="0"/>
                </a:moveTo>
                <a:lnTo>
                  <a:pt x="24466" y="0"/>
                </a:lnTo>
                <a:lnTo>
                  <a:pt x="23066" y="1400"/>
                </a:lnTo>
                <a:lnTo>
                  <a:pt x="1400" y="1400"/>
                </a:lnTo>
                <a:close/>
              </a:path>
              <a:path fill="darken" w="24466" h="21600">
                <a:moveTo>
                  <a:pt x="24466" y="0"/>
                </a:moveTo>
                <a:lnTo>
                  <a:pt x="24466" y="21600"/>
                </a:lnTo>
                <a:lnTo>
                  <a:pt x="23066" y="20200"/>
                </a:lnTo>
                <a:lnTo>
                  <a:pt x="23066" y="1400"/>
                </a:lnTo>
                <a:close/>
              </a:path>
              <a:path fill="darkenLess" w="24466" h="21600">
                <a:moveTo>
                  <a:pt x="24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6" y="20200"/>
                </a:lnTo>
                <a:close/>
              </a:path>
              <a:path fill="lighten" w="24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ра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щитовидная железа регулирует уровень кальция в организме в узких рамках, так чтобы нервная и двигательная системы функционировали нормаль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 железы -  паратгорм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rcRect l="0" t="4772" r="0" b="0"/>
          <a:stretch/>
        </p:blipFill>
        <p:spPr>
          <a:xfrm>
            <a:off x="468360" y="1341360"/>
            <a:ext cx="3484440" cy="4310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99960" y="5589720"/>
            <a:ext cx="485928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щитовидная железа №3 и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итовидная железа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rId3" action="ppaction://hlinksldjump"/>
          </p:cNvPr>
          <p:cNvSpPr/>
          <p:nvPr/>
        </p:nvSpPr>
        <p:spPr>
          <a:xfrm>
            <a:off x="8101080" y="5805360"/>
            <a:ext cx="609480" cy="53820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59" h="21600">
                <a:moveTo>
                  <a:pt x="0" y="0"/>
                </a:moveTo>
                <a:lnTo>
                  <a:pt x="24459" y="0"/>
                </a:lnTo>
                <a:lnTo>
                  <a:pt x="24459" y="21600"/>
                </a:lnTo>
                <a:lnTo>
                  <a:pt x="0" y="21600"/>
                </a:lnTo>
                <a:close/>
              </a:path>
              <a:path fill="lightenLess" w="24459" h="21600">
                <a:moveTo>
                  <a:pt x="0" y="0"/>
                </a:moveTo>
                <a:lnTo>
                  <a:pt x="24459" y="0"/>
                </a:lnTo>
                <a:lnTo>
                  <a:pt x="23059" y="1400"/>
                </a:lnTo>
                <a:lnTo>
                  <a:pt x="1400" y="1400"/>
                </a:lnTo>
                <a:close/>
              </a:path>
              <a:path fill="darken" w="24459" h="21600">
                <a:moveTo>
                  <a:pt x="24459" y="0"/>
                </a:moveTo>
                <a:lnTo>
                  <a:pt x="24459" y="21600"/>
                </a:lnTo>
                <a:lnTo>
                  <a:pt x="23059" y="20200"/>
                </a:lnTo>
                <a:lnTo>
                  <a:pt x="23059" y="1400"/>
                </a:lnTo>
                <a:close/>
              </a:path>
              <a:path fill="darkenLess" w="24459" h="21600">
                <a:moveTo>
                  <a:pt x="24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9" y="20200"/>
                </a:lnTo>
                <a:close/>
              </a:path>
              <a:path fill="lighten" w="24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59" h="21600">
                <a:moveTo>
                  <a:pt x="5223" y="10800"/>
                </a:moveTo>
                <a:lnTo>
                  <a:pt x="19236" y="3794"/>
                </a:lnTo>
                <a:lnTo>
                  <a:pt x="1923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ает возбудимость нервной системы, регулирует обмен веществ. Не влияет на содержание кальция в кров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ндеми́че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об — увеличение щитовидной железы, связанное с дефицитом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й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реде об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rcRect l="25044" t="16554" r="18816" b="13468"/>
          <a:stretch/>
        </p:blipFill>
        <p:spPr>
          <a:xfrm>
            <a:off x="826920" y="1413000"/>
            <a:ext cx="3230640" cy="4895640"/>
          </a:xfrm>
          <a:prstGeom prst="rect">
            <a:avLst/>
          </a:prstGeom>
          <a:ln w="0">
            <a:noFill/>
          </a:ln>
        </p:spPr>
      </p:pic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8028000" y="5734080"/>
            <a:ext cx="755640" cy="61128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98" h="21600">
                <a:moveTo>
                  <a:pt x="0" y="0"/>
                </a:moveTo>
                <a:lnTo>
                  <a:pt x="26698" y="0"/>
                </a:lnTo>
                <a:lnTo>
                  <a:pt x="26698" y="21600"/>
                </a:lnTo>
                <a:lnTo>
                  <a:pt x="0" y="21600"/>
                </a:lnTo>
                <a:close/>
              </a:path>
              <a:path fill="lightenLess" w="26698" h="21600">
                <a:moveTo>
                  <a:pt x="0" y="0"/>
                </a:moveTo>
                <a:lnTo>
                  <a:pt x="26698" y="0"/>
                </a:lnTo>
                <a:lnTo>
                  <a:pt x="25298" y="1400"/>
                </a:lnTo>
                <a:lnTo>
                  <a:pt x="1400" y="1400"/>
                </a:lnTo>
                <a:close/>
              </a:path>
              <a:path fill="darken" w="26698" h="21600">
                <a:moveTo>
                  <a:pt x="26698" y="0"/>
                </a:moveTo>
                <a:lnTo>
                  <a:pt x="26698" y="21600"/>
                </a:lnTo>
                <a:lnTo>
                  <a:pt x="25298" y="20200"/>
                </a:lnTo>
                <a:lnTo>
                  <a:pt x="25298" y="1400"/>
                </a:lnTo>
                <a:close/>
              </a:path>
              <a:path fill="darkenLess" w="26698" h="21600">
                <a:moveTo>
                  <a:pt x="26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8" y="20200"/>
                </a:lnTo>
                <a:close/>
              </a:path>
              <a:path fill="lighten" w="26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8" h="21600">
                <a:moveTo>
                  <a:pt x="6343" y="10800"/>
                </a:moveTo>
                <a:lnTo>
                  <a:pt x="20356" y="3794"/>
                </a:lnTo>
                <a:lnTo>
                  <a:pt x="2035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регуляции кальция в крови не имеет отно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ственная железа, которая синтезирует ферменты и гормоны, т.е участвует в пищеварении и регуляции обмена веществ в органи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rcRect l="34863" t="29320" r="34863" b="41167"/>
          <a:stretch/>
        </p:blipFill>
        <p:spPr>
          <a:xfrm>
            <a:off x="826920" y="2746440"/>
            <a:ext cx="3673800" cy="2685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30480" y="1916280"/>
            <a:ext cx="1976040" cy="119124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ет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11280" y="1484280"/>
            <a:ext cx="244800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рабаты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р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3960" y="5589720"/>
            <a:ext cx="633312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етки, вырабатывающие гормон глюкаг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484000" y="4581000"/>
            <a:ext cx="71640" cy="100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71640" y="3068640"/>
            <a:ext cx="792000" cy="1008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924360" y="2852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08360" y="2205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57200" y="2246400"/>
            <a:ext cx="4038480" cy="3233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аламус - отдел головного мозга, расположенный ниже таламу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аламус контролирует деятельность эндокринной системы благодаря тому, что его нейроны секретируют нейрогормоны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зопрессин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/>
          <p:nvPr/>
        </p:nvSpPr>
        <p:spPr>
          <a:xfrm>
            <a:off x="2346480" y="1916280"/>
            <a:ext cx="2021760" cy="459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555640" y="2349360"/>
            <a:ext cx="647640" cy="165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3" action="ppaction://hlinksldjump"/>
          </p:cNvPr>
          <p:cNvSpPr/>
          <p:nvPr/>
        </p:nvSpPr>
        <p:spPr>
          <a:xfrm>
            <a:off x="8101080" y="5805360"/>
            <a:ext cx="611280" cy="540000"/>
          </a:xfrm>
          <a:custGeom>
            <a:avLst/>
            <a:gdLst>
              <a:gd name="textAreaLeft" fmla="*/ 34920 w 611280"/>
              <a:gd name="textAreaRight" fmla="*/ 576360 w 611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4449" h="21600">
                <a:moveTo>
                  <a:pt x="0" y="0"/>
                </a:moveTo>
                <a:lnTo>
                  <a:pt x="24449" y="0"/>
                </a:lnTo>
                <a:lnTo>
                  <a:pt x="24449" y="21600"/>
                </a:lnTo>
                <a:lnTo>
                  <a:pt x="0" y="21600"/>
                </a:lnTo>
                <a:close/>
              </a:path>
              <a:path fill="lightenLess" w="24449" h="21600">
                <a:moveTo>
                  <a:pt x="0" y="0"/>
                </a:moveTo>
                <a:lnTo>
                  <a:pt x="24449" y="0"/>
                </a:lnTo>
                <a:lnTo>
                  <a:pt x="23049" y="1400"/>
                </a:lnTo>
                <a:lnTo>
                  <a:pt x="1400" y="1400"/>
                </a:lnTo>
                <a:close/>
              </a:path>
              <a:path fill="darken" w="24449" h="21600">
                <a:moveTo>
                  <a:pt x="24449" y="0"/>
                </a:moveTo>
                <a:lnTo>
                  <a:pt x="24449" y="21600"/>
                </a:lnTo>
                <a:lnTo>
                  <a:pt x="23049" y="20200"/>
                </a:lnTo>
                <a:lnTo>
                  <a:pt x="23049" y="1400"/>
                </a:lnTo>
                <a:close/>
              </a:path>
              <a:path fill="darkenLess" w="24449" h="21600">
                <a:moveTo>
                  <a:pt x="24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49" y="20200"/>
                </a:lnTo>
                <a:close/>
              </a:path>
              <a:path fill="lighten" w="24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49" h="21600">
                <a:moveTo>
                  <a:pt x="5218" y="10800"/>
                </a:moveTo>
                <a:lnTo>
                  <a:pt x="19231" y="3794"/>
                </a:lnTo>
                <a:lnTo>
                  <a:pt x="1923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2"/>
          <a:stretch/>
        </p:blipFill>
        <p:spPr>
          <a:xfrm>
            <a:off x="420840" y="176040"/>
            <a:ext cx="8242200" cy="9144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928800" y="1428840"/>
            <a:ext cx="7758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krasdo.ucoz.ru/ee383358c499.p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grafamania.net/uploads/posts/2008-08/1219611582_7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meddoct.ru/tag/aktg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rafaelbotello.es/mc-pituitary-glands-of-frog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hinsdale86.org/staff/kgabric/Disease09/Scales.Boling.Kallmann Syndrome/visualrepresentations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umming-carabus.livejournal.com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60869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Рисунок 4" descr=""/>
          <p:cNvPicPr/>
          <p:nvPr/>
        </p:nvPicPr>
        <p:blipFill>
          <a:blip r:embed="rId12"/>
          <a:stretch/>
        </p:blipFill>
        <p:spPr>
          <a:xfrm>
            <a:off x="357120" y="1357200"/>
            <a:ext cx="595440" cy="606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d:\Мои документы\Мои рисунки\Рисунок16.png"/>
          <p:cNvPicPr/>
          <p:nvPr/>
        </p:nvPicPr>
        <p:blipFill>
          <a:blip r:embed="rId13"/>
          <a:stretch/>
        </p:blipFill>
        <p:spPr>
          <a:xfrm>
            <a:off x="395280" y="2133720"/>
            <a:ext cx="500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learn-another-language.org/3561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doctor24.com.u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kakulia.okis.ru/foto.65583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mgyie.ru/index.php?option=com_remository&amp;Itemid=30&amp;func=select&amp;id=2&amp;orderby=4&amp;page=6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medical-guru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chitovidnaya-jeleza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/1871-morfologicheskie_priznaki_bazedovifikacii_2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papa-vlad.ru/photo/chelovek/_Organy-tela.files/012-Podzheludochnaja-zhelez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diagnoz-rak.info/2010/09/uzi-nadpochechnikov/?utm_source=feedburner&amp;utm_medium=feed&amp;utm_campaign=Feed:+diagnoz-rak/blog+(Esli+diagnoz+-+ra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bikemaster.ru/images/page.php?page=acromega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my-article.net/get/наука/медицина/эндокринология/акромегалия-и-гигант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рагомилов А.Г.,Маш Р.Д. Биология:Человек: Учебник для учащихся 8 класса общеобразовательных учреждений.-2-е изд.,переработ. – М.:Вентана – Граф,200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bioword.narod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анова Е.А.,Антонова И.П., Биология человека.В таблицах и схемах. М.,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ндокрин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5084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окупность основных желез внутренней секреции, согласованная деятельность которых обеспечивает регуляцию функций орган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5095800" cy="381960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8101080" y="5877000"/>
            <a:ext cx="682560" cy="538200"/>
          </a:xfrm>
          <a:custGeom>
            <a:avLst/>
            <a:gdLst>
              <a:gd name="textAreaLeft" fmla="*/ 34560 w 682560"/>
              <a:gd name="textAreaRight" fmla="*/ 648000 w 6825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7390" h="21600">
                <a:moveTo>
                  <a:pt x="0" y="0"/>
                </a:moveTo>
                <a:lnTo>
                  <a:pt x="27390" y="0"/>
                </a:lnTo>
                <a:lnTo>
                  <a:pt x="27390" y="21600"/>
                </a:lnTo>
                <a:lnTo>
                  <a:pt x="0" y="21600"/>
                </a:lnTo>
                <a:close/>
              </a:path>
              <a:path fill="lightenLess" w="27390" h="21600">
                <a:moveTo>
                  <a:pt x="0" y="0"/>
                </a:moveTo>
                <a:lnTo>
                  <a:pt x="27390" y="0"/>
                </a:lnTo>
                <a:lnTo>
                  <a:pt x="25990" y="1400"/>
                </a:lnTo>
                <a:lnTo>
                  <a:pt x="1400" y="1400"/>
                </a:lnTo>
                <a:close/>
              </a:path>
              <a:path fill="darken" w="27390" h="21600">
                <a:moveTo>
                  <a:pt x="27390" y="0"/>
                </a:moveTo>
                <a:lnTo>
                  <a:pt x="27390" y="21600"/>
                </a:lnTo>
                <a:lnTo>
                  <a:pt x="25990" y="20200"/>
                </a:lnTo>
                <a:lnTo>
                  <a:pt x="25990" y="1400"/>
                </a:lnTo>
                <a:close/>
              </a:path>
              <a:path fill="darkenLess" w="27390" h="21600">
                <a:moveTo>
                  <a:pt x="27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90" y="20200"/>
                </a:lnTo>
                <a:close/>
              </a:path>
              <a:path fill="lighten" w="27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90" h="21600">
                <a:moveTo>
                  <a:pt x="6688" y="10800"/>
                </a:moveTo>
                <a:lnTo>
                  <a:pt x="20701" y="3794"/>
                </a:lnTo>
                <a:lnTo>
                  <a:pt x="2070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одзаголовок 2"/>
          <p:cNvSpPr/>
          <p:nvPr/>
        </p:nvSpPr>
        <p:spPr>
          <a:xfrm>
            <a:off x="1908000" y="2349360"/>
            <a:ext cx="50007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Автор</a:t>
            </a:r>
            <a:r>
              <a:rPr b="1" lang="ru-RU" sz="2800" spc="-1" strike="noStrike">
                <a:solidFill>
                  <a:srgbClr val="4f6228"/>
                </a:solidFill>
                <a:latin typeface="Arial"/>
              </a:rPr>
              <a:t> шаблона</a:t>
            </a: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Ермолаева Ирин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учитель информа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МОУ «Павлов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ном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вегетативная) нервная система, регулирует работу внутренних органов, желез, кровеносных сосудов и серд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гетативные центры находятся в гипоталаму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14032" t="17512" r="39680" b="31294"/>
          <a:stretch/>
        </p:blipFill>
        <p:spPr>
          <a:xfrm>
            <a:off x="539640" y="3068640"/>
            <a:ext cx="3889440" cy="3225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1033200">
            <a:off x="538920" y="5373720"/>
            <a:ext cx="2025720" cy="45972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43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30520" y="3213000"/>
            <a:ext cx="313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ие полуш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1080" y="3645000"/>
            <a:ext cx="321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межуточн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1800" y="4149720"/>
            <a:ext cx="214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и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66960" y="4724280"/>
            <a:ext cx="101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9080" y="5229360"/>
            <a:ext cx="157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1800" y="5734080"/>
            <a:ext cx="3121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84360" y="3573360"/>
            <a:ext cx="2016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68360" y="4148280"/>
            <a:ext cx="251964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56000" y="4581000"/>
            <a:ext cx="2087280" cy="2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411280" y="5013360"/>
            <a:ext cx="20894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5734080"/>
            <a:ext cx="18716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5300640"/>
            <a:ext cx="57636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47640" y="4508280"/>
            <a:ext cx="72072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8101080" y="5734080"/>
            <a:ext cx="682560" cy="609480"/>
          </a:xfrm>
          <a:custGeom>
            <a:avLst/>
            <a:gdLst>
              <a:gd name="textAreaLeft" fmla="*/ 39240 w 682560"/>
              <a:gd name="textAreaRight" fmla="*/ 643320 w 6825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нтральная нерв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ключает в себя головной и спин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з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2735280" cy="5185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916360" y="2060640"/>
            <a:ext cx="201600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3284640"/>
            <a:ext cx="20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61080" y="315900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ловно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75320" y="42670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нно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8101080" y="573408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4" h="21600">
                <a:moveTo>
                  <a:pt x="3825" y="10800"/>
                </a:moveTo>
                <a:lnTo>
                  <a:pt x="17838" y="3794"/>
                </a:lnTo>
                <a:lnTo>
                  <a:pt x="17838" y="17806"/>
                </a:lnTo>
                <a:close/>
              </a:path>
            </a:pathLst>
          </a:custGeom>
          <a:gradFill rotWithShape="0">
            <a:gsLst>
              <a:gs pos="0">
                <a:srgbClr val="243b57"/>
              </a:gs>
              <a:gs pos="50000">
                <a:srgbClr val="4f81bd"/>
              </a:gs>
              <a:gs pos="100000">
                <a:srgbClr val="243b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внешней секре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езы, имеющие выводные протоки и выделяющие свои секреты на поверхность тела или в полости т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31640" y="2421000"/>
            <a:ext cx="8208000" cy="4031280"/>
            <a:chOff x="431640" y="2421000"/>
            <a:chExt cx="8208000" cy="4031280"/>
          </a:xfrm>
        </p:grpSpPr>
        <p:cxnSp>
          <p:nvCxnSpPr>
            <p:cNvPr id="147" name="_s38931"/>
            <p:cNvCxnSpPr>
              <a:stCxn id="148" idx="0"/>
              <a:endCxn id="149" idx="2"/>
            </p:cNvCxnSpPr>
            <p:nvPr/>
          </p:nvCxnSpPr>
          <p:spPr>
            <a:xfrm flipV="1">
              <a:off x="6745320" y="4939920"/>
              <a:ext cx="5400" cy="50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38929"/>
            <p:cNvCxnSpPr>
              <a:stCxn id="151" idx="0"/>
              <a:endCxn id="152" idx="2"/>
            </p:cNvCxnSpPr>
            <p:nvPr/>
          </p:nvCxnSpPr>
          <p:spPr>
            <a:xfrm flipV="1">
              <a:off x="2325240" y="4939920"/>
              <a:ext cx="5400" cy="50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38926"/>
            <p:cNvCxnSpPr>
              <a:stCxn id="149" idx="0"/>
              <a:endCxn id="154" idx="2"/>
            </p:cNvCxnSpPr>
            <p:nvPr/>
          </p:nvCxnSpPr>
          <p:spPr>
            <a:xfrm flipV="1" rot="16200000">
              <a:off x="5388480" y="2575080"/>
              <a:ext cx="504360" cy="2210040"/>
            </a:xfrm>
            <a:prstGeom prst="bentConnector3">
              <a:avLst>
                <a:gd name="adj1" fmla="val 226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38925"/>
            <p:cNvCxnSpPr>
              <a:stCxn id="152" idx="0"/>
              <a:endCxn id="154" idx="2"/>
            </p:cNvCxnSpPr>
            <p:nvPr/>
          </p:nvCxnSpPr>
          <p:spPr>
            <a:xfrm flipH="1" flipV="1" rot="5400000">
              <a:off x="3178800" y="2574720"/>
              <a:ext cx="504360" cy="2210760"/>
            </a:xfrm>
            <a:prstGeom prst="bentConnector3">
              <a:avLst>
                <a:gd name="adj1" fmla="val 226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4" name="_s38921"/>
            <p:cNvSpPr/>
            <p:nvPr/>
          </p:nvSpPr>
          <p:spPr>
            <a:xfrm>
              <a:off x="2642040" y="242100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Железы внеш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екре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38922"/>
            <p:cNvSpPr/>
            <p:nvPr/>
          </p:nvSpPr>
          <p:spPr>
            <a:xfrm>
              <a:off x="431640" y="3932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отоки открываются на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верхность  т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38923"/>
            <p:cNvSpPr/>
            <p:nvPr/>
          </p:nvSpPr>
          <p:spPr>
            <a:xfrm>
              <a:off x="4851360" y="3932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отоки открывают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 полости т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38928"/>
            <p:cNvSpPr/>
            <p:nvPr/>
          </p:nvSpPr>
          <p:spPr>
            <a:xfrm>
              <a:off x="431640" y="5444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товые, сальные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езные, полов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38930"/>
            <p:cNvSpPr/>
            <p:nvPr/>
          </p:nvSpPr>
          <p:spPr>
            <a:xfrm>
              <a:off x="4851360" y="5444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юнные, печень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джелудочная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ишечника, желуд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7885080" y="3141720"/>
            <a:ext cx="684360" cy="682560"/>
          </a:xfrm>
          <a:custGeom>
            <a:avLst/>
            <a:gdLst>
              <a:gd name="textAreaLeft" fmla="*/ 43920 w 684360"/>
              <a:gd name="textAreaRight" fmla="*/ 640440 w 6843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57" h="21600">
                <a:moveTo>
                  <a:pt x="0" y="0"/>
                </a:moveTo>
                <a:lnTo>
                  <a:pt x="21657" y="0"/>
                </a:lnTo>
                <a:lnTo>
                  <a:pt x="21657" y="21600"/>
                </a:lnTo>
                <a:lnTo>
                  <a:pt x="0" y="21600"/>
                </a:lnTo>
                <a:close/>
              </a:path>
              <a:path fill="lightenLess" w="21657" h="21600">
                <a:moveTo>
                  <a:pt x="0" y="0"/>
                </a:moveTo>
                <a:lnTo>
                  <a:pt x="21657" y="0"/>
                </a:lnTo>
                <a:lnTo>
                  <a:pt x="20257" y="1400"/>
                </a:lnTo>
                <a:lnTo>
                  <a:pt x="1400" y="1400"/>
                </a:lnTo>
                <a:close/>
              </a:path>
              <a:path fill="darken" w="21657" h="21600">
                <a:moveTo>
                  <a:pt x="21657" y="0"/>
                </a:moveTo>
                <a:lnTo>
                  <a:pt x="21657" y="21600"/>
                </a:lnTo>
                <a:lnTo>
                  <a:pt x="20257" y="20200"/>
                </a:lnTo>
                <a:lnTo>
                  <a:pt x="20257" y="1400"/>
                </a:lnTo>
                <a:close/>
              </a:path>
              <a:path fill="darkenLess" w="21657" h="21600">
                <a:moveTo>
                  <a:pt x="21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7" y="20200"/>
                </a:lnTo>
                <a:close/>
              </a:path>
              <a:path fill="lighten" w="21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7" h="21600">
                <a:moveTo>
                  <a:pt x="3822" y="10800"/>
                </a:moveTo>
                <a:lnTo>
                  <a:pt x="17835" y="3794"/>
                </a:lnTo>
                <a:lnTo>
                  <a:pt x="1783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внутренней секре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ы, не имеющие выводных протоков и выделяющие, вырабатываемые ими гормоны непосредственно в кров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95280" y="3213000"/>
            <a:ext cx="3452760" cy="2836080"/>
            <a:chOff x="395280" y="3213000"/>
            <a:chExt cx="3452760" cy="2836080"/>
          </a:xfrm>
        </p:grpSpPr>
        <p:grpSp>
          <p:nvGrpSpPr>
            <p:cNvPr id="160" name=""/>
            <p:cNvGrpSpPr/>
            <p:nvPr/>
          </p:nvGrpSpPr>
          <p:grpSpPr>
            <a:xfrm>
              <a:off x="395280" y="3213000"/>
              <a:ext cx="3452760" cy="2836080"/>
              <a:chOff x="395280" y="3213000"/>
              <a:chExt cx="3452760" cy="283608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95280" y="3213000"/>
                <a:ext cx="3452760" cy="2836080"/>
                <a:chOff x="395280" y="3213000"/>
                <a:chExt cx="3452760" cy="283608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95280" y="3213000"/>
                  <a:ext cx="3452760" cy="2836080"/>
                  <a:chOff x="395280" y="3213000"/>
                  <a:chExt cx="3452760" cy="2836080"/>
                </a:xfrm>
              </p:grpSpPr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213000"/>
                    <a:ext cx="34527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" name=""/>
                  <p:cNvSpPr/>
                  <p:nvPr/>
                </p:nvSpPr>
                <p:spPr>
                  <a:xfrm>
                    <a:off x="689400" y="5589360"/>
                    <a:ext cx="1297800" cy="459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d6c67"/>
                      </a:gs>
                      <a:gs pos="50000">
                        <a:srgbClr val="eeece1"/>
                      </a:gs>
                      <a:gs pos="100000">
                        <a:srgbClr val="6d6c67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Эпифиз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2274120" y="5589360"/>
                  <a:ext cx="1412280" cy="459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6d6c67"/>
                    </a:gs>
                    <a:gs pos="50000">
                      <a:srgbClr val="eeece1"/>
                    </a:gs>
                    <a:gs pos="100000">
                      <a:srgbClr val="6d6c6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Гипофиз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 flipH="1" flipV="1">
                <a:off x="1906200" y="4652640"/>
                <a:ext cx="1800" cy="9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flipH="1" flipV="1">
              <a:off x="2410920" y="5373360"/>
              <a:ext cx="43164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292720" y="2637000"/>
            <a:ext cx="1224000" cy="3673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145760" y="5516640"/>
            <a:ext cx="10522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82840" y="2997360"/>
            <a:ext cx="195912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ито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5660640"/>
            <a:ext cx="503280" cy="14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3429000"/>
            <a:ext cx="576360" cy="431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51200" y="4653000"/>
            <a:ext cx="2404080" cy="155700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ещ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желуд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4" action="ppaction://hlinksldjump"/>
          </p:cNvPr>
          <p:cNvSpPr/>
          <p:nvPr/>
        </p:nvSpPr>
        <p:spPr>
          <a:xfrm>
            <a:off x="7885080" y="3860640"/>
            <a:ext cx="827280" cy="648000"/>
          </a:xfrm>
          <a:custGeom>
            <a:avLst/>
            <a:gdLst>
              <a:gd name="textAreaLeft" fmla="*/ 41760 w 827280"/>
              <a:gd name="textAreaRight" fmla="*/ 785520 w 8272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6780" y="10800"/>
                </a:moveTo>
                <a:lnTo>
                  <a:pt x="20793" y="3794"/>
                </a:lnTo>
                <a:lnTo>
                  <a:pt x="2079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rcRect l="0" t="0" r="0" b="12084"/>
          <a:stretch/>
        </p:blipFill>
        <p:spPr>
          <a:xfrm>
            <a:off x="4211640" y="3500280"/>
            <a:ext cx="3924360" cy="27766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смешанной секре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ы имеющие выводные протоки и выделяющие секреты как в полости тела, так и непосредственно в кров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: половые желе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3851280" y="3716280"/>
            <a:ext cx="1584360" cy="649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3" action="ppaction://hlinksldjump"/>
          </p:cNvPr>
          <p:cNvSpPr/>
          <p:nvPr/>
        </p:nvSpPr>
        <p:spPr>
          <a:xfrm>
            <a:off x="795672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7:30:24Z</dcterms:created>
  <dc:creator>Comp</dc:creator>
  <dc:description/>
  <dc:language>en-US</dc:language>
  <cp:lastModifiedBy>Василий</cp:lastModifiedBy>
  <dcterms:modified xsi:type="dcterms:W3CDTF">2011-10-18T14:54:26Z</dcterms:modified>
  <cp:revision>77</cp:revision>
  <dc:subject/>
  <dc:title>Слайд 1</dc:title>
</cp:coreProperties>
</file>