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89D-0572-4CEF-A944-A887E633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BF6-12C3-4DA9-9432-1836EBDA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23E-9BED-4D9F-8FF5-028C2EE6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48D5-B64B-4B27-BB53-3E94ABF6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0C03-D4E6-43F0-9461-EEA3D51C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8461-65D0-4791-ABD8-01B2F25F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3F08-7710-48E9-89DA-175BA169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252D-9B16-45C5-B85E-858894DC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637F-BD1C-42FA-B0AA-6FB48CBE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D0C8-E5C7-4B59-ADCA-BC34D062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6B25-CB65-4339-AB20-15C7BCA0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A4F-A926-431E-BC97-7F0319D1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4AEA-0CE9-44EE-8EF5-CABE677A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5067-65C5-4D83-B1E9-60DFBE40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F73F-97FB-457E-8B78-1682823E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620E-FF37-433B-B551-8136A349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7DD6-3711-4BCA-80C4-1ECD63B7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AB7-9DE7-479C-96BA-696573A2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0216-404E-4403-B3F4-0598F2BB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90E-CDF3-4B1D-A5DD-156C1D56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8C11-F59B-4F4C-B167-13BFB6BB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3DD-5C15-4B6F-BCBF-D38195A9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8EA-1CB0-42D3-BDC6-F3260824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DD8-8ED1-457D-AAEB-CDD234CA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152B-CF3E-433A-A1FF-55B13A89D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4DE8-4F2D-43FA-A2A8-71D997F957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«5» за питание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рево держится своими корнями, а человек пищ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зербайджанская пословица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Овощи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E:\Готовим\DSCF3780.jpg"/>
          <p:cNvPicPr/>
          <p:nvPr/>
        </p:nvPicPr>
        <p:blipFill>
          <a:blip r:embed="rId3"/>
          <a:stretch/>
        </p:blipFill>
        <p:spPr>
          <a:xfrm>
            <a:off x="4952880" y="1600200"/>
            <a:ext cx="3581640" cy="21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E:\Готовим\DSCF3799.jpg"/>
          <p:cNvPicPr/>
          <p:nvPr/>
        </p:nvPicPr>
        <p:blipFill>
          <a:blip r:embed="rId4"/>
          <a:stretch/>
        </p:blipFill>
        <p:spPr>
          <a:xfrm>
            <a:off x="5029200" y="3924360"/>
            <a:ext cx="35053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9efee"/>
                </a:solidFill>
                <a:latin typeface="Garamond"/>
              </a:rPr>
              <a:t>«Правильное и полезное питание поможет сохранить здоровье»</a:t>
            </a:r>
            <a:r>
              <a:rPr b="1" lang="en-US" sz="1800" spc="-1" strike="noStrike">
                <a:solidFill>
                  <a:srgbClr val="b9efee"/>
                </a:solidFill>
                <a:latin typeface="Garamond"/>
              </a:rPr>
              <a:t> - эти слова должны стать своеобразным лозунгом для тех, для кого здоровье - не пустой звук.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третье- а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екват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ща, которую съедает в течение дня человек, должна восполнять энергозатраты его организм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подростков они немалые – ведь вы  растете, в ваших организмах  происходят сложнейшие функциональные перестройк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 в каждом конкретном случае цифра эта может меняться в зависимости от пола, условий жизни, вида деятельности, состояния здоровья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цион и режим питания подростка, активно занимающегося спортом, должен отличаться от рациона и режима питания его менее подвижных сверстник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тание во время болезни отличается от питания в обычное врем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Для малоподвижных людей, людей умственного труда, чей мозг сжигает много энерги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22093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рацион должен содержать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1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жиров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0-35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 грамм углеводов в сутки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6" descr="C:\Documents and Settings\Биология\Рабочий стол\DSCF3556.jpg"/>
          <p:cNvPicPr/>
          <p:nvPr/>
        </p:nvPicPr>
        <p:blipFill>
          <a:blip r:embed="rId2"/>
          <a:stretch/>
        </p:blipFill>
        <p:spPr>
          <a:xfrm>
            <a:off x="45720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У людей, занимающихся физическим трудом, большое количество энергии затрачивается мышцами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Поэтому нормой для них будет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2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жиров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0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углевод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мимо этого, организм должен получать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клетчатку и витамины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. 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5" descr="C:\Documents and Settings\Биология\Рабочий стол\DSCF1102.jpg"/>
          <p:cNvPicPr/>
          <p:nvPr/>
        </p:nvPicPr>
        <p:blipFill>
          <a:blip r:embed="rId2"/>
          <a:stretch/>
        </p:blipFill>
        <p:spPr>
          <a:xfrm>
            <a:off x="5029200" y="1600200"/>
            <a:ext cx="3352680" cy="2171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Documents and Settings\Биология\Рабочий стол\DSCF1075.jpg"/>
          <p:cNvPicPr/>
          <p:nvPr/>
        </p:nvPicPr>
        <p:blipFill>
          <a:blip r:embed="rId3"/>
          <a:stretch/>
        </p:blipFill>
        <p:spPr>
          <a:xfrm>
            <a:off x="5029200" y="3924360"/>
            <a:ext cx="33526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Давайте посчитае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им должен быть  наш полдник, если его калорийность составляет у юношей 435 ( д. 390)  ккал от 2900 ( д.2600) ккал   в сутк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371600" y="2743200"/>
          <a:ext cx="6326280" cy="3279600"/>
        </p:xfrm>
        <a:graphic>
          <a:graphicData uri="http://schemas.openxmlformats.org/drawingml/2006/table">
            <a:tbl>
              <a:tblPr/>
              <a:tblGrid>
                <a:gridCol w="1863720"/>
                <a:gridCol w="2114640"/>
                <a:gridCol w="2347920"/>
              </a:tblGrid>
              <a:tr h="99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дук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ичество,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нергетическая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ценность, кк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леб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л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ы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ок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аха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ефи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ченье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улоч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49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6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43"/>
          <p:cNvSpPr/>
          <p:nvPr/>
        </p:nvSpPr>
        <p:spPr>
          <a:xfrm>
            <a:off x="5167440" y="4787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четвертое-б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езопасность.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 питания обеспечивают три услов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блюдение ребенком правил личной гигиен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мение различать свежие и несвежие продукт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торожное обращение с незнакомыми продукта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Личная гигиен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уки человека загрязняются легче всего, так как все время соприкасаются с окружающими предметами. Поэтому их необходимо мыть, вернувшись домой, перед едой и перед приготовлением пищи. Привычка мыть руки после посещения туалета предотвращает распространение инфекционных кишечных заболеваний, а также самозаражение глистами. Кстати, грызть ногти - очень опасная привычка (и некрасивая к тому же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8" descr="C:\Documents and Settings\Биология\Рабочий стол\DSCF3982.jpg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:\Documents and Settings\Биология\Рабочий стол\DSCF3976.jpg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пятое - у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овольствие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ажная функция еды – доставлять удовольствие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ятные ощущения, которые возникают во время еды, имеют глубокий физиологический смысл, являясь показателем безопасности продукта (неприятный вкус воспринимается нашим организмом как сигнал тревоги – это есть нельзя!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ем выше уровень развития вкусовой чувствительности, тем выше уровень защиты 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Удовольствие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ригинальная  сервировка сто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расивое оформление блю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Хорошее настро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нимательное отношение друг к друг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5943600" y="388620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Чем мы будем заниматьс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Цель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рока: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формировать понятие  «здоровое  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и: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) познакомиться с правилами здоров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) оценить рацион собственн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) формировать элементарные навыки личной гигиены и умения правильно выбрать продук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м итог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инимать пищу надо в определенное врем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 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Разнообразность и сбалансированность питания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язательное 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сутствие в рационе сырых овощей и фруктов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Получение максимального удовольствия от пищ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он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обязательно должна быть свежей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Правильное питание должно стать Вашим образом жиз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3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Мы достигли цели урока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ое питание называют здоровым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это будем знать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будем получа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за питание и за образование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н Петрович  Павлов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ворил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«Если чрезмерное увлечение едой есть животность, то высокомерное невнимание к еде, есть неблагоразумие...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ак будьте «благоразумны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Спасибо за урок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0" y="2133720"/>
            <a:ext cx="8096400" cy="25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удьте здоровы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ите долго и счастливо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14400" y="538020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юдмила Викторовна Касьянова – учитель биологи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рдынская средняя общеобразовательная школа №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м. Героя Советского Союза А.Д.Гарани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Arial"/>
              </a:rPr>
              <a:t>Правило первое- р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егуляр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жим питания – не прихоть гигиенистов и диетологов, потребность в регулярном приеме пищи обусловлена законами деятельности наш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се процессы, протекающие внутри нас (дыхание, биение сердца, деление клеток, сокращение сосудов, в том числе и работа пищеварительной системы), носят ритмичный характер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гулярность – непременное условие эффективного функционирования сложной биологической системы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Режим питания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Завтра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Обед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4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олдник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Ужин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черний кефи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Завтрак съешь сам , обед подели с другом, ужин отдай враг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(Народная мудрост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3000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второе- р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азнообразие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аш организм нуждается в разнообразном пластическом и энергетическом материале. Белки, жиры, углеводы, витамины, минеральные вещества - все это мы должны получать из пищи. У каждого из перечисленных веществ свои функци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елки – основной строительный материал, из которого формируется и "ремонтируется" (в случае возникающих неполадок) тело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глеводы и жиры участвуют в энергообеспечении систем и органо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итамины - важнейший регулятор биологических процессов, протекающих в организм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Продукты питания растительного и животного происхождения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0" descr="La Boqueria.JPG"/>
          <p:cNvPicPr/>
          <p:nvPr/>
        </p:nvPicPr>
        <p:blipFill>
          <a:blip r:embed="rId2"/>
          <a:stretch/>
        </p:blipFill>
        <p:spPr>
          <a:xfrm>
            <a:off x="457200" y="1600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350px-Meatfoodgroup"/>
          <p:cNvPicPr/>
          <p:nvPr/>
        </p:nvPicPr>
        <p:blipFill>
          <a:blip r:embed="rId3"/>
          <a:stretch/>
        </p:blipFill>
        <p:spPr>
          <a:xfrm>
            <a:off x="5029200" y="167652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220px-Myaso_%283897728158%29"/>
          <p:cNvPicPr/>
          <p:nvPr/>
        </p:nvPicPr>
        <p:blipFill>
          <a:blip r:embed="rId4"/>
          <a:stretch/>
        </p:blipFill>
        <p:spPr>
          <a:xfrm>
            <a:off x="457200" y="3886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200px-Mushrooms_A_La_Grecque"/>
          <p:cNvPicPr/>
          <p:nvPr/>
        </p:nvPicPr>
        <p:blipFill>
          <a:blip r:embed="rId5"/>
          <a:stretch/>
        </p:blipFill>
        <p:spPr>
          <a:xfrm>
            <a:off x="5029200" y="3886200"/>
            <a:ext cx="3581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Ягод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8" descr="http://moysad.net/wp-content/uploads/2010/10/photo_12871.jpg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3581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img1.liveinternet.ru/images/attach/c/0/46/996/46996347_1249124816_8.jpg"/>
          <p:cNvPicPr/>
          <p:nvPr/>
        </p:nvPicPr>
        <p:blipFill>
          <a:blip r:embed="rId3"/>
          <a:stretch/>
        </p:blipFill>
        <p:spPr>
          <a:xfrm>
            <a:off x="4724280" y="2666880"/>
            <a:ext cx="38862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ушистая зел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Фрукты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4038480" cy="32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4:12:58Z</dcterms:created>
  <dc:creator>Касьяновы</dc:creator>
  <dc:description/>
  <dc:language>en-US</dc:language>
  <cp:lastModifiedBy>КарМаН</cp:lastModifiedBy>
  <dcterms:modified xsi:type="dcterms:W3CDTF">2011-06-21T12:42:47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