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EFD-2DC7-4843-BEE2-2EDD52F3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A3F-3B62-4991-8CFD-D75925DF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010-BB55-49E8-8D7A-FEA2D2CE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7F3-01D6-4675-A225-876DB8A3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9197-4B5B-4565-8504-EF97E80E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6D98-1B55-4B12-BFBF-CAC817B3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10D2-02C8-4003-B4F2-31BDECDF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A2F1-FEFB-4F8C-99B4-B257D384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AE7E-24EB-4C01-A9F2-25B6C3E3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4191-BB79-439A-8E7D-C8437E0A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FA79-C0A2-4CC0-8D4D-CE5D5E74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5DE-C84C-49A5-A908-914F68C9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1443-994A-415A-8838-27FD4574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2981-4B6E-4B17-ACD4-BBF503E7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81C7-DB03-4916-BD93-F23201E3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9540-C847-4CCE-9701-C0B51FBD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36AC-7C01-4811-8465-DF4EE793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0C2-5A69-4616-AE02-610FC0CA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29F-460F-4B69-B7BA-05E13D4A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A7A-DDA2-4E7A-AC4E-263FA813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05C-C55B-49A5-860C-DB0C1750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4EC-481A-4FB2-9BAC-B18EC651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F3F-A323-43DC-89B1-D0C8FA0E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4D0-8889-415B-A580-4A4B9B7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C7E5-88C8-4D2A-B530-E8C71A4D4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AC4C-792C-4EA3-80A7-DA168B632E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«5» за пита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ержится своими корнями, а человек п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зербайджанская пословица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вощи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Готовим\DSCF3780.jpg"/>
          <p:cNvPicPr/>
          <p:nvPr/>
        </p:nvPicPr>
        <p:blipFill>
          <a:blip r:embed="rId3"/>
          <a:stretch/>
        </p:blipFill>
        <p:spPr>
          <a:xfrm>
            <a:off x="4952880" y="1600200"/>
            <a:ext cx="358164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Готовим\DSCF3799.jpg"/>
          <p:cNvPicPr/>
          <p:nvPr/>
        </p:nvPicPr>
        <p:blipFill>
          <a:blip r:embed="rId4"/>
          <a:stretch/>
        </p:blipFill>
        <p:spPr>
          <a:xfrm>
            <a:off x="5029200" y="3924360"/>
            <a:ext cx="3505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9efee"/>
                </a:solidFill>
                <a:latin typeface="Garamond"/>
              </a:rPr>
              <a:t>«Правильное и полезное питание поможет сохранить здоровье»</a:t>
            </a: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 - эти слова должны стать своеобразным лозунгом для тех, для кого здоровье - не пустой звук.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третье- 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екват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ща, которую съедает в течение дня человек, должна восполнять энергозатраты его орган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подростков они немалые – ведь вы  растете, в ваших организмах  происходят сложнейшие функциональные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 в каждом конкретном случае цифра эта может меняться в зависимости от пола, условий жизни, вида деятельности, состояния здоровья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цион и режим питания подростка, активно занимающегося спортом, должен отличаться от рациона и режима питания его менее подвижных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тание во время болезни отличается от питания в обычное врем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ля малоподвижных людей, людей умственного труда, чей мозг сжигает много энерг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рацион должен содержат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жи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-3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грамм углеводов в сутк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C:\Documents and Settings\Биология\Рабочий стол\DSCF3556.jpg"/>
          <p:cNvPicPr/>
          <p:nvPr/>
        </p:nvPicPr>
        <p:blipFill>
          <a:blip r:embed="rId2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 людей, занимающихся физическим трудом, большое количество энергии затрачивается мышцам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Поэтому нормой для них буде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2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жиров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углев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имо этого, организм должен получать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клетчатку и витамины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.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C:\Documents and Settings\Биология\Рабочий стол\DSCF110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Биология\Рабочий стол\DSCF1075.jpg"/>
          <p:cNvPicPr/>
          <p:nvPr/>
        </p:nvPicPr>
        <p:blipFill>
          <a:blip r:embed="rId3"/>
          <a:stretch/>
        </p:blipFill>
        <p:spPr>
          <a:xfrm>
            <a:off x="5029200" y="3924360"/>
            <a:ext cx="3352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Давайте посчита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 должен быть  наш полдник, если его калорийность составляет у юношей 435 ( д. 390)  ккал от 2900 ( д.2600) ккал   в сут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2743200"/>
          <a:ext cx="6326280" cy="3279600"/>
        </p:xfrm>
        <a:graphic>
          <a:graphicData uri="http://schemas.openxmlformats.org/drawingml/2006/table">
            <a:tbl>
              <a:tblPr/>
              <a:tblGrid>
                <a:gridCol w="1863720"/>
                <a:gridCol w="2114640"/>
                <a:gridCol w="2347920"/>
              </a:tblGrid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,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ческа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енность, 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ле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л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ы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о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ефи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чень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9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6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3"/>
          <p:cNvSpPr/>
          <p:nvPr/>
        </p:nvSpPr>
        <p:spPr>
          <a:xfrm>
            <a:off x="5167440" y="4787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четвертое-б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езопасность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 питания обеспечивают три усло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людение ребенком правил личной гигие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ние различать свежие и несвежие продук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орожное обращение с незнакомыми продукт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Личная гигие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и человека загрязняются легче всего, так как все время соприкасаются с окружающими предметами. Поэтому их необходимо мыть, вернувшись домой, перед едой и перед приготовлением пищи. Привычка мыть руки после посещения туалета предотвращает распространение инфекционных кишечных заболеваний, а также самозаражение глистами. Кстати, грызть ногти - очень опасная привычка (и некрасивая к тому же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8" descr="C:\Documents and Settings\Биология\Рабочий стол\DSCF3982.jpg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Биология\Рабочий стол\DSCF3976.jpg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пятое - у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вольств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жная функция еды – доставлять удовольствие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ятные ощущения, которые возникают во время еды, имеют глубокий физиологический смысл, являясь показателем безопасности продукта (неприятный вкус воспринимается нашим организмом как сигнал тревоги – это есть нельзя!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м выше уровень развития вкусовой чувствительности, тем выше уровень защиты 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довольствие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гинальная  сервировка ст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расивое оформление блю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е отношение друг к дру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Чем мы будем заним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Цел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а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формировать понятие  «здоровое  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познакомиться с правилами здоров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оценить рацион собственн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) формировать элементарные навыки личной гигиены и умения правильно выбрать продук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м ито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нимать пищу надо в определенное врем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 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Разнообразность и сбалансированность питания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ое 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сутствие в рационе сырых овощей и фруктов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Получение максимального удовольствия от пищ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о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обязательно должна быть свежей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Правильное питание должно стать Вашим образом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Мы достигли цели урок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ое питание называют здоровы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это будем знать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будем полу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за питание и за образовани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Петрович  Павло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ил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«Если чрезмерное увлечение едой есть животность, то высокомерное невнимание к еде, есть неблагоразумие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к будьте «благоразумны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Спасибо за урок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133720"/>
            <a:ext cx="809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те долго и счастливо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538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юдмила Викторовна Касьянова – учитель биолог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рдынская средняя общеобразовательная школа №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м. Героя Советского Союза А.Д.Гаран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Arial"/>
              </a:rPr>
              <a:t>Правило первое- р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егуляр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жим питания – не прихоть гигиенистов и диетологов, потребность в регулярном приеме пищи обусловлена законами деятельности наш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е процессы, протекающие внутри нас (дыхание, биение сердца, деление клеток, сокращение сосудов, в том числе и работа пищеварительной системы), носят ритмичный характе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улярность – непременное условие эффективного функционирования сложной биологическ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Режим пита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автра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е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дни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Ужи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черний кеф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автрак съешь сам , обед подели с другом, ужин отдай враг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(Народная мудрост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второе- р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азнообразие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ш организм нуждается в разнообразном пластическом и энергетическом материале. Белки, жиры, углеводы, витамины, минеральные вещества - все это мы должны получать из пищи. У каждого из перечисленных веществ свои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лки – основной строительный материал, из которого формируется и "ремонтируется" (в случае возникающих неполадок) тел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глеводы и жиры участвуют в энергообеспечении систем и орган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тамины - важнейший регулятор биологических процессов, протекающих в организ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дукты питания растительного и животного происхожд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0" descr="La Boqueri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350px-Meatfoodgroup"/>
          <p:cNvPicPr/>
          <p:nvPr/>
        </p:nvPicPr>
        <p:blipFill>
          <a:blip r:embed="rId3"/>
          <a:stretch/>
        </p:blipFill>
        <p:spPr>
          <a:xfrm>
            <a:off x="5029200" y="16765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20px-Myaso_%283897728158%29"/>
          <p:cNvPicPr/>
          <p:nvPr/>
        </p:nvPicPr>
        <p:blipFill>
          <a:blip r:embed="rId4"/>
          <a:stretch/>
        </p:blipFill>
        <p:spPr>
          <a:xfrm>
            <a:off x="457200" y="3886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0px-Mushrooms_A_La_Grecque"/>
          <p:cNvPicPr/>
          <p:nvPr/>
        </p:nvPicPr>
        <p:blipFill>
          <a:blip r:embed="rId5"/>
          <a:stretch/>
        </p:blipFill>
        <p:spPr>
          <a:xfrm>
            <a:off x="5029200" y="38862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8" descr="http://moysad.net/wp-content/uploads/2010/10/photo_12871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g1.liveinternet.ru/images/attach/c/0/46/996/46996347_1249124816_8.jpg"/>
          <p:cNvPicPr/>
          <p:nvPr/>
        </p:nvPicPr>
        <p:blipFill>
          <a:blip r:embed="rId3"/>
          <a:stretch/>
        </p:blipFill>
        <p:spPr>
          <a:xfrm>
            <a:off x="4724280" y="2666880"/>
            <a:ext cx="38862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ушистая зел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укты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12:58Z</dcterms:created>
  <dc:creator>Касьяновы</dc:creator>
  <dc:description/>
  <dc:language>en-US</dc:language>
  <cp:lastModifiedBy>КарМаН</cp:lastModifiedBy>
  <dcterms:modified xsi:type="dcterms:W3CDTF">2011-06-21T12:42:4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