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68809-AE4D-4C86-A194-8DCC49E6B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10039-F779-42E4-9E73-ED9EEC919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1527D-8E8C-4BB2-B472-7AE8C67C9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DAE46-9463-4F4D-B21D-998ABECB1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0F541-9029-4E33-8FE7-EBAECFB16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B338C-A5C3-437B-834A-5C078B868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56976-BA4F-4C27-A223-D18A2AFEE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C8F6E-7154-473A-9295-50EBC0CD2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BD0F1-DB98-4C71-A19D-199FA58E6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B4B2F-F52D-45E7-8030-9BC3D4613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2DA99-2F57-490F-9DD2-F42042F27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85380-4F44-44B5-B507-DACF7C537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1E8E9-5972-48C9-BC1E-03A11F560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B4487-AF7E-4976-BD61-A0D33AC13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6946C-3B7C-43EC-BCAA-2F5207773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3B610-FFE7-4ACA-81F0-1392A0024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2E91E-F0ED-412E-829F-9E587CD98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36E8A-7BD6-4722-8C40-9B7B56118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B1517-93AE-4BFF-B712-FA574DC0C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07CE5-6763-4A99-B250-5DE3805F1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5DA32-769D-4DC3-98C8-65947A9A4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E41A2-5E8E-4CF8-870D-A5A2133B1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2B6AD-D2BF-45A9-9B41-BE3B520EB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622B0-6A28-43F8-BD14-A855088A4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4229280"/>
              <a:ext cx="4267080" cy="1942920"/>
            </a:xfrm>
            <a:prstGeom prst="pie">
              <a:avLst/>
            </a:pr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332320" y="2438280"/>
              <a:ext cx="3811680" cy="1955880"/>
            </a:xfrm>
            <a:prstGeom prst="pie">
              <a:avLst/>
            </a:pr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019920" y="2438280"/>
              <a:ext cx="3124080" cy="1209960"/>
            </a:xfrm>
            <a:prstGeom prst="pie">
              <a:avLst/>
            </a:pr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713560" y="3932280"/>
              <a:ext cx="295200" cy="19044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999040" y="3798720"/>
              <a:ext cx="293760" cy="19080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6094440" y="2914560"/>
              <a:ext cx="838080" cy="43668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5835600" y="3198960"/>
              <a:ext cx="1144800" cy="48564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5330880" y="3000240"/>
              <a:ext cx="3809880" cy="139860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094440" y="2943360"/>
              <a:ext cx="915840" cy="40932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8456760" y="2606760"/>
              <a:ext cx="7920" cy="1440"/>
            </a:xfrm>
            <a:prstGeom prst="pie">
              <a:avLst/>
            </a:pr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6094440" y="2743200"/>
              <a:ext cx="1136520" cy="60804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481720" y="3605040"/>
              <a:ext cx="504720" cy="35748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4219560"/>
              <a:ext cx="4119480" cy="1481040"/>
            </a:xfrm>
            <a:prstGeom prst="pie">
              <a:avLst/>
            </a:pr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0" y="4753080"/>
              <a:ext cx="4322880" cy="173196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FBB70-5F9B-46F5-A732-1AD8D89597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0" y="4229280"/>
              <a:ext cx="4267080" cy="1942920"/>
            </a:xfrm>
            <a:prstGeom prst="pie">
              <a:avLst/>
            </a:pr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5332320" y="2438280"/>
              <a:ext cx="3811680" cy="1955880"/>
            </a:xfrm>
            <a:prstGeom prst="pie">
              <a:avLst/>
            </a:pr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6019920" y="2438280"/>
              <a:ext cx="3124080" cy="1209960"/>
            </a:xfrm>
            <a:prstGeom prst="pie">
              <a:avLst/>
            </a:pr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5713560" y="3932280"/>
              <a:ext cx="295200" cy="19044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5999040" y="3798720"/>
              <a:ext cx="293760" cy="19080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6094440" y="2914560"/>
              <a:ext cx="838080" cy="43668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5835600" y="3198960"/>
              <a:ext cx="1144800" cy="48564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5330880" y="3000240"/>
              <a:ext cx="3809880" cy="139860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094440" y="2943360"/>
              <a:ext cx="915840" cy="40932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8456760" y="2606760"/>
              <a:ext cx="7920" cy="1440"/>
            </a:xfrm>
            <a:prstGeom prst="pie">
              <a:avLst/>
            </a:pr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6094440" y="2743200"/>
              <a:ext cx="1136520" cy="60804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481720" y="3605040"/>
              <a:ext cx="504720" cy="35748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0" y="4219560"/>
              <a:ext cx="4119480" cy="1481040"/>
            </a:xfrm>
            <a:prstGeom prst="pie">
              <a:avLst/>
            </a:pr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0" y="4753080"/>
              <a:ext cx="4322880" cy="173196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81DD9-A563-42EF-A6E4-A8972A0F29A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b9efee"/>
                </a:solidFill>
                <a:latin typeface="Garamond"/>
              </a:rPr>
              <a:t>«5» за питание</a:t>
            </a:r>
            <a:endParaRPr b="1" lang="en-US" sz="8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Дерево держится своими корнями, а человек пищей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Азербайджанская пословица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3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3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Овощи  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46" name="Picture 13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4038480" cy="44956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6" descr="E:\Готовим\DSCF3780.jpg"/>
          <p:cNvPicPr/>
          <p:nvPr/>
        </p:nvPicPr>
        <p:blipFill>
          <a:blip r:embed="rId3"/>
          <a:stretch/>
        </p:blipFill>
        <p:spPr>
          <a:xfrm>
            <a:off x="4952880" y="1600200"/>
            <a:ext cx="3581640" cy="21718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7" descr="E:\Готовим\DSCF3799.jpg"/>
          <p:cNvPicPr/>
          <p:nvPr/>
        </p:nvPicPr>
        <p:blipFill>
          <a:blip r:embed="rId4"/>
          <a:stretch/>
        </p:blipFill>
        <p:spPr>
          <a:xfrm>
            <a:off x="5029200" y="3924360"/>
            <a:ext cx="3505320" cy="21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b9efee"/>
                </a:solidFill>
                <a:latin typeface="Garamond"/>
              </a:rPr>
              <a:t>«Правильное и полезное питание поможет сохранить здоровье»</a:t>
            </a:r>
            <a:r>
              <a:rPr b="1" lang="en-US" sz="1800" spc="-1" strike="noStrike">
                <a:solidFill>
                  <a:srgbClr val="b9efee"/>
                </a:solidFill>
                <a:latin typeface="Garamond"/>
              </a:rPr>
              <a:t> - эти слова должны стать своеобразным лозунгом для тех, для кого здоровье - не пустой звук.</a:t>
            </a: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 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50" name="Picture 3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9efee"/>
                </a:solidFill>
                <a:latin typeface="Arial"/>
              </a:rPr>
              <a:t>Правило третье- а</a:t>
            </a:r>
            <a:r>
              <a:rPr b="1" lang="en-US" sz="3600" spc="-1" strike="noStrike">
                <a:solidFill>
                  <a:srgbClr val="b9efee"/>
                </a:solidFill>
                <a:latin typeface="Garamond"/>
              </a:rPr>
              <a:t>декватность.</a:t>
            </a:r>
            <a:r>
              <a:rPr b="1" lang="en-US" sz="6000" spc="-1" strike="noStrike">
                <a:solidFill>
                  <a:srgbClr val="b9efee"/>
                </a:solidFill>
                <a:latin typeface="Garamond"/>
              </a:rPr>
              <a:t> </a:t>
            </a:r>
            <a:endParaRPr b="1" lang="en-US" sz="6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Пища, которую съедает в течение дня человек, должна восполнять энергозатраты его организма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У подростков они немалые – ведь вы  растете, в ваших организмах  происходят сложнейшие функциональные перестройки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Но в каждом конкретном случае цифра эта может меняться в зависимости от пола, условий жизни, вида деятельности, состояния здоровья.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Рацион и режим питания подростка, активно занимающегося спортом, должен отличаться от рациона и режима питания его менее подвижных сверстников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Питание во время болезни отличается от питания в обычное время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9efee"/>
                </a:solidFill>
                <a:latin typeface="Garamond"/>
              </a:rPr>
              <a:t>Для малоподвижных людей, людей умственного труда, чей мозг сжигает много энергии</a:t>
            </a:r>
            <a:endParaRPr b="1" lang="en-US" sz="32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648320" y="22093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рацион должен содержать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100-110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грамм белка,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80-90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грамм жиров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300-350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  грамм углеводов в сутки.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5" name="Picture 6" descr="C:\Documents and Settings\Биология\Рабочий стол\DSCF3556.jpg"/>
          <p:cNvPicPr/>
          <p:nvPr/>
        </p:nvPicPr>
        <p:blipFill>
          <a:blip r:embed="rId2"/>
          <a:stretch/>
        </p:blipFill>
        <p:spPr>
          <a:xfrm>
            <a:off x="457200" y="23335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9efee"/>
                </a:solidFill>
                <a:latin typeface="Garamond"/>
              </a:rPr>
              <a:t>У людей, занимающихся физическим трудом, большое количество энергии затрачивается мышцами.</a:t>
            </a: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Garamond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Garamond"/>
              </a:rPr>
              <a:t>Поэтому нормой для них будет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100-120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грамм белка,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80-90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грамм жиров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,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400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грамм углеводов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Помимо этого, организм должен получать </a:t>
            </a:r>
            <a:r>
              <a:rPr b="0" lang="en-US" sz="2800" spc="-1" strike="noStrike">
                <a:solidFill>
                  <a:srgbClr val="ffff00"/>
                </a:solidFill>
                <a:latin typeface="Garamond"/>
              </a:rPr>
              <a:t>клетчатку и витамины</a:t>
            </a:r>
            <a:r>
              <a:rPr b="0" lang="en-US" sz="2000" spc="-1" strike="noStrike">
                <a:solidFill>
                  <a:srgbClr val="ffff00"/>
                </a:solidFill>
                <a:latin typeface="Garamond"/>
              </a:rPr>
              <a:t>. 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8" name="Picture 5" descr="C:\Documents and Settings\Биология\Рабочий стол\DSCF1102.jpg"/>
          <p:cNvPicPr/>
          <p:nvPr/>
        </p:nvPicPr>
        <p:blipFill>
          <a:blip r:embed="rId2"/>
          <a:stretch/>
        </p:blipFill>
        <p:spPr>
          <a:xfrm>
            <a:off x="5029200" y="1600200"/>
            <a:ext cx="3352680" cy="217188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6" descr="C:\Documents and Settings\Биология\Рабочий стол\DSCF1075.jpg"/>
          <p:cNvPicPr/>
          <p:nvPr/>
        </p:nvPicPr>
        <p:blipFill>
          <a:blip r:embed="rId3"/>
          <a:stretch/>
        </p:blipFill>
        <p:spPr>
          <a:xfrm>
            <a:off x="5029200" y="3924360"/>
            <a:ext cx="3352680" cy="21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Arial"/>
              </a:rPr>
              <a:t>Давайте посчитаем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Каким должен быть  наш полдник, если его калорийность составляет у юношей 435 ( д. 390)  ккал от 2900 ( д.2600) ккал   в сутки?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1371600" y="2743200"/>
          <a:ext cx="6326280" cy="3279600"/>
        </p:xfrm>
        <a:graphic>
          <a:graphicData uri="http://schemas.openxmlformats.org/drawingml/2006/table">
            <a:tbl>
              <a:tblPr/>
              <a:tblGrid>
                <a:gridCol w="1863720"/>
                <a:gridCol w="2114640"/>
                <a:gridCol w="2347920"/>
              </a:tblGrid>
              <a:tr h="99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Продукт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Количество, г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Энергетическая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ценность, кка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288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хлеб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масло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сыр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молоко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сахар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кефир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печенье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булочк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00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0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5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00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0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00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40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6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20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661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57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61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749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0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667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3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3" name="Rectangle 43"/>
          <p:cNvSpPr/>
          <p:nvPr/>
        </p:nvSpPr>
        <p:spPr>
          <a:xfrm>
            <a:off x="5167440" y="478728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9efee"/>
                </a:solidFill>
                <a:latin typeface="Arial"/>
              </a:rPr>
              <a:t>Правило четвертое-б</a:t>
            </a:r>
            <a:r>
              <a:rPr b="1" lang="en-US" sz="3600" spc="-1" strike="noStrike">
                <a:solidFill>
                  <a:srgbClr val="b9efee"/>
                </a:solidFill>
                <a:latin typeface="Garamond"/>
              </a:rPr>
              <a:t>езопасность.</a:t>
            </a: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Безопасность питания обеспечивают три условия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соблюдение ребенком правил личной гигиены,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умение различать свежие и несвежие продукты,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осторожное обращение с незнакомыми продуктами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3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3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3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3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30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30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30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30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Личная гигиена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3924360"/>
            <a:ext cx="8229600" cy="217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Руки человека загрязняются легче всего, так как все время соприкасаются с окружающими предметами. Поэтому их необходимо мыть, вернувшись домой, перед едой и перед приготовлением пищи. Привычка мыть руки после посещения туалета предотвращает распространение инфекционных кишечных заболеваний, а также самозаражение глистами. Кстати, грызть ногти - очень опасная привычка (и некрасивая к тому же)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8" name="Picture 8" descr="C:\Documents and Settings\Биология\Рабочий стол\DSCF3982.jpg"/>
          <p:cNvPicPr/>
          <p:nvPr/>
        </p:nvPicPr>
        <p:blipFill>
          <a:blip r:embed="rId2"/>
          <a:stretch/>
        </p:blipFill>
        <p:spPr>
          <a:xfrm>
            <a:off x="1028880" y="1600200"/>
            <a:ext cx="2895480" cy="21718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9" descr="C:\Documents and Settings\Биология\Рабочий стол\DSCF3976.jpg"/>
          <p:cNvPicPr/>
          <p:nvPr/>
        </p:nvPicPr>
        <p:blipFill>
          <a:blip r:embed="rId3"/>
          <a:stretch/>
        </p:blipFill>
        <p:spPr>
          <a:xfrm>
            <a:off x="5219640" y="1600200"/>
            <a:ext cx="2895840" cy="21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9efee"/>
                </a:solidFill>
                <a:latin typeface="Arial"/>
              </a:rPr>
              <a:t>Правило пятое - у</a:t>
            </a:r>
            <a:r>
              <a:rPr b="1" lang="en-US" sz="3600" spc="-1" strike="noStrike">
                <a:solidFill>
                  <a:srgbClr val="b9efee"/>
                </a:solidFill>
                <a:latin typeface="Garamond"/>
              </a:rPr>
              <a:t>довольствие</a:t>
            </a:r>
            <a:endParaRPr b="1" lang="en-US" sz="3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Важная функция еды – доставлять удовольствие.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риятные ощущения, которые возникают во время еды, имеют глубокий физиологический смысл, являясь показателем безопасности продукта (неприятный вкус воспринимается нашим организмом как сигнал тревоги – это есть нельзя!)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ем выше уровень развития вкусовой чувствительности, тем выше уровень защиты его организма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3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3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3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3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Удовольствие 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Оригинальная  сервировка стол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Красивое оформление блюд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Хорошее настроение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Внимательное отношение друг к другу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4" name="Picture 8" descr=""/>
          <p:cNvPicPr/>
          <p:nvPr/>
        </p:nvPicPr>
        <p:blipFill>
          <a:blip r:embed="rId2"/>
          <a:stretch/>
        </p:blipFill>
        <p:spPr>
          <a:xfrm>
            <a:off x="5867280" y="1905120"/>
            <a:ext cx="2286000" cy="16761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9" descr=""/>
          <p:cNvPicPr/>
          <p:nvPr/>
        </p:nvPicPr>
        <p:blipFill>
          <a:blip r:embed="rId3"/>
          <a:stretch/>
        </p:blipFill>
        <p:spPr>
          <a:xfrm>
            <a:off x="5943600" y="3886200"/>
            <a:ext cx="228600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Чем мы будем заниматься?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9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Цель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урока: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: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формировать понятие  «здоровое  питание»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Задачи: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1) познакомиться с правилами здорового питания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2) оценить рацион собственного питания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3) формировать элементарные навыки личной гигиены и умения правильно выбрать продукты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3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3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2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2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30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30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Подведем итог.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1. П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ринимать пищу надо в определенное время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.  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 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2. Разнообразность и сбалансированность питания. 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3.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бязательное п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рисутствие в рационе сырых овощей и фруктов. 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4. Получение максимального удовольствия от пищи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она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обязательно должна быть свежей. 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5. Правильное питание должно стать Вашим образом жизни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0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3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3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6" dur="30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30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3000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Arial"/>
              </a:rPr>
              <a:t>Мы достигли цели урока?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Какое питание называют здоровым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Если это будем знать-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ятерки будем получать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ятерки за питание и за образование…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9efee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ван Петрович  Павлов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говорил: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«Если чрезмерное увлечение едой есть животность, то высокомерное невнимание к еде, есть неблагоразумие...»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Так будьте «благоразумны»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Arial"/>
              </a:rPr>
              <a:t>Спасибо за урок!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83" name="WordArt 4"/>
          <p:cNvSpPr txBox="1"/>
          <p:nvPr/>
        </p:nvSpPr>
        <p:spPr>
          <a:xfrm>
            <a:off x="0" y="2133720"/>
            <a:ext cx="8096400" cy="253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Будьте здоровы!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Живите долго и счастливо!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84" name="Text Box 5"/>
          <p:cNvSpPr/>
          <p:nvPr/>
        </p:nvSpPr>
        <p:spPr>
          <a:xfrm>
            <a:off x="914400" y="5380200"/>
            <a:ext cx="7238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Людмила Викторовна Касьянова – учитель биологии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Ордынская средняя общеобразовательная школа № 1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им. Героя Советского Союза А.Д.Гаранина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9efee"/>
                </a:solidFill>
                <a:latin typeface="Arial"/>
              </a:rPr>
              <a:t>Правило первое- р</a:t>
            </a:r>
            <a:r>
              <a:rPr b="1" lang="en-US" sz="3200" spc="-1" strike="noStrike">
                <a:solidFill>
                  <a:srgbClr val="b9efee"/>
                </a:solidFill>
                <a:latin typeface="Garamond"/>
              </a:rPr>
              <a:t>егулярность.</a:t>
            </a:r>
            <a:r>
              <a:rPr b="1" lang="en-US" sz="6000" spc="-1" strike="noStrike">
                <a:solidFill>
                  <a:srgbClr val="b9efee"/>
                </a:solidFill>
                <a:latin typeface="Garamond"/>
              </a:rPr>
              <a:t> </a:t>
            </a:r>
            <a:endParaRPr b="1" lang="en-US" sz="6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Режим питания – не прихоть гигиенистов и диетологов, потребность в регулярном приеме пищи обусловлена законами деятельности нашего организма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Все процессы, протекающие внутри нас (дыхание, биение сердца, деление клеток, сокращение сосудов, в том числе и работа пищеварительной системы), носят ритмичный характер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Регулярность – непременное условие эффективного функционирования сложной биологической системы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b9efee"/>
                </a:solidFill>
                <a:latin typeface="Garamond"/>
              </a:rPr>
              <a:t>Режим питания</a:t>
            </a:r>
            <a:endParaRPr b="1" lang="en-US" sz="6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Завтрак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25%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10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Обед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40%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10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Полдник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15%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10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Ужин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20%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Вечерний кефир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648320" y="3885840"/>
            <a:ext cx="4038480" cy="21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Завтрак съешь сам , обед подели с другом, ужин отдай врагу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      </a:t>
            </a:r>
            <a:r>
              <a:rPr b="0" i="1" lang="en-US" sz="1600" spc="-1" strike="noStrike">
                <a:solidFill>
                  <a:srgbClr val="ffffff"/>
                </a:solidFill>
                <a:latin typeface="Garamond"/>
              </a:rPr>
              <a:t>(Народная мудрость)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3" name="Picture 9" descr=""/>
          <p:cNvPicPr/>
          <p:nvPr/>
        </p:nvPicPr>
        <p:blipFill>
          <a:blip r:embed="rId2"/>
          <a:stretch/>
        </p:blipFill>
        <p:spPr>
          <a:xfrm>
            <a:off x="5029200" y="1143000"/>
            <a:ext cx="300024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4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2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2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2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2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2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2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2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2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1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3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3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9efee"/>
                </a:solidFill>
                <a:latin typeface="Arial"/>
              </a:rPr>
              <a:t>Правило второе- р</a:t>
            </a:r>
            <a:r>
              <a:rPr b="1" lang="en-US" sz="3600" spc="-1" strike="noStrike">
                <a:solidFill>
                  <a:srgbClr val="b9efee"/>
                </a:solidFill>
                <a:latin typeface="Garamond"/>
              </a:rPr>
              <a:t>азнообразие.</a:t>
            </a:r>
            <a:r>
              <a:rPr b="1" lang="en-US" sz="6000" spc="-1" strike="noStrike">
                <a:solidFill>
                  <a:srgbClr val="b9efee"/>
                </a:solidFill>
                <a:latin typeface="Garamond"/>
              </a:rPr>
              <a:t> </a:t>
            </a:r>
            <a:endParaRPr b="1" lang="en-US" sz="6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just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Наш организм нуждается в разнообразном пластическом и энергетическом материале. Белки, жиры, углеводы, витамины, минеральные вещества - все это мы должны получать из пищи. У каждого из перечисленных веществ свои функции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 algn="just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белки – основной строительный материал, из которого формируется и "ремонтируется" (в случае возникающих неполадок) тело,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углеводы и жиры участвуют в энергообеспечении систем и органов,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витамины - важнейший регулятор биологических процессов, протекающих в организме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9efee"/>
                </a:solidFill>
                <a:latin typeface="Garamond"/>
              </a:rPr>
              <a:t>Продукты питания растительного и животного происхождения</a:t>
            </a:r>
            <a:endParaRPr b="1" lang="en-US" sz="32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599840"/>
            <a:ext cx="4038480" cy="21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648320" y="1599840"/>
            <a:ext cx="4038480" cy="21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3885840"/>
            <a:ext cx="4038480" cy="21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648320" y="3885840"/>
            <a:ext cx="4038480" cy="21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1" name="Picture 10" descr="La Boqueria.JPG"/>
          <p:cNvPicPr/>
          <p:nvPr/>
        </p:nvPicPr>
        <p:blipFill>
          <a:blip r:embed="rId2"/>
          <a:stretch/>
        </p:blipFill>
        <p:spPr>
          <a:xfrm>
            <a:off x="457200" y="1600200"/>
            <a:ext cx="3581280" cy="21337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2" descr="350px-Meatfoodgroup"/>
          <p:cNvPicPr/>
          <p:nvPr/>
        </p:nvPicPr>
        <p:blipFill>
          <a:blip r:embed="rId3"/>
          <a:stretch/>
        </p:blipFill>
        <p:spPr>
          <a:xfrm>
            <a:off x="5029200" y="1676520"/>
            <a:ext cx="3657600" cy="20574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4" descr="220px-Myaso_%283897728158%29"/>
          <p:cNvPicPr/>
          <p:nvPr/>
        </p:nvPicPr>
        <p:blipFill>
          <a:blip r:embed="rId4"/>
          <a:stretch/>
        </p:blipFill>
        <p:spPr>
          <a:xfrm>
            <a:off x="457200" y="3886200"/>
            <a:ext cx="3581280" cy="21337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6" descr="200px-Mushrooms_A_La_Grecque"/>
          <p:cNvPicPr/>
          <p:nvPr/>
        </p:nvPicPr>
        <p:blipFill>
          <a:blip r:embed="rId5"/>
          <a:stretch/>
        </p:blipFill>
        <p:spPr>
          <a:xfrm>
            <a:off x="5029200" y="3886200"/>
            <a:ext cx="358128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Ягоды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8" name="Picture 8" descr="http://moysad.net/wp-content/uploads/2010/10/photo_12871.jpg"/>
          <p:cNvPicPr/>
          <p:nvPr/>
        </p:nvPicPr>
        <p:blipFill>
          <a:blip r:embed="rId2"/>
          <a:stretch/>
        </p:blipFill>
        <p:spPr>
          <a:xfrm>
            <a:off x="457200" y="1600200"/>
            <a:ext cx="4038480" cy="35812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0" descr="http://img1.liveinternet.ru/images/attach/c/0/46/996/46996347_1249124816_8.jpg"/>
          <p:cNvPicPr/>
          <p:nvPr/>
        </p:nvPicPr>
        <p:blipFill>
          <a:blip r:embed="rId3"/>
          <a:stretch/>
        </p:blipFill>
        <p:spPr>
          <a:xfrm>
            <a:off x="4724280" y="2666880"/>
            <a:ext cx="3886200" cy="33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Душистая зелень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41" name="Picture 14" descr=""/>
          <p:cNvPicPr/>
          <p:nvPr/>
        </p:nvPicPr>
        <p:blipFill>
          <a:blip r:embed="rId2"/>
          <a:stretch/>
        </p:blipFill>
        <p:spPr>
          <a:xfrm>
            <a:off x="838080" y="1219320"/>
            <a:ext cx="754380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Фрукты  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43" name="Picture 10" descr=""/>
          <p:cNvPicPr/>
          <p:nvPr/>
        </p:nvPicPr>
        <p:blipFill>
          <a:blip r:embed="rId2"/>
          <a:stretch/>
        </p:blipFill>
        <p:spPr>
          <a:xfrm>
            <a:off x="457200" y="3048120"/>
            <a:ext cx="4038480" cy="32763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1" descr=""/>
          <p:cNvPicPr/>
          <p:nvPr/>
        </p:nvPicPr>
        <p:blipFill>
          <a:blip r:embed="rId3"/>
          <a:stretch/>
        </p:blipFill>
        <p:spPr>
          <a:xfrm>
            <a:off x="4648320" y="1600200"/>
            <a:ext cx="403848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8T14:12:58Z</dcterms:created>
  <dc:creator>Касьяновы</dc:creator>
  <dc:description/>
  <dc:language>en-US</dc:language>
  <cp:lastModifiedBy>КарМаН</cp:lastModifiedBy>
  <dcterms:modified xsi:type="dcterms:W3CDTF">2011-06-21T12:42:47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