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6.jpeg" ContentType="image/jpeg"/>
  <Override PartName="/ppt/media/image5.jpeg" ContentType="image/jpeg"/>
  <Override PartName="/ppt/media/image20.wmf" ContentType="image/x-wmf"/>
  <Override PartName="/ppt/media/image24.png" ContentType="image/png"/>
  <Override PartName="/ppt/media/image22.wmf" ContentType="image/x-wmf"/>
  <Override PartName="/ppt/media/image18.jpeg" ContentType="image/jpeg"/>
  <Override PartName="/ppt/media/image21.wmf" ContentType="image/x-wmf"/>
  <Override PartName="/ppt/media/image1.jpeg" ContentType="image/jpeg"/>
  <Override PartName="/ppt/media/image17.jpeg" ContentType="image/jpeg"/>
  <Override PartName="/ppt/media/image3.jpeg" ContentType="image/jpeg"/>
  <Override PartName="/ppt/media/image19.png" ContentType="image/png"/>
  <Override PartName="/ppt/media/image16.gif" ContentType="image/gif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26C5-7471-480F-AA1B-5D494DFE1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DB89-2E08-4327-9C11-34669DC6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52D9-7F46-47FA-B90C-88E5049C6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9D7D-24DC-4C05-9938-8AFE331E4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7906-737E-4F68-B8BB-98CE04B42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083B-98F4-45FC-8F18-E4E21C41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06AD-E737-48AB-A202-577B7B6D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8859-8B02-4807-8FF7-D523AB85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E37E-76F2-4A05-8425-C7A25098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0425-FBC8-4DC7-863B-7D91762E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B0C6-9178-4641-84D6-74F74FBF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A51B-F799-4A6E-8C80-727A5BF1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4FBB-081E-4C78-834E-C2E07DD9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12F0-E558-4867-B107-C43A1E4D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70A8-4529-4E4C-A284-9713058D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4802-0634-496C-9316-55055F822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1970-BE94-44E4-9D63-0FFB0DF28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9D90-3C10-48BC-A944-76D10D40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26CD-4380-4430-BC74-B7D43852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92D7-5F4D-48D9-8FB9-89A46A5B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9AC1-4B31-414C-BF5E-D5FDD7EC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3E38-65F4-418B-AB31-7B050CEB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60A7-4BAE-4B1E-8B23-A707117A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7572-D5D4-4B3F-AC98-DA1A9306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D24D-CA8C-4689-8DA8-897AC4363E0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7115-C877-4AD3-BC1D-DB3B349C78F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Гигиена сердечно – сосудистой системы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8 класс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учитель биологии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МОУ СОШ № 11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г. Кропоткин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Михайлова Т.В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алкоголь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поправимый вред сердечно-сосудистой системе наносит алкоголь. Давление повышается на несколько дней даже при однократном приеме. Алкоголь, являясь клеточным ядом, повышает давление вследствие прямого токсического действия на нервную и сердечно-сосудистую систем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ердце работает в неблагоприятном для него режиме. Пульс увеличивается до 100 ударов в минуту, в организме нарушается обмен веществ и питание сердечной мышц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200"/>
                            </p:stCondLst>
                            <p:childTnLst>
                              <p:par>
                                <p:cTn id="20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700"/>
                            </p:stCondLst>
                            <p:childTnLst>
                              <p:par>
                                <p:cTn id="21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движе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подросток ведет малоподвижный образ жизни,то Сердце, лишенное необходимой тренировки, развивается плохо, его объем остается небольшим, а сердечная мышца вялой и слабой. Эти нарушения обратимы, от них можно избавится даже не прибегая к лекарствам. Хороший результат достигается восполнением дефицита двигательной актив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bbd71"/>
                </a:solidFill>
                <a:latin typeface="Arial"/>
              </a:rPr>
              <a:t>ЗАПОМНИМ НА ВСЮ ЖИЗНЬ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может увеличить уровень энергии и улучшает работоспособность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улучшает настроение и помогает снизить стресс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помогает достигать и поддерживать идеальный вес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увеличивает физические возможности, это делает жизнь приятной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может снизить смертность от сердечно-сосудистых заболеваний на 40%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стресс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есс – состояние общего напряжения организма, возникающее у человека под действием чрезвычайного раздражител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684360" y="3511800"/>
            <a:ext cx="755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 волнениях, психическом и физическом перенапряжении наступает тахикардия. Частота пульса может достигать от 85 до 150 и более ударов в минуту. Обычно при тахикардии беспокоит сердцебиение, иногда – одышка в сочетании с другими проявлениями основного заболевания сердца. Нарушение сердечного ритма при стрессах может выражаться и в аритмии. Из всех аритмий сердца наиболее часто встречается экстрасистолия – преждевременные сокращения сердца или его отдел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Очень хорошо способствуют снятию стресса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Я спокоен...Я совершенно спокоен... Мое дыхание ровное и спокойное..... Дыхание равномерное ..... Мне дышится легко и спокойно.... Дыхание стало ровным и спокойным.... Каждый вдох наполняет меня спокойствием и отдыхом..... Я спокоен..... Я совершенно спокоен....»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Cердце любит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рдце не только любит, но и нуждается в постоянном притоке живительного кислорода и питательных вещест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11"/>
          <p:cNvSpPr/>
          <p:nvPr/>
        </p:nvSpPr>
        <p:spPr>
          <a:xfrm>
            <a:off x="0" y="293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10" descr="http://www.pal.by/heart/heart.gif"/>
          <p:cNvPicPr/>
          <p:nvPr/>
        </p:nvPicPr>
        <p:blipFill>
          <a:blip r:embed="rId1"/>
          <a:stretch/>
        </p:blipFill>
        <p:spPr>
          <a:xfrm>
            <a:off x="4427640" y="3614760"/>
            <a:ext cx="18730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Самый большой сердечный друг – калий: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Он помогает сердцу биться ритмично, ровно и спокойно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Регулирует водно-солевой обмен в организме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Участвует в проведении нервных импульсов к мышцам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Нормализует углеводный и жировой обме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Сердце НЕ любит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рдечный приступ чаще случается с людьми в подавленном состоян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сердце оказывает отрицательное влияние курение и употребление алкогол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4"/>
          <p:cNvSpPr txBox="1"/>
          <p:nvPr/>
        </p:nvSpPr>
        <p:spPr>
          <a:xfrm>
            <a:off x="457200" y="27792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Monotype Corsiva"/>
              </a:rPr>
              <a:t>КРИТЕРИИ ЗДОРОВЬЯ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04" name="WordArt 7"/>
          <p:cNvSpPr txBox="1"/>
          <p:nvPr/>
        </p:nvSpPr>
        <p:spPr>
          <a:xfrm>
            <a:off x="0" y="1484280"/>
            <a:ext cx="3635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urier New"/>
              </a:rPr>
              <a:t>Я МОГУ</a:t>
            </a:r>
            <a:endParaRPr b="1" lang="en-US" sz="1800" spc="1" strike="noStrike">
              <a:ln w="1584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205" name="WordArt 8"/>
          <p:cNvSpPr txBox="1"/>
          <p:nvPr/>
        </p:nvSpPr>
        <p:spPr>
          <a:xfrm>
            <a:off x="5580000" y="1828800"/>
            <a:ext cx="319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9900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urier New"/>
              </a:rPr>
              <a:t>Я ХОЧУ</a:t>
            </a:r>
            <a:endParaRPr b="1" lang="en-US" sz="1800" spc="1" strike="noStrike">
              <a:ln w="1584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9900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206" name="WordArt 9"/>
          <p:cNvSpPr txBox="1"/>
          <p:nvPr/>
        </p:nvSpPr>
        <p:spPr>
          <a:xfrm>
            <a:off x="468360" y="4724280"/>
            <a:ext cx="31669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urier New"/>
              </a:rPr>
              <a:t>Я ВЕРЮ</a:t>
            </a:r>
            <a:endParaRPr b="1" lang="en-US" sz="1800" spc="1" strike="noStrike">
              <a:ln w="1584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207" name="WordArt 10"/>
          <p:cNvSpPr txBox="1"/>
          <p:nvPr/>
        </p:nvSpPr>
        <p:spPr>
          <a:xfrm>
            <a:off x="6012000" y="3860640"/>
            <a:ext cx="264132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urier New"/>
              </a:rPr>
              <a:t>Я ДОЛЖЕН</a:t>
            </a:r>
            <a:endParaRPr b="1" lang="en-US" sz="1800" spc="1" strike="noStrike">
              <a:ln w="1584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pic>
        <p:nvPicPr>
          <p:cNvPr id="208" name="Picture 11" descr="bd07155_"/>
          <p:cNvPicPr/>
          <p:nvPr/>
        </p:nvPicPr>
        <p:blipFill>
          <a:blip r:embed="rId1"/>
          <a:stretch/>
        </p:blipFill>
        <p:spPr>
          <a:xfrm>
            <a:off x="3924360" y="2421000"/>
            <a:ext cx="1523880" cy="1589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2" descr="BD06662_"/>
          <p:cNvPicPr/>
          <p:nvPr/>
        </p:nvPicPr>
        <p:blipFill>
          <a:blip r:embed="rId2"/>
          <a:stretch/>
        </p:blipFill>
        <p:spPr>
          <a:xfrm>
            <a:off x="3924360" y="4653000"/>
            <a:ext cx="2448000" cy="2205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BD06675_"/>
          <p:cNvPicPr/>
          <p:nvPr/>
        </p:nvPicPr>
        <p:blipFill>
          <a:blip r:embed="rId3"/>
          <a:stretch/>
        </p:blipFill>
        <p:spPr>
          <a:xfrm>
            <a:off x="0" y="2637000"/>
            <a:ext cx="2652840" cy="19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0" y="1268280"/>
            <a:ext cx="3851280" cy="51148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Факторы негативно влияющие на сердечно-сосудистую систему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87640" y="1923840"/>
            <a:ext cx="4475520" cy="43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Гиподинамия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недостаток двигательной активности) ведёт к  атрофии сердечной мышц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лкоголь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отравляет сердечную мышцу, развивается сердечная недостаточ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икотин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вызывает устойчивый спазм сосудов, инфаркт миокар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едостаток кислород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в атмосфере вызывает гипоксию, меняется ритм сердечных сокращен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атогенные микроорганизмы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вызывают инфекционные заболевания сердц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трессовые ситуаци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истощают сердечную мышц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8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8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8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8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000"/>
                            </p:stCondLst>
                            <p:childTnLst>
                              <p:par>
                                <p:cTn id="4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8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0"/>
                            </p:stCondLst>
                            <p:childTnLst>
                              <p:par>
                                <p:cTn id="4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8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dbbd71"/>
                </a:solidFill>
                <a:latin typeface="Arial"/>
              </a:rPr>
              <a:t>Галерея сердец</a:t>
            </a: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4" name="Picture 6" descr="serd_thumb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539640" y="1916280"/>
            <a:ext cx="3745080" cy="3313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nsm4_thumb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4427640" y="1916280"/>
            <a:ext cx="38894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91520" cy="10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Гигиена сердечно-сосудистой системы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По вертикали: 2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Ритмичные сокращения сердц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По горизонтали: 1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Ритмичное колебание стенок артерий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Артерии, осуществляющие кровоснабжение сердечной мышцы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Вещество, суживающее просвет кровеносных сосудов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Состояние, причиной которого является недостаточная физическая активность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6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Чувствительные нервные окончания, расположенные в стенках кровеносных сосудов.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7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Увеличение числа лейкоцитов в крови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8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Кровяные пластинки, принимающие участие в свертывании крови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9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Пониженное кровяное давление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0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Особый белок, благодаря которому эритроциты могут переносить кислород.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11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Временное снижение работоспособности.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12.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Состояние организма, при котором в крови уменьшается содержание гемоглобина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3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Привычка, оказывающая вредное действие на сердце и кровеносные сосуд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4" descr="21"/>
          <p:cNvPicPr/>
          <p:nvPr/>
        </p:nvPicPr>
        <p:blipFill>
          <a:blip r:embed="rId2"/>
          <a:stretch/>
        </p:blipFill>
        <p:spPr>
          <a:xfrm>
            <a:off x="0" y="1484280"/>
            <a:ext cx="4859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1" descr="h2_thumb"/>
          <p:cNvPicPr/>
          <p:nvPr/>
        </p:nvPicPr>
        <p:blipFill>
          <a:blip r:embed="rId1"/>
          <a:stretch/>
        </p:blipFill>
        <p:spPr>
          <a:xfrm>
            <a:off x="0" y="0"/>
            <a:ext cx="3492360" cy="3429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3" descr="h3_thumb"/>
          <p:cNvPicPr/>
          <p:nvPr/>
        </p:nvPicPr>
        <p:blipFill>
          <a:blip r:embed="rId2"/>
          <a:stretch/>
        </p:blipFill>
        <p:spPr>
          <a:xfrm>
            <a:off x="4356000" y="142920"/>
            <a:ext cx="3095640" cy="3357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4" descr="h6_thumb"/>
          <p:cNvPicPr/>
          <p:nvPr/>
        </p:nvPicPr>
        <p:blipFill>
          <a:blip r:embed="rId3"/>
          <a:stretch/>
        </p:blipFill>
        <p:spPr>
          <a:xfrm>
            <a:off x="0" y="3645000"/>
            <a:ext cx="3564000" cy="3213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5" descr="heart_cigar_thumb"/>
          <p:cNvPicPr/>
          <p:nvPr/>
        </p:nvPicPr>
        <p:blipFill>
          <a:blip r:embed="rId4"/>
          <a:stretch/>
        </p:blipFill>
        <p:spPr>
          <a:xfrm>
            <a:off x="4716360" y="3573360"/>
            <a:ext cx="331164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baik5_thumb"/>
          <p:cNvPicPr/>
          <p:nvPr/>
        </p:nvPicPr>
        <p:blipFill>
          <a:blip r:embed="rId1"/>
          <a:stretch/>
        </p:blipFill>
        <p:spPr>
          <a:xfrm>
            <a:off x="250920" y="0"/>
            <a:ext cx="3600360" cy="2633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5133_thumb"/>
          <p:cNvPicPr/>
          <p:nvPr/>
        </p:nvPicPr>
        <p:blipFill>
          <a:blip r:embed="rId2"/>
          <a:stretch/>
        </p:blipFill>
        <p:spPr>
          <a:xfrm>
            <a:off x="4643280" y="0"/>
            <a:ext cx="4249800" cy="2852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7_thumb"/>
          <p:cNvPicPr/>
          <p:nvPr/>
        </p:nvPicPr>
        <p:blipFill>
          <a:blip r:embed="rId3"/>
          <a:stretch/>
        </p:blipFill>
        <p:spPr>
          <a:xfrm>
            <a:off x="0" y="3284640"/>
            <a:ext cx="3995640" cy="2952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h5_thumb"/>
          <p:cNvPicPr/>
          <p:nvPr/>
        </p:nvPicPr>
        <p:blipFill>
          <a:blip r:embed="rId4"/>
          <a:stretch/>
        </p:blipFill>
        <p:spPr>
          <a:xfrm>
            <a:off x="3203640" y="2708280"/>
            <a:ext cx="1584360" cy="1728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heart_thumb"/>
          <p:cNvPicPr/>
          <p:nvPr/>
        </p:nvPicPr>
        <p:blipFill>
          <a:blip r:embed="rId5"/>
          <a:stretch/>
        </p:blipFill>
        <p:spPr>
          <a:xfrm>
            <a:off x="4788000" y="2997360"/>
            <a:ext cx="2665440" cy="2087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m7_thumb"/>
          <p:cNvPicPr/>
          <p:nvPr/>
        </p:nvPicPr>
        <p:blipFill>
          <a:blip r:embed="rId6"/>
          <a:stretch/>
        </p:blipFill>
        <p:spPr>
          <a:xfrm>
            <a:off x="3419640" y="4581360"/>
            <a:ext cx="2592360" cy="2276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serdce_thumb"/>
          <p:cNvPicPr/>
          <p:nvPr/>
        </p:nvPicPr>
        <p:blipFill>
          <a:blip r:embed="rId7"/>
          <a:stretch/>
        </p:blipFill>
        <p:spPr>
          <a:xfrm>
            <a:off x="6804000" y="3645000"/>
            <a:ext cx="2340000" cy="2952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heart2_thumb"/>
          <p:cNvPicPr/>
          <p:nvPr/>
        </p:nvPicPr>
        <p:blipFill>
          <a:blip r:embed="rId8"/>
          <a:stretch/>
        </p:blipFill>
        <p:spPr>
          <a:xfrm>
            <a:off x="0" y="2565360"/>
            <a:ext cx="16509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Невероятно!!!!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рдце за всю жизнь человека сокращается 2,5 миллиарда раз. Подсчитано, что этой работы достаточно, чтобы поднять поезд на гору Монблан!!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12" descr="crying"/>
          <p:cNvPicPr/>
          <p:nvPr/>
        </p:nvPicPr>
        <p:blipFill>
          <a:blip r:embed="rId1"/>
          <a:stretch/>
        </p:blipFill>
        <p:spPr>
          <a:xfrm>
            <a:off x="3851280" y="3645000"/>
            <a:ext cx="44658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76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замечательно!!!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такое сердце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мень твердый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Яблоко с багрово-красной кожей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жет быть, меж ребер и аортой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ьется шар, на шар земной похожий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ак или иначе, все земное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мещается в его пределы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тому что нет ему покоя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о всего есть дел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6" descr="beating"/>
          <p:cNvPicPr/>
          <p:nvPr/>
        </p:nvPicPr>
        <p:blipFill>
          <a:blip r:embed="rId1"/>
          <a:stretch/>
        </p:blipFill>
        <p:spPr>
          <a:xfrm>
            <a:off x="6012000" y="4005360"/>
            <a:ext cx="28573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УЗИ сердц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тод помогает распозн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рожденные и приобретенные пороки сердц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личные формы ишемической болезн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ипертонию, опухоли, тромбозы сердц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евризматические поражения аорты и многие другие заболева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пита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числе причин, способствующих появлению сердечно-сосудистых заболеваний, следует назвать ожирение. Избыточная масса тела и ожирение отмечаются в настоящее время у значительной части населения экономически развитых стран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4" descr="m7_thumb"/>
          <p:cNvPicPr/>
          <p:nvPr/>
        </p:nvPicPr>
        <p:blipFill>
          <a:blip r:embed="rId1"/>
          <a:stretch/>
        </p:blipFill>
        <p:spPr>
          <a:xfrm>
            <a:off x="6659640" y="4797360"/>
            <a:ext cx="17827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куре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не до боли жаль человеческого здоровья, цинично, бездумно переведенного в дым. Мне нестерпимо жаль жизней, истлевших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 кончике сигареты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Ф. Г. Углов, академик АМН ССС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250920" y="299736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 курении развивается и прогрессирует спазм сосудов, питающих сердце. Одновременно повышается и свертываемость крови, что способствует более быстрому образованию тромбов. Все это вместе взятое приводит к возникновению ишемической болезни сердца, нередко переходящей в инфаркт миокард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5" descr="heart_cigar2"/>
          <p:cNvPicPr/>
          <p:nvPr/>
        </p:nvPicPr>
        <p:blipFill>
          <a:blip r:embed="rId1"/>
          <a:stretch/>
        </p:blipFill>
        <p:spPr>
          <a:xfrm>
            <a:off x="1042920" y="4508640"/>
            <a:ext cx="2521080" cy="2349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cigar2"/>
          <p:cNvPicPr/>
          <p:nvPr/>
        </p:nvPicPr>
        <p:blipFill>
          <a:blip r:embed="rId2"/>
          <a:stretch/>
        </p:blipFill>
        <p:spPr>
          <a:xfrm>
            <a:off x="6300720" y="4653000"/>
            <a:ext cx="2102040" cy="172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2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3:51:56Z</dcterms:created>
  <dc:creator>Дмитрий</dc:creator>
  <dc:description/>
  <dc:language>en-US</dc:language>
  <cp:lastModifiedBy>1</cp:lastModifiedBy>
  <dcterms:modified xsi:type="dcterms:W3CDTF">2011-04-11T16:54:21Z</dcterms:modified>
  <cp:revision>9</cp:revision>
  <dc:subject/>
  <dc:title>Галерея сердец </dc:title>
</cp:coreProperties>
</file>