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22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9E4-A242-464E-BE0B-F3C91E73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E71-FD23-47BB-AD7B-4FA0B8D7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211-5855-4332-9567-ABDD75C2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623-24BC-4D0A-8585-98C73441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782A-B989-4045-87F8-B0EAE848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64E9-1ADA-45C9-90AD-279855B1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9F99-806F-4B52-B890-55592A4E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BC65-5F87-4218-9E40-FEC8F2EF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4F4C-FE64-42AD-855B-3D2116D7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2BFB-6F3D-4B79-8650-367F9696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CF44-4C0B-4DA1-A18E-4B46A531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061-73CC-4D68-AD1A-9AD8D03F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AAF8-A86F-4697-A91A-A1586EFE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2848-5DF8-4E3E-90C9-6E76FD1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A9FE-28F7-4C69-B932-681D020C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AD5D-DEA5-4A8C-AEAC-103E7DF3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A94D-FA86-49AE-BFAF-BBF968E4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52B-9D45-47BB-A03C-7D05E98F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C7A-4A22-4672-B50E-275F440E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8CE-3A45-400E-B923-D516B63F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690-1F6A-49A3-8D0C-BD7328E9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44C-9E1E-48C6-A356-89ED2AD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EB3-531E-49DD-8E17-E1823910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49E-0C93-4844-8FBA-29321BF9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0E2A-F3DE-4F31-9FE5-2112BCD30F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3E86-A245-4A67-89C0-AEBCA8CBE0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гиена сердечно – сосудистой систем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8 класс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читель биологии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У СОШ № 11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. Кропоткин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ихайлова Т.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алкого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правимый вред сердечно-сосудистой системе наносит алкоголь. Давление повышается на несколько дней даже при однократном приеме. Алкоголь, являясь клеточным ядом, повышает давление вследствие прямого токсического действия на нервную и сердечно-сосудистую сист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це работает в неблагоприятном для него режиме. Пульс увеличивается до 100 ударов в минуту, в организме нарушается обмен веществ и питание сердечной мыш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одросток ведет малоподвижный образ жизни,то Сердце, лишенное необходимой тренировки, развивается плохо, его объем остается небольшим, а сердечная мышца вялой и слабой. Эти нарушения обратимы, от них можно избавится даже не прибегая к лекарствам. Хороший результат достигается восполнением дефицита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ЗАПОМНИМ НА ВСЮ ЖИЗНЬ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увеличить уровень энергии и улучшает работоспособ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лучшает настроение и помогает снизить стрес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помогает достигать и поддерживать идеальный ве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величивает физические возможности, это делает жизнь приятн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снизить смертность от сердечно-сосудистых заболеваний на 40%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стрес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 – состояние общего напряжения организма, возникающее у человека под действием чрезвычайного раздраж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35118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олнениях, психическом и физическом перенапряжении наступает тахикардия. Частота пульса может достигать от 85 до 150 и более ударов в минуту. Обычно при тахикардии беспокоит сердцебиение, иногда – одышка в сочетании с другими проявлениями основного заболевания сердца. Нарушение сердечного ритма при стрессах может выражаться и в аритмии. Из всех аритмий сердца наиболее часто встречается экстрасистолия – преждевременные сокращения сердца или его отдел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чень хорошо способствуют снятию стресс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спокоен...Я совершенно спокоен... Мое дыхание ровное и спокойное..... Дыхание равномерное ..... Мне дышится легко и спокойно.... Дыхание стало ровным и спокойным.... Каждый вдох наполняет меня спокойствием и отдыхом..... Я спокоен..... Я совершенно спокоен....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Cердц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не только любит, но и нуждается в постоянном притоке живительного кислорода и питате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0" descr="http://www.pal.by/heart/heart.gif"/>
          <p:cNvPicPr/>
          <p:nvPr/>
        </p:nvPicPr>
        <p:blipFill>
          <a:blip r:embed="rId1"/>
          <a:stretch/>
        </p:blipFill>
        <p:spPr>
          <a:xfrm>
            <a:off x="4427640" y="3614760"/>
            <a:ext cx="1873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амый большой сердечный друг – калий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н помогает сердцу биться ритмично, ровно и спокой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Регулирует водно-солевой обмен в организм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аствует в проведении нервных импульсов к мышца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ормализует углеводный и жировой обм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Сердце Н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ечный приступ чаще случается с людьми в подавл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ердце оказывает отрицательное влияние курение и употребление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КРИТЕРИИ ЗДОРОВЬЯ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0" y="1484280"/>
            <a:ext cx="36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МОГУ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5580000" y="1828800"/>
            <a:ext cx="319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ХОЧУ</a:t>
            </a:r>
            <a:endParaRPr b="1" lang="en-US" sz="1800" spc="1" strike="noStrike">
              <a:ln w="158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68360" y="4724280"/>
            <a:ext cx="3166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ВЕРЮ</a:t>
            </a:r>
            <a:endParaRPr b="1" lang="en-US" sz="1800" spc="1" strike="noStrike">
              <a:ln w="158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6012000" y="3860640"/>
            <a:ext cx="2641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ДОЛЖЕН</a:t>
            </a:r>
            <a:endParaRPr b="1" lang="en-US" sz="1800" spc="1" strike="noStrike">
              <a:ln w="158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208" name="Picture 11" descr="bd07155_"/>
          <p:cNvPicPr/>
          <p:nvPr/>
        </p:nvPicPr>
        <p:blipFill>
          <a:blip r:embed="rId1"/>
          <a:stretch/>
        </p:blipFill>
        <p:spPr>
          <a:xfrm>
            <a:off x="3924360" y="2421000"/>
            <a:ext cx="152388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BD06662_"/>
          <p:cNvPicPr/>
          <p:nvPr/>
        </p:nvPicPr>
        <p:blipFill>
          <a:blip r:embed="rId2"/>
          <a:stretch/>
        </p:blipFill>
        <p:spPr>
          <a:xfrm>
            <a:off x="3924360" y="4653000"/>
            <a:ext cx="2448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BD06675_"/>
          <p:cNvPicPr/>
          <p:nvPr/>
        </p:nvPicPr>
        <p:blipFill>
          <a:blip r:embed="rId3"/>
          <a:stretch/>
        </p:blipFill>
        <p:spPr>
          <a:xfrm>
            <a:off x="0" y="2637000"/>
            <a:ext cx="2652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5114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гативно влияющие на сердечно-сосудистую систем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7640" y="1923840"/>
            <a:ext cx="4475520" cy="43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иподинам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едостаток двигательной активности) ведёт к 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травляет сердечную мышцу, развиваетс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икот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ет устойчивый спазм сосудов, инфаркт миока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к кислоро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атмосфере вызывает гипоксию, меняется ритм сердечных сокращ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тогенные микроорганиз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ют инфекционны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ессовые ситуа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стощают сердечную мыш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Галерея сердец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6" descr="serd_thumb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1916280"/>
            <a:ext cx="374508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sm4_thumb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427640" y="1916280"/>
            <a:ext cx="38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91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Гигиена сердечно-сосудистой систе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вертикали: 2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ые сокращения серд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горизонтали: 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ое колебание стенок артерий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Артерии, осуществляющие кровоснабжение сердечной мышцы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ещество, суживающее просвет кровеносных сосудов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остояние, причиной которого является недостаточная физическая активность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увствительные нервные окончания, расположенные в стенках кровеносных сосудов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Увеличение числа лейкоцитов в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Кровяные пластинки, принимающие участие в свертывании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ониженное кровяное давление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Особый белок, благодаря которому эритроциты могут переносить кислород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ременное снижение работоспособности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2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стояние организма, при котором в крови уменьшается содержание гемоглобина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вычка, оказывающая вредное действие на сердце и кровеносные сосу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21"/>
          <p:cNvPicPr/>
          <p:nvPr/>
        </p:nvPicPr>
        <p:blipFill>
          <a:blip r:embed="rId2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1" descr="h2_thumb"/>
          <p:cNvPicPr/>
          <p:nvPr/>
        </p:nvPicPr>
        <p:blipFill>
          <a:blip r:embed="rId1"/>
          <a:stretch/>
        </p:blipFill>
        <p:spPr>
          <a:xfrm>
            <a:off x="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h3_thumb"/>
          <p:cNvPicPr/>
          <p:nvPr/>
        </p:nvPicPr>
        <p:blipFill>
          <a:blip r:embed="rId2"/>
          <a:stretch/>
        </p:blipFill>
        <p:spPr>
          <a:xfrm>
            <a:off x="4356000" y="14292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h6_thumb"/>
          <p:cNvPicPr/>
          <p:nvPr/>
        </p:nvPicPr>
        <p:blipFill>
          <a:blip r:embed="rId3"/>
          <a:stretch/>
        </p:blipFill>
        <p:spPr>
          <a:xfrm>
            <a:off x="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heart_cigar_thumb"/>
          <p:cNvPicPr/>
          <p:nvPr/>
        </p:nvPicPr>
        <p:blipFill>
          <a:blip r:embed="rId4"/>
          <a:stretch/>
        </p:blipFill>
        <p:spPr>
          <a:xfrm>
            <a:off x="4716360" y="3573360"/>
            <a:ext cx="33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ik5_thumb"/>
          <p:cNvPicPr/>
          <p:nvPr/>
        </p:nvPicPr>
        <p:blipFill>
          <a:blip r:embed="rId1"/>
          <a:stretch/>
        </p:blipFill>
        <p:spPr>
          <a:xfrm>
            <a:off x="250920" y="0"/>
            <a:ext cx="360036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133_thumb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_thumb"/>
          <p:cNvPicPr/>
          <p:nvPr/>
        </p:nvPicPr>
        <p:blipFill>
          <a:blip r:embed="rId3"/>
          <a:stretch/>
        </p:blipFill>
        <p:spPr>
          <a:xfrm>
            <a:off x="0" y="328464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5_thumb"/>
          <p:cNvPicPr/>
          <p:nvPr/>
        </p:nvPicPr>
        <p:blipFill>
          <a:blip r:embed="rId4"/>
          <a:stretch/>
        </p:blipFill>
        <p:spPr>
          <a:xfrm>
            <a:off x="3203640" y="2708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eart_thumb"/>
          <p:cNvPicPr/>
          <p:nvPr/>
        </p:nvPicPr>
        <p:blipFill>
          <a:blip r:embed="rId5"/>
          <a:stretch/>
        </p:blipFill>
        <p:spPr>
          <a:xfrm>
            <a:off x="4788000" y="2997360"/>
            <a:ext cx="2665440" cy="20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m7_thumb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serdce_thumb"/>
          <p:cNvPicPr/>
          <p:nvPr/>
        </p:nvPicPr>
        <p:blipFill>
          <a:blip r:embed="rId7"/>
          <a:stretch/>
        </p:blipFill>
        <p:spPr>
          <a:xfrm>
            <a:off x="6804000" y="3645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eart2_thumb"/>
          <p:cNvPicPr/>
          <p:nvPr/>
        </p:nvPicPr>
        <p:blipFill>
          <a:blip r:embed="rId8"/>
          <a:stretch/>
        </p:blipFill>
        <p:spPr>
          <a:xfrm>
            <a:off x="0" y="2565360"/>
            <a:ext cx="1650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вероятно!!!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за всю жизнь человека сокращается 2,5 миллиарда раз. Подсчитано, что этой работы достаточно, чтобы поднять поезд на гору Монблан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2" descr="crying"/>
          <p:cNvPicPr/>
          <p:nvPr/>
        </p:nvPicPr>
        <p:blipFill>
          <a:blip r:embed="rId1"/>
          <a:stretch/>
        </p:blipFill>
        <p:spPr>
          <a:xfrm>
            <a:off x="3851280" y="3645000"/>
            <a:ext cx="446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мечательно!!!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ердце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ень тверды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блоко с багрово-красной коже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меж ребер и аорт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ьется шар, на шар земной похожи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или иначе, все земно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щается в его предел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ому что нет ему поко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всего есть де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beating"/>
          <p:cNvPicPr/>
          <p:nvPr/>
        </p:nvPicPr>
        <p:blipFill>
          <a:blip r:embed="rId1"/>
          <a:stretch/>
        </p:blipFill>
        <p:spPr>
          <a:xfrm>
            <a:off x="6012000" y="4005360"/>
            <a:ext cx="285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УЗИ сердц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помогает рас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ожденные и приобретенные пороки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ные формы ишемической боле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онию, опухоли, тромбозы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вризматические поражения аорты и многие другие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пит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исле причин, способствующих появлению сердечно-сосудистых заболеваний, следует назвать ожирение. Избыточная масса тела и ожирение отмечаются в настоящее время у значительной части населения экономически развитых стра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m7_thumb"/>
          <p:cNvPicPr/>
          <p:nvPr/>
        </p:nvPicPr>
        <p:blipFill>
          <a:blip r:embed="rId1"/>
          <a:stretch/>
        </p:blipFill>
        <p:spPr>
          <a:xfrm>
            <a:off x="6659640" y="4797360"/>
            <a:ext cx="1782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кур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до боли жаль человеческого здоровья, цинично, бездумно переведенного в дым. Мне нестерпимо жаль жизней, истлевших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ончике сигарет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 Г. Углов, академик АМН ССС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курении развивается и прогрессирует спазм сосудов, питающих сердце. Одновременно повышается и свертываемость крови, что способствует более быстрому образованию тромбов. Все это вместе взятое приводит к возникновению ишемической болезни сердца, нередко переходящей в инфаркт миокар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heart_cigar2"/>
          <p:cNvPicPr/>
          <p:nvPr/>
        </p:nvPicPr>
        <p:blipFill>
          <a:blip r:embed="rId1"/>
          <a:stretch/>
        </p:blipFill>
        <p:spPr>
          <a:xfrm>
            <a:off x="1042920" y="450864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gar2"/>
          <p:cNvPicPr/>
          <p:nvPr/>
        </p:nvPicPr>
        <p:blipFill>
          <a:blip r:embed="rId2"/>
          <a:stretch/>
        </p:blipFill>
        <p:spPr>
          <a:xfrm>
            <a:off x="6300720" y="4653000"/>
            <a:ext cx="210204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51:56Z</dcterms:created>
  <dc:creator>Дмитрий</dc:creator>
  <dc:description/>
  <dc:language>en-US</dc:language>
  <cp:lastModifiedBy>1</cp:lastModifiedBy>
  <dcterms:modified xsi:type="dcterms:W3CDTF">2011-04-11T16:54:21Z</dcterms:modified>
  <cp:revision>9</cp:revision>
  <dc:subject/>
  <dc:title>Галерея сердец </dc:title>
</cp:coreProperties>
</file>