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5.gif" ContentType="image/gif"/>
  <Override PartName="/ppt/media/image6.jpeg" ContentType="image/jpeg"/>
  <Override PartName="/ppt/media/image5.jpeg" ContentType="image/jpeg"/>
  <Override PartName="/ppt/media/image20.wmf" ContentType="image/x-wmf"/>
  <Override PartName="/ppt/media/image24.png" ContentType="image/png"/>
  <Override PartName="/ppt/media/image22.wmf" ContentType="image/x-wmf"/>
  <Override PartName="/ppt/media/image18.jpeg" ContentType="image/jpeg"/>
  <Override PartName="/ppt/media/image21.wmf" ContentType="image/x-wmf"/>
  <Override PartName="/ppt/media/image1.jpeg" ContentType="image/jpeg"/>
  <Override PartName="/ppt/media/image17.jpeg" ContentType="image/jpeg"/>
  <Override PartName="/ppt/media/image3.jpeg" ContentType="image/jpeg"/>
  <Override PartName="/ppt/media/image19.png" ContentType="image/png"/>
  <Override PartName="/ppt/media/image16.gif" ContentType="image/gif"/>
  <Override PartName="/ppt/media/image14.jpeg" ContentType="image/jpeg"/>
  <Override PartName="/ppt/media/image23.jpeg" ContentType="image/jpeg"/>
  <Override PartName="/ppt/media/image2.jpeg" ContentType="image/jpeg"/>
  <Override PartName="/ppt/media/image4.jpeg" ContentType="image/jpe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8536-0F45-4DF3-9E6D-727F3C0E7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85C1-7837-4EA7-892E-81CE3E616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3B8A-5F35-4796-90FB-153A7C73A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E41D-BFB7-49F9-A31D-FEF0A79D9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CFD55-FE84-4388-9E61-534567A11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9D6FC-4B52-4A8A-A302-745D01B2B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1ABF7-0967-4D93-9190-2D28B1362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515F6-DB85-49B9-87F1-62CCB3C9F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AD728-5999-42A2-8538-CF052AB0A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C943B-E65A-4DFE-9A66-D9CE1997E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CEB50-3493-4C3D-91C8-39DDA7CB1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10B4-717D-431C-8A68-7B85BA8BD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88088-0E1B-4F68-97E1-DEAD91A7F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DD290-0154-4724-A6BB-15B47A054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61C06-7876-409C-95A5-1F0AA763D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C34DF-F4A1-4572-9127-960ACBC52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9DB0F-F921-4841-94C9-5BB4AC1E1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B73D-7B85-42BD-867D-10C1F07D0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8FF1-B5C2-4E59-9B0B-C457E3F03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379D-FB18-4237-A5DC-056298B3C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0330-C569-4BAA-BD00-802CE3E02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DE81-F888-4404-A01D-C43AE38A0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BFDA-36AC-4A1C-BD81-CCEB203F6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A81F-84D3-48CE-A70C-212D1153B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41147-B73D-45EF-9EDE-2D0C94F8048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0135B-0249-436E-A7D7-FB86F3964398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68360" y="1628280"/>
            <a:ext cx="8229600" cy="23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Гигиена сердечно – сосудистой системы.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8 класс</a:t>
            </a:r>
            <a:br>
              <a:rPr sz="4000"/>
            </a:b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учитель биологии</a:t>
            </a:r>
            <a:br>
              <a:rPr sz="4000"/>
            </a:b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МОУ СОШ № 11</a:t>
            </a:r>
            <a:br>
              <a:rPr sz="4000"/>
            </a:b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г. Кропоткин</a:t>
            </a:r>
            <a:br>
              <a:rPr sz="4000"/>
            </a:b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Михайлова Т.В.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bbd71"/>
                </a:solidFill>
                <a:latin typeface="Arial"/>
              </a:rPr>
              <a:t>Сердце и алкоголь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Непоправимый вред сердечно-сосудистой системе наносит алкоголь. Давление повышается на несколько дней даже при однократном приеме. Алкоголь, являясь клеточным ядом, повышает давление вследствие прямого токсического действия на нервную и сердечно-сосудистую систему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ердце работает в неблагоприятном для него режиме. Пульс увеличивается до 100 ударов в минуту, в организме нарушается обмен веществ и питание сердечной мышцы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200"/>
                            </p:stCondLst>
                            <p:childTnLst>
                              <p:par>
                                <p:cTn id="209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700"/>
                            </p:stCondLst>
                            <p:childTnLst>
                              <p:par>
                                <p:cTn id="217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bbd71"/>
                </a:solidFill>
                <a:latin typeface="Arial"/>
              </a:rPr>
              <a:t>Сердце и движение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Если подросток ведет малоподвижный образ жизни,то Сердце, лишенное необходимой тренировки, развивается плохо, его объем остается небольшим, а сердечная мышца вялой и слабой. Эти нарушения обратимы, от них можно избавится даже не прибегая к лекарствам. Хороший результат достигается восполнением дефицита двигательной активности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dbbd71"/>
                </a:solidFill>
                <a:latin typeface="Arial"/>
              </a:rPr>
              <a:t>ЗАПОМНИМ НА ВСЮ ЖИЗНЬ</a:t>
            </a: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: 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! Физическая активность может увеличить уровень энергии и улучшает работоспособность;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! Физическая активность улучшает настроение и помогает снизить стресс;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! Физическая активность помогает достигать и поддерживать идеальный вес;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! Физическая активность увеличивает физические возможности, это делает жизнь приятной;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! Физическая активность может снизить смертность от сердечно-сосудистых заболеваний на 40%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bbd71"/>
                </a:solidFill>
                <a:latin typeface="Arial"/>
              </a:rPr>
              <a:t>Сердце и стресс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тресс – состояние общего напряжения организма, возникающее у человека под действием чрезвычайного раздражителя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684360" y="3511800"/>
            <a:ext cx="7559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и волнениях, психическом и физическом перенапряжении наступает тахикардия. Частота пульса может достигать от 85 до 150 и более ударов в минуту. Обычно при тахикардии беспокоит сердцебиение, иногда – одышка в сочетании с другими проявлениями основного заболевания сердца. Нарушение сердечного ритма при стрессах может выражаться и в аритмии. Из всех аритмий сердца наиболее часто встречается экстрасистолия – преждевременные сокращения сердца или его отделов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Очень хорошо способствуют снятию стресса 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«Я спокоен...Я совершенно спокоен... Мое дыхание ровное и спокойное..... Дыхание равномерное ..... Мне дышится легко и спокойно.... Дыхание стало ровным и спокойным.... Каждый вдох наполняет меня спокойствием и отдыхом..... Я спокоен..... Я совершенно спокоен....».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bbd71"/>
                </a:solidFill>
                <a:latin typeface="Arial"/>
              </a:rPr>
              <a:t>Cердце любит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ердце не только любит, но и нуждается в постоянном притоке живительного кислорода и питательных вещест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Rectangle 11"/>
          <p:cNvSpPr/>
          <p:nvPr/>
        </p:nvSpPr>
        <p:spPr>
          <a:xfrm>
            <a:off x="0" y="293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8" name="Picture 10" descr="http://www.pal.by/heart/heart.gif"/>
          <p:cNvPicPr/>
          <p:nvPr/>
        </p:nvPicPr>
        <p:blipFill>
          <a:blip r:embed="rId1"/>
          <a:stretch/>
        </p:blipFill>
        <p:spPr>
          <a:xfrm>
            <a:off x="4427640" y="3614760"/>
            <a:ext cx="18730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Самый большой сердечный друг – калий: 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 Он помогает сердцу биться ритмично, ровно и спокойно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 Регулирует водно-солевой обмен в организме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. Участвует в проведении нервных импульсов к мышцам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. Нормализует углеводный и жировой обмен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bbd71"/>
                </a:solidFill>
                <a:latin typeface="Arial"/>
              </a:rPr>
              <a:t>Сердце НЕ любит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ердечный приступ чаще случается с людьми в подавленном состоян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а сердце оказывает отрицательное влияние курение и употребление алкоголя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WordArt 4"/>
          <p:cNvSpPr txBox="1"/>
          <p:nvPr/>
        </p:nvSpPr>
        <p:spPr>
          <a:xfrm>
            <a:off x="457200" y="27792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008000"/>
                    </a:gs>
                    <a:gs pos="100000">
                      <a:srgbClr val="6600cc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Monotype Corsiva"/>
              </a:rPr>
              <a:t>КРИТЕРИИ ЗДОРОВЬЯ</a:t>
            </a:r>
            <a:endParaRPr b="1" lang="en-US" sz="1800" spc="1" strike="noStrike">
              <a:ln w="19080">
                <a:solidFill>
                  <a:srgbClr val="008000"/>
                </a:solidFill>
                <a:miter/>
              </a:ln>
              <a:gradFill rotWithShape="0">
                <a:gsLst>
                  <a:gs pos="0">
                    <a:srgbClr val="008000"/>
                  </a:gs>
                  <a:gs pos="100000">
                    <a:srgbClr val="6600cc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204" name="WordArt 7"/>
          <p:cNvSpPr txBox="1"/>
          <p:nvPr/>
        </p:nvSpPr>
        <p:spPr>
          <a:xfrm>
            <a:off x="0" y="1484280"/>
            <a:ext cx="363528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5840">
                  <a:solidFill>
                    <a:srgbClr val="800080"/>
                  </a:solidFill>
                  <a:miter/>
                </a:ln>
                <a:gradFill rotWithShape="0">
                  <a:gsLst>
                    <a:gs pos="0">
                      <a:srgbClr val="ff6600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Courier New"/>
              </a:rPr>
              <a:t>Я МОГУ</a:t>
            </a:r>
            <a:endParaRPr b="1" lang="en-US" sz="1800" spc="1" strike="noStrike">
              <a:ln w="15840">
                <a:solidFill>
                  <a:srgbClr val="800080"/>
                </a:solidFill>
                <a:miter/>
              </a:ln>
              <a:gradFill rotWithShape="0">
                <a:gsLst>
                  <a:gs pos="0">
                    <a:srgbClr val="ff6600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Courier New"/>
              <a:ea typeface="Courier New"/>
            </a:endParaRPr>
          </a:p>
        </p:txBody>
      </p:sp>
      <p:sp>
        <p:nvSpPr>
          <p:cNvPr id="205" name="WordArt 8"/>
          <p:cNvSpPr txBox="1"/>
          <p:nvPr/>
        </p:nvSpPr>
        <p:spPr>
          <a:xfrm>
            <a:off x="5580000" y="1828800"/>
            <a:ext cx="3192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584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9900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Courier New"/>
              </a:rPr>
              <a:t>Я ХОЧУ</a:t>
            </a:r>
            <a:endParaRPr b="1" lang="en-US" sz="1800" spc="1" strike="noStrike">
              <a:ln w="1584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9900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Courier New"/>
              <a:ea typeface="Courier New"/>
            </a:endParaRPr>
          </a:p>
        </p:txBody>
      </p:sp>
      <p:sp>
        <p:nvSpPr>
          <p:cNvPr id="206" name="WordArt 9"/>
          <p:cNvSpPr txBox="1"/>
          <p:nvPr/>
        </p:nvSpPr>
        <p:spPr>
          <a:xfrm>
            <a:off x="468360" y="4724280"/>
            <a:ext cx="316692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5840">
                  <a:solidFill>
                    <a:srgbClr val="ffcc00"/>
                  </a:solidFill>
                  <a:miter/>
                </a:ln>
                <a:gradFill rotWithShape="0">
                  <a:gsLst>
                    <a:gs pos="0">
                      <a:srgbClr val="cc0000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Courier New"/>
              </a:rPr>
              <a:t>Я ВЕРЮ</a:t>
            </a:r>
            <a:endParaRPr b="1" lang="en-US" sz="1800" spc="1" strike="noStrike">
              <a:ln w="15840">
                <a:solidFill>
                  <a:srgbClr val="ffcc00"/>
                </a:solidFill>
                <a:miter/>
              </a:ln>
              <a:gradFill rotWithShape="0">
                <a:gsLst>
                  <a:gs pos="0">
                    <a:srgbClr val="cc0000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Courier New"/>
              <a:ea typeface="Courier New"/>
            </a:endParaRPr>
          </a:p>
        </p:txBody>
      </p:sp>
      <p:sp>
        <p:nvSpPr>
          <p:cNvPr id="207" name="WordArt 10"/>
          <p:cNvSpPr txBox="1"/>
          <p:nvPr/>
        </p:nvSpPr>
        <p:spPr>
          <a:xfrm>
            <a:off x="6012000" y="3860640"/>
            <a:ext cx="2641320" cy="148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5840">
                  <a:solidFill>
                    <a:srgbClr val="993300"/>
                  </a:solidFill>
                  <a:miter/>
                </a:ln>
                <a:gradFill rotWithShape="0">
                  <a:gsLst>
                    <a:gs pos="0">
                      <a:srgbClr val="009900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Courier New"/>
              </a:rPr>
              <a:t>Я ДОЛЖЕН</a:t>
            </a:r>
            <a:endParaRPr b="1" lang="en-US" sz="1800" spc="1" strike="noStrike">
              <a:ln w="15840">
                <a:solidFill>
                  <a:srgbClr val="993300"/>
                </a:solidFill>
                <a:miter/>
              </a:ln>
              <a:gradFill rotWithShape="0">
                <a:gsLst>
                  <a:gs pos="0">
                    <a:srgbClr val="009900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Courier New"/>
              <a:ea typeface="Courier New"/>
            </a:endParaRPr>
          </a:p>
        </p:txBody>
      </p:sp>
      <p:pic>
        <p:nvPicPr>
          <p:cNvPr id="208" name="Picture 11" descr="bd07155_"/>
          <p:cNvPicPr/>
          <p:nvPr/>
        </p:nvPicPr>
        <p:blipFill>
          <a:blip r:embed="rId1"/>
          <a:stretch/>
        </p:blipFill>
        <p:spPr>
          <a:xfrm>
            <a:off x="3924360" y="2421000"/>
            <a:ext cx="1523880" cy="15890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2" descr="BD06662_"/>
          <p:cNvPicPr/>
          <p:nvPr/>
        </p:nvPicPr>
        <p:blipFill>
          <a:blip r:embed="rId2"/>
          <a:stretch/>
        </p:blipFill>
        <p:spPr>
          <a:xfrm>
            <a:off x="3924360" y="4653000"/>
            <a:ext cx="2448000" cy="22050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3" descr="BD06675_"/>
          <p:cNvPicPr/>
          <p:nvPr/>
        </p:nvPicPr>
        <p:blipFill>
          <a:blip r:embed="rId3"/>
          <a:stretch/>
        </p:blipFill>
        <p:spPr>
          <a:xfrm>
            <a:off x="0" y="2637000"/>
            <a:ext cx="2652840" cy="191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"/>
          <p:cNvPicPr/>
          <p:nvPr/>
        </p:nvPicPr>
        <p:blipFill>
          <a:blip r:embed="rId1"/>
          <a:stretch/>
        </p:blipFill>
        <p:spPr>
          <a:xfrm>
            <a:off x="0" y="1268280"/>
            <a:ext cx="3851280" cy="511488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Факторы негативно влияющие на сердечно-сосудистую систему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87640" y="1923840"/>
            <a:ext cx="4475520" cy="435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Гиподинамия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(недостаток двигательной активности) ведёт к  атрофии сердечной мышц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Алкоголь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отравляет сердечную мышцу, развивается сердечная недостаточност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Никотин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вызывает устойчивый спазм сосудов, инфаркт миокард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Недостаток кислорода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в атмосфере вызывает гипоксию, меняется ритм сердечных сокращени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Патогенные микроорганизмы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вызывают инфекционные заболевания сердц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Стрессовые ситуации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истощают сердечную мышцу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8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8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8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8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8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8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8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8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2000"/>
                            </p:stCondLst>
                            <p:childTnLst>
                              <p:par>
                                <p:cTn id="40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8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8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8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8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3000"/>
                            </p:stCondLst>
                            <p:childTnLst>
                              <p:par>
                                <p:cTn id="41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800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8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8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8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4000"/>
                            </p:stCondLst>
                            <p:childTnLst>
                              <p:par>
                                <p:cTn id="42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800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8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8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8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5000"/>
                            </p:stCondLst>
                            <p:childTnLst>
                              <p:par>
                                <p:cTn id="43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800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9" dur="800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800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800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5564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dbbd71"/>
                </a:solidFill>
                <a:latin typeface="Arial"/>
              </a:rPr>
              <a:t>Галерея сердец</a:t>
            </a: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54" name="Picture 6" descr="serd_thumb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539640" y="1916280"/>
            <a:ext cx="3745080" cy="33130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7" descr="nsm4_thumb"/>
          <p:cNvPicPr/>
          <p:nvPr/>
        </p:nvPicPr>
        <p:blipFill>
          <a:blip r:embed="rId2">
            <a:lum bright="-30000"/>
          </a:blip>
          <a:stretch/>
        </p:blipFill>
        <p:spPr>
          <a:xfrm>
            <a:off x="4427640" y="1916280"/>
            <a:ext cx="388944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91520" cy="108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bbd71"/>
                </a:solidFill>
                <a:latin typeface="Arial"/>
              </a:rPr>
              <a:t>Гигиена сердечно-сосудистой системы</a:t>
            </a:r>
            <a:br>
              <a:rPr sz="40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4038480" cy="453060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По вертикали: 2.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Ритмичные сокращения сердца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По горизонтали: 1.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Ритмичное колебание стенок артерий. 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3.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Артерии, осуществляющие кровоснабжение сердечной мышцы. 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4.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Вещество, суживающее просвет кровеносных сосудов. 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5.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Состояние, причиной которого является недостаточная физическая активность. 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6.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Чувствительные нервные окончания, расположенные в стенках кровеносных сосудов. 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7.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Увеличение числа лейкоцитов в крови. 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8.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Кровяные пластинки, принимающие участие в свертывании крови. 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9.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Пониженное кровяное давление. 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10.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Особый белок, благодаря которому эритроциты могут переносить кислород.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 11.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Временное снижение работоспособности.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 12.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Состояние организма, при котором в крови уменьшается содержание гемоглобина. 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13.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Привычка, оказывающая вредное действие на сердце и кровеносные сосуды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7" name="Picture 4" descr="21"/>
          <p:cNvPicPr/>
          <p:nvPr/>
        </p:nvPicPr>
        <p:blipFill>
          <a:blip r:embed="rId2"/>
          <a:stretch/>
        </p:blipFill>
        <p:spPr>
          <a:xfrm>
            <a:off x="0" y="1484280"/>
            <a:ext cx="485928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10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10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1" descr="h2_thumb"/>
          <p:cNvPicPr/>
          <p:nvPr/>
        </p:nvPicPr>
        <p:blipFill>
          <a:blip r:embed="rId1"/>
          <a:stretch/>
        </p:blipFill>
        <p:spPr>
          <a:xfrm>
            <a:off x="0" y="0"/>
            <a:ext cx="3492360" cy="34290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23" descr="h3_thumb"/>
          <p:cNvPicPr/>
          <p:nvPr/>
        </p:nvPicPr>
        <p:blipFill>
          <a:blip r:embed="rId2"/>
          <a:stretch/>
        </p:blipFill>
        <p:spPr>
          <a:xfrm>
            <a:off x="4356000" y="142920"/>
            <a:ext cx="3095640" cy="33573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4" descr="h6_thumb"/>
          <p:cNvPicPr/>
          <p:nvPr/>
        </p:nvPicPr>
        <p:blipFill>
          <a:blip r:embed="rId3"/>
          <a:stretch/>
        </p:blipFill>
        <p:spPr>
          <a:xfrm>
            <a:off x="0" y="3645000"/>
            <a:ext cx="3564000" cy="32130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25" descr="heart_cigar_thumb"/>
          <p:cNvPicPr/>
          <p:nvPr/>
        </p:nvPicPr>
        <p:blipFill>
          <a:blip r:embed="rId4"/>
          <a:stretch/>
        </p:blipFill>
        <p:spPr>
          <a:xfrm>
            <a:off x="4716360" y="3573360"/>
            <a:ext cx="331164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4" descr="baik5_thumb"/>
          <p:cNvPicPr/>
          <p:nvPr/>
        </p:nvPicPr>
        <p:blipFill>
          <a:blip r:embed="rId1"/>
          <a:stretch/>
        </p:blipFill>
        <p:spPr>
          <a:xfrm>
            <a:off x="250920" y="0"/>
            <a:ext cx="3600360" cy="26337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5" descr="5133_thumb"/>
          <p:cNvPicPr/>
          <p:nvPr/>
        </p:nvPicPr>
        <p:blipFill>
          <a:blip r:embed="rId2"/>
          <a:stretch/>
        </p:blipFill>
        <p:spPr>
          <a:xfrm>
            <a:off x="4643280" y="0"/>
            <a:ext cx="4249800" cy="28526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6" descr="7_thumb"/>
          <p:cNvPicPr/>
          <p:nvPr/>
        </p:nvPicPr>
        <p:blipFill>
          <a:blip r:embed="rId3"/>
          <a:stretch/>
        </p:blipFill>
        <p:spPr>
          <a:xfrm>
            <a:off x="0" y="3284640"/>
            <a:ext cx="3995640" cy="29527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7" descr="h5_thumb"/>
          <p:cNvPicPr/>
          <p:nvPr/>
        </p:nvPicPr>
        <p:blipFill>
          <a:blip r:embed="rId4"/>
          <a:stretch/>
        </p:blipFill>
        <p:spPr>
          <a:xfrm>
            <a:off x="3203640" y="2708280"/>
            <a:ext cx="1584360" cy="17287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8" descr="heart_thumb"/>
          <p:cNvPicPr/>
          <p:nvPr/>
        </p:nvPicPr>
        <p:blipFill>
          <a:blip r:embed="rId5"/>
          <a:stretch/>
        </p:blipFill>
        <p:spPr>
          <a:xfrm>
            <a:off x="4788000" y="2997360"/>
            <a:ext cx="2665440" cy="20872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9" descr="m7_thumb"/>
          <p:cNvPicPr/>
          <p:nvPr/>
        </p:nvPicPr>
        <p:blipFill>
          <a:blip r:embed="rId6"/>
          <a:stretch/>
        </p:blipFill>
        <p:spPr>
          <a:xfrm>
            <a:off x="3419640" y="4581360"/>
            <a:ext cx="2592360" cy="22766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0" descr="serdce_thumb"/>
          <p:cNvPicPr/>
          <p:nvPr/>
        </p:nvPicPr>
        <p:blipFill>
          <a:blip r:embed="rId7"/>
          <a:stretch/>
        </p:blipFill>
        <p:spPr>
          <a:xfrm>
            <a:off x="6804000" y="3645000"/>
            <a:ext cx="2340000" cy="29527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1" descr="heart2_thumb"/>
          <p:cNvPicPr/>
          <p:nvPr/>
        </p:nvPicPr>
        <p:blipFill>
          <a:blip r:embed="rId8"/>
          <a:stretch/>
        </p:blipFill>
        <p:spPr>
          <a:xfrm>
            <a:off x="0" y="2565360"/>
            <a:ext cx="165096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500"/>
                            </p:stCondLst>
                            <p:childTnLst>
                              <p:par>
                                <p:cTn id="6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000"/>
                            </p:stCondLst>
                            <p:childTnLst>
                              <p:par>
                                <p:cTn id="7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500"/>
                            </p:stCondLst>
                            <p:childTnLst>
                              <p:par>
                                <p:cTn id="7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3000"/>
                            </p:stCondLst>
                            <p:childTnLst>
                              <p:par>
                                <p:cTn id="8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500"/>
                            </p:stCondLst>
                            <p:childTnLst>
                              <p:par>
                                <p:cTn id="8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Невероятно!!!!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ердце за всю жизнь человека сокращается 2,5 миллиарда раз. Подсчитано, что этой работы достаточно, чтобы поднять поезд на гору Монблан!!!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0" name="Picture 12" descr="crying"/>
          <p:cNvPicPr/>
          <p:nvPr/>
        </p:nvPicPr>
        <p:blipFill>
          <a:blip r:embed="rId1"/>
          <a:stretch/>
        </p:blipFill>
        <p:spPr>
          <a:xfrm>
            <a:off x="3851280" y="3645000"/>
            <a:ext cx="446580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7689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bbd71"/>
                </a:solidFill>
                <a:latin typeface="Arial"/>
              </a:rPr>
              <a:t>замечательно!!!</a:t>
            </a: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Что такое сердце?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амень твердый?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Яблоко с багрово-красной кожей?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Может быть, меж ребер и аортой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Бьется шар, на шар земной похожий?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Так или иначе, все земное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Умещается в его пределы,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тому что нет ему покоя,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До всего есть дело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3" name="Picture 6" descr="beating"/>
          <p:cNvPicPr/>
          <p:nvPr/>
        </p:nvPicPr>
        <p:blipFill>
          <a:blip r:embed="rId1"/>
          <a:stretch/>
        </p:blipFill>
        <p:spPr>
          <a:xfrm>
            <a:off x="6012000" y="4005360"/>
            <a:ext cx="285732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bbd71"/>
                </a:solidFill>
                <a:latin typeface="Arial"/>
              </a:rPr>
              <a:t>УЗИ сердца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етод помогает распознат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рожденные и приобретенные пороки сердца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зличные формы ишемической болезни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ипертонию, опухоли, тромбозы сердца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невризматические поражения аорты и многие другие заболевания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500"/>
                            </p:stCondLst>
                            <p:childTnLst>
                              <p:par>
                                <p:cTn id="14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2000"/>
                            </p:stCondLst>
                            <p:childTnLst>
                              <p:par>
                                <p:cTn id="15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bbd71"/>
                </a:solidFill>
                <a:latin typeface="Arial"/>
              </a:rPr>
              <a:t>Сердце и питание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числе причин, способствующих появлению сердечно-сосудистых заболеваний, следует назвать ожирение. Избыточная масса тела и ожирение отмечаются в настоящее время у значительной части населения экономически развитых стран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8" name="Picture 4" descr="m7_thumb"/>
          <p:cNvPicPr/>
          <p:nvPr/>
        </p:nvPicPr>
        <p:blipFill>
          <a:blip r:embed="rId1"/>
          <a:stretch/>
        </p:blipFill>
        <p:spPr>
          <a:xfrm>
            <a:off x="6659640" y="4797360"/>
            <a:ext cx="178272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bbd71"/>
                </a:solidFill>
                <a:latin typeface="Arial"/>
              </a:rPr>
              <a:t>Сердце и курение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Мне до боли жаль человеческого здоровья, цинично, бездумно переведенного в дым. Мне нестерпимо жаль жизней, истлевших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на кончике сигареты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Ф. Г. Углов, академик АМН СССР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Rectangle 4"/>
          <p:cNvSpPr/>
          <p:nvPr/>
        </p:nvSpPr>
        <p:spPr>
          <a:xfrm>
            <a:off x="250920" y="2997360"/>
            <a:ext cx="849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и курении развивается и прогрессирует спазм сосудов, питающих сердце. Одновременно повышается и свертываемость крови, что способствует более быстрому образованию тромбов. Все это вместе взятое приводит к возникновению ишемической болезни сердца, нередко переходящей в инфаркт миокарда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2" name="Picture 5" descr="heart_cigar2"/>
          <p:cNvPicPr/>
          <p:nvPr/>
        </p:nvPicPr>
        <p:blipFill>
          <a:blip r:embed="rId1"/>
          <a:stretch/>
        </p:blipFill>
        <p:spPr>
          <a:xfrm>
            <a:off x="1042920" y="4508640"/>
            <a:ext cx="2521080" cy="23493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6" descr="cigar2"/>
          <p:cNvPicPr/>
          <p:nvPr/>
        </p:nvPicPr>
        <p:blipFill>
          <a:blip r:embed="rId2"/>
          <a:stretch/>
        </p:blipFill>
        <p:spPr>
          <a:xfrm>
            <a:off x="6300720" y="4653000"/>
            <a:ext cx="2102040" cy="17287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82" dur="2000" fill="hold"/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8T13:51:56Z</dcterms:created>
  <dc:creator>Дмитрий</dc:creator>
  <dc:description/>
  <dc:language>en-US</dc:language>
  <cp:lastModifiedBy>1</cp:lastModifiedBy>
  <dcterms:modified xsi:type="dcterms:W3CDTF">2011-04-11T16:54:21Z</dcterms:modified>
  <cp:revision>9</cp:revision>
  <dc:subject/>
  <dc:title>Галерея сердец </dc:title>
</cp:coreProperties>
</file>