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1C3E-A1A2-4AC8-A172-FB7B4782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A88-56A1-410E-A938-FEEE4E65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014F-7D59-4C02-BBF9-CD3B89C4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791-265C-4626-BB1A-D78AF772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3AECC-CF14-47EF-9497-B0B32A195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E5D0C-7E51-490D-96E3-303FCC8E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D916B-4508-44B2-8944-B2570266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FF685-9B6B-43C2-92B6-DB6D05AB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3242F-3F62-42EF-B979-35332B01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D59EA-76DD-468A-A7C5-5A053071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5EA7D-0D6A-45D4-8A7F-0630C9B7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4E8C-0DAC-46B6-BE53-39AE049C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72435-7072-4DEB-BCA9-C8BBF217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255A0-17A7-484D-ACDA-43CC35A9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88D37-8D71-4B33-8B7B-734966DD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E64A7-C096-42A4-8DE2-17E1A68B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E207A-F22A-4ECF-80F3-AF629F490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A1FC-854A-44D8-BA57-08AD994F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F2C-3E73-4C12-B66F-10EA305A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842-C123-4BF7-B3FB-7CDB283B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D21-4483-4C16-A4A5-1F8831E8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5FD7-0882-440D-AE08-4CC4315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EAD-56FB-48D0-A599-A57CA8DA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3AD2-08B1-4CE2-859F-9A641828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A26C-F13F-4E45-9384-027945C58FA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6CB9-3473-43D0-B545-93DC030D60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ПРОИСХОЖДЕНИЕ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МНОГОКЛЕТОЧНЫХ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ЖИВОТНЫХ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692360" y="5157720"/>
            <a:ext cx="626436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читель биологии МОУ СОШ №39 г. Твер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знецова Н.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620640"/>
            <a:ext cx="784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ЛЕДУЮЩИЕ ШАГИ В ЭВОЛЮЦИИ МНОГОКЛЕТОЧ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78487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МЕРЦАТЕЛЬНОГО ПЛА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ХОД К ЗАХВАТУ БОЛЕЕ КРУПНОЙ ПИЩ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МАКРОФАГИ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ТКАЗ ОТ ВНУТРИКЛЕТОЧНОГО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ЕВА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7848360" cy="25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611280" y="3357720"/>
            <a:ext cx="7848360" cy="31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КРУПНАЯ ПИЩА МОЖЕТ ПОПАСТЬ ВНУТРЬ ОРГАНИЗМА С ПОМОЩЬЮ ПЕРВИЧНОГО РТА  И ТАМ ПЕРЕВАРИТЬСЯ  ПРИ ВЫДЕЛЕНИИ ПИЩЕВАРИТЕЛЬНОГО СОКА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ПОЛОСТНОЕ ПИЩЕВАР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НО КАК ЗАХВАТИТЬ ЭТУ ПИЩУ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НОВЫЙ ТИП ПЕРЕДВИЖЕНИЕ – ПОЛЗАНИЕ!  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(МЫШЕЧНОЕ ДВИЖЕНИЕ)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176720" cy="18003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24000" y="3933720"/>
            <a:ext cx="4032000" cy="19782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16360" y="3933720"/>
            <a:ext cx="4176720" cy="1976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НЫЕ НАПРАВЛЕНИЯ В ЭВОЛЮЦИИ МНОГОКЛЕТО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6237360"/>
            <a:ext cx="40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АКТИВНОЕ ДОБЫВАНИЕ ПИ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6237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РИДОННЫЙ ОБРАЗ ЖИ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24000" y="1557360"/>
            <a:ext cx="4032000" cy="18558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НОГОКЛЕТОЧНЫЕ ОРГАНИЗМ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560" y="2133720"/>
            <a:ext cx="4244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УБ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ШЕЧНОПОЛОСТ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ЛОСКИ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РУГЛЫЕ ЧЕРВ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ЛЬЧАТЫЕ ЧЕ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ЛЛЮ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ЛЕНИСТОНОГ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ГЛОКОЖ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7640" y="21337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ХОРДОВ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БЕСЧЕРЕП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БЫ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ЕМНОВОДНЫ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ЕСМЫКАЮЩ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ЛЕКОПИТАЮЩИ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67564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БЕСПОЗВОНОЧНЫЕ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ОЗВОНОЧ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КАК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ВОЗНИКЛИ МНОГОКЛЕТОЧНЫЕ ОРГАНИЗМЫ?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79280" y="69192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  ВСЕХ  МНОГОКЛЕТОЧНЫХ  БЫЛ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БЩИЙ  ПРЕДО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ЕДОК   БЫЛ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ДНОКЛЕТОЧ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ЗВИТИЕ  ШЛО ЧЕРЕЗ  ПРОМЕЖУ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ТОЧНЫЕ ФОРМЫ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КОЛО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5977080" cy="53067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900000" y="609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РАРОДИТЕЛЬ МНОГОКЛЕТОЧ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0920" y="1268280"/>
            <a:ext cx="8569080" cy="35416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042920" y="530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ДИН В ПОЛЕ НЕ ВОИН 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24000" y="333360"/>
            <a:ext cx="8353440" cy="43704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24000" y="494172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ЧТО – БЫ СОСЕДИ  ПО КОЛОНИИ  НЕ МЕШАЛИ, НУЖНО СПЕЦИАЛИЗИРОВАТЬС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ЕСЛИ ТЕСНО, ТО МОЖНО ОТОРВАТЬСЯ ГРУППОЙ КЛЕТОК И ПУСТИТСЯ В ДАЛЕКОЕ ПЛАВ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468360" y="836640"/>
            <a:ext cx="8209080" cy="26636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84360" y="5013360"/>
            <a:ext cx="79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789360"/>
            <a:ext cx="8785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ТОБЫ БЫСТРЕЕ ДВИГАТЬСЯ ВЫГОДНЕ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ЕМЕСТИТЬ АМЕБОВИДНЫХ ВНУТРЬ КОЛОНИ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ЖГУТИКОВЫМ ОСТАТЬСЯ НА ПОВЕРХНОСТ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ИЩУ ЗАХВАТЫВАТЬ С ПОМОЩЬЮ  ОТВЕРСТИЯ –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РЫВ  В СЛОЕ ЖГУТИКОНОСЦЕВ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>
            <a:lum contrast="24000"/>
          </a:blip>
          <a:stretch/>
        </p:blipFill>
        <p:spPr>
          <a:xfrm rot="7919400">
            <a:off x="1227600" y="2235960"/>
            <a:ext cx="3052800" cy="29908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5213520" y="2681280"/>
            <a:ext cx="2732040" cy="79200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КРОВНЫЙ СЛОЙ (ЭПИТЕЛ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ФАГОЦИТЕЛЛ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предложил Мечников И. И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70400" y="4359240"/>
            <a:ext cx="2592360" cy="870120"/>
          </a:xfr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НУТРЕННИЙ СЛОЙ (ПАРЕНХИ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94400" y="1397160"/>
            <a:ext cx="2660400" cy="72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053" y="30687"/>
                </a:moveTo>
                <a:lnTo>
                  <a:pt x="-619" y="3426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ЕРВИЧНЫЙ РОТ (БЛАСТОП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877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ЕРВЫЙ МНОГОКЛЕТОЧНЫЙ ОРГАНИЗМ - ФАГОЦИТЕЛ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34160" cy="14400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95280" y="371628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0"/>
            <a:ext cx="8353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НАДО СОВЕРШЕНСТВОВАТЬСЯ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АЗВИТИЕ ПИЩЕДОБЫВАЮЩЕГО АППАР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3573360"/>
            <a:ext cx="2808360" cy="302436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БРАЗУЕТСЯ ПОЛОСТЬ СО СЛОЕМ ЖГУТИКОВЫХ КЛЕТОК, КОТОРЫЕ ПОМОГАЮТ ЛУЧШЕ УЛАВЛИВАТЬ ПИЩ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3645000"/>
            <a:ext cx="2808360" cy="2952720"/>
          </a:xfrm>
          <a:solidFill>
            <a:srgbClr val="000099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ЧЕМ БОЛЬШЕ ПОВЕРХНОСТЬ, ТЕМ БОЛЬШЕ ПИЩИ ДОСТАНЕТСЯ КЛЕТКАМ, А ПОРЫ ПОМОГАЮТ СОЗДАТЬ НАПРАВЛЕННЫЙ ПОТОК ВОДЫ СКОЗЬ ТЕ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4:27:26Z</dcterms:created>
  <dc:creator>69</dc:creator>
  <dc:description/>
  <dc:language>en-US</dc:language>
  <cp:lastModifiedBy>КарМаН</cp:lastModifiedBy>
  <dcterms:modified xsi:type="dcterms:W3CDTF">2011-04-17T09:28:19Z</dcterms:modified>
  <cp:revision>7</cp:revision>
  <dc:subject/>
  <dc:title>Слайд 1</dc:title>
</cp:coreProperties>
</file>