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06A-DB19-46E4-9981-97860ACC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7BA6-25C5-4EC7-AC9E-9A8B52F6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1D3E-B33B-4E16-B417-5F954204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8BAE-4CF1-4EA0-A270-05F4E428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29B77-1504-4E45-92D0-B055EAF7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5D944-FD8E-40BA-B212-9E621F96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5ECDD-40E6-4E0C-8CDB-26533050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50A4B-2456-479E-82B4-6CADCCCF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F61F4-F4E9-43DA-9964-E1C1E834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8D8B1-5F88-46A0-9F22-349D2DF9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CEA4B-B4FC-4D82-BA22-21F5CE16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22C3-98AE-44C6-A836-F8191737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63C74-C9B2-4463-9FFD-22C5C456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893EB-8231-4B05-AB3A-6BF3D09E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45657-BCB1-412A-B7CC-8CCF3582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2658E-B014-462E-B1EF-457F823C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F63B8-57B9-454C-B225-882DCFBC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58F7-6BE4-4151-B322-8312F281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FC82-6B29-4BD8-AC5D-125FE6D4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9A20-0996-438A-AA2F-B8602F0A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632-22FC-403B-9312-653AB229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C8B-C41F-4387-88E0-80DD10F1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3B20-6995-4979-B221-CD23032C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262B-BCEC-4221-AF8A-C47774CB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AC35-DC3C-4C4E-84AD-E0F3007DD52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09F0-3189-42CE-9C3A-89B6B3D735A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ПРОИСХОЖДЕНИЕ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МНОГОКЛЕТОЧНЫХ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 ЖИВОТНЫХ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692360" y="5157720"/>
            <a:ext cx="62643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читель биологии МОУ СОШ №39 г. Твер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узнецова Н.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620640"/>
            <a:ext cx="784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ЛЕДУЮЩИЕ ШАГИ В ЭВОЛЮЦИИ МНОГОКЛЕТОЧ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84280"/>
            <a:ext cx="78487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ТКАЗ ОТ МЕРЦАТЕЛЬНОГО ПЛА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ХОД К ЗАХВАТУ БОЛЕЕ КРУПНОЙ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МАКРОФАГ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ТКАЗ ОТ ВНУТРИКЛЕТОЧНОГО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ИЩЕВА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7848360" cy="2570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611280" y="3357720"/>
            <a:ext cx="7848360" cy="31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РУПНАЯ ПИЩА МОЖЕТ ПОПАСТЬ ВНУТРЬ ОРГАНИЗМА С ПОМОЩЬЮ ПЕРВИЧНОГО РТА  И ТАМ ПЕРЕВАРИТЬСЯ  ПРИ ВЫДЕЛЕНИИ ПИЩЕВАРИТЕЛЬНОГО СОКА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(ПОЛОСТНОЕ ПИЩЕВАРЕНИЕ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НО КАК ЗАХВАТИТЬ ЭТУ ПИЩ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ОВЫЙ ТИП ПЕРЕДВИЖЕНИЕ – ПОЛЗАНИЕ!  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(МЫШЕЧНОЕ ДВИЖЕНИЕ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176720" cy="18003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24000" y="3933720"/>
            <a:ext cx="4032000" cy="19782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716360" y="3933720"/>
            <a:ext cx="4176720" cy="1976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395280" y="189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НЫЕ НАПРАВЛЕНИЯ В ЭВОЛЮЦИИ МНОГОКЛЕТОЧ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6237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КТИВНОЕ ДОБЫВАНИЕ ПИ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6237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ИДОННЫЙ ОБРАЗ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24000" y="1557360"/>
            <a:ext cx="4032000" cy="18558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МНОГОКЛЕТОЧНЫЕ ОРГАНИЗМ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213372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УБ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ШЕЧНОПОЛОСТ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ОСКИЕ ЧЕ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РУГЛЫЕ ЧЕРВ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ЛЬЧАТЫЕ ЧЕ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ЛЛЮ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ЛЕНИСТОНОГ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ГЛОКОЖ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7640" y="2133720"/>
            <a:ext cx="410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ХОРДОВ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БЕСЧЕРЕП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ЫБ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ЕМНОВОД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ЕСМЫКАЮЩ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ЛЕКОПИТАЮЩИ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6756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ЕСПОЗВОНОЧНЫЕ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ЗВОНОЧ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КАК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ВОЗНИКЛИ МНОГОКЛЕТОЧНЫЕ ОРГАНИЗМЫ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353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  ВСЕХ  МНОГОКЛЕТОЧНЫХ  БЫЛ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БЩИЙ  ПРЕД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ЕДОК   БЫЛ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ДНОКЛЕТОЧ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АЗВИТИЕ  ШЛО ЧЕРЕЗ  ПРОМЕЖУ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ОЧНЫЕ ФОРМЫ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ОЛО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5977080" cy="53067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900000" y="6093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РОДИТЕЛЬ МНОГОКЛЕТОЧ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50920" y="1268280"/>
            <a:ext cx="8569080" cy="35416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042920" y="5300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ДИН В ПОЛЕ НЕ ВОИН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24000" y="333360"/>
            <a:ext cx="8353440" cy="4370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324000" y="4941720"/>
            <a:ext cx="828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ТО – БЫ СОСЕДИ  ПО КОЛОНИИ  НЕ МЕШАЛИ, НУЖНО СПЕЦИАЛИЗИРОВАТЬС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ЕСЛИ ТЕСНО, ТО МОЖНО ОТОРВАТЬСЯ ГРУППОЙ КЛЕТОК И ПУСТИТСЯ В ДАЛЕКОЕ ПЛА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68360" y="836640"/>
            <a:ext cx="8209080" cy="266364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84360" y="5013360"/>
            <a:ext cx="79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3789360"/>
            <a:ext cx="8785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ЧТОБЫ БЫСТРЕЕ ДВИГАТЬСЯ ВЫГОДНЕ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МЕСТИТЬ АМЕБОВИДНЫХ ВНУТРЬ КОЛОН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ЖГУТИКОВЫМ ОСТАТЬСЯ НА ПОВЕРХНО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ИЩУ ЗАХВАТЫВАТЬ С ПОМОЩЬЮ  ОТВЕРСТИЯ –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ЗРЫВ  В СЛОЕ ЖГУТИКОНОСЦЕВ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>
            <a:lum contrast="24000"/>
          </a:blip>
          <a:stretch/>
        </p:blipFill>
        <p:spPr>
          <a:xfrm rot="7919400">
            <a:off x="1227600" y="2235960"/>
            <a:ext cx="3052800" cy="29908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5213520" y="2681280"/>
            <a:ext cx="2732040" cy="79200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КРОВНЫЙ СЛОЙ (ЭПИТЕЛ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ФАГОЦИТЕЛ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предложил Мечников И. И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70400" y="4359240"/>
            <a:ext cx="2592360" cy="870120"/>
          </a:xfrm>
          <a:solidFill>
            <a:srgbClr val="0000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НУТРЕННИЙ СЛОЙ (ПАРЕНХИ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94400" y="1397160"/>
            <a:ext cx="266040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053" y="30687"/>
                </a:moveTo>
                <a:lnTo>
                  <a:pt x="-619" y="3426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ЕРВИЧНЫЙ РОТ (БЛАСТОПО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877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ВЫЙ МНОГОКЛЕТОЧНЫЙ ОРГАНИЗМ - ФАГОЦИТЕЛ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534160" cy="14400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395280" y="371628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0"/>
            <a:ext cx="8353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АДО СОВЕРШЕНСТВОВАТЬСЯ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ВИТИЕ ПИЩЕДОБЫВАЮЩЕГО АППАР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3573360"/>
            <a:ext cx="2808360" cy="302436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БРАЗУЕТСЯ ПОЛОСТЬ СО СЛОЕМ ЖГУТИКОВЫХ КЛЕТОК, КОТОРЫЕ ПОМОГАЮТ ЛУЧШЕ УЛАВЛИВАТЬ ПИЩ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3645000"/>
            <a:ext cx="2808360" cy="295272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ЧЕМ БОЛЬШЕ ПОВЕРХНОСТЬ, ТЕМ БОЛЬШЕ ПИЩИ ДОСТАНЕТСЯ КЛЕТКАМ, А ПОРЫ ПОМОГАЮТ СОЗДАТЬ НАПРАВЛЕННЫЙ ПОТОК ВОДЫ СКОЗЬ ТЕ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4:27:26Z</dcterms:created>
  <dc:creator>69</dc:creator>
  <dc:description/>
  <dc:language>en-US</dc:language>
  <cp:lastModifiedBy>КарМаН</cp:lastModifiedBy>
  <dcterms:modified xsi:type="dcterms:W3CDTF">2011-04-17T09:28:19Z</dcterms:modified>
  <cp:revision>7</cp:revision>
  <dc:subject/>
  <dc:title>Слайд 1</dc:title>
</cp:coreProperties>
</file>