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99E-AD91-400A-B65E-E164AB51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3B0-AF2A-4A23-8ECD-4D0CB749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B38-EFAF-406A-A3F1-EFE69846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639-E6EE-4151-85E7-A475B30E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BC2F4-3F43-4B70-ADC0-8EA26895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3A73A-D892-42C0-A1E3-AA18AB47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37D62-DB61-420F-98C5-AFEB8D44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03E32-B2CE-41A8-8FB7-582CC626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431C8-1F83-4CF0-9C0E-7D55C52A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1EFF7-081A-447D-93D9-8D0C392D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B23BD-02ED-4F52-9827-99CB3718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FD5-D8C9-4C13-9D57-4C9F2394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936F4-9D9A-4AF6-B2DE-25A7F712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5FE2E-26BF-4AD8-B544-9335823B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5A70A-BF19-451F-9C76-2C075432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05D49-F3C7-4BA2-AD48-2092545B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819C9-9A2E-43DD-A17F-4974CA73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482-9337-428C-A8E6-B5683EA8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C3C-E78E-4C73-B333-9F2D45A6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E4B-6699-48DD-9BF1-56812992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72F-3E1A-4F44-AC30-138B37D7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E66-CE6B-4F9D-87A9-A502F7DE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41D-9643-4EC7-B1AC-1AC46021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1AF6-22DA-4BE1-A41D-EE301EE6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E957-B84A-4866-86CD-97CDFE1D63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FD05-8B4B-47C5-B852-4DF50511C5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ПРОИСХОЖДЕНИЕ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МНОГОКЛЕТОЧНЫХ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 ЖИВОТНЫХ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5157720"/>
            <a:ext cx="6264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итель биологии МОУ СОШ №39 г. Твер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узнецова Н.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620640"/>
            <a:ext cx="784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ЛЕДУЮЩИЕ ШАГИ В ЭВОЛЮЦИИ МНОГОКЛЕТОЧ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78487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МЕРЦАТЕЛЬНОГО ПЛ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ХОД К ЗАХВАТУ БОЛЕЕ КРУПНОЙ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МАКРОФАГ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ВНУТРИКЛЕТОЧНОГ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ЕВА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848360" cy="25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11280" y="3357720"/>
            <a:ext cx="7848360" cy="31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РУПНАЯ ПИЩА МОЖЕТ ПОПАСТЬ ВНУТРЬ ОРГАНИЗМА С ПОМОЩЬЮ ПЕРВИЧНОГО РТА  И ТАМ ПЕРЕВАРИТЬСЯ  ПРИ ВЫДЕЛЕНИИ ПИЩЕВАРИТЕЛЬНОГО СОКА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ПОЛОСТНОЕ ПИЩЕВАР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О КАК ЗАХВАТИТЬ ЭТУ ПИЩ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ОВЫЙ ТИП ПЕРЕДВИЖЕНИЕ – ПОЛЗАНИЕ!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МЫШЕЧНОЕ ДВИЖ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76720" cy="18003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4032000" cy="19782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4176720" cy="1976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39528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НЫЕ НАПРАВЛЕНИЯ В ЭВОЛЮЦИИ МНОГОКЛЕТОЧ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237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КТИВНОЕ ДОБЫВАНИЕ ПИ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ДОННЫЙ ОБРАЗ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24000" y="1557360"/>
            <a:ext cx="4032000" cy="18558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НОГОКЛЕТОЧНЫЕ ОРГАНИЗ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213372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У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ШЕЧНОПОЛОСТ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СКИ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УГЛЫЕ ЧЕ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ЛЬЧАТЫ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ЛЛЮ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ЛЕНИСТОНОГ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ГЛОКОЖ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7640" y="21337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ХОРДОВ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БЕСЧЕРЕП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ЫБ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ЕМНОВОД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СМЫКАЮЩ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ЛЕКОПИТАЮЩИ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75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СПОЗВОНОЧНЫЕ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ЗВОНОЧ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КАК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ВОЗНИКЛИ МНОГОКЛЕТОЧНЫЕ ОРГАНИЗМЫ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353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  ВСЕХ  МНОГОКЛЕТОЧНЫХ  БЫЛ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ЩИЙ  ПРЕД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ЕДОК   БЫЛ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ДНОКЛЕТОЧ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ЗВИТИЕ  ШЛО ЧЕРЕЗ  ПРОМЕЖУ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ОЧНЫЕ ФОРМЫ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ОЛО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5977080" cy="53067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900000" y="609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РОДИТЕЛЬ МНОГОКЛЕТОЧ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50920" y="1268280"/>
            <a:ext cx="8569080" cy="35416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042920" y="530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ИН В ПОЛЕ НЕ ВОИН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333360"/>
            <a:ext cx="8353440" cy="43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24000" y="494172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ТО – БЫ СОСЕДИ  ПО КОЛОНИИ  НЕ МЕШАЛИ, НУЖНО СПЕЦИАЛИЗИРОВАТЬ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СЛИ ТЕСНО, ТО МОЖНО ОТОРВАТЬСЯ ГРУППОЙ КЛЕТОК И ПУСТИТСЯ В ДАЛЕКОЕ ПЛА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68360" y="836640"/>
            <a:ext cx="8209080" cy="266364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84360" y="501336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789360"/>
            <a:ext cx="878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ТОБЫ БЫСТРЕЕ ДВИГАТЬСЯ ВЫГОДНЕ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МЕСТИТЬ АМЕБОВИДНЫХ ВНУТРЬ КОЛОН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ЖГУТИКОВЫМ ОСТАТЬСЯ НА ПОВЕРХ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У ЗАХВАТЫВАТЬ С ПОМОЩЬЮ  ОТВЕРСТИЯ –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РЫВ  В СЛОЕ ЖГУТИКОНОСЦЕВ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>
            <a:lum contrast="24000"/>
          </a:blip>
          <a:stretch/>
        </p:blipFill>
        <p:spPr>
          <a:xfrm rot="7919400">
            <a:off x="1227600" y="2235960"/>
            <a:ext cx="3052800" cy="29908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5213520" y="2681280"/>
            <a:ext cx="2732040" cy="79200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КРОВНЫЙ СЛОЙ (ЭПИТЕЛ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АГОЦИТЕЛ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редложил Мечников И. И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70400" y="4359240"/>
            <a:ext cx="2592360" cy="870120"/>
          </a:xfr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НУТРЕННИЙ СЛОЙ (ПАРЕНХИ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94400" y="1397160"/>
            <a:ext cx="266040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053" y="30687"/>
                </a:moveTo>
                <a:lnTo>
                  <a:pt x="-619" y="3426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ВИЧНЫЙ РОТ (БЛАСТОП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7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ВЫЙ МНОГОКЛЕТОЧНЫЙ ОРГАНИЗМ - ФАГОЦИТЕЛ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34160" cy="14400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95280" y="3716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0"/>
            <a:ext cx="8353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ДО СОВЕРШЕНСТВОВАТЬСЯ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ВИТИЕ ПИЩЕДОБЫВАЮЩЕГО АППАР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3573360"/>
            <a:ext cx="2808360" cy="302436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БРАЗУЕТСЯ ПОЛОСТЬ СО СЛОЕМ ЖГУТИКОВЫХ КЛЕТОК, КОТОРЫЕ ПОМОГАЮТ ЛУЧШЕ УЛАВЛИВАТЬ ПИЩ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3645000"/>
            <a:ext cx="2808360" cy="295272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ЧЕМ БОЛЬШЕ ПОВЕРХНОСТЬ, ТЕМ БОЛЬШЕ ПИЩИ ДОСТАНЕТСЯ КЛЕТКАМ, А ПОРЫ ПОМОГАЮТ СОЗДАТЬ НАПРАВЛЕННЫЙ ПОТОК ВОДЫ СКОЗЬ ТЕ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7:26Z</dcterms:created>
  <dc:creator>69</dc:creator>
  <dc:description/>
  <dc:language>en-US</dc:language>
  <cp:lastModifiedBy>КарМаН</cp:lastModifiedBy>
  <dcterms:modified xsi:type="dcterms:W3CDTF">2011-04-17T09:28:19Z</dcterms:modified>
  <cp:revision>7</cp:revision>
  <dc:subject/>
  <dc:title>Слайд 1</dc:title>
</cp:coreProperties>
</file>