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еник" initials="У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10-10-03T12:47:16.078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019-66E7-4920-A917-3E75E9D2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9A6-FD0E-4A80-B6A3-11EF5DAB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D9A-E8F5-42F9-9CEF-F5164FE2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47C-BE8E-45E4-8FA2-58042CC9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9352-81E5-4A08-8F46-10F493E3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DEA-835E-497A-9AE9-DF8A9189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25EA-75C5-4730-90BC-2786C10C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C5F5-CAD3-4CBD-AA54-2A53C647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FB5-C698-4B49-8F89-48E6A75E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564-D50A-4494-B3F0-D525611F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2522-0E33-424B-82DD-14B3C26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64D-84D6-48C5-BBB2-39F90F6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2F0-B9A2-4B51-AAEA-9F12A53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392-CB47-467B-AEA8-46C31F7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6781-633D-4C4E-8646-98EF78A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F40-75E8-46A7-9032-6039C5F5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A6E-598E-49FC-B20A-DD6A908E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CFD3-0020-4340-AA47-6DE0912B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ED09-3C05-43A4-9FF0-647319F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180D-0773-4310-9FA2-F5F7767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3731-D57B-483C-B135-07C317B3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0853-5E69-4A76-8D3E-6C6908D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D2E-3E80-4205-9C68-AC8613EC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10032-27CD-4E7B-9531-911B4905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7DEC2-8174-41C3-A7AD-51278E3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D6A2-3EB8-411F-B9D8-500BE62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350B-EFD6-439A-9589-F6E2479E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7FA9E-93D1-4672-AB3D-B46955F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48EF-CC8F-471F-95BC-CB0EF965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B7E6-393D-4196-97BE-AC2469B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9E32-299E-4D54-A212-686DFA19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2F2D7-7A52-47CC-8055-DE9FF415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476D-34DF-4E32-8FA7-1CD7ADA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C51-219C-4B83-994E-8E56550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F0009-A603-4273-9CCD-8E2DBC4E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9F63-B0D6-410C-BE90-08D26AFE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CC5B2-A408-4303-B6F7-EEC8784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6CA5-8BD3-4139-BAD6-0681EED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D2BD-B952-4869-B068-9E019818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4AD7-9C28-4495-AB5B-EA23F6EB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A96B-0620-4060-B991-F76686A1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DB34-28C8-4B7B-A8D3-90754F6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99FD-B7EE-4A27-8DEC-4CF463E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5B8DA-0641-4519-93B8-A16F9F5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7F2-8A1A-4F99-920E-E30A5C9C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FCCDA-D57B-4E14-96D8-66A20B1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A657-4688-4B21-9221-D2FA1DB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66212-64A6-414D-9802-06ADBDD1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DC86A-E71A-42F4-9769-8C62A95A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85E09-F12A-4D67-B9EE-6609318A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3DEE-BA4E-4D20-817B-854E9B2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B9AC-5AC6-459D-A0BF-4940105B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59AE1-07CE-4C6C-8961-3F37EBE9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2C3A-8A9E-4C7E-97ED-4D93D744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DBB1E-7EEA-4B73-8204-C079AE1B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36C-12A6-44EA-A498-4D02FF02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9EF9-B123-4EBD-8E3A-7D336763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9861-79DD-4E1A-B487-5AC05E0A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281F3-4520-4480-AB5F-A374CEB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E5C4-A0C8-4D1C-87DD-07FA54AE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FEB4A-BB64-4697-ACFB-4CDFC372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8F367-B2E5-4B13-A4EC-693A4B5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7362-30E0-473E-B67D-79DF2B9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9831-5D07-4302-AC85-5A3275A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C6A7-BFB7-4A37-81DC-3E9F99C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361F-0AED-4A2D-9B71-0EE8839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EA2-9545-4B84-9241-3152C530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4D21-2E0D-4F71-AF9A-333BDE61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E18F-65F8-4725-94C4-33E678C1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5481-7CF6-409B-AF4B-FC506965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6B6D-1D65-457A-B333-7477FA2C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578D-B95B-45EF-B1CC-631FAB62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D71C-6563-47F8-947A-C4C68B4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75E40-5D40-4DA6-8655-D99B96C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37057-0632-42B2-AE98-04484DC2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2DB5C-7C8F-4645-A5FF-81DB4A4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65B0E-7561-4F20-B4BE-CF2F6E56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535-8C6D-4BF0-A45F-E2E55481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4BB5-CE4E-45F6-B7B5-95958CD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01636-9422-4E11-8B8B-6F8EBE4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84252-CC46-439A-BDAD-4D192D54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73C0C-83AF-4AB1-A2D7-58CAEEB4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B7B58-DF98-4935-B8E0-BB0ADDB4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C228-46A9-49BE-8E78-823FCCB4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C720-D679-42DB-8AA2-BCE235D3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6C7AC-5202-4C47-9BD7-D26B70F0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BF35-B03C-4C9F-BF78-72B61265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74B6B-7324-4A57-9382-B000409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347-952E-4585-B38F-1BF96A9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934E5-5850-4A9E-8025-7051B8F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63B92-7123-4588-96A5-8E9207B0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26111-42C9-4F59-865F-A0906CF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FCBAA-2BC8-48C0-8A3F-C108FF7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4B37-3FE2-4A5D-BFBC-29DD558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A7C32-615B-41EE-9E77-E81BB5AB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30CF-3106-43CE-95FD-7DFFBE52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571-C6FF-4FD0-A9E4-5D6027EB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4E1-C840-4D0B-9BAB-1BF65165043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05E2-98ED-44DB-97A2-D903B408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343-1D1C-419A-AEE1-3E54012A49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D45A-E0A8-4C67-B6A0-24266957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C79-C852-4DD9-B576-E340C696A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A0EA-8A45-4B1C-98EF-EBCE452D58E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7AC3-BC3A-4B18-8D08-539586D88A6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4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42200" cy="141444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435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0" descr=""/>
          <p:cNvPicPr/>
          <p:nvPr/>
        </p:nvPicPr>
        <p:blipFill>
          <a:blip r:embed="rId1"/>
          <a:stretch/>
        </p:blipFill>
        <p:spPr>
          <a:xfrm>
            <a:off x="536400" y="139680"/>
            <a:ext cx="8071200" cy="1292400"/>
          </a:xfrm>
          <a:prstGeom prst="rect">
            <a:avLst/>
          </a:prstGeom>
          <a:ln w="0">
            <a:noFill/>
          </a:ln>
        </p:spPr>
      </p:pic>
      <p:pic>
        <p:nvPicPr>
          <p:cNvPr id="348" name="Подзаголовок 11" descr=""/>
          <p:cNvPicPr/>
          <p:nvPr/>
        </p:nvPicPr>
        <p:blipFill>
          <a:blip r:embed="rId2"/>
          <a:stretch/>
        </p:blipFill>
        <p:spPr>
          <a:xfrm>
            <a:off x="444600" y="1590840"/>
            <a:ext cx="816300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240" y="2564280"/>
            <a:ext cx="914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34720" y="368280"/>
            <a:ext cx="2438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643200" y="285840"/>
            <a:ext cx="5276880" cy="59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Волна 10"/>
          <p:cNvSpPr/>
          <p:nvPr/>
        </p:nvSpPr>
        <p:spPr>
          <a:xfrm>
            <a:off x="428760" y="5643720"/>
            <a:ext cx="8429400" cy="928440"/>
          </a:xfrm>
          <a:custGeom>
            <a:avLst/>
            <a:gdLst>
              <a:gd name="textAreaLeft" fmla="*/ 0 w 8429400"/>
              <a:gd name="textAreaRight" fmla="*/ 8429400 w 842940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1"/>
                </a:solidFill>
                <a:latin typeface="Century Gothic"/>
              </a:rPr>
              <a:t>Как вы думаете, что имел в виду ученый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Вертикальный свиток 16"/>
          <p:cNvSpPr/>
          <p:nvPr/>
        </p:nvSpPr>
        <p:spPr>
          <a:xfrm>
            <a:off x="3357720" y="214200"/>
            <a:ext cx="5786280" cy="5072040"/>
          </a:xfrm>
          <a:prstGeom prst="verticalScroll">
            <a:avLst>
              <a:gd name="adj" fmla="val 12500"/>
            </a:avLst>
          </a:prstGeom>
          <a:solidFill>
            <a:srgbClr val="76a7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«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Весьма сомнительно, чтобы нашлись еще другие животны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кроме дождевых червей), которые в истории земной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коры заняли бы столь видное место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Чарльз Дарвин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7" descr="C:\Program Files\Образовательные комплексы\Основы общей биологии, 9 кл.\edu_r75_bio9\data\res\res9E3DFCE4-0A01-022A-0124-E20589A121C1"/>
          <p:cNvPicPr/>
          <p:nvPr/>
        </p:nvPicPr>
        <p:blipFill>
          <a:blip r:embed="rId1"/>
          <a:stretch/>
        </p:blipFill>
        <p:spPr>
          <a:xfrm>
            <a:off x="642960" y="28584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C:\Documents and Settings\Ученик\Рабочий стол\фото урок\ч2.bmp"/>
          <p:cNvPicPr/>
          <p:nvPr/>
        </p:nvPicPr>
        <p:blipFill>
          <a:blip r:embed="rId2"/>
          <a:stretch/>
        </p:blipFill>
        <p:spPr>
          <a:xfrm>
            <a:off x="1143000" y="357192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431720"/>
          </a:xfrm>
          <a:prstGeom prst="rect">
            <a:avLst/>
          </a:prstGeom>
          <a:ln w="0">
            <a:noFill/>
          </a:ln>
        </p:spPr>
      </p:pic>
      <p:pic>
        <p:nvPicPr>
          <p:cNvPr id="357" name="Под микроскопа.wmv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5572080" cy="4857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5715000" y="1571400"/>
            <a:ext cx="32860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Рассмотрите внешнее строение дождевого червя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пределите форму тела, окраску, передний и задний конец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Обратите внимание на кольчатое (членистое) строение тел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Gothic"/>
              </a:rPr>
              <a:t>Чем заполнен пищеварительный канал червя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1360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6" descr=""/>
          <p:cNvPicPr/>
          <p:nvPr/>
        </p:nvPicPr>
        <p:blipFill>
          <a:blip r:embed="rId1"/>
          <a:stretch/>
        </p:blipFill>
        <p:spPr>
          <a:xfrm>
            <a:off x="536400" y="-9684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Содержимое 3" descr="Worms03_03[1].jp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286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1" hidden="1"/>
          <p:cNvSpPr/>
          <p:nvPr/>
        </p:nvSpPr>
        <p:spPr>
          <a:xfrm>
            <a:off x="7143840" y="607212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536400" y="-23760"/>
            <a:ext cx="8071200" cy="1316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Documents and Settings\Ученик\Рабочий стол\фото урок\Worms03_14[1].jpg"/>
          <p:cNvPicPr/>
          <p:nvPr/>
        </p:nvPicPr>
        <p:blipFill>
          <a:blip r:embed="rId2"/>
          <a:stretch/>
        </p:blipFill>
        <p:spPr>
          <a:xfrm>
            <a:off x="3571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367" name="Содержимое 3" descr=""/>
          <p:cNvPicPr/>
          <p:nvPr/>
        </p:nvPicPr>
        <p:blipFill>
          <a:blip r:embed="rId2"/>
          <a:stretch/>
        </p:blipFill>
        <p:spPr>
          <a:xfrm>
            <a:off x="450720" y="1122480"/>
            <a:ext cx="8255160" cy="546732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2428920" y="571500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Около 12000 видов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3" descr=""/>
          <p:cNvPicPr/>
          <p:nvPr/>
        </p:nvPicPr>
        <p:blipFill>
          <a:blip r:embed="rId1"/>
          <a:stretch/>
        </p:blipFill>
        <p:spPr>
          <a:xfrm>
            <a:off x="536400" y="152280"/>
            <a:ext cx="8071200" cy="927360"/>
          </a:xfrm>
          <a:prstGeom prst="rect">
            <a:avLst/>
          </a:prstGeom>
          <a:ln w="0">
            <a:noFill/>
          </a:ln>
        </p:spPr>
      </p:pic>
      <p:pic>
        <p:nvPicPr>
          <p:cNvPr id="370" name="Подзаголовок 4" descr=""/>
          <p:cNvPicPr/>
          <p:nvPr/>
        </p:nvPicPr>
        <p:blipFill>
          <a:blip r:embed="rId2"/>
          <a:stretch/>
        </p:blipFill>
        <p:spPr>
          <a:xfrm>
            <a:off x="401760" y="1090440"/>
            <a:ext cx="8169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езентация к уроку разработан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чителем биологии высшей категори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У лицея №2 г. Волгоград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епелевой Ириной Валентиновно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8:19Z</dcterms:created>
  <dc:creator>Шепелева Ирина Валентиновна</dc:creator>
  <dc:description/>
  <dc:language>en-US</dc:language>
  <cp:lastModifiedBy>КарМаН</cp:lastModifiedBy>
  <dcterms:modified xsi:type="dcterms:W3CDTF">2011-08-18T09:09:04Z</dcterms:modified>
  <cp:revision>59</cp:revision>
  <dc:subject>Тип Кольчатые черви Класс Малощетинковые</dc:subject>
  <dc:title>Презентация к уроку</dc:title>
</cp:coreProperties>
</file>