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еник" initials="У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0-10-03T12:47:16.078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5270-1606-4E56-B631-4EFAA0D7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4AF2-5666-437D-BF25-D62066AF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30E6-768D-48E9-A218-2A9DCBFB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7FD-A6E0-4D51-A501-879C146B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3F4D-BD07-4276-9B1C-22549CE0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7B73-DC7B-4C5D-A34B-535D1572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97B4-0326-441F-B253-B03DEF76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E118-8EC7-419B-A027-44134174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63BF-3E42-4EE5-81B4-438646DF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E5D6-26AA-480B-AC9E-5384A7EE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4C1F-DAC1-4B33-BF28-94C2A99A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5807-50D9-40A7-9E63-C9780F3A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4CDD-7658-4850-A575-3C06C07E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911F-0150-45CC-BD8A-D8A5529B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29D7-7B1F-48B2-BE98-0EFD5142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51A7-6DCD-4A85-B2D8-4A14B238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BE13-B01D-4263-B729-9F4F1BAF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4B11F-A454-4F58-93A1-3CF5D4F6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03FA8-DE85-4A68-B101-DE5F951D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FF409-5FCB-4D58-9DC9-1AD308CD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BB825-9153-4CE8-970A-C9230FA9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A5660-D3AA-4FEE-B610-90402729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F88B-C66C-4591-9F6D-E8FA978C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1BA1B-8F96-4C40-8891-DC5E792C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B1C32-C0DB-4FF1-A666-5ED8CEC1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EE690-4626-44A3-834F-3F008B37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80E9F-C330-4885-B50C-80F30E34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F39B4-FA58-4F0F-ACC4-C0B47D3B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58D55-87F8-4023-B420-D5DA14F3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9AE7B-E6F3-456E-807C-C5CEA876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D3D92-19A5-42B6-904D-E02DA21B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D378F-39BF-4D75-A103-C7748583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1FA99-AC47-4005-85AA-F9391837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D1DC-090A-4A5D-89A0-2E63D9A5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16126-166A-464A-80A1-0ADEB94E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660E6-72E1-4CD2-94B3-50D7993B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4FDE4-CF6A-4626-8A58-20E87422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D3786-3D2C-4F06-A0A3-94842F44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7F16B-F30E-4848-8ED1-01120709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4C0E9-632E-4331-9897-69AEAE8F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0C634-57BD-4242-8D00-25F84A57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1B855-FE35-4EF7-869E-1CB0055D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6C110-81F4-49A2-B228-557906B9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B9447-578F-4C7A-AE91-32A50464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441-D387-45EA-AF74-5D3ED705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86F08-7D1C-4FF6-817E-EBB06D3F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1D4C5-BFEE-4B92-B27F-23946F99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FC0F0-0033-4882-9D93-8D9A6C83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66B46-2057-4E6C-8607-AB7A80A4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0A5C5-40A3-40E1-A948-D5291855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3739D-9B1E-4056-BC31-87244D24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F271D-0215-4C60-9AB2-6A07A991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F1F0A-5713-453A-B4F6-0D4C721A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3B8E2-CCBA-4C57-9A01-C5B77B9E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3DD69-53A8-4822-9ABB-EA7B5F6D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0DE-2C00-4C97-86E1-9A3635B1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C427E-7934-4E95-8015-7F8BEA78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78414-8BCA-40A2-A4BB-600723F8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B28B8-1EE5-4DBC-A696-8651E9E9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40A73-E7CA-4FFD-A52B-89453839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80D20-9E61-4AC0-A8E3-4B34BA38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3FCC7-307B-4E94-A5AD-02E689F0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46300-0597-4541-82C9-B0EDD97D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19165-0788-4400-B271-30CEAE3E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023FD-48F3-411C-A762-4C8CC29B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A3D9B-CBD0-4E44-93E2-50B983DE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0E44-1DAF-4EAE-8055-60C6D6A8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7FCD5-0ADC-43CD-91DF-2CA44539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AE04A-77EA-493E-B512-57090405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2A720-9AAD-4331-981C-F21A5D45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8406B-D27D-4C6A-9E2E-14A9BF93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DBB0E-B5F9-446D-BCFD-8715BFF0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BD748-8A96-4705-970F-F52CFD21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D12C3-8EB5-4CE2-BDB2-1ADAE9F9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EA7E9-683B-409A-8C19-62FC2A1F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EE51E-64E5-497B-8F90-D053AFB0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2AF0E-898D-446D-A517-FA393920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282A-A899-4282-9E75-B10CC621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F34B7-E098-4599-9BD0-51C3C8C3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FCBB1-F2F4-4224-A829-14DADC8E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9FEB4-BDCB-47BB-8240-F868B05C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8F581-CD8D-415E-80CE-2E7FDA3E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96D6B-53C3-456F-B1F0-E0A0AF91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78E46-1B2C-4D30-8724-758BDD5B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72C87-9808-46A0-8ECB-CABB8BBD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9228D-34A1-43CD-AC20-26AD67FE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6AFB9-C917-4A9F-AD02-89D4096A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4AA60-1AF5-4EFB-90BB-32A58BC9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6045-2A53-40F6-B5A7-FEFEB953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12ECE-CADC-4687-B530-EA1B1058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81395-B0AF-46DD-9A4D-9F3DCFC4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9ECDE-6BA0-4DD9-A70A-0666AA98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B3FB5-8650-4DBC-8AA9-6A1D6AD7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90CAF-40DE-4A15-8EA9-B072F4B0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6DA0A-B53D-4087-9A8C-6EAD55DC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FAD10-DAA6-4E15-A91F-367BC54B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4DEE-C059-4960-BD93-3C9D9B7EB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397E-F440-4C26-A3C1-67189513F60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69D3-C39E-4D91-BD28-2824BD82E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5F74-6D03-4B70-AE16-E568035999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F737-8904-441A-829E-C0DF83B2A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13BC-3307-4204-A8CE-4C7DC3627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0714-CBD5-4B4D-BACF-5C4E1BF8858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477B-DE66-44B0-B9D0-FEE20E7FCE60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4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42200" cy="141444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8435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0" descr=""/>
          <p:cNvPicPr/>
          <p:nvPr/>
        </p:nvPicPr>
        <p:blipFill>
          <a:blip r:embed="rId1"/>
          <a:stretch/>
        </p:blipFill>
        <p:spPr>
          <a:xfrm>
            <a:off x="536400" y="139680"/>
            <a:ext cx="8071200" cy="1292400"/>
          </a:xfrm>
          <a:prstGeom prst="rect">
            <a:avLst/>
          </a:prstGeom>
          <a:ln w="0">
            <a:noFill/>
          </a:ln>
        </p:spPr>
      </p:pic>
      <p:pic>
        <p:nvPicPr>
          <p:cNvPr id="348" name="Подзаголовок 11" descr=""/>
          <p:cNvPicPr/>
          <p:nvPr/>
        </p:nvPicPr>
        <p:blipFill>
          <a:blip r:embed="rId2"/>
          <a:stretch/>
        </p:blipFill>
        <p:spPr>
          <a:xfrm>
            <a:off x="444600" y="1590840"/>
            <a:ext cx="816300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9240" y="2564280"/>
            <a:ext cx="914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34720" y="368280"/>
            <a:ext cx="243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643200" y="285840"/>
            <a:ext cx="5276880" cy="59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Волна 10"/>
          <p:cNvSpPr/>
          <p:nvPr/>
        </p:nvSpPr>
        <p:spPr>
          <a:xfrm>
            <a:off x="428760" y="5643720"/>
            <a:ext cx="8429400" cy="928440"/>
          </a:xfrm>
          <a:custGeom>
            <a:avLst/>
            <a:gdLst>
              <a:gd name="textAreaLeft" fmla="*/ 0 w 8429400"/>
              <a:gd name="textAreaRight" fmla="*/ 8429400 w 8429400"/>
              <a:gd name="textAreaTop" fmla="*/ 232200 h 928440"/>
              <a:gd name="textAreaBottom" fmla="*/ 6966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1"/>
                </a:solidFill>
                <a:latin typeface="Century Gothic"/>
              </a:rPr>
              <a:t>Как вы думаете, что имел в виду ученый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Вертикальный свиток 16"/>
          <p:cNvSpPr/>
          <p:nvPr/>
        </p:nvSpPr>
        <p:spPr>
          <a:xfrm>
            <a:off x="3357720" y="214200"/>
            <a:ext cx="5786280" cy="5072040"/>
          </a:xfrm>
          <a:prstGeom prst="verticalScroll">
            <a:avLst>
              <a:gd name="adj" fmla="val 12500"/>
            </a:avLst>
          </a:prstGeom>
          <a:solidFill>
            <a:srgbClr val="76a7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«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Весьма сомнительно, чтобы нашлись еще другие животны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(кроме дождевых червей), которые в истории земной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коры заняли бы столь видное место»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Чарльз Дарвин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Рисунок 7" descr="C:\Program Files\Образовательные комплексы\Основы общей биологии, 9 кл.\edu_r75_bio9\data\res\res9E3DFCE4-0A01-022A-0124-E20589A121C1"/>
          <p:cNvPicPr/>
          <p:nvPr/>
        </p:nvPicPr>
        <p:blipFill>
          <a:blip r:embed="rId1"/>
          <a:stretch/>
        </p:blipFill>
        <p:spPr>
          <a:xfrm>
            <a:off x="642960" y="285840"/>
            <a:ext cx="2928960" cy="3071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C:\Documents and Settings\Ученик\Рабочий стол\фото урок\ч2.bmp"/>
          <p:cNvPicPr/>
          <p:nvPr/>
        </p:nvPicPr>
        <p:blipFill>
          <a:blip r:embed="rId2"/>
          <a:stretch/>
        </p:blipFill>
        <p:spPr>
          <a:xfrm>
            <a:off x="1143000" y="357192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242560" cy="1431720"/>
          </a:xfrm>
          <a:prstGeom prst="rect">
            <a:avLst/>
          </a:prstGeom>
          <a:ln w="0">
            <a:noFill/>
          </a:ln>
        </p:spPr>
      </p:pic>
      <p:pic>
        <p:nvPicPr>
          <p:cNvPr id="357" name="Под микроскопа.wmv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5572080" cy="48578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5715000" y="1571400"/>
            <a:ext cx="32860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Рассмотрите внешнее строение дождевого червя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пределите форму тела, окраску, передний и задний конец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братите внимание на кольчатое (членистое) строение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Чем заполнен пищеварительный канал червя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1360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6" descr=""/>
          <p:cNvPicPr/>
          <p:nvPr/>
        </p:nvPicPr>
        <p:blipFill>
          <a:blip r:embed="rId1"/>
          <a:stretch/>
        </p:blipFill>
        <p:spPr>
          <a:xfrm>
            <a:off x="536400" y="-9684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Содержимое 3" descr="Worms03_03[1].jpg"/>
          <p:cNvPicPr/>
          <p:nvPr/>
        </p:nvPicPr>
        <p:blipFill>
          <a:blip r:embed="rId2"/>
          <a:stretch/>
        </p:blipFill>
        <p:spPr>
          <a:xfrm>
            <a:off x="357120" y="1214280"/>
            <a:ext cx="8429760" cy="52866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11" hidden="1"/>
          <p:cNvSpPr/>
          <p:nvPr/>
        </p:nvSpPr>
        <p:spPr>
          <a:xfrm>
            <a:off x="7143840" y="607212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536400" y="-2376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Picture 2" descr="C:\Documents and Settings\Ученик\Рабочий стол\фото урок\Worms03_14[1].jpg"/>
          <p:cNvPicPr/>
          <p:nvPr/>
        </p:nvPicPr>
        <p:blipFill>
          <a:blip r:embed="rId2"/>
          <a:stretch/>
        </p:blipFill>
        <p:spPr>
          <a:xfrm>
            <a:off x="357120" y="1357200"/>
            <a:ext cx="8429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981000"/>
          </a:xfrm>
          <a:prstGeom prst="rect">
            <a:avLst/>
          </a:prstGeom>
          <a:ln w="0">
            <a:noFill/>
          </a:ln>
        </p:spPr>
      </p:pic>
      <p:pic>
        <p:nvPicPr>
          <p:cNvPr id="367" name="Содержимое 3" descr=""/>
          <p:cNvPicPr/>
          <p:nvPr/>
        </p:nvPicPr>
        <p:blipFill>
          <a:blip r:embed="rId2"/>
          <a:stretch/>
        </p:blipFill>
        <p:spPr>
          <a:xfrm>
            <a:off x="450720" y="1122480"/>
            <a:ext cx="8255160" cy="54673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2428920" y="571500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Около 12000 видов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3" descr=""/>
          <p:cNvPicPr/>
          <p:nvPr/>
        </p:nvPicPr>
        <p:blipFill>
          <a:blip r:embed="rId1"/>
          <a:stretch/>
        </p:blipFill>
        <p:spPr>
          <a:xfrm>
            <a:off x="536400" y="152280"/>
            <a:ext cx="8071200" cy="927360"/>
          </a:xfrm>
          <a:prstGeom prst="rect">
            <a:avLst/>
          </a:prstGeom>
          <a:ln w="0">
            <a:noFill/>
          </a:ln>
        </p:spPr>
      </p:pic>
      <p:pic>
        <p:nvPicPr>
          <p:cNvPr id="370" name="Подзаголовок 4" descr=""/>
          <p:cNvPicPr/>
          <p:nvPr/>
        </p:nvPicPr>
        <p:blipFill>
          <a:blip r:embed="rId2"/>
          <a:stretch/>
        </p:blipFill>
        <p:spPr>
          <a:xfrm>
            <a:off x="401760" y="1090440"/>
            <a:ext cx="81691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езентация к уроку разработан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чителем биологии высшей категори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У лицея №2 г. Волгоград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епелевой Ириной Валентиновной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48:19Z</dcterms:created>
  <dc:creator>Шепелева Ирина Валентиновна</dc:creator>
  <dc:description/>
  <dc:language>en-US</dc:language>
  <cp:lastModifiedBy>КарМаН</cp:lastModifiedBy>
  <dcterms:modified xsi:type="dcterms:W3CDTF">2011-08-18T09:09:04Z</dcterms:modified>
  <cp:revision>59</cp:revision>
  <dc:subject>Тип Кольчатые черви Класс Малощетинковые</dc:subject>
  <dc:title>Презентация к уроку</dc:title>
</cp:coreProperties>
</file>