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jpeg" ContentType="image/jpeg"/>
  <Override PartName="/ppt/media/image8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comments/comment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Ученик" initials="У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<Relationship Id="rId20" Type="http://schemas.openxmlformats.org/officeDocument/2006/relationships/commentAuthors" Target="commentAuthors.xml"/>
</Relationships>
</file>

<file path=ppt/comments/comment4.xml><?xml version="1.0" encoding="utf-8"?>
<p:cmLst xmlns:p="http://schemas.openxmlformats.org/presentationml/2006/main">
  <p:cm authorId="0" dt="2010-10-03T12:47:16.078000000" idx="1">
    <p:pos x="10" y="10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67A0-3849-42C3-96C6-B714A11AA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CC38-3ABE-4473-AE21-EFA6CB579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4DCF-8AE2-4410-BD96-54AEA5A43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6C9E-DC80-42E9-9C6D-03CDA6A41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212B6-843B-4717-B617-EDEDA473E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D029D-7C1A-4964-8AF6-F5F1B8ECF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A17F3-3411-43D5-BD2B-99994F0BD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77036-B4EF-4FA6-95C1-530063A21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17423-18E3-44CF-9E0A-F6B470292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786C1-7461-468A-879F-7D7CAF026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969DB-05CB-42B1-B603-8652D67A4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4DB2-B731-4252-9FED-D01706403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B0B1C-F38B-4AC6-947C-F16CEE49B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EFB1F-139B-496F-9057-F094A3D20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2DF0C-607C-426A-B634-BBE9C2D44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AFCC3-FFB0-45F0-BFE2-0FDB48582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A92E6-7F7E-4DEC-8491-C2C6585E5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16614-3124-4787-8F1B-58E0E0648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D47E4-4314-4E99-9777-489CE4B98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76695-D478-4E14-B3DF-8A46B1429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36FE9-4FBC-43B4-AF1F-1012B7C7F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4FD5F-B235-41EA-9AD3-59FF621D5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B2AC-1413-4F88-B006-D39DE890C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5793B-486E-430B-A9CC-7E832714B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EEEAE-F3F7-487B-9740-4859FA3B3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CB47C-C172-4341-A5C7-7730CA89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12CC8-AC59-4291-A370-005D1B07A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C67DE-F679-4B3C-8410-E9C404FEE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85906-8BD1-42F2-97E5-0B8793D54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23E66-ABD7-41C3-BAA2-938D3A8C6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38689-A807-4E79-964F-8EB11A4B4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7EA8E-F056-43D8-A5CC-A6CE40418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A7A42-1E89-4422-A0AA-B8DD58B54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5C54-A065-4DA4-B498-5FD196BB9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B34BC-B1FE-4699-90C6-6D4B2B651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38AEB-2105-4B15-9932-84E526712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E1138-1A8C-4741-9F46-6EE4442D2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53ADE-4213-4F3F-A4D9-00BE98946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ECA51-340E-425C-8D1B-C76BD907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C1760-7C95-4CB1-8377-6FF37159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D66D1-E872-4D3B-ABD4-73769A49C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2116C-E43A-4379-A7C6-34031BE99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BC8E6-C7BC-422B-9358-41F4B771D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39F302-3D87-4C9E-ADDA-BA7FD123C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FEFF-9489-4AD2-875B-8F89465BA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03F9DF-085E-415A-B322-A3CB144AD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8FDE4B-A8B4-4530-B192-02E1B39E1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866F29-2667-4A8C-918B-3A6FCFEBD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5528A-4C2F-40C0-AB47-E49BF2C6D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1C86EA-E9ED-467B-AE00-78EAEC5B7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AB70F4-D5B4-4C55-9C1B-33CAC869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494153-66EC-452E-B203-95ECA14C1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F0E1F-2EC7-41D7-9003-944878F70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371A18-3846-4C86-8969-658AB7FE0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189A7-AEBF-4439-8DE8-4CFA90596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8010-6572-404E-A6A0-9048363EE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DC3205-8258-4225-83B8-0067F2EB0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2C34A4-A14A-4DD7-B481-80270E9A1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E44CB6-1857-40FC-AB1C-080A9EDC2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269CD2-1ABB-46B3-867C-44B9AE2BF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34B12-5946-4B38-ABEA-8E2AB0BBE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5DDB88-B8AE-45C3-81EC-03208B19F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F31B17-D544-4FEF-B7A4-552B1EAAE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1B22D9-0349-4B6E-AAA7-62D665356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1BDB9E-B543-4215-8096-3CCDE298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1AFF4F-A25E-4FE5-9913-A84CA8781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B3A1-A478-4DF9-AD6F-3BB8887B8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C7BB78-CE83-4F29-8D99-24F020301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1C24EF-431D-4E69-AAC4-9105C0325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E0B19-0A02-4528-A444-3CEB7A564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33C92F-F4D9-4F90-AC4D-BA290354C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52ED80-6099-4B5B-AEB1-E0C546E4C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AA5887-7EF8-46BA-9D31-4D0E0B7E7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C8459C-D092-47ED-90D4-1B918BA11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9063A5-AE79-4BAC-91CE-A6357AD9E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7EAE7F-95EF-4F28-A79D-00B67A56C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49B1D5-90C6-47E3-9875-268C3C52C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8634-2DC0-44D4-8E66-B8F67878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994BF7-057D-42F6-8347-BAFD8A3C2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F5E719-62EB-4751-AA38-B4FC1FD83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914B6D-59DD-4D0C-9D68-1D77DA60A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91E9F0-042E-413D-A4F9-EB426B1E8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C08D6B-ED6B-4D2E-97CC-AD7C87E02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1CAEEB-9701-4875-A209-490D88C79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C7AD00-FD8B-48B8-BC18-2BC11B14F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135140-362C-4DC2-8C11-02D8BE5D7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34F4BF-7997-42AA-8558-70CCA318C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77C823-EC69-4644-81A5-CD04AECF9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9864-4A61-475F-90D9-2BB67D4CE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2469A0-F261-4FB6-90DC-00E48577C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CCD100-D07A-4EF8-B148-7F802A73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76553A-C5A4-42CA-8868-B7BE05F4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47CB7E-342F-4B26-AF8E-89EB79291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96046C-D039-4C2C-8302-C2D65CDDE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DF55BB-0412-49BF-A931-9AA01D63A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39A802-05B1-4ECF-AA60-44855A28C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aebde">
                  <a:alpha val="1176"/>
                </a:srgbClr>
              </a:gs>
              <a:gs pos="100000">
                <a:srgbClr val="eaebde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1c3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8c9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2011E-7782-4FE3-9C86-2701D36408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aebde">
                  <a:alpha val="1176"/>
                </a:srgbClr>
              </a:gs>
              <a:gs pos="100000">
                <a:srgbClr val="eaebde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1c3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8c9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37653b"/>
              </a:gs>
              <a:gs pos="100000">
                <a:srgbClr val="a1d1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D7A98-A63C-48D6-9D38-ADBD80F6E138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aebde">
                  <a:alpha val="1176"/>
                </a:srgbClr>
              </a:gs>
              <a:gs pos="100000">
                <a:srgbClr val="eaebde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1c3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8c9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1CA6A-90DA-4DFA-BB1E-970DEAFF55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aebde">
                  <a:alpha val="1176"/>
                </a:srgbClr>
              </a:gs>
              <a:gs pos="100000">
                <a:srgbClr val="eaebde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37653b"/>
              </a:gs>
              <a:gs pos="100000">
                <a:srgbClr val="a1d1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Прямая соединительная линия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8c9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Прямая соединительная линия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1c3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5A2E6-9F5E-4CC9-B9AE-BA6AC8F8859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aebde">
                  <a:alpha val="1176"/>
                </a:srgbClr>
              </a:gs>
              <a:gs pos="100000">
                <a:srgbClr val="eaebde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1c3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8c9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43F92-04DF-408C-88FD-1AFE71F899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F27C5-2025-4529-A3DD-B8A3106AE0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83F51-8EBE-4E33-A2D8-5D3D757ED8B3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32752-4179-4994-820D-285ED63DF379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<Relationship Id="rId4" Type="http://schemas.openxmlformats.org/officeDocument/2006/relationships/comments" Target="../comments/commen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Заголовок 4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242200" cy="1414440"/>
          </a:xfrm>
          <a:prstGeom prst="rect">
            <a:avLst/>
          </a:prstGeom>
          <a:ln w="0">
            <a:noFill/>
          </a:ln>
        </p:spPr>
      </p:pic>
      <p:pic>
        <p:nvPicPr>
          <p:cNvPr id="346" name="Подзаголовок 2" descr=""/>
          <p:cNvPicPr/>
          <p:nvPr/>
        </p:nvPicPr>
        <p:blipFill>
          <a:blip r:embed="rId2"/>
          <a:stretch/>
        </p:blipFill>
        <p:spPr>
          <a:xfrm>
            <a:off x="468360" y="2637000"/>
            <a:ext cx="8435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Заголовок 10" descr=""/>
          <p:cNvPicPr/>
          <p:nvPr/>
        </p:nvPicPr>
        <p:blipFill>
          <a:blip r:embed="rId1"/>
          <a:stretch/>
        </p:blipFill>
        <p:spPr>
          <a:xfrm>
            <a:off x="536400" y="139680"/>
            <a:ext cx="8071200" cy="1292400"/>
          </a:xfrm>
          <a:prstGeom prst="rect">
            <a:avLst/>
          </a:prstGeom>
          <a:ln w="0">
            <a:noFill/>
          </a:ln>
        </p:spPr>
      </p:pic>
      <p:pic>
        <p:nvPicPr>
          <p:cNvPr id="348" name="Подзаголовок 11" descr=""/>
          <p:cNvPicPr/>
          <p:nvPr/>
        </p:nvPicPr>
        <p:blipFill>
          <a:blip r:embed="rId2"/>
          <a:stretch/>
        </p:blipFill>
        <p:spPr>
          <a:xfrm>
            <a:off x="444600" y="1590840"/>
            <a:ext cx="8163000" cy="48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19240" y="2564280"/>
            <a:ext cx="914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34720" y="368280"/>
            <a:ext cx="24382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643200" y="285840"/>
            <a:ext cx="5276880" cy="59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2" name="Волна 10"/>
          <p:cNvSpPr/>
          <p:nvPr/>
        </p:nvSpPr>
        <p:spPr>
          <a:xfrm>
            <a:off x="428760" y="5643720"/>
            <a:ext cx="8429400" cy="928440"/>
          </a:xfrm>
          <a:custGeom>
            <a:avLst/>
            <a:gdLst>
              <a:gd name="textAreaLeft" fmla="*/ 0 w 8429400"/>
              <a:gd name="textAreaRight" fmla="*/ 8429400 w 8429400"/>
              <a:gd name="textAreaTop" fmla="*/ 232200 h 928440"/>
              <a:gd name="textAreaBottom" fmla="*/ 6966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1"/>
                </a:solidFill>
                <a:latin typeface="Century Gothic"/>
              </a:rPr>
              <a:t>Как вы думаете, что имел в виду ученый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3" name="Вертикальный свиток 16"/>
          <p:cNvSpPr/>
          <p:nvPr/>
        </p:nvSpPr>
        <p:spPr>
          <a:xfrm>
            <a:off x="3357720" y="214200"/>
            <a:ext cx="5786280" cy="5072040"/>
          </a:xfrm>
          <a:prstGeom prst="verticalScroll">
            <a:avLst>
              <a:gd name="adj" fmla="val 12500"/>
            </a:avLst>
          </a:prstGeom>
          <a:solidFill>
            <a:srgbClr val="76a7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«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Весьма сомнительно, чтобы нашлись еще другие животные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(кроме дождевых червей), которые в истории земной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коры заняли бы столь видное место»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Чарльз Дарвин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4" name="Рисунок 7" descr="C:\Program Files\Образовательные комплексы\Основы общей биологии, 9 кл.\edu_r75_bio9\data\res\res9E3DFCE4-0A01-022A-0124-E20589A121C1"/>
          <p:cNvPicPr/>
          <p:nvPr/>
        </p:nvPicPr>
        <p:blipFill>
          <a:blip r:embed="rId1"/>
          <a:stretch/>
        </p:blipFill>
        <p:spPr>
          <a:xfrm>
            <a:off x="642960" y="285840"/>
            <a:ext cx="2928960" cy="30718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2" descr="C:\Documents and Settings\Ученик\Рабочий стол\фото урок\ч2.bmp"/>
          <p:cNvPicPr/>
          <p:nvPr/>
        </p:nvPicPr>
        <p:blipFill>
          <a:blip r:embed="rId2"/>
          <a:stretch/>
        </p:blipFill>
        <p:spPr>
          <a:xfrm>
            <a:off x="1143000" y="3571920"/>
            <a:ext cx="1857240" cy="185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3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Заголовок 1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242560" cy="1431720"/>
          </a:xfrm>
          <a:prstGeom prst="rect">
            <a:avLst/>
          </a:prstGeom>
          <a:ln w="0">
            <a:noFill/>
          </a:ln>
        </p:spPr>
      </p:pic>
      <p:pic>
        <p:nvPicPr>
          <p:cNvPr id="357" name="Под микроскопа.wmv" descr=""/>
          <p:cNvPicPr/>
          <p:nvPr/>
        </p:nvPicPr>
        <p:blipFill>
          <a:blip r:embed="rId2"/>
          <a:stretch/>
        </p:blipFill>
        <p:spPr>
          <a:xfrm>
            <a:off x="214200" y="1643040"/>
            <a:ext cx="5572080" cy="485784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 txBox="1"/>
          <p:nvPr/>
        </p:nvSpPr>
        <p:spPr>
          <a:xfrm>
            <a:off x="5715000" y="1571400"/>
            <a:ext cx="328608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90000"/>
              </a:lnSpc>
              <a:spcBef>
                <a:spcPts val="476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entury Gothic"/>
              </a:rPr>
              <a:t>Рассмотрите внешнее строение дождевого червя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entury Gothic"/>
              </a:rPr>
              <a:t>Определите форму тела, окраску, передний и задний конец тела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entury Gothic"/>
              </a:rPr>
              <a:t>Обратите внимание на кольчатое (членистое) строение тела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entury Gothic"/>
              </a:rPr>
              <a:t>Чем заполнен пищеварительный канал червя?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1360" fill="hold"/>
                                        <p:tgtEl>
                                          <p:spTgt spid="3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357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5" dur="1" fill="hold"/>
                                        <p:tgtEl>
                                          <p:spTgt spid="3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Заголовок 6" descr=""/>
          <p:cNvPicPr/>
          <p:nvPr/>
        </p:nvPicPr>
        <p:blipFill>
          <a:blip r:embed="rId1"/>
          <a:stretch/>
        </p:blipFill>
        <p:spPr>
          <a:xfrm>
            <a:off x="536400" y="-96840"/>
            <a:ext cx="8071200" cy="131616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541440" y="2249640"/>
            <a:ext cx="8061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1" name="Содержимое 3" descr="Worms03_03[1].jpg"/>
          <p:cNvPicPr/>
          <p:nvPr/>
        </p:nvPicPr>
        <p:blipFill>
          <a:blip r:embed="rId2"/>
          <a:stretch/>
        </p:blipFill>
        <p:spPr>
          <a:xfrm>
            <a:off x="357120" y="1214280"/>
            <a:ext cx="8429760" cy="5286600"/>
          </a:xfrm>
          <a:prstGeom prst="rect">
            <a:avLst/>
          </a:prstGeom>
          <a:ln w="0">
            <a:noFill/>
          </a:ln>
        </p:spPr>
      </p:pic>
      <p:sp>
        <p:nvSpPr>
          <p:cNvPr id="362" name="TextBox 11" hidden="1"/>
          <p:cNvSpPr/>
          <p:nvPr/>
        </p:nvSpPr>
        <p:spPr>
          <a:xfrm>
            <a:off x="7143840" y="6072120"/>
            <a:ext cx="1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Заголовок 1" descr=""/>
          <p:cNvPicPr/>
          <p:nvPr/>
        </p:nvPicPr>
        <p:blipFill>
          <a:blip r:embed="rId1"/>
          <a:stretch/>
        </p:blipFill>
        <p:spPr>
          <a:xfrm>
            <a:off x="536400" y="-23760"/>
            <a:ext cx="8071200" cy="131616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541440" y="2249640"/>
            <a:ext cx="8061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5" name="Picture 2" descr="C:\Documents and Settings\Ученик\Рабочий стол\фото урок\Worms03_14[1].jpg"/>
          <p:cNvPicPr/>
          <p:nvPr/>
        </p:nvPicPr>
        <p:blipFill>
          <a:blip r:embed="rId2"/>
          <a:stretch/>
        </p:blipFill>
        <p:spPr>
          <a:xfrm>
            <a:off x="357120" y="1357200"/>
            <a:ext cx="842976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Заголовок 1" descr=""/>
          <p:cNvPicPr/>
          <p:nvPr/>
        </p:nvPicPr>
        <p:blipFill>
          <a:blip r:embed="rId1"/>
          <a:stretch/>
        </p:blipFill>
        <p:spPr>
          <a:xfrm>
            <a:off x="450720" y="165240"/>
            <a:ext cx="8242560" cy="981000"/>
          </a:xfrm>
          <a:prstGeom prst="rect">
            <a:avLst/>
          </a:prstGeom>
          <a:ln w="0">
            <a:noFill/>
          </a:ln>
        </p:spPr>
      </p:pic>
      <p:pic>
        <p:nvPicPr>
          <p:cNvPr id="367" name="Содержимое 3" descr=""/>
          <p:cNvPicPr/>
          <p:nvPr/>
        </p:nvPicPr>
        <p:blipFill>
          <a:blip r:embed="rId2"/>
          <a:stretch/>
        </p:blipFill>
        <p:spPr>
          <a:xfrm>
            <a:off x="450720" y="1122480"/>
            <a:ext cx="8255160" cy="5467320"/>
          </a:xfrm>
          <a:prstGeom prst="rect">
            <a:avLst/>
          </a:prstGeom>
          <a:ln w="0">
            <a:noFill/>
          </a:ln>
        </p:spPr>
      </p:pic>
      <p:sp>
        <p:nvSpPr>
          <p:cNvPr id="368" name="TextBox 4"/>
          <p:cNvSpPr/>
          <p:nvPr/>
        </p:nvSpPr>
        <p:spPr>
          <a:xfrm>
            <a:off x="2428920" y="5715000"/>
            <a:ext cx="40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Около 12000 видов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3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Заголовок 3" descr=""/>
          <p:cNvPicPr/>
          <p:nvPr/>
        </p:nvPicPr>
        <p:blipFill>
          <a:blip r:embed="rId1"/>
          <a:stretch/>
        </p:blipFill>
        <p:spPr>
          <a:xfrm>
            <a:off x="536400" y="152280"/>
            <a:ext cx="8071200" cy="927360"/>
          </a:xfrm>
          <a:prstGeom prst="rect">
            <a:avLst/>
          </a:prstGeom>
          <a:ln w="0">
            <a:noFill/>
          </a:ln>
        </p:spPr>
      </p:pic>
      <p:pic>
        <p:nvPicPr>
          <p:cNvPr id="370" name="Подзаголовок 4" descr=""/>
          <p:cNvPicPr/>
          <p:nvPr/>
        </p:nvPicPr>
        <p:blipFill>
          <a:blip r:embed="rId2"/>
          <a:stretch/>
        </p:blipFill>
        <p:spPr>
          <a:xfrm>
            <a:off x="401760" y="1090440"/>
            <a:ext cx="816912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езентация к уроку разработана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учителем биологии высшей категории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МОУ лицея №2 г. Волгограда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Шепелевой Ириной Валентиновной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12:48:19Z</dcterms:created>
  <dc:creator>Шепелева Ирина Валентиновна</dc:creator>
  <dc:description/>
  <dc:language>en-US</dc:language>
  <cp:lastModifiedBy>КарМаН</cp:lastModifiedBy>
  <dcterms:modified xsi:type="dcterms:W3CDTF">2011-08-18T09:09:04Z</dcterms:modified>
  <cp:revision>59</cp:revision>
  <dc:subject>Тип Кольчатые черви Класс Малощетинковые</dc:subject>
  <dc:title>Презентация к уроку</dc:title>
</cp:coreProperties>
</file>