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еник" initials="У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0-10-03T12:47:16.07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76F-A0F7-42B9-8AA8-9EB22354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A9B-C8A5-4CDF-BD47-CEC44B30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015-7A5C-4632-B7BC-112D8690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214-E977-419E-98E2-C83E71D7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C221-7B88-40B8-93CF-E730F216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2875-203E-4B96-98F5-3DE4C44C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853E-1355-44AF-B825-94E34B0E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A52F-2066-4B0E-AD32-2D5BF8ED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5A61-FFC5-4BBA-B771-E8DF1DEC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8E28-065C-4D09-81DD-D6F5E04C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A7BD-5746-4C40-B3E6-191838F6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D57-97C2-44D2-89CB-5F6B0473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4160-28C8-412E-8668-37152B04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F39B-D11B-4D3B-80D9-D049F116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1EB8-0AD0-4CE7-BC55-23495FB3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2B55-6353-438D-95DE-0D51CACB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80F8-5001-4E21-90A2-DCD5FAA2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34D0-9CE3-48CA-A776-02C6AD43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CEEEB-CAA3-4DE3-81BE-B2937C52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5C55-57D2-4667-BD91-56180A9B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FFA0-10C2-4E1C-BDB1-F6282581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3C38B-9D64-4DB0-91C3-B89211F0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1D0-1277-4B78-A540-04646E12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A3E2C-9E11-476B-B1E8-455B1DBE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B464F-A4E4-4529-9D72-C34E088B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5567-BAE1-4DF0-B8E2-5BE378BD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D62E-D3DD-45B7-95DB-0A1B8230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11603-8EB2-48CE-9B80-AB93BD4E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84CA4-CB1D-468C-B5E6-9EA2673E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38A39-94A0-436E-A444-756F1ED1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84EC8-D147-4DF4-8785-05FB06E1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ECE6F-AC88-4AD3-B309-D6F184DC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3C06-CDE4-4905-ABE9-3E011AAC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820-2B30-4F16-99AE-3367D0D1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FAFB9-BBF1-48DE-BE96-E4BB1430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CF35A-160C-48A0-869E-A1D483FD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5468D-39D0-4F20-9B7E-5D55D8A2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93447-C887-4ABD-8061-917976A8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A9E87-E25C-4A43-A0C6-B99680DD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7C048-04AF-464C-A5C6-2FCB9A79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44E06-E7E3-47F4-876E-C8C5673B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870E9-9AE4-4716-BF02-F9A1AC98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13060-C6F6-42E7-A061-97953667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F2D10-11D5-4C02-9013-09411E26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446-AC29-40F1-8796-ADFDFDD6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3E197-D8D7-4B56-844F-440D6ED8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150B0-9C7C-45DA-BC17-33ED3519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95F3C-662B-4480-BA2B-808F5066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B41FB-C5A8-4BE9-96B1-5B6AD888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09ED0-187C-4271-B199-F28A8E8D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732F6-0F73-430A-A952-6BF2C706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9DA9A-564A-4C4F-A395-248EE0FA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6210F-1E27-42EC-BE7B-50763CBB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6120D-1A3B-4858-96C8-A760DDBB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37DB5-D314-4F8C-A5BD-D7F74375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576-80A9-45C2-A391-58BE9145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DA6DF-C718-49BC-BB7E-1A108F7E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2E43D-5F47-48AB-A025-1FA102FF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85243-5E4A-476D-A65C-922E477C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35ED6-6D75-4164-BCB0-910BC0B0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00BF8-6141-4202-B311-76158C4C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BDDA4-15B0-4160-978E-B1AC385F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943D5-2F81-4336-BEA4-B55DED36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2C1C0-E49E-4AF9-8E4D-4BE540B1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9D324-A864-47C0-838A-ED7FE898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8A872-18D0-48B7-AFC4-2E19795A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DF5-8B48-4C0E-98BB-27DEAC54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08EE1-DC1C-4DF2-886F-430F915A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6BF0F-BABC-4803-ACAE-5510E3F8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3B35A-EDA0-4D3B-BF25-29EB37A6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C63C6-64E6-466D-A119-BA49E9DB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57252-486C-4DF9-8802-E31B019D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251A6-0BB7-4104-A800-56C8A292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FD4C4-DF56-472A-A3DA-EF7BE7E9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41ACC-4F5F-4164-86BF-0D24E45E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D42D5-7B53-4F07-8D3E-D7F16AF5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EAE8B-57AF-45A2-BCDF-8E6FE982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2A2-CC07-47D3-AE2B-3F6E2FF4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D5533-EFA0-4C0E-B2A2-D9E07678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862D4-2639-46EF-8846-4AC1F33A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E5081-F295-481A-9FC5-7E1C3034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72478-9B24-422A-B859-E07F7F5F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B07FD-F556-4589-BB7B-461CCC7F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B8EE3-75FE-45A1-8A86-3AF34F67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B009D-A908-428E-AF50-E7AA9051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88E4C-C4D2-4519-A038-B752A574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B4014-03DE-4AAF-AE18-B20C0955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C7122-F8F2-4933-851B-916B099F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52A-94AC-4F4B-98BA-B9B6FD02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45B3C-98EB-4828-9DFE-3DBF6730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4E56B-FC48-4D4E-ADD4-9F56DF4B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5D26C-FB7B-499E-BEA0-73C6CD3E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ED14E-D9A0-474A-81DB-FA47A669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4D358-9C8E-4D2A-8383-9BC73343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1268B-E5E5-451A-9445-041F3CF3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6C88A-4E38-48D4-A281-8AF27B19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D1B6-49F2-490C-B68E-FC86A5071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9768-E590-4B08-B5EA-199EFEC932F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B684-A0BA-43D3-8575-06B988C66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479D-028F-498F-8062-F091EAC525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9AE3-A6DA-4FD1-B7D3-B6E7D8F21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001C-D907-41AF-B3EB-9EEB1CC7F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FF25-5DF4-415A-B8BE-44EE6CE2439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0234-8ADA-4ED7-961F-720856D761F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141444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8435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0" descr=""/>
          <p:cNvPicPr/>
          <p:nvPr/>
        </p:nvPicPr>
        <p:blipFill>
          <a:blip r:embed="rId1"/>
          <a:stretch/>
        </p:blipFill>
        <p:spPr>
          <a:xfrm>
            <a:off x="536400" y="139680"/>
            <a:ext cx="8071200" cy="1292400"/>
          </a:xfrm>
          <a:prstGeom prst="rect">
            <a:avLst/>
          </a:prstGeom>
          <a:ln w="0">
            <a:noFill/>
          </a:ln>
        </p:spPr>
      </p:pic>
      <p:pic>
        <p:nvPicPr>
          <p:cNvPr id="348" name="Подзаголовок 11" descr=""/>
          <p:cNvPicPr/>
          <p:nvPr/>
        </p:nvPicPr>
        <p:blipFill>
          <a:blip r:embed="rId2"/>
          <a:stretch/>
        </p:blipFill>
        <p:spPr>
          <a:xfrm>
            <a:off x="444600" y="1590840"/>
            <a:ext cx="816300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240" y="2564280"/>
            <a:ext cx="914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34720" y="368280"/>
            <a:ext cx="243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643200" y="285840"/>
            <a:ext cx="5276880" cy="59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Волна 10"/>
          <p:cNvSpPr/>
          <p:nvPr/>
        </p:nvSpPr>
        <p:spPr>
          <a:xfrm>
            <a:off x="428760" y="5643720"/>
            <a:ext cx="8429400" cy="928440"/>
          </a:xfrm>
          <a:custGeom>
            <a:avLst/>
            <a:gdLst>
              <a:gd name="textAreaLeft" fmla="*/ 0 w 8429400"/>
              <a:gd name="textAreaRight" fmla="*/ 8429400 w 842940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1"/>
                </a:solidFill>
                <a:latin typeface="Century Gothic"/>
              </a:rPr>
              <a:t>Как вы думаете, что имел в виду ученый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Вертикальный свиток 16"/>
          <p:cNvSpPr/>
          <p:nvPr/>
        </p:nvSpPr>
        <p:spPr>
          <a:xfrm>
            <a:off x="3357720" y="214200"/>
            <a:ext cx="5786280" cy="5072040"/>
          </a:xfrm>
          <a:prstGeom prst="verticalScroll">
            <a:avLst>
              <a:gd name="adj" fmla="val 12500"/>
            </a:avLst>
          </a:prstGeom>
          <a:solidFill>
            <a:srgbClr val="76a7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Весьма сомнительно, чтобы нашлись еще другие животны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кроме дождевых червей), которые в истории земной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коры заняли бы столь видное место»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Чарльз Дарвин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7" descr="C:\Program Files\Образовательные комплексы\Основы общей биологии, 9 кл.\edu_r75_bio9\data\res\res9E3DFCE4-0A01-022A-0124-E20589A121C1"/>
          <p:cNvPicPr/>
          <p:nvPr/>
        </p:nvPicPr>
        <p:blipFill>
          <a:blip r:embed="rId1"/>
          <a:stretch/>
        </p:blipFill>
        <p:spPr>
          <a:xfrm>
            <a:off x="642960" y="28584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Documents and Settings\Ученик\Рабочий стол\фото урок\ч2.bmp"/>
          <p:cNvPicPr/>
          <p:nvPr/>
        </p:nvPicPr>
        <p:blipFill>
          <a:blip r:embed="rId2"/>
          <a:stretch/>
        </p:blipFill>
        <p:spPr>
          <a:xfrm>
            <a:off x="1143000" y="357192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431720"/>
          </a:xfrm>
          <a:prstGeom prst="rect">
            <a:avLst/>
          </a:prstGeom>
          <a:ln w="0">
            <a:noFill/>
          </a:ln>
        </p:spPr>
      </p:pic>
      <p:pic>
        <p:nvPicPr>
          <p:cNvPr id="357" name="Под микроскопа.wmv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5572080" cy="4857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5715000" y="1571400"/>
            <a:ext cx="32860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Рассмотрите внешнее строение дождевого червя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пределите форму тела, окраску, передний и задний конец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братите внимание на кольчатое (членистое) строение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Чем заполнен пищеварительный канал червя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360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6" descr=""/>
          <p:cNvPicPr/>
          <p:nvPr/>
        </p:nvPicPr>
        <p:blipFill>
          <a:blip r:embed="rId1"/>
          <a:stretch/>
        </p:blipFill>
        <p:spPr>
          <a:xfrm>
            <a:off x="536400" y="-9684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Содержимое 3" descr="Worms03_03[1].jpg"/>
          <p:cNvPicPr/>
          <p:nvPr/>
        </p:nvPicPr>
        <p:blipFill>
          <a:blip r:embed="rId2"/>
          <a:stretch/>
        </p:blipFill>
        <p:spPr>
          <a:xfrm>
            <a:off x="357120" y="1214280"/>
            <a:ext cx="8429760" cy="52866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1" hidden="1"/>
          <p:cNvSpPr/>
          <p:nvPr/>
        </p:nvSpPr>
        <p:spPr>
          <a:xfrm>
            <a:off x="7143840" y="607212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536400" y="-2376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C:\Documents and Settings\Ученик\Рабочий стол\фото урок\Worms03_14[1].jpg"/>
          <p:cNvPicPr/>
          <p:nvPr/>
        </p:nvPicPr>
        <p:blipFill>
          <a:blip r:embed="rId2"/>
          <a:stretch/>
        </p:blipFill>
        <p:spPr>
          <a:xfrm>
            <a:off x="3571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98100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3" descr=""/>
          <p:cNvPicPr/>
          <p:nvPr/>
        </p:nvPicPr>
        <p:blipFill>
          <a:blip r:embed="rId2"/>
          <a:stretch/>
        </p:blipFill>
        <p:spPr>
          <a:xfrm>
            <a:off x="450720" y="1122480"/>
            <a:ext cx="8255160" cy="54673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2428920" y="57150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Около 12000 видов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3" descr=""/>
          <p:cNvPicPr/>
          <p:nvPr/>
        </p:nvPicPr>
        <p:blipFill>
          <a:blip r:embed="rId1"/>
          <a:stretch/>
        </p:blipFill>
        <p:spPr>
          <a:xfrm>
            <a:off x="536400" y="152280"/>
            <a:ext cx="8071200" cy="927360"/>
          </a:xfrm>
          <a:prstGeom prst="rect">
            <a:avLst/>
          </a:prstGeom>
          <a:ln w="0">
            <a:noFill/>
          </a:ln>
        </p:spPr>
      </p:pic>
      <p:pic>
        <p:nvPicPr>
          <p:cNvPr id="370" name="Подзаголовок 4" descr=""/>
          <p:cNvPicPr/>
          <p:nvPr/>
        </p:nvPicPr>
        <p:blipFill>
          <a:blip r:embed="rId2"/>
          <a:stretch/>
        </p:blipFill>
        <p:spPr>
          <a:xfrm>
            <a:off x="401760" y="1090440"/>
            <a:ext cx="8169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зентация к уроку разработан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ем биологии высшей категор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У лицея №2 г. Волгогра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епелевой Ириной Валентиновно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48:19Z</dcterms:created>
  <dc:creator>Шепелева Ирина Валентиновна</dc:creator>
  <dc:description/>
  <dc:language>en-US</dc:language>
  <cp:lastModifiedBy>КарМаН</cp:lastModifiedBy>
  <dcterms:modified xsi:type="dcterms:W3CDTF">2011-08-18T09:09:04Z</dcterms:modified>
  <cp:revision>59</cp:revision>
  <dc:subject>Тип Кольчатые черви Класс Малощетинковые</dc:subject>
  <dc:title>Презентация к уроку</dc:title>
</cp:coreProperties>
</file>