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73.png" ContentType="image/png"/>
  <Override PartName="/ppt/media/image56.png" ContentType="image/png"/>
  <Override PartName="/ppt/media/image40.jpeg" ContentType="image/jpeg"/>
  <Override PartName="/ppt/media/image53.jpeg" ContentType="image/jpeg"/>
  <Override PartName="/ppt/media/image49.jpeg" ContentType="image/jpeg"/>
  <Override PartName="/ppt/media/image51.wmf" ContentType="image/x-wmf"/>
  <Override PartName="/ppt/media/image48.png" ContentType="image/png"/>
  <Override PartName="/ppt/media/image45.jpeg" ContentType="image/jpeg"/>
  <Override PartName="/ppt/media/image46.jpeg" ContentType="image/jpeg"/>
  <Override PartName="/ppt/media/image3.wmf" ContentType="image/x-wmf"/>
  <Override PartName="/ppt/media/image44.jpeg" ContentType="image/jpeg"/>
  <Override PartName="/ppt/media/image57.jpeg" ContentType="image/jpeg"/>
  <Override PartName="/ppt/media/image20.wmf" ContentType="image/x-wmf"/>
  <Override PartName="/ppt/media/image63.png" ContentType="image/png"/>
  <Override PartName="/ppt/media/image43.png" ContentType="image/png"/>
  <Override PartName="/ppt/media/image41.jpeg" ContentType="image/jpeg"/>
  <Override PartName="/ppt/media/image23.wmf" ContentType="image/x-wmf"/>
  <Override PartName="/ppt/media/image42.wmf" ContentType="image/x-wmf"/>
  <Override PartName="/ppt/media/image4.wmf" ContentType="image/x-wmf"/>
  <Override PartName="/ppt/media/image2.wmf" ContentType="image/x-wmf"/>
  <Override PartName="/ppt/media/image15.png" ContentType="image/png"/>
  <Override PartName="/ppt/media/image55.wmf" ContentType="image/x-wmf"/>
  <Override PartName="/ppt/media/image16.jpeg" ContentType="image/jpeg"/>
  <Override PartName="/ppt/media/image77.wmf" ContentType="image/x-wmf"/>
  <Override PartName="/ppt/media/image7.png" ContentType="image/png"/>
  <Override PartName="/ppt/media/image19.wmf" ContentType="image/x-wmf"/>
  <Override PartName="/ppt/media/image21.wmf" ContentType="image/x-wmf"/>
  <Override PartName="/ppt/media/image60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33.wmf" ContentType="image/x-wmf"/>
  <Override PartName="/ppt/media/image72.png" ContentType="image/png"/>
  <Override PartName="/ppt/media/image75.jpeg" ContentType="image/jpeg"/>
  <Override PartName="/ppt/media/image36.png" ContentType="image/png"/>
  <Override PartName="/ppt/media/image76.jpeg" ContentType="image/jpeg"/>
  <Override PartName="/ppt/media/image71.jpeg" ContentType="image/jpeg"/>
  <Override PartName="/ppt/media/image70.png" ContentType="image/png"/>
  <Override PartName="/ppt/media/image17.jpeg" ContentType="image/jpeg"/>
  <Override PartName="/ppt/media/image26.png" ContentType="image/png"/>
  <Override PartName="/ppt/media/image66.wmf" ContentType="image/x-wmf"/>
  <Override PartName="/ppt/media/image78.jpeg" ContentType="image/jpeg"/>
  <Override PartName="/ppt/media/image61.jpeg" ContentType="image/jpeg"/>
  <Override PartName="/ppt/media/image8.wmf" ContentType="image/x-wmf"/>
  <Override PartName="/ppt/media/image38.wmf" ContentType="image/x-wmf"/>
  <Override PartName="/ppt/media/image69.jpeg" ContentType="image/jpeg"/>
  <Override PartName="/ppt/media/image9.wmf" ContentType="image/x-wmf"/>
  <Override PartName="/ppt/media/image67.wmf" ContentType="image/x-wmf"/>
  <Override PartName="/ppt/media/image29.wmf" ContentType="image/x-wmf"/>
  <Override PartName="/ppt/media/image65.jpeg" ContentType="image/jpeg"/>
  <Override PartName="/ppt/media/image62.png" ContentType="image/png"/>
  <Override PartName="/ppt/media/image5.wmf" ContentType="image/x-wmf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18.wmf" ContentType="image/x-wmf"/>
  <Override PartName="/ppt/media/image6.wmf" ContentType="image/x-wmf"/>
  <Override PartName="/ppt/media/image14.png" ContentType="image/png"/>
  <Override PartName="/ppt/media/image28.jpeg" ContentType="image/jpeg"/>
  <Override PartName="/ppt/media/image11.jpeg" ContentType="image/jpeg"/>
  <Override PartName="/ppt/media/image12.jpeg" ContentType="image/jpeg"/>
  <Override PartName="/ppt/media/image74.jpeg" ContentType="image/jpeg"/>
  <Override PartName="/ppt/media/image34.png" ContentType="image/png"/>
  <Override PartName="/ppt/media/image1.png" ContentType="image/png"/>
  <Override PartName="/ppt/media/image13.png" ContentType="image/png"/>
  <Override PartName="/ppt/media/image54.jpeg" ContentType="image/jpeg"/>
  <Override PartName="/ppt/media/image30.png" ContentType="image/png"/>
  <Override PartName="/ppt/media/image37.jpeg" ContentType="image/jpeg"/>
  <Override PartName="/ppt/media/image32.png" ContentType="image/png"/>
  <Override PartName="/ppt/media/image68.wmf" ContentType="image/x-wmf"/>
  <Override PartName="/ppt/media/image35.jpeg" ContentType="image/jpeg"/>
  <Override PartName="/ppt/media/image64.jpeg" ContentType="image/jpeg"/>
  <Override PartName="/ppt/media/image3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1837-5374-4095-9ED8-2239E5B2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2CAE-4A76-4976-942F-6807CC9D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C13-A1E8-4211-A1B6-7050398E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E0D-2C21-4493-A1F0-82584595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675-1486-4F19-8BF8-E7B9750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A09-CBB4-4DF9-B997-8914A59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16D-70CF-422F-92D8-F32C46B7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DBF-A4E5-4EF7-A8AE-7E17AAC0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548-4F67-416F-879B-FC8550F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4ED-251D-4892-9E53-7B05B3EE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D28D-D008-4A31-8CA8-53D4CA7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EF9-8A9D-43E9-AE93-6084D38C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ABFE-0C07-4F0F-A845-039F1E607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png"/><Relationship Id="rId4" Type="http://schemas.openxmlformats.org/officeDocument/2006/relationships/image" Target="../media/image29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image" Target="../media/image71.jpe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74.jpeg"/><Relationship Id="rId7" Type="http://schemas.openxmlformats.org/officeDocument/2006/relationships/image" Target="../media/image75.jpeg"/><Relationship Id="rId8" Type="http://schemas.openxmlformats.org/officeDocument/2006/relationships/image" Target="../media/image76.jpeg"/><Relationship Id="rId9" Type="http://schemas.openxmlformats.org/officeDocument/2006/relationships/image" Target="../media/image33.wm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.png"/><Relationship Id="rId3" Type="http://schemas.openxmlformats.org/officeDocument/2006/relationships/image" Target="../media/image7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7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wmf"/><Relationship Id="rId3" Type="http://schemas.openxmlformats.org/officeDocument/2006/relationships/image" Target="../media/image9.wmf"/><Relationship Id="rId4" Type="http://schemas.openxmlformats.org/officeDocument/2006/relationships/image" Target="../media/image7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7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3480" y="1809720"/>
            <a:ext cx="50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3120" y="388620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: Лабунец Ольга Юрье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7040" y="4495680"/>
            <a:ext cx="60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биологии МОУ СОШ №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4160" y="510552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Мытищ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40120" y="3618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1280" y="909720"/>
            <a:ext cx="3518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6600" y="1432080"/>
            <a:ext cx="513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не имеющ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3080" y="1803240"/>
            <a:ext cx="5804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ек расположены на обще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81840" y="2173320"/>
            <a:ext cx="2215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си соцветия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3320" y="2890800"/>
            <a:ext cx="257652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60240" y="6335640"/>
            <a:ext cx="142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4880" y="2890800"/>
            <a:ext cx="2576160" cy="37051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840" y="6292800"/>
            <a:ext cx="11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т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833480" cy="5879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441600" y="2975040"/>
            <a:ext cx="2365560" cy="3284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0400" y="2975040"/>
            <a:ext cx="2408400" cy="3284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1346040" y="7953480"/>
            <a:ext cx="6269040" cy="1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69288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63520" y="792000"/>
            <a:ext cx="385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01800" y="1392120"/>
            <a:ext cx="538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ы на цветоножках выходят и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77320" y="1760400"/>
            <a:ext cx="364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ршины оси соцве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2286000" cy="4724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2819520"/>
            <a:ext cx="28544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867280"/>
            <a:ext cx="164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2727360" cy="30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19920" y="2819520"/>
            <a:ext cx="2852640" cy="34732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5943600"/>
            <a:ext cx="141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тот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095880" y="2895480"/>
            <a:ext cx="2716200" cy="2959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736560" y="8859960"/>
            <a:ext cx="5959440" cy="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92440" y="31104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10800" y="735120"/>
            <a:ext cx="39798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початок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46720" y="1263600"/>
            <a:ext cx="529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толстой, обычно мясистой ос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50320" y="1622520"/>
            <a:ext cx="501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ветия располагаются цвет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58960" y="1981080"/>
            <a:ext cx="385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имеющие цветоно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66920" y="2428920"/>
            <a:ext cx="2451240" cy="20368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47960" y="4214880"/>
            <a:ext cx="161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елокрыльник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4738680"/>
            <a:ext cx="2438280" cy="18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56160" y="4587840"/>
            <a:ext cx="2490840" cy="21193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720" y="6324480"/>
            <a:ext cx="1061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нтуриум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2428920"/>
            <a:ext cx="2492280" cy="2077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97400" y="425448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Аи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555480"/>
            <a:ext cx="2165400" cy="5499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7920" y="2511360"/>
            <a:ext cx="2287800" cy="16700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67440" y="2511360"/>
            <a:ext cx="2368440" cy="167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95760" y="4670280"/>
            <a:ext cx="2411640" cy="1589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814320" y="8148600"/>
            <a:ext cx="6429600" cy="1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450600" y="220680"/>
            <a:ext cx="39859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5280" y="673200"/>
            <a:ext cx="3853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голов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21000" y="1266840"/>
            <a:ext cx="569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короченном (часто утолщен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30360" y="1628640"/>
            <a:ext cx="432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ем 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4960" y="1990800"/>
            <a:ext cx="486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сидячие цве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8000" y="2689200"/>
            <a:ext cx="2847960" cy="250992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96440" y="4829040"/>
            <a:ext cx="109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в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49800" y="2671920"/>
            <a:ext cx="2846520" cy="2509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01320" y="4803840"/>
            <a:ext cx="171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дов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" y="960480"/>
            <a:ext cx="2309760" cy="4649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160800" y="2771640"/>
            <a:ext cx="268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32600" y="2771640"/>
            <a:ext cx="268128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660240" y="8481960"/>
            <a:ext cx="5389560" cy="1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981960" y="21924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8920" y="696960"/>
            <a:ext cx="417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корз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6960" y="1452600"/>
            <a:ext cx="4924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утолщенном и расширенн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18520" y="1820880"/>
            <a:ext cx="474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оже соцветия располагаю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35080" y="2190600"/>
            <a:ext cx="5151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лкие сидячие цветки. Снаруж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8040" y="2558880"/>
            <a:ext cx="535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то соцветие защищено зеле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89000" y="2928960"/>
            <a:ext cx="324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тьями - обер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30320" y="4076640"/>
            <a:ext cx="243828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55840" y="59133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960" y="4076640"/>
            <a:ext cx="2438640" cy="21384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3640" y="59133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53360" y="4119480"/>
            <a:ext cx="2438280" cy="209556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18200" y="5880240"/>
            <a:ext cx="165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09480" y="681120"/>
            <a:ext cx="2984760" cy="29350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071720" y="4119480"/>
            <a:ext cx="2354040" cy="1719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805200" y="4160880"/>
            <a:ext cx="2270160" cy="16779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96200" y="4203720"/>
            <a:ext cx="2354040" cy="1635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584280" y="8664480"/>
            <a:ext cx="6029280" cy="1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66640" y="29700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720" y="820800"/>
            <a:ext cx="3781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щ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36840" y="1378080"/>
            <a:ext cx="588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а удлиненном общем цветоносном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15600" y="1749600"/>
            <a:ext cx="5273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беге располагаются цветки н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30720" y="2120760"/>
            <a:ext cx="5929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 разной длины - нижние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35760" y="2492280"/>
            <a:ext cx="5680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более длинные, а верхние - короче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3462480"/>
            <a:ext cx="27529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6360" y="569124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38720" y="3546360"/>
            <a:ext cx="2751120" cy="253368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87880" y="5734080"/>
            <a:ext cx="171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довая груш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803160"/>
            <a:ext cx="2158920" cy="47707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18040" y="3546360"/>
            <a:ext cx="2581200" cy="20703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222960" y="3632040"/>
            <a:ext cx="2583000" cy="2025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736560" y="8545680"/>
            <a:ext cx="5816520" cy="1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9640" y="372960"/>
            <a:ext cx="4118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9560" y="912960"/>
            <a:ext cx="4078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зави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62760" y="1573200"/>
            <a:ext cx="484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главной оси несущей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9160" y="1949400"/>
            <a:ext cx="4641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к, ниже отходит другая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71760" y="2327400"/>
            <a:ext cx="573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дноцветковая ось, затем третья, 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85800" y="2703600"/>
            <a:ext cx="476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далее более молодая часть 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86880" y="3081240"/>
            <a:ext cx="492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нераспустившимися цветкам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46560" y="4556160"/>
            <a:ext cx="430200" cy="7286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588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4240" y="6004080"/>
            <a:ext cx="118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забу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35840" y="3956040"/>
            <a:ext cx="2751120" cy="240048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88040" y="600408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пни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698400"/>
            <a:ext cx="2149200" cy="51008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211560" y="3998880"/>
            <a:ext cx="2579760" cy="1971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221520" y="4041720"/>
            <a:ext cx="2620800" cy="1928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36560" y="8575560"/>
            <a:ext cx="6018120" cy="18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60640" y="2970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11200" y="766800"/>
            <a:ext cx="5834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зонти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3240" y="1494000"/>
            <a:ext cx="336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 верхушки общего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67120" y="1870200"/>
            <a:ext cx="478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сного побега отходят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7480" y="2246400"/>
            <a:ext cx="278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остые зонтик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97320" y="3230640"/>
            <a:ext cx="265896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6240" y="52754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рков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27640" y="3273480"/>
            <a:ext cx="2659320" cy="235260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2040" y="527544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р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09480" y="1305000"/>
            <a:ext cx="2573280" cy="4919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483000" y="3316320"/>
            <a:ext cx="2487600" cy="18381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6313320" y="3359160"/>
            <a:ext cx="2487960" cy="1881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584280" y="8628120"/>
            <a:ext cx="5925960" cy="1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987360" y="417600"/>
            <a:ext cx="4083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2280" y="919080"/>
            <a:ext cx="5499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80"/>
                </a:solidFill>
                <a:latin typeface="Arial"/>
              </a:rPr>
              <a:t>Соцветие  сложный кол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08520" y="149688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71080" y="186372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00960" y="2232000"/>
            <a:ext cx="518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олос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96280" y="2598840"/>
            <a:ext cx="430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щие из 2-3-х сидяч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26440" y="2965320"/>
            <a:ext cx="130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30840" y="3341520"/>
            <a:ext cx="2262240" cy="3257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90800" y="629748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шениц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0" y="3633840"/>
            <a:ext cx="3224160" cy="275580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73280" y="6130800"/>
            <a:ext cx="87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ч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5800" y="1504800"/>
            <a:ext cx="2386080" cy="4133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65640" y="3676680"/>
            <a:ext cx="3014640" cy="2421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715080" y="3425760"/>
            <a:ext cx="2094120" cy="28386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60240" y="8678880"/>
            <a:ext cx="6213600" cy="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206960" y="219240"/>
            <a:ext cx="3949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0000ff"/>
                </a:solidFill>
                <a:latin typeface="Arial"/>
              </a:rPr>
              <a:t>Сложные соцветия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57280" y="692280"/>
            <a:ext cx="39996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80"/>
                </a:solidFill>
                <a:latin typeface="Arial"/>
              </a:rPr>
              <a:t>Соцветие  метелка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78360" y="1353960"/>
            <a:ext cx="428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длинном, тонком общ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45600" y="1717560"/>
            <a:ext cx="3210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ветоносном побег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0640" y="2082960"/>
            <a:ext cx="471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олагаются простые ки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4960" y="3200400"/>
            <a:ext cx="2779920" cy="27320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0320" y="56768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ногра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120" y="1047600"/>
            <a:ext cx="2282760" cy="4637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38800" y="3282840"/>
            <a:ext cx="2614680" cy="2360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3200400"/>
            <a:ext cx="2738520" cy="2690640"/>
          </a:xfrm>
          <a:prstGeom prst="rect">
            <a:avLst/>
          </a:prstGeom>
          <a:noFill/>
          <a:ln w="33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74840" y="563580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92560" y="3282840"/>
            <a:ext cx="2531880" cy="2360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36560" y="8408880"/>
            <a:ext cx="5743440" cy="1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51040" y="457200"/>
            <a:ext cx="829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спрятано под табличка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63840"/>
            <a:ext cx="8229600" cy="500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1447920" cy="763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705720" y="1905120"/>
            <a:ext cx="1447560" cy="850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410080" y="5668920"/>
            <a:ext cx="1981440" cy="765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676520" cy="771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684800" y="-7920"/>
            <a:ext cx="60570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30960" y="973080"/>
            <a:ext cx="8292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1. Рассмотрите соцветия на гербарно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45720" y="1459080"/>
            <a:ext cx="545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материале или картинках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63720" y="2187720"/>
            <a:ext cx="7009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2. Определите, как расположены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3360" y="2673360"/>
            <a:ext cx="7593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цветки  у рассмотренных растений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82080" y="3160800"/>
            <a:ext cx="708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Пользуясь схемами в учебнике 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60120" y="3646440"/>
            <a:ext cx="76345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тетради, выясните, как называются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3800" y="4132440"/>
            <a:ext cx="2872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эти соцветия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38880" y="4757760"/>
            <a:ext cx="4630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3. Заполните таблицу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49320" y="5486400"/>
            <a:ext cx="6270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4. Сделайте вывод по итогам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50400" y="5972040"/>
            <a:ext cx="4789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лабораторной работы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0960" y="8204040"/>
            <a:ext cx="6476760" cy="1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914400" y="1239840"/>
            <a:ext cx="7953480" cy="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96640" y="151596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11040" y="1776240"/>
            <a:ext cx="104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49720" y="1546200"/>
            <a:ext cx="114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5296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77520" y="1508040"/>
            <a:ext cx="150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е ил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5840" y="1768320"/>
            <a:ext cx="97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ожн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72280" y="202896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1800" y="154620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51520" y="1806480"/>
            <a:ext cx="105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вет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7560" y="372960"/>
            <a:ext cx="6690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Заполните таблицу к лабораторной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74360" y="803160"/>
            <a:ext cx="1271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работе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90640" y="8612280"/>
            <a:ext cx="5940360" cy="1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14400" y="2590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086600" y="12193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295640" y="2954160"/>
            <a:ext cx="6857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аточный материал(картинк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2030400" cy="2530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884320" y="423720"/>
            <a:ext cx="1860840" cy="2530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4871880" y="423720"/>
            <a:ext cx="1987560" cy="2530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6986520" y="423720"/>
            <a:ext cx="1860480" cy="25304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72864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2716200" y="3543480"/>
            <a:ext cx="1944720" cy="2825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7"/>
          <a:stretch/>
        </p:blipFill>
        <p:spPr>
          <a:xfrm>
            <a:off x="4830840" y="3502080"/>
            <a:ext cx="1987560" cy="286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8"/>
          <a:stretch/>
        </p:blipFill>
        <p:spPr>
          <a:xfrm>
            <a:off x="6945480" y="3543480"/>
            <a:ext cx="1860480" cy="28256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9"/>
          <a:stretch/>
        </p:blipFill>
        <p:spPr>
          <a:xfrm>
            <a:off x="685800" y="8520120"/>
            <a:ext cx="6005520" cy="1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18640" y="297000"/>
            <a:ext cx="5252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к выводу: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58840" y="1428840"/>
            <a:ext cx="5775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1. Что называется соцветие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142884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93760" y="2394000"/>
            <a:ext cx="68817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. Каково биологическое значение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06280" y="2857680"/>
            <a:ext cx="18385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соцвет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61360" y="2857680"/>
            <a:ext cx="241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907920" y="7969320"/>
            <a:ext cx="6245280" cy="1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5181480" y="3262320"/>
            <a:ext cx="3200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61960" y="60948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полните те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8720" y="17431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6360" y="23860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63360" y="31003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8720" y="38419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3360" y="455616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74440" y="1743120"/>
            <a:ext cx="697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енчик и тычинки - главные части цветк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78760" y="3038400"/>
            <a:ext cx="6889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 пыльниках тычинок созревает пыльц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81280" y="3770280"/>
            <a:ext cx="68479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яблони и вишни цветок неправильны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15480" y="4573440"/>
            <a:ext cx="585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тюльпана околоцветник прост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67240" y="2413080"/>
            <a:ext cx="5148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Чашечка состоит из лепестк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5160" y="9593280"/>
            <a:ext cx="3213360" cy="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4880" y="5562720"/>
            <a:ext cx="447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авильные отве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4000" y="541008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3400" y="1366920"/>
            <a:ext cx="3640320" cy="324000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3920" y="4267080"/>
            <a:ext cx="187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кси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82640" y="5073480"/>
            <a:ext cx="3379680" cy="1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0480" y="1366920"/>
            <a:ext cx="3640320" cy="3244680"/>
          </a:xfrm>
          <a:prstGeom prst="rect">
            <a:avLst/>
          </a:prstGeom>
          <a:noFill/>
          <a:ln w="52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43760" y="4210200"/>
            <a:ext cx="1591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049720" y="5078520"/>
            <a:ext cx="3353040" cy="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глоксинии околоцветник двойной, а у тюльпана – прост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259240" y="1523880"/>
            <a:ext cx="3198960" cy="2686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990720" y="1523880"/>
            <a:ext cx="32763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19320" y="228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цветки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447920"/>
            <a:ext cx="312444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2925720" cy="2411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144792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447920"/>
            <a:ext cx="304812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2895480" cy="2398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2560" y="388620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0988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95288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  вишни цветки обоеполые, а у огурца - раздельнопол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39840" y="1467000"/>
            <a:ext cx="3137040" cy="279540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7960" y="1579680"/>
            <a:ext cx="2800440" cy="2346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41960" y="391464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4664160"/>
            <a:ext cx="2892600" cy="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2286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Чем отличаются эти растени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02360" y="1468440"/>
            <a:ext cx="3149640" cy="2805120"/>
          </a:xfrm>
          <a:prstGeom prst="rect">
            <a:avLst/>
          </a:pr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92720" y="3981600"/>
            <a:ext cx="95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ы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157720" y="4676760"/>
            <a:ext cx="2924280" cy="1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4952880"/>
            <a:ext cx="33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авильный отве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87692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ва относится к двудомным растениям, а тыква – к однодом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334120" y="1523880"/>
            <a:ext cx="2895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1440" y="0"/>
            <a:ext cx="28537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я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33000" y="-9360"/>
            <a:ext cx="4838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54280" y="119160"/>
            <a:ext cx="4232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группы цветк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60640" y="650880"/>
            <a:ext cx="81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сположенных близко один к другом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0960" y="1130400"/>
            <a:ext cx="5232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4240" y="2895480"/>
            <a:ext cx="69912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Биологическое значение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18520" y="3530520"/>
            <a:ext cx="2925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Arial"/>
              </a:rPr>
              <a:t>соцветий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760" y="3649680"/>
            <a:ext cx="4950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ключается в том,  чт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1360" y="4179960"/>
            <a:ext cx="711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лкие, часто невзрачные цветк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8760" y="4660920"/>
            <a:ext cx="6438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ранные вместе, становя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30760" y="5140440"/>
            <a:ext cx="630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метными, дают наибольше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0480" y="5619600"/>
            <a:ext cx="6034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личество пыльцы и луч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71440" y="6099120"/>
            <a:ext cx="7553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влекают насекомых опыл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07000" y="1251000"/>
            <a:ext cx="2276640" cy="1755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6640" y="8172360"/>
            <a:ext cx="6597720" cy="1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252360"/>
            <a:ext cx="6858000" cy="614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7760" y="68400"/>
            <a:ext cx="4251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0000ff"/>
                </a:solidFill>
                <a:latin typeface="Arial"/>
              </a:rPr>
              <a:t>Простые соцвет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3080" y="480960"/>
            <a:ext cx="361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80"/>
                </a:solidFill>
                <a:latin typeface="Arial"/>
              </a:rPr>
              <a:t>Соцветие кист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18600" y="1143000"/>
            <a:ext cx="6220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тдельные цветки расположены один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24720" y="1522440"/>
            <a:ext cx="5034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за другим на хорошо заметных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14280" y="1900080"/>
            <a:ext cx="5944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цветоножках, отходящих от длинной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8560" y="2279520"/>
            <a:ext cx="1771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общей ос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4280" y="8510760"/>
            <a:ext cx="6557760" cy="1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5943600" y="2417760"/>
            <a:ext cx="2895480" cy="2146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90920" y="4429080"/>
            <a:ext cx="3276360" cy="242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867280" y="4599000"/>
            <a:ext cx="3048120" cy="225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09480" y="685800"/>
            <a:ext cx="202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8:24:21Z</dcterms:created>
  <dc:creator>olga</dc:creator>
  <dc:description/>
  <dc:language>en-US</dc:language>
  <cp:lastModifiedBy>КарМаН</cp:lastModifiedBy>
  <dcterms:modified xsi:type="dcterms:W3CDTF">2011-03-07T11:49:16Z</dcterms:modified>
  <cp:revision>14</cp:revision>
  <dc:subject/>
  <dc:title>Презентация PowerPoint</dc:title>
</cp:coreProperties>
</file>