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51.wmf" ContentType="image/x-wmf"/>
  <Override PartName="/ppt/media/image48.png" ContentType="image/png"/>
  <Override PartName="/ppt/media/image45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3.png" ContentType="image/png"/>
  <Override PartName="/ppt/media/image41.jpeg" ContentType="image/jpeg"/>
  <Override PartName="/ppt/media/image23.wmf" ContentType="image/x-wmf"/>
  <Override PartName="/ppt/media/image42.wmf" ContentType="image/x-wmf"/>
  <Override PartName="/ppt/media/image4.wmf" ContentType="image/x-wmf"/>
  <Override PartName="/ppt/media/image2.wmf" ContentType="image/x-wmf"/>
  <Override PartName="/ppt/media/image15.png" ContentType="image/png"/>
  <Override PartName="/ppt/media/image55.wmf" ContentType="image/x-wmf"/>
  <Override PartName="/ppt/media/image16.jpeg" ContentType="image/jpeg"/>
  <Override PartName="/ppt/media/image77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33.wmf" ContentType="image/x-wmf"/>
  <Override PartName="/ppt/media/image72.png" ContentType="image/png"/>
  <Override PartName="/ppt/media/image75.jpeg" ContentType="image/jpeg"/>
  <Override PartName="/ppt/media/image36.png" ContentType="image/png"/>
  <Override PartName="/ppt/media/image76.jpeg" ContentType="image/jpeg"/>
  <Override PartName="/ppt/media/image71.jpeg" ContentType="image/jpeg"/>
  <Override PartName="/ppt/media/image70.png" ContentType="image/png"/>
  <Override PartName="/ppt/media/image17.jpeg" ContentType="image/jpeg"/>
  <Override PartName="/ppt/media/image26.png" ContentType="image/png"/>
  <Override PartName="/ppt/media/image66.wmf" ContentType="image/x-wmf"/>
  <Override PartName="/ppt/media/image78.jpeg" ContentType="image/jpeg"/>
  <Override PartName="/ppt/media/image61.jpeg" ContentType="image/jpeg"/>
  <Override PartName="/ppt/media/image8.wmf" ContentType="image/x-wmf"/>
  <Override PartName="/ppt/media/image38.wmf" ContentType="image/x-wmf"/>
  <Override PartName="/ppt/media/image69.jpeg" ContentType="image/jpeg"/>
  <Override PartName="/ppt/media/image9.wmf" ContentType="image/x-wmf"/>
  <Override PartName="/ppt/media/image67.wmf" ContentType="image/x-wmf"/>
  <Override PartName="/ppt/media/image29.wmf" ContentType="image/x-wmf"/>
  <Override PartName="/ppt/media/image65.jpeg" ContentType="image/jpeg"/>
  <Override PartName="/ppt/media/image62.png" ContentType="image/png"/>
  <Override PartName="/ppt/media/image5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47.wmf" ContentType="image/x-wmf"/>
  <Override PartName="/ppt/media/image18.wmf" ContentType="image/x-wmf"/>
  <Override PartName="/ppt/media/image6.wmf" ContentType="image/x-wmf"/>
  <Override PartName="/ppt/media/image14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68.wmf" ContentType="image/x-wmf"/>
  <Override PartName="/ppt/media/image35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D45-D387-452A-8E88-DADA6588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40A-6A2C-40D8-A101-33E43449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2B3-6568-40FE-A417-04245986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241-E585-4131-853B-9CCB4BD2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76B-5AEF-43AF-AF1A-5A3EE6F4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08A-F572-475A-9CEF-ABC29916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C79-3C51-4528-8C9C-6FB098D1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6EB-94A8-4EBF-B425-0E410ECA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F84-8712-4B80-8859-6E312E18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68F-99BC-4E43-82DA-1B89C072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C74-0025-45D0-A426-C795138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782-0BC9-4941-9CB7-BD9F0CAB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1FA9-17E9-42D9-89A8-70CF5CA49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33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.pn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3480" y="1809720"/>
            <a:ext cx="50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3120" y="388620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: Лабунец Ольга Ю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7040" y="4495680"/>
            <a:ext cx="60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160" y="51055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Мыти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40120" y="3618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1280" y="909720"/>
            <a:ext cx="3518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6600" y="1432080"/>
            <a:ext cx="513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не имеющ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3080" y="1803240"/>
            <a:ext cx="580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ек расположены на обще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1840" y="2173320"/>
            <a:ext cx="221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си соцвети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60240" y="633564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840" y="6292800"/>
            <a:ext cx="11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т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33480" cy="587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41600" y="2975040"/>
            <a:ext cx="236556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0400" y="2975040"/>
            <a:ext cx="240840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346040" y="7953480"/>
            <a:ext cx="6269040" cy="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9288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3520" y="792000"/>
            <a:ext cx="385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800" y="1392120"/>
            <a:ext cx="538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ы на цветоножках выходя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77320" y="1760400"/>
            <a:ext cx="36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ы оси соцв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286000" cy="47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4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727360" cy="301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5943600"/>
            <a:ext cx="14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716200" cy="2959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6560" y="8859960"/>
            <a:ext cx="5959440" cy="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92440" y="31104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0800" y="735120"/>
            <a:ext cx="3979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початок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6720" y="1263600"/>
            <a:ext cx="529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олстой, обычно мясистой ос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50320" y="1622520"/>
            <a:ext cx="501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ветия располагаются цвет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58960" y="1981080"/>
            <a:ext cx="385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щие цветоно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47960" y="4214880"/>
            <a:ext cx="161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елокрыльни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38680"/>
            <a:ext cx="2438280" cy="18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56160" y="4587840"/>
            <a:ext cx="2490840" cy="21193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720" y="6324480"/>
            <a:ext cx="106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нтуриу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97400" y="425448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и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55480"/>
            <a:ext cx="2165400" cy="549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7920" y="2511360"/>
            <a:ext cx="2287800" cy="1670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67440" y="2511360"/>
            <a:ext cx="2368440" cy="16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5760" y="4670280"/>
            <a:ext cx="2411640" cy="1589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14320" y="8148600"/>
            <a:ext cx="6429600" cy="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50600" y="22068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5280" y="673200"/>
            <a:ext cx="3853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голов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21000" y="126684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короченном (часто утолщен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0360" y="1628640"/>
            <a:ext cx="432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м 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4960" y="1990800"/>
            <a:ext cx="48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сидячие цв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6440" y="4829040"/>
            <a:ext cx="109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01320" y="4803840"/>
            <a:ext cx="17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960480"/>
            <a:ext cx="2309760" cy="4649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160800" y="2771640"/>
            <a:ext cx="268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32600" y="2771640"/>
            <a:ext cx="268128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60240" y="8481960"/>
            <a:ext cx="5389560" cy="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81960" y="21924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8920" y="696960"/>
            <a:ext cx="417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рз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6960" y="1452600"/>
            <a:ext cx="492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толщенном и расширен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18520" y="1820880"/>
            <a:ext cx="474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е соцветия располаг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5080" y="2190600"/>
            <a:ext cx="515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кие сидячие цветки. Снаруж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2558880"/>
            <a:ext cx="53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соцветие защищено зеле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9000" y="2928960"/>
            <a:ext cx="324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ьями - обер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5840" y="59133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3640" y="59133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8200" y="5880240"/>
            <a:ext cx="165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480" y="681120"/>
            <a:ext cx="2984760" cy="2935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71720" y="4119480"/>
            <a:ext cx="2354040" cy="171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805200" y="4160880"/>
            <a:ext cx="2270160" cy="167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96200" y="4203720"/>
            <a:ext cx="2354040" cy="16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84280" y="8664480"/>
            <a:ext cx="6029280" cy="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66640" y="2970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720" y="820800"/>
            <a:ext cx="378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щ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36840" y="1378080"/>
            <a:ext cx="588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а удлиненном общем цветоносном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0" y="1749600"/>
            <a:ext cx="5273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беге располагаются цветки н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30720" y="2120760"/>
            <a:ext cx="592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 разной длины - нижн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35760" y="2492280"/>
            <a:ext cx="568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более длинные, а верхние - короч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569124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7880" y="5734080"/>
            <a:ext cx="17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овая гру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803160"/>
            <a:ext cx="2158920" cy="477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18040" y="3546360"/>
            <a:ext cx="2581200" cy="207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222960" y="3632040"/>
            <a:ext cx="258300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36560" y="8545680"/>
            <a:ext cx="5816520" cy="1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964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560" y="912960"/>
            <a:ext cx="407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ав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62760" y="1573200"/>
            <a:ext cx="484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главной оси несущей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9160" y="1949400"/>
            <a:ext cx="46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к, ниже отходит друга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71760" y="2327400"/>
            <a:ext cx="573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дноцветковая ось, затем третья, 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85800" y="2703600"/>
            <a:ext cx="476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далее более молодая часть 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6880" y="3081240"/>
            <a:ext cx="492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ераспустившимися цветка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4240" y="6004080"/>
            <a:ext cx="118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забуд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8040" y="600408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п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698400"/>
            <a:ext cx="2149200" cy="5100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211560" y="3998880"/>
            <a:ext cx="2579760" cy="1971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21520" y="4041720"/>
            <a:ext cx="262080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736560" y="8575560"/>
            <a:ext cx="6018120" cy="1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60640" y="2970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1200" y="766800"/>
            <a:ext cx="583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240" y="1494000"/>
            <a:ext cx="336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верхушки общег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67120" y="1870200"/>
            <a:ext cx="478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сного побега отходя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480" y="2246400"/>
            <a:ext cx="278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остые зонтик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6240" y="52754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2040" y="52754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480" y="1305000"/>
            <a:ext cx="2573280" cy="491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483000" y="3316320"/>
            <a:ext cx="2487600" cy="1838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313320" y="3359160"/>
            <a:ext cx="2487960" cy="1881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84280" y="8628120"/>
            <a:ext cx="5925960" cy="1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87360" y="4176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2280" y="919080"/>
            <a:ext cx="549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08520" y="149688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71080" y="186372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0960" y="2232000"/>
            <a:ext cx="518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олос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96280" y="2598840"/>
            <a:ext cx="430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щие из 2-3-х сидяч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6440" y="296532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0800" y="629748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ше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73280" y="6130800"/>
            <a:ext cx="8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2386080" cy="413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65640" y="3676680"/>
            <a:ext cx="3014640" cy="2421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15080" y="3425760"/>
            <a:ext cx="2094120" cy="2838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60240" y="8678880"/>
            <a:ext cx="6213600" cy="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206960" y="219240"/>
            <a:ext cx="3949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7280" y="692280"/>
            <a:ext cx="399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метел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78360" y="135396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45600" y="171756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2082960"/>
            <a:ext cx="471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0320" y="56768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1047600"/>
            <a:ext cx="2282760" cy="463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38800" y="3282840"/>
            <a:ext cx="2614680" cy="2360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74840" y="563580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92560" y="3282840"/>
            <a:ext cx="2531880" cy="236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36560" y="8408880"/>
            <a:ext cx="5743440" cy="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040" y="45720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прятано под таблич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8229600" cy="500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447920" cy="7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447560" cy="85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10080" y="5668920"/>
            <a:ext cx="1981440" cy="7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676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684800" y="-7920"/>
            <a:ext cx="6057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0960" y="973080"/>
            <a:ext cx="8292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. Рассмотрите соцветия на гербарно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45720" y="1459080"/>
            <a:ext cx="54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материале или картинках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2187720"/>
            <a:ext cx="7009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. Определите, как расположены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3360" y="2673360"/>
            <a:ext cx="7593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цветки  у рассмотренных растений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2080" y="3160800"/>
            <a:ext cx="708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Пользуясь схемами в учебнике 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0120" y="3646440"/>
            <a:ext cx="7634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тетради, выясните, как называются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3800" y="4132440"/>
            <a:ext cx="2872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эти соцветия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38880" y="4757760"/>
            <a:ext cx="4630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3. Заполните таблиц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9320" y="5486400"/>
            <a:ext cx="6270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4. Сделайте вывод по итога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0400" y="5972040"/>
            <a:ext cx="47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лабораторной работы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0960" y="8204040"/>
            <a:ext cx="6476760" cy="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14400" y="1239840"/>
            <a:ext cx="7953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96640" y="151596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11040" y="1776240"/>
            <a:ext cx="104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9720" y="15462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296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77520" y="150804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5840" y="17683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202896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1800" y="154620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5152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7560" y="372960"/>
            <a:ext cx="6690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4360" y="803160"/>
            <a:ext cx="1271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360" cy="1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14400" y="2590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1430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95640" y="2954160"/>
            <a:ext cx="685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аточный материал(карти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2030400" cy="2530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84320" y="423720"/>
            <a:ext cx="186084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871880" y="423720"/>
            <a:ext cx="1987560" cy="2530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986520" y="423720"/>
            <a:ext cx="1860480" cy="2530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2864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716200" y="3543480"/>
            <a:ext cx="1944720" cy="282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830840" y="3502080"/>
            <a:ext cx="1987560" cy="286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94548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85800" y="8520120"/>
            <a:ext cx="6005520" cy="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18640" y="297000"/>
            <a:ext cx="525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опросы к выводу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58840" y="1428840"/>
            <a:ext cx="5775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Что называется соцветие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14288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93760" y="2394000"/>
            <a:ext cx="688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Каково биологическое значение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06280" y="2857680"/>
            <a:ext cx="1838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оцвет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61360" y="285768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07920" y="7969320"/>
            <a:ext cx="6245280" cy="1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181480" y="3262320"/>
            <a:ext cx="3200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1960" y="60948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17431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6360" y="23860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3360" y="31003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8720" y="38419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3360" y="45561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74440" y="1743120"/>
            <a:ext cx="697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78760" y="3038400"/>
            <a:ext cx="6889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1280" y="3770280"/>
            <a:ext cx="684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5480" y="4573440"/>
            <a:ext cx="585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7240" y="2413080"/>
            <a:ext cx="514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3360" cy="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4880" y="5562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54100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3920" y="4267080"/>
            <a:ext cx="187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680" cy="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3760" y="4210200"/>
            <a:ext cx="159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3040" cy="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960" cy="268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447920"/>
            <a:ext cx="312444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720" cy="2411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144792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447920"/>
            <a:ext cx="304812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480" cy="2398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2560" y="38862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098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440" cy="23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41960" y="39146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600" cy="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3981600"/>
            <a:ext cx="95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4280" cy="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1440" y="0"/>
            <a:ext cx="285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33000" y="-9360"/>
            <a:ext cx="483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54280" y="119160"/>
            <a:ext cx="423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0640" y="650880"/>
            <a:ext cx="81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0960" y="1130400"/>
            <a:ext cx="5232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4240" y="2895480"/>
            <a:ext cx="6991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8520" y="3530520"/>
            <a:ext cx="2925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3760" y="3649680"/>
            <a:ext cx="495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ается в том,  ч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1360" y="4179960"/>
            <a:ext cx="711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лкие, часто невзрачные цвет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8760" y="4660920"/>
            <a:ext cx="643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0760" y="5140440"/>
            <a:ext cx="630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етными, дают наибольш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5619600"/>
            <a:ext cx="603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ичество пыльцы и луч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6099120"/>
            <a:ext cx="755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64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720" cy="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52360"/>
            <a:ext cx="6858000" cy="614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7760" y="68400"/>
            <a:ext cx="4251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3080" y="480960"/>
            <a:ext cx="361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80"/>
                </a:solidFill>
                <a:latin typeface="Arial"/>
              </a:rPr>
              <a:t>Соцветие кист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8600" y="1143000"/>
            <a:ext cx="622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расположены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720" y="1522440"/>
            <a:ext cx="503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 другим на хорошо заметных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280" y="1900080"/>
            <a:ext cx="594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, отходящих от длинно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2279520"/>
            <a:ext cx="177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й ос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4280" y="8510760"/>
            <a:ext cx="6557760" cy="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3600" y="241776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90920" y="4429080"/>
            <a:ext cx="3276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459900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09480" y="685800"/>
            <a:ext cx="20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24:21Z</dcterms:created>
  <dc:creator>olga</dc:creator>
  <dc:description/>
  <dc:language>en-US</dc:language>
  <cp:lastModifiedBy>КарМаН</cp:lastModifiedBy>
  <dcterms:modified xsi:type="dcterms:W3CDTF">2011-03-07T11:49:16Z</dcterms:modified>
  <cp:revision>14</cp:revision>
  <dc:subject/>
  <dc:title>Презентация PowerPoint</dc:title>
</cp:coreProperties>
</file>