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2F7-F8C8-4F48-B4E0-84C2DEEE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19AF-7E22-47E6-A361-8BB2187F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81A-4533-4004-A641-C9535D47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A5BF-9837-468E-8DEA-FDEBCF83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AFB5-3256-4951-85CE-58C13522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E204-5A6C-4F2C-803F-12D2EDBE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3AF1-1CCB-4B8C-82D6-249E488D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A6DD-54AD-4F97-AC30-2BCB188E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FBED-60BD-42D9-9DC4-2F398A82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D63F-4FDF-499F-9098-29BAAED5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37FA-5279-49DA-B91D-C8D761D9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5BE-0747-408D-8F2E-0AF422CB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CB12-4B79-48DD-BA5C-046B0980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1CE0-3D5C-44DC-BB3A-107E44D4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575C-27DC-4C1A-B56C-5B76B85D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CD8E-0A17-4D36-B191-C6895FA6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8D0E-3742-4AF5-AACB-B7F7C813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4463-8F29-47B0-B181-5B74B3AC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0CEC-FD0F-46C8-8EAE-0AD812A4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BF8-DCC4-4C01-ABA1-C02DBBC4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F26C-F0B0-4D81-AD64-A87E6AA8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8E63-49A5-4BF6-BF88-0E3A0FBC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5BDC-9F90-46A8-8B22-131230F8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394B-109B-48B7-8548-BD0363AE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3F82-7A28-45B6-933D-2A3BFCD5AD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95AE-50F5-4A42-8EEE-B4E92E1013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2763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Живая оболочка Земли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4648320"/>
            <a:ext cx="7772400" cy="1904760"/>
          </a:xfrm>
          <a:prstGeom prst="rect">
            <a:avLst/>
          </a:prstGeom>
          <a:noFill/>
          <a:ln w="76320">
            <a:solidFill>
              <a:srgbClr val="97a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Составила: Маркова Лайма Валдис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химии и биологии Усть-Язьвинской МСОШ Красновишерского района 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Оформила в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ower Point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Добрынина Людмила Викторовна,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биологии МОУ Краснооктябрьская СОШ Каргапольского района Курганской области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267080" cy="26668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711000"/>
          </a:xfrm>
          <a:prstGeom prst="rect">
            <a:avLst/>
          </a:prstGeom>
          <a:solidFill>
            <a:srgbClr val="33cc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Живая оболочка Земл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67440" cy="434340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10080" y="4038480"/>
            <a:ext cx="3505320" cy="240192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35053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 презентации использованы иллюстрации из: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тельный комплекс «Биология, 10 кл.» - ©ЗАО «1С», 2009; ©OOО «1С-Паблишинг», 2009; © Издательский центр «Вентана-Граф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кст учебника с иллюстрациями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блиотека электронных наглядных пособий «Биология. 6-9 классы» - Кирилл и Мефодий,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ьшая энциклопедия Кирилла и Мефодия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27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Количество живого вещества той или иной биологической системы, приходящееся на единицу площади или объе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3352680"/>
            <a:ext cx="1905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S =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705720" y="5791320"/>
            <a:ext cx="1904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V  = 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 Ученый, создавший учение о биосфер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874600" y="1669320"/>
            <a:ext cx="339660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863–1945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Вернадский Владимир Иванович"/>
          <p:cNvPicPr/>
          <p:nvPr/>
        </p:nvPicPr>
        <p:blipFill>
          <a:blip r:embed="rId1"/>
          <a:stretch/>
        </p:blipFill>
        <p:spPr>
          <a:xfrm>
            <a:off x="6934320" y="4267080"/>
            <a:ext cx="1952640" cy="24004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010280" y="2590920"/>
            <a:ext cx="1905120" cy="145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0" y="4495680"/>
            <a:ext cx="2057400" cy="185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Вещество, образованное совокупностью организмо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16765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173988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.Живые организмы, составляющие основную часть биомассы планеты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.Газовая оболочка Земл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. Элемент - органоге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1604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sp>
        <p:nvSpPr>
          <p:cNvPr id="112" name=""/>
          <p:cNvSpPr txBox="1"/>
          <p:nvPr/>
        </p:nvSpPr>
        <p:spPr>
          <a:xfrm>
            <a:off x="6477120" y="2743200"/>
            <a:ext cx="1847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   O    C    H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 rot="19768200">
            <a:off x="228600" y="3809880"/>
            <a:ext cx="2438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   Na  S  P  Cl  F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6880"/>
            <a:ext cx="8229600" cy="131292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7. Движение веществ в природ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42640"/>
            <a:ext cx="8229600" cy="17492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.Важный компонент биосферы и один из необходимых факторов существования живых организмов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chitel</cp:lastModifiedBy>
  <dcterms:modified xsi:type="dcterms:W3CDTF">2011-03-05T15:30:5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