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532-6FCB-4818-8F01-314E3E75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9C7-9378-4716-97A6-6BEE13F1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D4D-B67C-47B6-BBDC-ED374043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1AD-1013-4932-9573-FC950E7B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8FDE-AFF4-4D49-A9A7-22F75C71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DA93-0F39-417B-8824-34AD437B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BC15-B75C-4E1A-BDAC-751A1FD9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02A1-B0EA-4682-ACE0-48747606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ACDA-5644-45D8-9C27-7FE606F0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C354-EB9E-4B97-AA4F-C06F4F44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5095-FEA9-4B70-A628-168818C7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E20-6F27-4C32-9296-6DE04744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9FE4-2041-45D0-A8B5-C87DB397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E301-FF5A-40E9-8353-AB095889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501C-D321-4333-9DDB-54414886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24AD-90D0-4EE7-847B-7D831DFF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5CE7-1A96-4934-B38A-2848858D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61D-4C28-48AA-B868-2234D3C6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55A-139B-46AB-8BCD-5DFADA4F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596-7173-4D8C-9F47-B09B2780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B11-16AD-424D-8B07-470DF4DE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615-CCB5-4FB0-B893-D1141AED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91C-7582-4612-A9EA-B04A8A0A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203-CE49-45D4-85D7-B1BE2AA4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12C4-9EA9-43A1-99C2-CD61995BDB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6F0C-E570-436C-BC54-C950FC995C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2763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Живая оболочка Земл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4648320"/>
            <a:ext cx="7772400" cy="1904760"/>
          </a:xfrm>
          <a:prstGeom prst="rect">
            <a:avLst/>
          </a:prstGeom>
          <a:noFill/>
          <a:ln w="76320">
            <a:solidFill>
              <a:srgbClr val="97a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Составила: Маркова Лайма Валдис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химии и биологии Усть-Язьвинской МСОШ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Добрынина Людмила Викторовна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67080" cy="26668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711000"/>
          </a:xfrm>
          <a:prstGeom prst="rect">
            <a:avLst/>
          </a:prstGeom>
          <a:solidFill>
            <a:srgbClr val="33cc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Живая оболочка Зем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34340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3505320" cy="240192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35053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презентации использованы иллюстрации из: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27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Количество живого вещества той или иной биологической системы, приходящееся на единицу площади или объе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3352680"/>
            <a:ext cx="1905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S =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705720" y="5791320"/>
            <a:ext cx="1904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V  = 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Ученый, создавший учение о биосфер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874600" y="1669320"/>
            <a:ext cx="33966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63–1945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Вернадский Владимир Иванович"/>
          <p:cNvPicPr/>
          <p:nvPr/>
        </p:nvPicPr>
        <p:blipFill>
          <a:blip r:embed="rId1"/>
          <a:stretch/>
        </p:blipFill>
        <p:spPr>
          <a:xfrm>
            <a:off x="6934320" y="4267080"/>
            <a:ext cx="1952640" cy="24004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2590920"/>
            <a:ext cx="1905120" cy="145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0" y="4495680"/>
            <a:ext cx="2057400" cy="18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Вещество, образованное совокупностью организм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16765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173988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.Живые организмы, составляющие основную часть биомассы планет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.Газовая оболочка Земл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. Элемент - органоге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1604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6477120" y="2743200"/>
            <a:ext cx="1847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  O    C    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 rot="19768200">
            <a:off x="228600" y="3809880"/>
            <a:ext cx="2438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  Na  S  P  Cl  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6880"/>
            <a:ext cx="8229600" cy="131292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7. Движение веществ в природ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42640"/>
            <a:ext cx="8229600" cy="17492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.Важный компонент биосферы и один из необходимых факторов существования живых организм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hitel</cp:lastModifiedBy>
  <dcterms:modified xsi:type="dcterms:W3CDTF">2011-03-05T15:30:5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