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78D-CC91-417A-BAC9-418903F8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E88-E2D8-492C-AC2F-4A403DA3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F040-263D-41E4-9070-4718E698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081-6AA7-4754-BB1C-D906FE00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F96C-31E7-4CA0-8BD0-343DBF9F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45C1-E1CC-406F-A098-1464FA27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C29A-4D78-42AF-9C84-78DB4BD0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DD87-719B-4055-85DD-FF50D43A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9E98-1A20-4DB1-87CA-D0F4AC66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C00A-B6B2-4293-A6AE-E8F030E7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EE62-B0C5-48D8-88B4-708416D1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A06-ABD5-4BCA-9F05-2A68DD15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4B2C-1680-47EC-9C61-D2861C11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B0DE-8A1B-4FC4-9BE0-73C923C2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B86C-AD09-4D69-BB54-7CED2543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08C3-43A9-4DEB-BBC2-D5FD92ED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C93B-999F-42B6-A2F7-A15CDCF1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F6D-47B7-4FC8-8EA6-81D045D5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82F-1FB5-42B7-A3C5-C5F56C52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E5D-5345-4EA5-BB97-7B41C0B7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E1D-DB27-47CA-BDA3-1FE8EA4E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9EB3-29CE-4001-B62E-0D200CF3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36D8-F49F-4F0F-B2D4-A923DA82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D1F7-D865-4026-B13E-D01F7241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5F88-DB80-43B5-815F-048F35CCA8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3267-7E59-4077-ACAC-B43D4E5A9A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2763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Живая оболочка Земли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4648320"/>
            <a:ext cx="7772400" cy="1904760"/>
          </a:xfrm>
          <a:prstGeom prst="rect">
            <a:avLst/>
          </a:prstGeom>
          <a:noFill/>
          <a:ln w="76320">
            <a:solidFill>
              <a:srgbClr val="97a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Составила: Маркова Лайма Валдис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химии и биологии Усть-Язьвинской МСОШ Красновишерского района 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Оформила в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ower Point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Добрынина Людмила Викторовна,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биологии МОУ Краснооктябрьская СОШ Каргапольского района Курганской области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267080" cy="26668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711000"/>
          </a:xfrm>
          <a:prstGeom prst="rect">
            <a:avLst/>
          </a:prstGeom>
          <a:solidFill>
            <a:srgbClr val="33cc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Живая оболочка Земл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67440" cy="434340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10080" y="4038480"/>
            <a:ext cx="3505320" cy="240192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35053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 презентации использованы иллюстрации из: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тельный комплекс «Биология, 10 кл.» - ©ЗАО «1С», 2009; ©OOО «1С-Паблишинг», 2009; © Издательский центр «Вентана-Граф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кст учебника с иллюстрациями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блиотека электронных наглядных пособий «Биология. 6-9 классы» - Кирилл и Мефодий,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ьшая энциклопедия Кирилла и Мефодия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27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Количество живого вещества той или иной биологической системы, приходящееся на единицу площади или объе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3352680"/>
            <a:ext cx="1905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S =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705720" y="5791320"/>
            <a:ext cx="1904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V  = 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 Ученый, создавший учение о биосфер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874600" y="1669320"/>
            <a:ext cx="339660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863–1945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Вернадский Владимир Иванович"/>
          <p:cNvPicPr/>
          <p:nvPr/>
        </p:nvPicPr>
        <p:blipFill>
          <a:blip r:embed="rId1"/>
          <a:stretch/>
        </p:blipFill>
        <p:spPr>
          <a:xfrm>
            <a:off x="6934320" y="4267080"/>
            <a:ext cx="1952640" cy="24004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010280" y="2590920"/>
            <a:ext cx="1905120" cy="145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0" y="4495680"/>
            <a:ext cx="2057400" cy="185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Вещество, образованное совокупностью организмо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16765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173988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.Живые организмы, составляющие основную часть биомассы планеты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.Газовая оболочка Земл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. Элемент - органоге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1604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sp>
        <p:nvSpPr>
          <p:cNvPr id="112" name=""/>
          <p:cNvSpPr txBox="1"/>
          <p:nvPr/>
        </p:nvSpPr>
        <p:spPr>
          <a:xfrm>
            <a:off x="6477120" y="2743200"/>
            <a:ext cx="1847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   O    C    H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 rot="19768200">
            <a:off x="228600" y="3809880"/>
            <a:ext cx="2438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   Na  S  P  Cl  F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6880"/>
            <a:ext cx="8229600" cy="131292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7. Движение веществ в природ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42640"/>
            <a:ext cx="8229600" cy="17492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.Важный компонент биосферы и один из необходимых факторов существования живых организмов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chitel</cp:lastModifiedBy>
  <dcterms:modified xsi:type="dcterms:W3CDTF">2011-03-05T15:30:5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