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8DB1-942F-44E0-88CC-1D78B6A2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DD86-58DB-4339-95AC-E0353DE1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DCDC-AF80-4DF3-86F6-DE45CD1B1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336E-2B23-4283-8ABA-1F532213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0B46-DFA2-4EB6-8C78-2C1141D6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0B9E-9388-489B-97F7-124902C8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71E2-EE50-4032-B2C3-2A07F077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06D9-CED9-422C-A87D-EA4671C3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FEFF-45C7-4F2C-955E-9B5F2CBF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98DE-F019-4CC5-A519-C1A3303A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B63F-8656-46E0-951A-05627856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E047-1307-4FA4-887D-F8819412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A612-3E5E-44FD-800F-FC66777D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1A3F-4FE0-41F6-8938-D3E20585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BECE-94A7-4BE7-9CCE-30515ACC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F0D0-3481-4828-9AA3-D776F23C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81C0-F6D6-4D1B-9B7E-CBFB41F0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8534-B6F2-477A-B353-3DBB2066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31D9-24DF-4341-9B8D-C9D99CB6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7CFB-9A74-4906-BC1A-9DC7B81B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BE26-A36A-46F1-8767-C6BCE21B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0758-F730-420F-AAB9-0467F5EE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3840-5446-4BA7-B78A-D84A84CD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0065-A9F1-45A1-A69F-9769671B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101A-52F7-458F-AE57-D6BA0B6E4F8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32F8-186A-4344-8E53-73D45148AA3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2738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Tahoma"/>
              </a:rPr>
              <a:t>Генетика популяций, </a:t>
            </a: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11 класс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611280" y="5059440"/>
            <a:ext cx="7991280" cy="16095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ставила: Маркова Лайма Валдисовна,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итель химии и би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сть-Язьвинской МСОШ  Красновишерского района Перм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формила в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ower Point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:  Добрынина Людмила Викторовна,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итель биологии МОУ Краснооктябрьская СОШ Каргапольского района Курганской област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4103640" cy="3006720"/>
          </a:xfrm>
          <a:prstGeom prst="rect">
            <a:avLst/>
          </a:prstGeom>
          <a:ln w="38160">
            <a:solidFill>
              <a:srgbClr val="3264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866920" y="620640"/>
            <a:ext cx="3025800" cy="165600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8. Самый напряженный </a:t>
            </a:r>
            <a:br>
              <a:rPr sz="2600"/>
            </a:b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вид борьбы за существование</a:t>
            </a:r>
            <a:endParaRPr b="0" lang="en-US" sz="2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8" name=""/>
          <p:cNvSpPr/>
          <p:nvPr/>
        </p:nvSpPr>
        <p:spPr>
          <a:xfrm>
            <a:off x="1403280" y="2637000"/>
            <a:ext cx="554508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6300720" y="3141720"/>
            <a:ext cx="2519280" cy="192708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866920" y="620640"/>
            <a:ext cx="3025800" cy="1944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33"/>
                </a:solidFill>
                <a:latin typeface="Tahoma"/>
              </a:rPr>
              <a:t>9.Ступенчатое повышение уровня организации организмов по Ламарку</a:t>
            </a:r>
            <a:endParaRPr b="0" lang="en-US" sz="25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1835280" y="2924280"/>
            <a:ext cx="3457440" cy="288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866920" y="620640"/>
            <a:ext cx="3025800" cy="1944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33"/>
                </a:solidFill>
                <a:latin typeface="Tahoma"/>
              </a:rPr>
              <a:t>10.</a:t>
            </a:r>
            <a:br>
              <a:rPr sz="3000"/>
            </a:br>
            <a:r>
              <a:rPr b="0" lang="en-US" sz="3000" spc="-1" strike="noStrike">
                <a:solidFill>
                  <a:srgbClr val="990033"/>
                </a:solidFill>
                <a:latin typeface="Tahoma"/>
              </a:rPr>
              <a:t>Элементарная единица живой природы</a:t>
            </a:r>
            <a:endParaRPr b="0" lang="en-US" sz="30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5" name=""/>
          <p:cNvSpPr/>
          <p:nvPr/>
        </p:nvSpPr>
        <p:spPr>
          <a:xfrm>
            <a:off x="2843280" y="3213000"/>
            <a:ext cx="122400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940000" y="907920"/>
            <a:ext cx="3025800" cy="1368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33"/>
                </a:solidFill>
                <a:latin typeface="Tahoma"/>
              </a:rPr>
              <a:t>11.Создатель палеонтологии</a:t>
            </a:r>
            <a:endParaRPr b="0" lang="en-US" sz="30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8" name=""/>
          <p:cNvSpPr/>
          <p:nvPr/>
        </p:nvSpPr>
        <p:spPr>
          <a:xfrm>
            <a:off x="2340000" y="3789360"/>
            <a:ext cx="2160720" cy="3589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Жорж Кювье"/>
          <p:cNvPicPr/>
          <p:nvPr/>
        </p:nvPicPr>
        <p:blipFill>
          <a:blip r:embed="rId1"/>
          <a:stretch/>
        </p:blipFill>
        <p:spPr>
          <a:xfrm>
            <a:off x="6300720" y="3500280"/>
            <a:ext cx="2465280" cy="313704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0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95640" y="2997000"/>
            <a:ext cx="3025800" cy="1944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12. Постоянно действующий источник наследственной изменчивости</a:t>
            </a:r>
            <a:endParaRPr b="0" lang="en-US" sz="2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1835280" y="4149720"/>
            <a:ext cx="302400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795640" y="3212640"/>
            <a:ext cx="3025800" cy="1368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ahoma"/>
              </a:rPr>
              <a:t>13. Процесс, приводящий к образованию половых клеток</a:t>
            </a:r>
            <a:endParaRPr b="0" lang="en-US" sz="20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2340000" y="4437000"/>
            <a:ext cx="208764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6300720" y="549360"/>
            <a:ext cx="2521080" cy="19447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95640" y="3212640"/>
            <a:ext cx="3025800" cy="1368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14. Перекрест хромосом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9" name=""/>
          <p:cNvSpPr/>
          <p:nvPr/>
        </p:nvSpPr>
        <p:spPr>
          <a:xfrm>
            <a:off x="468360" y="4724280"/>
            <a:ext cx="5183280" cy="2890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6084720" y="692280"/>
            <a:ext cx="2592720" cy="167796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1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95640" y="2997360"/>
            <a:ext cx="3025800" cy="158400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15. Близко-родственное скрещивание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43" name=""/>
          <p:cNvSpPr/>
          <p:nvPr/>
        </p:nvSpPr>
        <p:spPr>
          <a:xfrm>
            <a:off x="2340000" y="5013360"/>
            <a:ext cx="374472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4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95640" y="3068280"/>
            <a:ext cx="3025800" cy="1368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16. Наука о наследственности и изменчивости</a:t>
            </a:r>
            <a:endParaRPr b="0" lang="en-US" sz="2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1835280" y="5373720"/>
            <a:ext cx="345744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95640" y="3068280"/>
            <a:ext cx="3025800" cy="1368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17.Создатель эволюционной теории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49" name=""/>
          <p:cNvSpPr/>
          <p:nvPr/>
        </p:nvSpPr>
        <p:spPr>
          <a:xfrm>
            <a:off x="2340000" y="5734080"/>
            <a:ext cx="251928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Дарвин Чарлз Роберт"/>
          <p:cNvPicPr/>
          <p:nvPr/>
        </p:nvPicPr>
        <p:blipFill>
          <a:blip r:embed="rId1"/>
          <a:stretch/>
        </p:blipFill>
        <p:spPr>
          <a:xfrm>
            <a:off x="6516720" y="4653000"/>
            <a:ext cx="1944720" cy="194472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250920" y="189000"/>
          <a:ext cx="8229600" cy="6367320"/>
        </p:xfrm>
        <a:graphic>
          <a:graphicData uri="http://schemas.openxmlformats.org/drawingml/2006/table">
            <a:tbl>
              <a:tblPr/>
              <a:tblGrid>
                <a:gridCol w="515880"/>
                <a:gridCol w="515880"/>
                <a:gridCol w="433440"/>
                <a:gridCol w="515880"/>
                <a:gridCol w="514440"/>
                <a:gridCol w="515880"/>
                <a:gridCol w="433440"/>
                <a:gridCol w="433440"/>
                <a:gridCol w="433440"/>
                <a:gridCol w="433080"/>
                <a:gridCol w="433440"/>
                <a:gridCol w="433440"/>
                <a:gridCol w="433440"/>
                <a:gridCol w="433440"/>
                <a:gridCol w="433440"/>
                <a:gridCol w="433440"/>
                <a:gridCol w="433080"/>
                <a:gridCol w="451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1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95640" y="2997360"/>
            <a:ext cx="3025800" cy="20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18. Явление расхождения признаков, ведущее к видообразованию</a:t>
            </a:r>
            <a:endParaRPr b="0" lang="en-US" sz="2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971640" y="6021360"/>
            <a:ext cx="468000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5796000" y="620640"/>
            <a:ext cx="3097080" cy="191952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5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795640" y="2997360"/>
            <a:ext cx="3025800" cy="20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ahoma"/>
              </a:rPr>
              <a:t>19.Факторы, вызывающие мутации</a:t>
            </a:r>
            <a:endParaRPr b="0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6308640"/>
            <a:ext cx="345744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8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Ы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9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Ы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"/>
          <p:cNvSpPr/>
          <p:nvPr/>
        </p:nvSpPr>
        <p:spPr>
          <a:xfrm>
            <a:off x="3203640" y="189000"/>
            <a:ext cx="431640" cy="648000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Tahoma"/>
              </a:rPr>
              <a:t>В презентации использованы рисунки и портреты ученых из: </a:t>
            </a:r>
            <a:endParaRPr b="0" lang="en-US" sz="40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разовательный комплекс «Биология, 10 кл.» - ©ЗАО «1С», 2009; ©OOО «1С-Паблишинг», 2009; © Издательский центр «Вентана-Граф»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кст учебника с иллюстрациями, 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иблиотека электронных наглядных пособий «Биология. 6-9 классы» - Кирилл и Мефодий, 2004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ольшая энциклопедия Кирилла и Мефодия, 200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12000" y="691920"/>
            <a:ext cx="2916000" cy="1871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ahoma"/>
              </a:rPr>
              <a:t>1.Свойство организмов приобретать новые признаки</a:t>
            </a: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0" name=""/>
          <p:cNvSpPr/>
          <p:nvPr/>
        </p:nvSpPr>
        <p:spPr>
          <a:xfrm>
            <a:off x="2843280" y="189000"/>
            <a:ext cx="489744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12000" y="691920"/>
            <a:ext cx="2916000" cy="1871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ahoma"/>
              </a:rPr>
              <a:t>2.Ввел термин «биология»</a:t>
            </a:r>
            <a:endParaRPr b="0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1835280" y="476280"/>
            <a:ext cx="2592360" cy="288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Ламарк"/>
          <p:cNvPicPr/>
          <p:nvPr/>
        </p:nvPicPr>
        <p:blipFill>
          <a:blip r:embed="rId1"/>
          <a:stretch/>
        </p:blipFill>
        <p:spPr>
          <a:xfrm>
            <a:off x="6227640" y="3068640"/>
            <a:ext cx="2689200" cy="338472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96000" y="620640"/>
            <a:ext cx="3132000" cy="165600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3.Наука о создании новых пород животных и сортов растений</a:t>
            </a:r>
            <a:endParaRPr b="0" lang="en-US" sz="2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1332000" y="765000"/>
            <a:ext cx="352728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rcRect l="63657" t="48048" r="14209" b="26367"/>
          <a:stretch/>
        </p:blipFill>
        <p:spPr>
          <a:xfrm>
            <a:off x="6659640" y="4797360"/>
            <a:ext cx="2158920" cy="187164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399" name="" descr=""/>
          <p:cNvPicPr/>
          <p:nvPr/>
        </p:nvPicPr>
        <p:blipFill>
          <a:blip r:embed="rId2"/>
          <a:srcRect l="28225" t="58877" r="36343" b="15987"/>
          <a:stretch/>
        </p:blipFill>
        <p:spPr>
          <a:xfrm>
            <a:off x="5796000" y="3068640"/>
            <a:ext cx="2843280" cy="1512720"/>
          </a:xfrm>
          <a:prstGeom prst="rect">
            <a:avLst/>
          </a:prstGeom>
          <a:ln w="38160">
            <a:solidFill>
              <a:srgbClr val="326496"/>
            </a:solidFill>
            <a:miter/>
          </a:ln>
        </p:spPr>
      </p:pic>
      <p:pic>
        <p:nvPicPr>
          <p:cNvPr id="400" name="" descr=""/>
          <p:cNvPicPr/>
          <p:nvPr/>
        </p:nvPicPr>
        <p:blipFill>
          <a:blip r:embed="rId3"/>
          <a:srcRect l="71782" t="24393" r="11979" b="55929"/>
          <a:stretch/>
        </p:blipFill>
        <p:spPr>
          <a:xfrm>
            <a:off x="179280" y="3141720"/>
            <a:ext cx="1333440" cy="121104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401" name="" descr=""/>
          <p:cNvPicPr/>
          <p:nvPr/>
        </p:nvPicPr>
        <p:blipFill>
          <a:blip r:embed="rId4"/>
          <a:srcRect l="28207" t="23438" r="62926" b="60831"/>
          <a:stretch/>
        </p:blipFill>
        <p:spPr>
          <a:xfrm>
            <a:off x="250920" y="1125360"/>
            <a:ext cx="1082520" cy="1440000"/>
          </a:xfrm>
          <a:prstGeom prst="rect">
            <a:avLst/>
          </a:prstGeom>
          <a:ln w="38160">
            <a:solidFill>
              <a:srgbClr val="3264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64000" y="2997000"/>
            <a:ext cx="3456000" cy="1655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0033"/>
                </a:solidFill>
                <a:latin typeface="Tahoma"/>
              </a:rPr>
              <a:t>4. Необратимое и направленное историческое развитие живой природы</a:t>
            </a:r>
            <a:endParaRPr b="0" lang="en-US" sz="23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2340000" y="1125360"/>
            <a:ext cx="3382920" cy="287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96000" y="764640"/>
            <a:ext cx="3168720" cy="15829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5.Ввел бинарную систему названий биологических видов</a:t>
            </a:r>
            <a:endParaRPr b="0" lang="en-US" sz="2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07" name=""/>
          <p:cNvSpPr/>
          <p:nvPr/>
        </p:nvSpPr>
        <p:spPr>
          <a:xfrm>
            <a:off x="1835280" y="1413000"/>
            <a:ext cx="259236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Карл Линней"/>
          <p:cNvPicPr/>
          <p:nvPr/>
        </p:nvPicPr>
        <p:blipFill>
          <a:blip r:embed="rId1"/>
          <a:stretch/>
        </p:blipFill>
        <p:spPr>
          <a:xfrm>
            <a:off x="6210360" y="3068640"/>
            <a:ext cx="2730600" cy="363996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64000" y="2997000"/>
            <a:ext cx="3456000" cy="1655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ahoma"/>
              </a:rPr>
              <a:t>6.Вещество, входящее в состав клеточных стенок грибов</a:t>
            </a: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3203640" y="1989000"/>
            <a:ext cx="2089080" cy="287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866920" y="836280"/>
            <a:ext cx="3024360" cy="1584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7. Предложил клеточную теорию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2340000" y="2276640"/>
            <a:ext cx="208908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6227640" y="3357720"/>
            <a:ext cx="2524320" cy="280800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17:21:41Z</dcterms:created>
  <dc:creator>Uchitel</dc:creator>
  <dc:description/>
  <dc:language>en-US</dc:language>
  <cp:lastModifiedBy>Uchitel</cp:lastModifiedBy>
  <dcterms:modified xsi:type="dcterms:W3CDTF">2011-03-05T15:25:31Z</dcterms:modified>
  <cp:revision>72</cp:revision>
  <dc:subject/>
  <dc:title>Слайд 1</dc:title>
</cp:coreProperties>
</file>