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FD5-86C1-4536-A9E2-B87D8BB7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704-7086-49D3-8CBA-279AFCD1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687-12F1-46B5-8716-295B941A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49D-F4B9-4045-924C-BC613BC7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D69A-EC7F-44C2-B0CF-F2AE77C5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31C8-F3D5-4CCC-8B67-4ADEC4AF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5179-C05C-40C5-8CC8-6153AA45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F8E0-B44B-45DA-8021-92E23671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BD82-C5C2-4517-8A3D-104A97B8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3E14-9896-486E-B4BD-99ADC154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A6C1-891A-4488-B49A-6362EFA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E58-002B-4CBB-8B84-72F9E8E4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4591-B13E-49D9-B830-2D2CE3F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46F-7C3E-435B-AE34-8EFE35F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E01B-088F-4085-A41B-0084BB0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D145-FB36-4456-A194-C9176885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3F3A-79C5-4E6D-A74C-3264057D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BBE-2C7D-4094-B4D1-AED13A9B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832-8719-4FFE-AA11-78177A9A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A2D-3B59-4653-A3AC-C17BA444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FC5-D8F0-485D-A991-CBCD7187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306-9745-4CFD-BA64-74B01D7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2C6-9C1D-4444-A9A8-A74D8B60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DD1-6E35-44C4-9DCE-3808045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36A2-C026-48A0-9E82-CB5C08502C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76D4-D2EA-4588-BFAB-E78AA38623E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2738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Tahoma"/>
              </a:rPr>
              <a:t>Генетика популяций, </a:t>
            </a: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1 класс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5059440"/>
            <a:ext cx="7991280" cy="16095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ставила: Маркова Лайма Валдис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химии и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ть-Язьвинской МСОШ 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 Добрынина Людмила Викторовна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03640" cy="3006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8. Самый напряженный </a:t>
            </a:r>
            <a:br>
              <a:rPr sz="2600"/>
            </a:b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вид борьбы за существование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2637000"/>
            <a:ext cx="55450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519280" cy="1927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33"/>
                </a:solidFill>
                <a:latin typeface="Tahoma"/>
              </a:rPr>
              <a:t>9.Ступенчатое повышение уровня организации организмов по Ламарку</a:t>
            </a:r>
            <a:endParaRPr b="0" lang="en-US" sz="25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1835280" y="2924280"/>
            <a:ext cx="345744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866920" y="620640"/>
            <a:ext cx="3025800" cy="1944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0.</a:t>
            </a:r>
            <a:br>
              <a:rPr sz="3000"/>
            </a:b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Элементарная единица живой природы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843280" y="3213000"/>
            <a:ext cx="12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940000" y="907920"/>
            <a:ext cx="3025800" cy="136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Tahoma"/>
              </a:rPr>
              <a:t>11.Создатель палеонтологии</a:t>
            </a:r>
            <a:endParaRPr b="0" lang="en-US" sz="3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340000" y="3789360"/>
            <a:ext cx="2160720" cy="358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Жорж Кювье"/>
          <p:cNvPicPr/>
          <p:nvPr/>
        </p:nvPicPr>
        <p:blipFill>
          <a:blip r:embed="rId1"/>
          <a:stretch/>
        </p:blipFill>
        <p:spPr>
          <a:xfrm>
            <a:off x="6300720" y="3500280"/>
            <a:ext cx="2465280" cy="3137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95640" y="2997000"/>
            <a:ext cx="3025800" cy="194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12. Постоянно действующий источник наследственной изменчивости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835280" y="4149720"/>
            <a:ext cx="3024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ahoma"/>
              </a:rPr>
              <a:t>13. Процесс, приводящий к образованию половых клеток</a:t>
            </a:r>
            <a:endParaRPr b="0" lang="en-US" sz="2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2340000" y="4437000"/>
            <a:ext cx="20876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300720" y="549360"/>
            <a:ext cx="2521080" cy="194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95640" y="321264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4. Перекрест хромосом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68360" y="4724280"/>
            <a:ext cx="5183280" cy="2890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084720" y="692280"/>
            <a:ext cx="2592720" cy="1677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1584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5. Близко-родственное скрещивание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5013360"/>
            <a:ext cx="374472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6. Наука о наследственности и изменчивости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7372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795640" y="3068280"/>
            <a:ext cx="3025800" cy="1368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17.Создатель эволюционной теории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340000" y="5734080"/>
            <a:ext cx="251928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Дарвин Чарлз Роберт"/>
          <p:cNvPicPr/>
          <p:nvPr/>
        </p:nvPicPr>
        <p:blipFill>
          <a:blip r:embed="rId1"/>
          <a:stretch/>
        </p:blipFill>
        <p:spPr>
          <a:xfrm>
            <a:off x="6516720" y="4653000"/>
            <a:ext cx="1944720" cy="194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50920" y="189000"/>
          <a:ext cx="8229600" cy="63673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433440"/>
                <a:gridCol w="515880"/>
                <a:gridCol w="514440"/>
                <a:gridCol w="515880"/>
                <a:gridCol w="433440"/>
                <a:gridCol w="433440"/>
                <a:gridCol w="433440"/>
                <a:gridCol w="433080"/>
                <a:gridCol w="433440"/>
                <a:gridCol w="433440"/>
                <a:gridCol w="433440"/>
                <a:gridCol w="433440"/>
                <a:gridCol w="433440"/>
                <a:gridCol w="433440"/>
                <a:gridCol w="433080"/>
                <a:gridCol w="451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18. Явление расхождения признаков, ведущее к видообразованию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6021360"/>
            <a:ext cx="468000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5796000" y="620640"/>
            <a:ext cx="3097080" cy="19195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795640" y="2997360"/>
            <a:ext cx="3025800" cy="20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19.Факторы, вызывающие мутации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6308640"/>
            <a:ext cx="345744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0" y="189000"/>
          <a:ext cx="7740720" cy="645480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Ы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"/>
          <p:cNvSpPr/>
          <p:nvPr/>
        </p:nvSpPr>
        <p:spPr>
          <a:xfrm>
            <a:off x="3203640" y="189000"/>
            <a:ext cx="431640" cy="6480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Tahoma"/>
              </a:rPr>
              <a:t>В презентации использованы рисунки и портреты ученых из: </a:t>
            </a:r>
            <a:endParaRPr b="0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1.Свойство организмов приобретать новые признаки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2843280" y="189000"/>
            <a:ext cx="489744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12000" y="691920"/>
            <a:ext cx="2916000" cy="1871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2.Ввел термин «биология»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835280" y="476280"/>
            <a:ext cx="2592360" cy="2887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Ламарк"/>
          <p:cNvPicPr/>
          <p:nvPr/>
        </p:nvPicPr>
        <p:blipFill>
          <a:blip r:embed="rId1"/>
          <a:stretch/>
        </p:blipFill>
        <p:spPr>
          <a:xfrm>
            <a:off x="6227640" y="3068640"/>
            <a:ext cx="2689200" cy="338472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96000" y="620640"/>
            <a:ext cx="3132000" cy="165600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ahoma"/>
              </a:rPr>
              <a:t>3.Наука о создании новых пород животных и сортов растений</a:t>
            </a:r>
            <a:endParaRPr b="0" lang="en-US" sz="2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332000" y="765000"/>
            <a:ext cx="35272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rcRect l="63657" t="48048" r="14209" b="26367"/>
          <a:stretch/>
        </p:blipFill>
        <p:spPr>
          <a:xfrm>
            <a:off x="6659640" y="4797360"/>
            <a:ext cx="2158920" cy="18716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2"/>
          <a:srcRect l="28225" t="58877" r="36343" b="15987"/>
          <a:stretch/>
        </p:blipFill>
        <p:spPr>
          <a:xfrm>
            <a:off x="5796000" y="3068640"/>
            <a:ext cx="2843280" cy="151272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71782" t="24393" r="11979" b="55929"/>
          <a:stretch/>
        </p:blipFill>
        <p:spPr>
          <a:xfrm>
            <a:off x="179280" y="3141720"/>
            <a:ext cx="1333440" cy="121104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rcRect l="28207" t="23438" r="62926" b="60831"/>
          <a:stretch/>
        </p:blipFill>
        <p:spPr>
          <a:xfrm>
            <a:off x="250920" y="1125360"/>
            <a:ext cx="1082520" cy="1440000"/>
          </a:xfrm>
          <a:prstGeom prst="rect">
            <a:avLst/>
          </a:prstGeom>
          <a:ln w="38160">
            <a:solidFill>
              <a:srgbClr val="3264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90033"/>
                </a:solidFill>
                <a:latin typeface="Tahoma"/>
              </a:rPr>
              <a:t>4. Необратимое и направленное историческое развитие живой природы</a:t>
            </a:r>
            <a:endParaRPr b="0" lang="en-US" sz="23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1125360"/>
            <a:ext cx="338292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168720" cy="158292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33"/>
                </a:solidFill>
                <a:latin typeface="Tahoma"/>
              </a:rPr>
              <a:t>5.Ввел бинарную систему названий биологических видов</a:t>
            </a:r>
            <a:endParaRPr b="0" lang="en-US" sz="2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835280" y="1413000"/>
            <a:ext cx="2592360" cy="2872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Карл Линней"/>
          <p:cNvPicPr/>
          <p:nvPr/>
        </p:nvPicPr>
        <p:blipFill>
          <a:blip r:embed="rId1"/>
          <a:stretch/>
        </p:blipFill>
        <p:spPr>
          <a:xfrm>
            <a:off x="6210360" y="3068640"/>
            <a:ext cx="2730600" cy="363996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189000"/>
          <a:ext cx="7740720" cy="636732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64000" y="2997000"/>
            <a:ext cx="3456000" cy="1655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ahoma"/>
              </a:rPr>
              <a:t>6.Вещество, входящее в состав клеточных стенок грибов</a:t>
            </a:r>
            <a:endParaRPr b="0" lang="en-US" sz="2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203640" y="1989000"/>
            <a:ext cx="2089080" cy="28764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189000"/>
          <a:ext cx="7740720" cy="6397560"/>
        </p:xfrm>
        <a:graphic>
          <a:graphicData uri="http://schemas.openxmlformats.org/drawingml/2006/table">
            <a:tbl>
              <a:tblPr/>
              <a:tblGrid>
                <a:gridCol w="485640"/>
                <a:gridCol w="484200"/>
                <a:gridCol w="408240"/>
                <a:gridCol w="485640"/>
                <a:gridCol w="484200"/>
                <a:gridCol w="484200"/>
                <a:gridCol w="407880"/>
                <a:gridCol w="408240"/>
                <a:gridCol w="407880"/>
                <a:gridCol w="406440"/>
                <a:gridCol w="407880"/>
                <a:gridCol w="407880"/>
                <a:gridCol w="408240"/>
                <a:gridCol w="407880"/>
                <a:gridCol w="406440"/>
                <a:gridCol w="407880"/>
                <a:gridCol w="407880"/>
                <a:gridCol w="4240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Й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Т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И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26496"/>
                          </a:solidFill>
                          <a:latin typeface="Tahoma"/>
                        </a:rPr>
                        <a:t>Н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264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66920" y="836280"/>
            <a:ext cx="3024360" cy="1584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ahoma"/>
              </a:rPr>
              <a:t>7. Предложил клеточную теорию</a:t>
            </a:r>
            <a:endParaRPr b="0" lang="en-US" sz="32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340000" y="2276640"/>
            <a:ext cx="2089080" cy="36036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2524320" cy="280800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7:21:41Z</dcterms:created>
  <dc:creator>Uchitel</dc:creator>
  <dc:description/>
  <dc:language>en-US</dc:language>
  <cp:lastModifiedBy>Uchitel</cp:lastModifiedBy>
  <dcterms:modified xsi:type="dcterms:W3CDTF">2011-03-05T15:25:31Z</dcterms:modified>
  <cp:revision>72</cp:revision>
  <dc:subject/>
  <dc:title>Слайд 1</dc:title>
</cp:coreProperties>
</file>