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0A6F-AD4A-4FA1-BBE2-20995B93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06CE-F119-4E35-A6DC-75F2DC68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C36A-F222-4DAA-A085-47E9E1E1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7DC8-ADFC-4116-A359-4ECF830D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65B3-E244-49B6-B23C-FDDB602B4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D329-7713-4450-B268-6379B508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EF54-01A3-415C-A050-CA3C2D69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A8DD-F466-4CC2-B532-73234C8C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43B1-80B7-4774-AD65-97E02829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2AC8-1A8D-45EB-AC30-067E290C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7605-4896-4B78-8DE6-A6EE3150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9058-E078-4283-B31E-2F4D9753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36CA-DB18-4C01-97BB-43251F8F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A589-06A9-4600-BB9D-A88C5522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9CEB-62A4-48D2-832B-A3156A54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8BC4-1B43-47C0-B3B3-8DAD53220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1DDC-7AC9-414D-93D6-7D690AF27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78B8-9589-4525-8D2A-67FB8519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BEE4-490D-4C50-9A62-FCC49A96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0667-F510-4309-87AE-BCED87AC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8B41-AB83-4A1C-80EC-7B12551A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4CF4-1B16-42BA-BB1D-1FB2595E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969E-BE83-4937-A1A7-8DFDA4AC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E684-3640-4370-99BF-57F5CEBC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C7AE-922B-40F7-BFEE-5884D152A28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D7DC-F8E4-4C3F-9BDD-03030FAA61C7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2738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Tahoma"/>
              </a:rPr>
              <a:t>Генетика популяций, </a:t>
            </a: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11 класс</a:t>
            </a:r>
            <a:endParaRPr b="0" lang="en-US" sz="32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611280" y="5059440"/>
            <a:ext cx="7991280" cy="16095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оставила: Маркова Лайма Валдисовна,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итель химии и би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сть-Язьвинской МСОШ  Красновишерского района Перм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формила в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ower Point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:  Добрынина Людмила Викторовна,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итель биологии МОУ Краснооктябрьская СОШ Каргапольского района Курганской област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4103640" cy="3006720"/>
          </a:xfrm>
          <a:prstGeom prst="rect">
            <a:avLst/>
          </a:prstGeom>
          <a:ln w="38160">
            <a:solidFill>
              <a:srgbClr val="3264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866920" y="620640"/>
            <a:ext cx="3025800" cy="165600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33"/>
                </a:solidFill>
                <a:latin typeface="Tahoma"/>
              </a:rPr>
              <a:t>8. Самый напряженный </a:t>
            </a:r>
            <a:br>
              <a:rPr sz="2600"/>
            </a:br>
            <a:r>
              <a:rPr b="0" lang="en-US" sz="2600" spc="-1" strike="noStrike">
                <a:solidFill>
                  <a:srgbClr val="990033"/>
                </a:solidFill>
                <a:latin typeface="Tahoma"/>
              </a:rPr>
              <a:t>вид борьбы за существование</a:t>
            </a:r>
            <a:endParaRPr b="0" lang="en-US" sz="2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8" name=""/>
          <p:cNvSpPr/>
          <p:nvPr/>
        </p:nvSpPr>
        <p:spPr>
          <a:xfrm>
            <a:off x="1403280" y="2637000"/>
            <a:ext cx="554508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6300720" y="3141720"/>
            <a:ext cx="2519280" cy="192708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866920" y="620640"/>
            <a:ext cx="3025800" cy="1944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0033"/>
                </a:solidFill>
                <a:latin typeface="Tahoma"/>
              </a:rPr>
              <a:t>9.Ступенчатое повышение уровня организации организмов по Ламарку</a:t>
            </a:r>
            <a:endParaRPr b="0" lang="en-US" sz="25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>
            <a:off x="1835280" y="2924280"/>
            <a:ext cx="3457440" cy="288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866920" y="620640"/>
            <a:ext cx="3025800" cy="1944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33"/>
                </a:solidFill>
                <a:latin typeface="Tahoma"/>
              </a:rPr>
              <a:t>10.</a:t>
            </a:r>
            <a:br>
              <a:rPr sz="3000"/>
            </a:br>
            <a:r>
              <a:rPr b="0" lang="en-US" sz="3000" spc="-1" strike="noStrike">
                <a:solidFill>
                  <a:srgbClr val="990033"/>
                </a:solidFill>
                <a:latin typeface="Tahoma"/>
              </a:rPr>
              <a:t>Элементарная единица живой природы</a:t>
            </a:r>
            <a:endParaRPr b="0" lang="en-US" sz="30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25" name=""/>
          <p:cNvSpPr/>
          <p:nvPr/>
        </p:nvSpPr>
        <p:spPr>
          <a:xfrm>
            <a:off x="2843280" y="3213000"/>
            <a:ext cx="122400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940000" y="907920"/>
            <a:ext cx="3025800" cy="1368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33"/>
                </a:solidFill>
                <a:latin typeface="Tahoma"/>
              </a:rPr>
              <a:t>11.Создатель палеонтологии</a:t>
            </a:r>
            <a:endParaRPr b="0" lang="en-US" sz="30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28" name=""/>
          <p:cNvSpPr/>
          <p:nvPr/>
        </p:nvSpPr>
        <p:spPr>
          <a:xfrm>
            <a:off x="2340000" y="3789360"/>
            <a:ext cx="2160720" cy="3589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Жорж Кювье"/>
          <p:cNvPicPr/>
          <p:nvPr/>
        </p:nvPicPr>
        <p:blipFill>
          <a:blip r:embed="rId1"/>
          <a:stretch/>
        </p:blipFill>
        <p:spPr>
          <a:xfrm>
            <a:off x="6300720" y="3500280"/>
            <a:ext cx="2465280" cy="313704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0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95640" y="2997000"/>
            <a:ext cx="3025800" cy="1944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12. Постоянно действующий источник наследственной изменчивости</a:t>
            </a:r>
            <a:endParaRPr b="0" lang="en-US" sz="2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1835280" y="4149720"/>
            <a:ext cx="302400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795640" y="3212640"/>
            <a:ext cx="3025800" cy="1368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ahoma"/>
              </a:rPr>
              <a:t>13. Процесс, приводящий к образованию половых клеток</a:t>
            </a:r>
            <a:endParaRPr b="0" lang="en-US" sz="20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2340000" y="4437000"/>
            <a:ext cx="208764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6300720" y="549360"/>
            <a:ext cx="2521080" cy="19447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95640" y="3212640"/>
            <a:ext cx="3025800" cy="1368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14. Перекрест хромосом</a:t>
            </a:r>
            <a:endParaRPr b="0" lang="en-US" sz="32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9" name=""/>
          <p:cNvSpPr/>
          <p:nvPr/>
        </p:nvSpPr>
        <p:spPr>
          <a:xfrm>
            <a:off x="468360" y="4724280"/>
            <a:ext cx="5183280" cy="2890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6084720" y="692280"/>
            <a:ext cx="2592720" cy="167796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1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95640" y="2997360"/>
            <a:ext cx="3025800" cy="158400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15. Близко-родственное скрещивание</a:t>
            </a:r>
            <a:endParaRPr b="0" lang="en-US" sz="32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43" name=""/>
          <p:cNvSpPr/>
          <p:nvPr/>
        </p:nvSpPr>
        <p:spPr>
          <a:xfrm>
            <a:off x="2340000" y="5013360"/>
            <a:ext cx="374472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4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95640" y="3068280"/>
            <a:ext cx="3025800" cy="1368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33"/>
                </a:solidFill>
                <a:latin typeface="Tahoma"/>
              </a:rPr>
              <a:t>16. Наука о наследственности и изменчивости</a:t>
            </a:r>
            <a:endParaRPr b="0" lang="en-US" sz="2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1835280" y="5373720"/>
            <a:ext cx="345744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7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95640" y="3068280"/>
            <a:ext cx="3025800" cy="1368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17.Создатель эволюционной теории</a:t>
            </a:r>
            <a:endParaRPr b="0" lang="en-US" sz="32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49" name=""/>
          <p:cNvSpPr/>
          <p:nvPr/>
        </p:nvSpPr>
        <p:spPr>
          <a:xfrm>
            <a:off x="2340000" y="5734080"/>
            <a:ext cx="251928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Дарвин Чарлз Роберт"/>
          <p:cNvPicPr/>
          <p:nvPr/>
        </p:nvPicPr>
        <p:blipFill>
          <a:blip r:embed="rId1"/>
          <a:stretch/>
        </p:blipFill>
        <p:spPr>
          <a:xfrm>
            <a:off x="6516720" y="4653000"/>
            <a:ext cx="1944720" cy="194472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250920" y="189000"/>
          <a:ext cx="8229600" cy="6367320"/>
        </p:xfrm>
        <a:graphic>
          <a:graphicData uri="http://schemas.openxmlformats.org/drawingml/2006/table">
            <a:tbl>
              <a:tblPr/>
              <a:tblGrid>
                <a:gridCol w="515880"/>
                <a:gridCol w="515880"/>
                <a:gridCol w="433440"/>
                <a:gridCol w="515880"/>
                <a:gridCol w="514440"/>
                <a:gridCol w="515880"/>
                <a:gridCol w="433440"/>
                <a:gridCol w="433440"/>
                <a:gridCol w="433440"/>
                <a:gridCol w="433080"/>
                <a:gridCol w="433440"/>
                <a:gridCol w="433440"/>
                <a:gridCol w="433440"/>
                <a:gridCol w="433440"/>
                <a:gridCol w="433440"/>
                <a:gridCol w="433440"/>
                <a:gridCol w="433080"/>
                <a:gridCol w="451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1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95640" y="2997360"/>
            <a:ext cx="3025800" cy="20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33"/>
                </a:solidFill>
                <a:latin typeface="Tahoma"/>
              </a:rPr>
              <a:t>18. Явление расхождения признаков, ведущее к видообразованию</a:t>
            </a:r>
            <a:endParaRPr b="0" lang="en-US" sz="2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971640" y="6021360"/>
            <a:ext cx="468000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5796000" y="620640"/>
            <a:ext cx="3097080" cy="191952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5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795640" y="2997360"/>
            <a:ext cx="3025800" cy="20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ahoma"/>
              </a:rPr>
              <a:t>19.Факторы, вызывающие мутации</a:t>
            </a:r>
            <a:endParaRPr b="0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6308640"/>
            <a:ext cx="345744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8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Ы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9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Ы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"/>
          <p:cNvSpPr/>
          <p:nvPr/>
        </p:nvSpPr>
        <p:spPr>
          <a:xfrm>
            <a:off x="3203640" y="189000"/>
            <a:ext cx="431640" cy="648000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Tahoma"/>
              </a:rPr>
              <a:t>В презентации использованы рисунки и портреты ученых из: </a:t>
            </a:r>
            <a:endParaRPr b="0" lang="en-US" sz="40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разовательный комплекс «Биология, 10 кл.» - ©ЗАО «1С», 2009; ©OOО «1С-Паблишинг», 2009; © Издательский центр «Вентана-Граф»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кст учебника с иллюстрациями, 20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иблиотека электронных наглядных пособий «Биология. 6-9 классы» - Кирилл и Мефодий, 2004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ольшая энциклопедия Кирилла и Мефодия, 200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12000" y="691920"/>
            <a:ext cx="2916000" cy="1871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ahoma"/>
              </a:rPr>
              <a:t>1.Свойство организмов приобретать новые признаки</a:t>
            </a: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0" name=""/>
          <p:cNvSpPr/>
          <p:nvPr/>
        </p:nvSpPr>
        <p:spPr>
          <a:xfrm>
            <a:off x="2843280" y="189000"/>
            <a:ext cx="489744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12000" y="691920"/>
            <a:ext cx="2916000" cy="1871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ahoma"/>
              </a:rPr>
              <a:t>2.Ввел термин «биология»</a:t>
            </a:r>
            <a:endParaRPr b="0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1835280" y="476280"/>
            <a:ext cx="2592360" cy="288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Ламарк"/>
          <p:cNvPicPr/>
          <p:nvPr/>
        </p:nvPicPr>
        <p:blipFill>
          <a:blip r:embed="rId1"/>
          <a:stretch/>
        </p:blipFill>
        <p:spPr>
          <a:xfrm>
            <a:off x="6227640" y="3068640"/>
            <a:ext cx="2689200" cy="338472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96000" y="620640"/>
            <a:ext cx="3132000" cy="165600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3.Наука о создании новых пород животных и сортов растений</a:t>
            </a:r>
            <a:endParaRPr b="0" lang="en-US" sz="2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1332000" y="765000"/>
            <a:ext cx="352728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rcRect l="63657" t="48048" r="14209" b="26367"/>
          <a:stretch/>
        </p:blipFill>
        <p:spPr>
          <a:xfrm>
            <a:off x="6659640" y="4797360"/>
            <a:ext cx="2158920" cy="187164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399" name="" descr=""/>
          <p:cNvPicPr/>
          <p:nvPr/>
        </p:nvPicPr>
        <p:blipFill>
          <a:blip r:embed="rId2"/>
          <a:srcRect l="28225" t="58877" r="36343" b="15987"/>
          <a:stretch/>
        </p:blipFill>
        <p:spPr>
          <a:xfrm>
            <a:off x="5796000" y="3068640"/>
            <a:ext cx="2843280" cy="1512720"/>
          </a:xfrm>
          <a:prstGeom prst="rect">
            <a:avLst/>
          </a:prstGeom>
          <a:ln w="38160">
            <a:solidFill>
              <a:srgbClr val="326496"/>
            </a:solidFill>
            <a:miter/>
          </a:ln>
        </p:spPr>
      </p:pic>
      <p:pic>
        <p:nvPicPr>
          <p:cNvPr id="400" name="" descr=""/>
          <p:cNvPicPr/>
          <p:nvPr/>
        </p:nvPicPr>
        <p:blipFill>
          <a:blip r:embed="rId3"/>
          <a:srcRect l="71782" t="24393" r="11979" b="55929"/>
          <a:stretch/>
        </p:blipFill>
        <p:spPr>
          <a:xfrm>
            <a:off x="179280" y="3141720"/>
            <a:ext cx="1333440" cy="121104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401" name="" descr=""/>
          <p:cNvPicPr/>
          <p:nvPr/>
        </p:nvPicPr>
        <p:blipFill>
          <a:blip r:embed="rId4"/>
          <a:srcRect l="28207" t="23438" r="62926" b="60831"/>
          <a:stretch/>
        </p:blipFill>
        <p:spPr>
          <a:xfrm>
            <a:off x="250920" y="1125360"/>
            <a:ext cx="1082520" cy="1440000"/>
          </a:xfrm>
          <a:prstGeom prst="rect">
            <a:avLst/>
          </a:prstGeom>
          <a:ln w="38160">
            <a:solidFill>
              <a:srgbClr val="3264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64000" y="2997000"/>
            <a:ext cx="3456000" cy="1655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0033"/>
                </a:solidFill>
                <a:latin typeface="Tahoma"/>
              </a:rPr>
              <a:t>4. Необратимое и направленное историческое развитие живой природы</a:t>
            </a:r>
            <a:endParaRPr b="0" lang="en-US" sz="23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2340000" y="1125360"/>
            <a:ext cx="3382920" cy="287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96000" y="764640"/>
            <a:ext cx="3168720" cy="15829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33"/>
                </a:solidFill>
                <a:latin typeface="Tahoma"/>
              </a:rPr>
              <a:t>5.Ввел бинарную систему названий биологических видов</a:t>
            </a:r>
            <a:endParaRPr b="0" lang="en-US" sz="2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07" name=""/>
          <p:cNvSpPr/>
          <p:nvPr/>
        </p:nvSpPr>
        <p:spPr>
          <a:xfrm>
            <a:off x="1835280" y="1413000"/>
            <a:ext cx="259236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Карл Линней"/>
          <p:cNvPicPr/>
          <p:nvPr/>
        </p:nvPicPr>
        <p:blipFill>
          <a:blip r:embed="rId1"/>
          <a:stretch/>
        </p:blipFill>
        <p:spPr>
          <a:xfrm>
            <a:off x="6210360" y="3068640"/>
            <a:ext cx="2730600" cy="363996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64000" y="2997000"/>
            <a:ext cx="3456000" cy="1655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ahoma"/>
              </a:rPr>
              <a:t>6.Вещество, входящее в состав клеточных стенок грибов</a:t>
            </a: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3203640" y="1989000"/>
            <a:ext cx="2089080" cy="287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866920" y="836280"/>
            <a:ext cx="3024360" cy="1584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7. Предложил клеточную теорию</a:t>
            </a:r>
            <a:endParaRPr b="0" lang="en-US" sz="32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2340000" y="2276640"/>
            <a:ext cx="208908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6227640" y="3357720"/>
            <a:ext cx="2524320" cy="280800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17:21:41Z</dcterms:created>
  <dc:creator>Uchitel</dc:creator>
  <dc:description/>
  <dc:language>en-US</dc:language>
  <cp:lastModifiedBy>Uchitel</cp:lastModifiedBy>
  <dcterms:modified xsi:type="dcterms:W3CDTF">2011-03-05T15:25:31Z</dcterms:modified>
  <cp:revision>72</cp:revision>
  <dc:subject/>
  <dc:title>Слайд 1</dc:title>
</cp:coreProperties>
</file>