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3B3-ED0F-4115-B83F-CEC4B010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566-D2A3-43C6-8CE1-BBC32A76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345-55CA-4884-B326-A00D32A6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8FD-E44A-4555-AC73-42409083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211A-F335-43AB-918C-5FF33F12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FE59-5C7B-4C45-AD3B-A60A9614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C680-2FA1-4BC2-8B9C-8C96D1D9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888E-104B-4C9F-8E70-A7C09C3C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A5B7-A364-4AEC-B1E6-BE1DDB98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DB55-FC0C-4DAE-9F6F-F94CF4BA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3BFA-6E11-402B-BF60-73720A0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225-7042-4BA0-9044-75D5FD77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6AA9-8739-416F-83E4-872D00E1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2A10-8DC6-418B-B622-18E1066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E781-D75D-4E74-B52F-21F28664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80AE-D51B-41CA-86B9-3DA56570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6C99-BD65-4389-B1D0-5370D4D3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C92-9875-4E6D-8686-5140F663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23E-4CB5-431B-99CC-23645D2B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1AC-689A-4D3D-8E24-CD5D4FBF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9DB-98A5-4AED-8CC0-E330B7B4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1F1-D324-4A92-81D2-593504D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1FF-99E2-4F99-A39B-E4E48DBD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4E2-9B1E-4B19-9DEB-9B9529B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AAC0-EAFF-4093-8F8D-2D913F5B7B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4475-107E-4299-9AE4-3583EB758A4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73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Генетика популяций,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059440"/>
            <a:ext cx="7991280" cy="16095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а: Маркова Лайма Валдис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химии и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ть-Язьвинской МСОШ 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 Добрынина Людмила Виктор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3006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8. Самый напряженный 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вид борьбы за существование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2637000"/>
            <a:ext cx="55450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19280" cy="1927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Tahoma"/>
              </a:rPr>
              <a:t>9.Ступенчатое повышение уровня организации организмов по Ламарку</a:t>
            </a:r>
            <a:endParaRPr b="0" lang="en-US" sz="25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924280"/>
            <a:ext cx="345744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0.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Элементарная единица живой природы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3213000"/>
            <a:ext cx="12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40000" y="907920"/>
            <a:ext cx="3025800" cy="136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1.Создатель палеонтологии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2160720" cy="358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Жорж Кювье"/>
          <p:cNvPicPr/>
          <p:nvPr/>
        </p:nvPicPr>
        <p:blipFill>
          <a:blip r:embed="rId1"/>
          <a:stretch/>
        </p:blipFill>
        <p:spPr>
          <a:xfrm>
            <a:off x="6300720" y="3500280"/>
            <a:ext cx="2465280" cy="3137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95640" y="2997000"/>
            <a:ext cx="3025800" cy="194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12. Постоянно действующий источник наследственной изменчивости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149720"/>
            <a:ext cx="30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13. Процесс, приводящий к образованию половых клеток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4437000"/>
            <a:ext cx="20876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21080" cy="19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4. Перекрест хромосом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4724280"/>
            <a:ext cx="5183280" cy="2890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592720" cy="167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1584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5. Близко-родственное скрещивание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5013360"/>
            <a:ext cx="37447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6. Наука о наследственности и изменчивости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7372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7.Создатель эволюционной теории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5734080"/>
            <a:ext cx="25192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Дарвин Чарлз Роберт"/>
          <p:cNvPicPr/>
          <p:nvPr/>
        </p:nvPicPr>
        <p:blipFill>
          <a:blip r:embed="rId1"/>
          <a:stretch/>
        </p:blipFill>
        <p:spPr>
          <a:xfrm>
            <a:off x="6516720" y="4653000"/>
            <a:ext cx="1944720" cy="19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50920" y="189000"/>
          <a:ext cx="8229600" cy="63673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433440"/>
                <a:gridCol w="515880"/>
                <a:gridCol w="514440"/>
                <a:gridCol w="515880"/>
                <a:gridCol w="433440"/>
                <a:gridCol w="433440"/>
                <a:gridCol w="433440"/>
                <a:gridCol w="433080"/>
                <a:gridCol w="433440"/>
                <a:gridCol w="433440"/>
                <a:gridCol w="433440"/>
                <a:gridCol w="433440"/>
                <a:gridCol w="433440"/>
                <a:gridCol w="433440"/>
                <a:gridCol w="433080"/>
                <a:gridCol w="451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8. Явление расхождения признаков, ведущее к видообразованию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021360"/>
            <a:ext cx="4680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97080" cy="1919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19.Факторы, вызывающие мутации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630864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3203640" y="189000"/>
            <a:ext cx="431640" cy="6480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ahoma"/>
              </a:rPr>
              <a:t>В презентации использованы рисунки и портреты ученых из: </a:t>
            </a:r>
            <a:endParaRPr b="0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1.Свойство организмов приобретать новые признаки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189000"/>
            <a:ext cx="48974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2.Ввел термин «биология»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76280"/>
            <a:ext cx="259236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Ламарк"/>
          <p:cNvPicPr/>
          <p:nvPr/>
        </p:nvPicPr>
        <p:blipFill>
          <a:blip r:embed="rId1"/>
          <a:stretch/>
        </p:blipFill>
        <p:spPr>
          <a:xfrm>
            <a:off x="6227640" y="3068640"/>
            <a:ext cx="2689200" cy="338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96000" y="620640"/>
            <a:ext cx="31320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3.Наука о создании новых пород животных и сортов растений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765000"/>
            <a:ext cx="35272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63657" t="48048" r="14209" b="26367"/>
          <a:stretch/>
        </p:blipFill>
        <p:spPr>
          <a:xfrm>
            <a:off x="6659640" y="4797360"/>
            <a:ext cx="2158920" cy="18716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8225" t="58877" r="36343" b="15987"/>
          <a:stretch/>
        </p:blipFill>
        <p:spPr>
          <a:xfrm>
            <a:off x="5796000" y="3068640"/>
            <a:ext cx="2843280" cy="1512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71782" t="24393" r="11979" b="55929"/>
          <a:stretch/>
        </p:blipFill>
        <p:spPr>
          <a:xfrm>
            <a:off x="179280" y="3141720"/>
            <a:ext cx="1333440" cy="1211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rcRect l="28207" t="23438" r="62926" b="60831"/>
          <a:stretch/>
        </p:blipFill>
        <p:spPr>
          <a:xfrm>
            <a:off x="250920" y="1125360"/>
            <a:ext cx="1082520" cy="144000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ahoma"/>
              </a:rPr>
              <a:t>4. Необратимое и направленное историческое развитие живой природы</a:t>
            </a:r>
            <a:endParaRPr b="0" lang="en-US" sz="23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1125360"/>
            <a:ext cx="338292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168720" cy="1582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5.Ввел бинарную систему названий биологических видов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1413000"/>
            <a:ext cx="259236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Карл Линней"/>
          <p:cNvPicPr/>
          <p:nvPr/>
        </p:nvPicPr>
        <p:blipFill>
          <a:blip r:embed="rId1"/>
          <a:stretch/>
        </p:blipFill>
        <p:spPr>
          <a:xfrm>
            <a:off x="6210360" y="3068640"/>
            <a:ext cx="2730600" cy="3639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6.Вещество, входящее в состав клеточных стенок грибов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1989000"/>
            <a:ext cx="208908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66920" y="836280"/>
            <a:ext cx="3024360" cy="158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7. Предложил клеточную теорию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2276640"/>
            <a:ext cx="20890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524320" cy="2808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7:21:41Z</dcterms:created>
  <dc:creator>Uchitel</dc:creator>
  <dc:description/>
  <dc:language>en-US</dc:language>
  <cp:lastModifiedBy>Uchitel</cp:lastModifiedBy>
  <dcterms:modified xsi:type="dcterms:W3CDTF">2011-03-05T15:25:31Z</dcterms:modified>
  <cp:revision>72</cp:revision>
  <dc:subject/>
  <dc:title>Слайд 1</dc:title>
</cp:coreProperties>
</file>