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035-4227-48C1-A5EB-62BBD30E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3B5-0DEA-4ACD-887D-D46C0675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F954-9A03-4C52-BEB4-6711A80E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30E-0186-4E33-A3C4-409AAE7C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3F40-27E0-4A2D-844B-4C0DB85EE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50FFC-B4D9-4B85-B1BC-08FD7516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05D0-5BC0-4C26-B809-33CE7DBE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F3C3-603C-473A-B7EE-255B2ADF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81DC-70A2-437D-9A24-C0DCB6A2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EC4D-AD21-4254-B726-01556539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4F0CE-A642-4C03-AC32-70BDA8BA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C65-D8F0-437B-9938-007ECF4F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700F-82B5-478C-B28A-C206804E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16BC-11A3-4C88-AE52-5138ED0C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F81A-6E02-4A01-A63D-6E490B87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5AB11-C455-4CAF-BF08-0CBF1B129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926F-FA71-46CC-B57F-56FCA24CD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E853-7DFB-4946-A8AA-A61209F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B6C-4B91-40CC-82A2-C733F67D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ADD-A7D5-4FB0-8780-AAC9D48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68C8-8845-4ED7-95A7-9B868F88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AF2-7E1B-4F6E-A8F0-9F6D720C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3B2-D650-43B8-BE24-BE79D977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FA1-B75E-49C5-A9CC-3613881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7C612-6011-4E8F-9AB2-EABC45ECD2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55DA-D47B-4D70-BE09-697D9ED7D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6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2000" y="404640"/>
            <a:ext cx="88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РГАНИЗАЦИОННЫЕ ФОРМЫ ТОРГОВ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1965600" cy="12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2592360" cy="1720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3492360" y="1341360"/>
            <a:ext cx="1855800" cy="247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724360" y="1557360"/>
            <a:ext cx="2382840" cy="178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5867280" y="3789360"/>
            <a:ext cx="1800360" cy="1347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11720" y="5950080"/>
            <a:ext cx="279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ЭКОНОМ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МОУ НОВОСЁЛКОВСКАЯ СОШ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ГУЛЯЕВ А.Ф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ОРГОВЫ АВТОМАТЫ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КРУГЛОСУТОЧНАЯ РАБОТА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СУТСТВИЕ ПЕРСОН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84360" y="1700280"/>
            <a:ext cx="4216320" cy="4216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2892600" cy="42228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6286680" y="1700280"/>
            <a:ext cx="2857320" cy="42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КАТАЛО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ФОТОГРАФИЯ ТОВАРА И ЕГО ОПИСА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2736720" cy="3168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203640" y="1125360"/>
            <a:ext cx="2808360" cy="316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156360" y="3284640"/>
            <a:ext cx="270180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476280"/>
            <a:ext cx="868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ИНТЕРНЕТ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095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627280" y="54936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256536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ЧТ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56000" y="2637000"/>
            <a:ext cx="1944720" cy="28872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292720" y="2492280"/>
            <a:ext cx="3095640" cy="2016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8000" y="4653000"/>
            <a:ext cx="86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ТЕЛЕВИДЕНИ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00360" y="4724280"/>
            <a:ext cx="1944720" cy="289080"/>
          </a:xfrm>
          <a:custGeom>
            <a:avLst/>
            <a:gdLst>
              <a:gd name="textAreaLeft" fmla="*/ 243000 w 1944720"/>
              <a:gd name="textAreaRight" fmla="*/ 1701720 w 194472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292720" y="4797360"/>
            <a:ext cx="309564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404640"/>
            <a:ext cx="9142920" cy="5110920"/>
            <a:chOff x="0" y="404640"/>
            <a:chExt cx="9142920" cy="5110920"/>
          </a:xfrm>
        </p:grpSpPr>
        <p:cxnSp>
          <p:nvCxnSpPr>
            <p:cNvPr id="90" name="_s6173"/>
            <p:cNvCxnSpPr>
              <a:stCxn id="91" idx="1"/>
              <a:endCxn id="92" idx="2"/>
            </p:cNvCxnSpPr>
            <p:nvPr/>
          </p:nvCxnSpPr>
          <p:spPr>
            <a:xfrm rot="10800000">
              <a:off x="457092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6171"/>
            <p:cNvCxnSpPr>
              <a:stCxn id="94" idx="3"/>
              <a:endCxn id="92" idx="2"/>
            </p:cNvCxnSpPr>
            <p:nvPr/>
          </p:nvCxnSpPr>
          <p:spPr>
            <a:xfrm flipV="1">
              <a:off x="3918240" y="1681560"/>
              <a:ext cx="653760" cy="31950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6170"/>
            <p:cNvCxnSpPr>
              <a:stCxn id="96" idx="1"/>
              <a:endCxn id="92" idx="2"/>
            </p:cNvCxnSpPr>
            <p:nvPr/>
          </p:nvCxnSpPr>
          <p:spPr>
            <a:xfrm rot="10800000">
              <a:off x="457092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6169"/>
            <p:cNvCxnSpPr>
              <a:stCxn id="98" idx="3"/>
              <a:endCxn id="92" idx="2"/>
            </p:cNvCxnSpPr>
            <p:nvPr/>
          </p:nvCxnSpPr>
          <p:spPr>
            <a:xfrm flipV="1">
              <a:off x="3918240" y="1681560"/>
              <a:ext cx="653760" cy="128340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2" name="_s6165"/>
            <p:cNvSpPr/>
            <p:nvPr/>
          </p:nvSpPr>
          <p:spPr>
            <a:xfrm>
              <a:off x="2612160" y="40464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Tahoma"/>
                </a:rPr>
                <a:t>МАГАЗИНЫ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6166"/>
            <p:cNvSpPr/>
            <p:nvPr/>
          </p:nvSpPr>
          <p:spPr>
            <a:xfrm>
              <a:off x="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УНИВЕРСАЛЬ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6167"/>
            <p:cNvSpPr/>
            <p:nvPr/>
          </p:nvSpPr>
          <p:spPr>
            <a:xfrm>
              <a:off x="5224680" y="232128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ПЕЦИАЛИЗ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РОВА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6168"/>
            <p:cNvSpPr/>
            <p:nvPr/>
          </p:nvSpPr>
          <p:spPr>
            <a:xfrm>
              <a:off x="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ФИРМЕННЫЙ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6172"/>
            <p:cNvSpPr/>
            <p:nvPr/>
          </p:nvSpPr>
          <p:spPr>
            <a:xfrm>
              <a:off x="5224680" y="4237920"/>
              <a:ext cx="3918240" cy="127764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САМООБСЛУЖИ-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ff"/>
                  </a:solidFill>
                  <a:latin typeface="Tahoma"/>
                </a:rPr>
                <a:t>ВАНИЯ</a:t>
              </a:r>
              <a:endParaRPr b="0" lang="en-US" sz="3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1880" y="48888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УНИВЕРСАЛЬ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ЗН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248000" cy="2754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2641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572000" y="4005360"/>
            <a:ext cx="439272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4572000" y="1341360"/>
            <a:ext cx="439272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ПЕЦИАЛИЗИРОВА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АКОВОГО НАЗНАЧ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33145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003640" y="1628640"/>
            <a:ext cx="3579840" cy="2521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771640" y="4221000"/>
            <a:ext cx="352908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        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ИРМЕННЫЙ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РГУЕТ ТОВАР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НОЙ ФИР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195640" y="1341360"/>
            <a:ext cx="4321080" cy="30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9280" y="3860640"/>
            <a:ext cx="4000680" cy="2778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4427640" y="3860640"/>
            <a:ext cx="403380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САМООБСЛУЖИВА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ДОСТУПНОСТЬ ТОВАР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ПОКУП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1484280"/>
            <a:ext cx="3600360" cy="2305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700360" y="2997360"/>
            <a:ext cx="3457440" cy="2447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651640" y="4405320"/>
            <a:ext cx="3492360" cy="24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БИРЖ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СДЕЛКИ ЗАКЛЮЧАЮТСЯ ЧЕРЕЗ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РЕДНИКОВ-БРОКЕР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ОВАР ПРОДАЁТСЯ БОЛЬШИМ ОП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08000" y="1989000"/>
            <a:ext cx="4751280" cy="381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427640" y="1989000"/>
            <a:ext cx="4562280" cy="3810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179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76280"/>
            <a:ext cx="86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АУКЦИО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ТОВАР ПОЛУЧАЕТ ТОТ, КТО БОЛЬШЕ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ЗАПЛАТ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64000" y="1413000"/>
            <a:ext cx="5333760" cy="3571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08000" y="3429000"/>
            <a:ext cx="4895640" cy="32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76280"/>
            <a:ext cx="868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ЯРМАР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ПЕРИОДИЧЕСКИ ОРГАНИЗУЕМАЯ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РЕДЕЛЁННОМ МЕСТЕ ТОРГОВ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33200" y="1498680"/>
            <a:ext cx="8877600" cy="5170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12:38:29Z</dcterms:created>
  <dc:creator>Customer</dc:creator>
  <dc:description/>
  <dc:language>en-US</dc:language>
  <cp:lastModifiedBy>КарМаН</cp:lastModifiedBy>
  <dcterms:modified xsi:type="dcterms:W3CDTF">2012-02-07T11:56:36Z</dcterms:modified>
  <cp:revision>3</cp:revision>
  <dc:subject/>
  <dc:title>Слайд 1</dc:title>
</cp:coreProperties>
</file>