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12B0-D228-4672-9F84-E87BA7A5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CF5-149F-413F-850A-44F2BCC7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0DBF-D0AD-46BA-BEC6-63E485AE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BDE-4455-4D7C-A632-BB987756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AAC9-A31C-4818-8857-8D0FB4DB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584C-9A5C-4C2B-8BBF-09E98108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FEBE-48FC-4B52-A429-C2A030A8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D2DC-0C21-4FA8-94F3-EC205B07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3CBC-8948-45E4-A411-B876100A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11CA-632F-4BBC-BDB6-D95638E0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B795-BA66-4A9A-A1CB-B8BD063F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7FC-92D2-4274-9C5D-A04F2934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D6E8-FD0C-4DA4-A9E8-21C5BC7E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C944-6B9A-436D-8750-780C7E7A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2574-DC4A-4885-A20F-F50BAC65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CE48-7B77-4521-94F1-32746776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82F4-63CA-481F-A94D-7B960936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6BEB-B218-4766-9F2D-8F335B26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57EA-F3C3-4AFA-A247-57299B70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FBE0-78F9-4C70-99A0-2113CCC7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F023-0697-4100-B7A5-C9D12150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F0EA-86C6-4B3E-9B99-FFD8FB6D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9A3D-77A3-4633-A1B3-860853D0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EB7-AA4A-4FA3-9555-ADA7B332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D227-5BC8-4532-817C-B067CB26B2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AA3C-F421-43DF-A22B-49ECA0F190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6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2000" y="404640"/>
            <a:ext cx="88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РГАНИЗАЦИОННЫЕ ФОРМЫ ТОРГОВ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1965600" cy="1225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900000" y="3429000"/>
            <a:ext cx="2592360" cy="1720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492360" y="1341360"/>
            <a:ext cx="1855800" cy="2471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724360" y="1557360"/>
            <a:ext cx="2382840" cy="178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5867280" y="3789360"/>
            <a:ext cx="1800360" cy="1347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1720" y="5950080"/>
            <a:ext cx="279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ЧИТЕЛЬ ЭКОНОМ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МОУ НОВОСЁЛКОВСКАЯ СО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ГУЛЯЕВ А.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ОРГОВЫ АВТОМАТ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КРУГЛОСУТОЧНАЯ РАБОТ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СУТСТВИЕ ПЕРСОН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484360" y="1700280"/>
            <a:ext cx="4216320" cy="4216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2892600" cy="4222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286680" y="1700280"/>
            <a:ext cx="285732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КАТАЛО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ФОТОГРАФИЯ ТОВАРА И ЕГО ОПИС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736720" cy="316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2808360" cy="3168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156360" y="3284640"/>
            <a:ext cx="270180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НТЕРНЕ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095640" cy="1871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27280" y="54936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256536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ЧТА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263700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3095640" cy="2016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8000" y="465300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ЕЛЕВИДЕНИ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4724280"/>
            <a:ext cx="1944720" cy="28908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292720" y="4797360"/>
            <a:ext cx="309564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404640"/>
            <a:ext cx="9142920" cy="5110920"/>
            <a:chOff x="0" y="404640"/>
            <a:chExt cx="9142920" cy="5110920"/>
          </a:xfrm>
        </p:grpSpPr>
        <p:cxnSp>
          <p:nvCxnSpPr>
            <p:cNvPr id="90" name="_s6173"/>
            <p:cNvCxnSpPr>
              <a:stCxn id="91" idx="1"/>
              <a:endCxn id="92" idx="2"/>
            </p:cNvCxnSpPr>
            <p:nvPr/>
          </p:nvCxnSpPr>
          <p:spPr>
            <a:xfrm rot="10800000">
              <a:off x="457092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6171"/>
            <p:cNvCxnSpPr>
              <a:stCxn id="94" idx="3"/>
              <a:endCxn id="92" idx="2"/>
            </p:cNvCxnSpPr>
            <p:nvPr/>
          </p:nvCxnSpPr>
          <p:spPr>
            <a:xfrm flipV="1">
              <a:off x="391824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6170"/>
            <p:cNvCxnSpPr>
              <a:stCxn id="96" idx="1"/>
              <a:endCxn id="92" idx="2"/>
            </p:cNvCxnSpPr>
            <p:nvPr/>
          </p:nvCxnSpPr>
          <p:spPr>
            <a:xfrm rot="10800000">
              <a:off x="457092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6169"/>
            <p:cNvCxnSpPr>
              <a:stCxn id="98" idx="3"/>
              <a:endCxn id="92" idx="2"/>
            </p:cNvCxnSpPr>
            <p:nvPr/>
          </p:nvCxnSpPr>
          <p:spPr>
            <a:xfrm flipV="1">
              <a:off x="391824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6165"/>
            <p:cNvSpPr/>
            <p:nvPr/>
          </p:nvSpPr>
          <p:spPr>
            <a:xfrm>
              <a:off x="2612160" y="40464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ahoma"/>
                </a:rPr>
                <a:t>МАГАЗИНЫ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6166"/>
            <p:cNvSpPr/>
            <p:nvPr/>
          </p:nvSpPr>
          <p:spPr>
            <a:xfrm>
              <a:off x="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УНИВЕРСАЛЬ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6167"/>
            <p:cNvSpPr/>
            <p:nvPr/>
          </p:nvSpPr>
          <p:spPr>
            <a:xfrm>
              <a:off x="522468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ПЕЦИАЛИЗ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РОВА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6168"/>
            <p:cNvSpPr/>
            <p:nvPr/>
          </p:nvSpPr>
          <p:spPr>
            <a:xfrm>
              <a:off x="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ФИРМЕ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6172"/>
            <p:cNvSpPr/>
            <p:nvPr/>
          </p:nvSpPr>
          <p:spPr>
            <a:xfrm>
              <a:off x="522468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АМООБСЛУЖ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ВАНИЯ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81880" y="488880"/>
            <a:ext cx="64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НИВЕРСАЛЬ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Н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4248000" cy="2754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4319280" cy="2641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572000" y="4005360"/>
            <a:ext cx="4392720" cy="272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0" y="1341360"/>
            <a:ext cx="439272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ПЕЦИАЛИЗИРОВА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ИНАКОВ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314520" cy="25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003640" y="1628640"/>
            <a:ext cx="3579840" cy="252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771640" y="4221000"/>
            <a:ext cx="3529080" cy="24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ФИРМЕ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НОЙ ФИ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95640" y="1341360"/>
            <a:ext cx="4321080" cy="30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4000680" cy="2778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427640" y="3860640"/>
            <a:ext cx="40338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АМООБСЛУЖИВА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ДОСТУПНОСТЬ ТОВА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ПОКУПА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600360" cy="2305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700360" y="2997360"/>
            <a:ext cx="3457440" cy="2447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651640" y="4405320"/>
            <a:ext cx="3492360" cy="24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БИРЖ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СДЕЛКИ ЗАКЛЮЧАЮТСЯ ЧЕРЕЗ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РЕДНИКОВ-БРОКЕР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ВАР ПРОДАЁТСЯ БОЛЬШИМ ОП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8000" y="1989000"/>
            <a:ext cx="4751280" cy="381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427640" y="1989000"/>
            <a:ext cx="4562280" cy="3810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9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УКЦИОН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ВАР ПОЛУЧАЕТ ТОТ, КТО БОЛЬШЕ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ПЛАТ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564000" y="1413000"/>
            <a:ext cx="5333760" cy="3571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08000" y="3429000"/>
            <a:ext cx="489564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ЯРМАР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ПЕРИОДИЧЕСКИ ОРГАНИЗУЕМАЯ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РЕДЕЛЁННОМ МЕСТЕ ТОРГОВ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3200" y="1498680"/>
            <a:ext cx="8877600" cy="517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2:38:29Z</dcterms:created>
  <dc:creator>Customer</dc:creator>
  <dc:description/>
  <dc:language>en-US</dc:language>
  <cp:lastModifiedBy>КарМаН</cp:lastModifiedBy>
  <dcterms:modified xsi:type="dcterms:W3CDTF">2012-02-07T11:56:36Z</dcterms:modified>
  <cp:revision>3</cp:revision>
  <dc:subject/>
  <dc:title>Слайд 1</dc:title>
</cp:coreProperties>
</file>