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7.jpeg" ContentType="image/jpeg"/>
  <Override PartName="/ppt/media/image3.jpeg" ContentType="image/jpeg"/>
  <Override PartName="/ppt/media/image24.jpeg" ContentType="image/jpeg"/>
  <Override PartName="/ppt/media/image26.wmf" ContentType="image/x-wmf"/>
  <Override PartName="/ppt/media/image14.wmf" ContentType="image/x-wmf"/>
  <Override PartName="/ppt/media/image23.wmf" ContentType="image/x-wmf"/>
  <Override PartName="/ppt/media/image18.jpeg" ContentType="image/jpeg"/>
  <Override PartName="/ppt/media/image21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4.wmf" ContentType="image/x-wmf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EBEF-638A-49E5-9132-9E1BD1D6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9543-6AC6-4919-8B0F-A6090EAC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BA83-B1E9-4C3A-AF46-CDA567EA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0067-D783-49E4-9927-3C5D1CCA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655E-7D1A-4AAD-89F4-8B7FE241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4416-0362-4D3B-B1A5-589CA482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435A-FE29-4A10-A5C5-28E8E7D1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34F0-7884-4805-90E1-B40535C1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3C2F-C71D-42B0-9966-40254433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34AF-83F5-42E7-9758-6657E06C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CE3F-BDF6-448C-B974-2BB8617A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5BF3-BC27-4F27-BE92-C00FF3F4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4343-0AC7-44E5-A456-DADD9254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5B6E-B441-47FD-9BE7-B3EF9F4C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1ED2-F7AE-4515-B389-C327BD49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96E7-A047-4232-BCAE-21B7EDFE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3EAD-A0C7-4F94-BF49-CC60B4F3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856F-D64D-4CEF-9DF8-CAA5E7B3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AFDC-88F0-4925-901A-0A337D79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F67-F876-45AA-BFE6-C33110C5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3C16-E258-4EF1-81FD-A1439C00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315-0862-40FF-89C9-05094111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2645-C5AA-4B48-A2E5-E0FA5E99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1B81-C5DB-40FE-9BE2-796FCF82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октябрь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Закурдаева Н.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МОУ-СОШ№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1"/>
          <p:cNvSpPr/>
          <p:nvPr/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октябрь 200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Закурдаева Н.А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Tahoma"/>
              </a:rPr>
              <a:t>Конкуренция. Структура рын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340000" y="620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Урок экономики. 9 класс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8" descr="FES033"/>
          <p:cNvPicPr/>
          <p:nvPr/>
        </p:nvPicPr>
        <p:blipFill>
          <a:blip r:embed="rId1"/>
          <a:stretch/>
        </p:blipFill>
        <p:spPr>
          <a:xfrm rot="6185400">
            <a:off x="7850880" y="2694600"/>
            <a:ext cx="204840" cy="10000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95640" y="1989000"/>
            <a:ext cx="633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Монополистическая </a:t>
            </a:r>
            <a:br>
              <a:rPr sz="3200"/>
            </a:b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конкуренция – </a:t>
            </a:r>
            <a:br>
              <a:rPr sz="3200"/>
            </a:b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рынок с множеством производителей, предлагающих схожие,</a:t>
            </a: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о не одинаковые (дифференцированные) товары и услуг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6" descr="FSTV038"/>
          <p:cNvPicPr/>
          <p:nvPr/>
        </p:nvPicPr>
        <p:blipFill>
          <a:blip r:embed="rId2"/>
          <a:stretch/>
        </p:blipFill>
        <p:spPr>
          <a:xfrm>
            <a:off x="7380360" y="3500280"/>
            <a:ext cx="1584360" cy="63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FDDNK017"/>
          <p:cNvPicPr/>
          <p:nvPr/>
        </p:nvPicPr>
        <p:blipFill>
          <a:blip r:embed="rId3"/>
          <a:stretch/>
        </p:blipFill>
        <p:spPr>
          <a:xfrm>
            <a:off x="5651640" y="3933720"/>
            <a:ext cx="1758960" cy="2060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CLOCK"/>
          <p:cNvPicPr/>
          <p:nvPr/>
        </p:nvPicPr>
        <p:blipFill>
          <a:blip r:embed="rId4"/>
          <a:stretch/>
        </p:blipFill>
        <p:spPr>
          <a:xfrm>
            <a:off x="2556000" y="4653000"/>
            <a:ext cx="1390680" cy="140976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60" name="Picture 10" descr="CLOCK"/>
          <p:cNvPicPr/>
          <p:nvPr/>
        </p:nvPicPr>
        <p:blipFill>
          <a:blip r:embed="rId5"/>
          <a:stretch/>
        </p:blipFill>
        <p:spPr>
          <a:xfrm>
            <a:off x="4140360" y="4724280"/>
            <a:ext cx="1182600" cy="1214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ALARMCLK"/>
          <p:cNvPicPr/>
          <p:nvPr/>
        </p:nvPicPr>
        <p:blipFill>
          <a:blip r:embed="rId6"/>
          <a:stretch/>
        </p:blipFill>
        <p:spPr>
          <a:xfrm>
            <a:off x="3635280" y="4797360"/>
            <a:ext cx="1017720" cy="1276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CLOCK"/>
          <p:cNvPicPr/>
          <p:nvPr/>
        </p:nvPicPr>
        <p:blipFill>
          <a:blip r:embed="rId7"/>
          <a:stretch/>
        </p:blipFill>
        <p:spPr>
          <a:xfrm>
            <a:off x="1042920" y="3645000"/>
            <a:ext cx="1684440" cy="256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BALL3"/>
          <p:cNvPicPr/>
          <p:nvPr/>
        </p:nvPicPr>
        <p:blipFill>
          <a:blip r:embed="rId8"/>
          <a:stretch/>
        </p:blipFill>
        <p:spPr>
          <a:xfrm rot="20159400">
            <a:off x="468360" y="404640"/>
            <a:ext cx="1536480" cy="3724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BALL0"/>
          <p:cNvPicPr/>
          <p:nvPr/>
        </p:nvPicPr>
        <p:blipFill>
          <a:blip r:embed="rId9"/>
          <a:stretch/>
        </p:blipFill>
        <p:spPr>
          <a:xfrm>
            <a:off x="1403280" y="476280"/>
            <a:ext cx="1319400" cy="1911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BALL1"/>
          <p:cNvPicPr/>
          <p:nvPr/>
        </p:nvPicPr>
        <p:blipFill>
          <a:blip r:embed="rId10"/>
          <a:stretch/>
        </p:blipFill>
        <p:spPr>
          <a:xfrm>
            <a:off x="1547640" y="2060640"/>
            <a:ext cx="744840" cy="1112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FES032"/>
          <p:cNvPicPr/>
          <p:nvPr/>
        </p:nvPicPr>
        <p:blipFill>
          <a:blip r:embed="rId11"/>
          <a:stretch/>
        </p:blipFill>
        <p:spPr>
          <a:xfrm rot="18893400">
            <a:off x="7439760" y="4305600"/>
            <a:ext cx="158436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02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Олигополия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ок, где господствует несколько крупных фирм, вход в отрасль для соперников крайне затруднен. При олигополии возможен ценовой сговор или  ориентирование на цены лидер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BACK054"/>
          <p:cNvPicPr/>
          <p:nvPr/>
        </p:nvPicPr>
        <p:blipFill>
          <a:blip r:embed="rId1"/>
          <a:stretch/>
        </p:blipFill>
        <p:spPr>
          <a:xfrm>
            <a:off x="3635280" y="2935440"/>
            <a:ext cx="1656000" cy="158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ORVET01"/>
          <p:cNvPicPr/>
          <p:nvPr/>
        </p:nvPicPr>
        <p:blipFill>
          <a:blip r:embed="rId2"/>
          <a:stretch/>
        </p:blipFill>
        <p:spPr>
          <a:xfrm>
            <a:off x="684360" y="4581360"/>
            <a:ext cx="3203280" cy="1063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CIVIL027"/>
          <p:cNvPicPr/>
          <p:nvPr/>
        </p:nvPicPr>
        <p:blipFill>
          <a:blip r:embed="rId3"/>
          <a:stretch/>
        </p:blipFill>
        <p:spPr>
          <a:xfrm>
            <a:off x="5219640" y="4413240"/>
            <a:ext cx="345456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Монополия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ок где имеется только один производитель, который полностью контролирует объем производства и очень сильно влияет на цену. Монополия- главный враг конкурен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моноп"/>
          <p:cNvPicPr/>
          <p:nvPr/>
        </p:nvPicPr>
        <p:blipFill>
          <a:blip r:embed="rId1"/>
          <a:stretch/>
        </p:blipFill>
        <p:spPr>
          <a:xfrm>
            <a:off x="611280" y="2852640"/>
            <a:ext cx="8013600" cy="32958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стране с рыночной экономикой с монополизмом ведется борьба на государственном уровне.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3141360"/>
            <a:ext cx="806616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Однако, есть сферы, где монополия просто необходима: производство атомных бомб, эмиссия денежных знаков, электрические и тепловые сети и др.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              </a:t>
            </a: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одобные предприятия относят к естественной (государственной, легальной) монополи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4356000" y="2492280"/>
            <a:ext cx="0" cy="433440"/>
          </a:xfrm>
          <a:prstGeom prst="line">
            <a:avLst/>
          </a:prstGeom>
          <a:ln w="76320">
            <a:solidFill>
              <a:srgbClr val="f8f8f8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6436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Естественные монополии-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это 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ополии, разрешенные государств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К ним относятся: коммунальные службы, железные дороги, телефонные компании, поставщики газа, электричества.  Конкуренция среди них может только повредить обществу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Они подлежат общественному регулированию. В частности, цены или тарифы на их продукцию очень часто определяются федеральными или региональными гос.службами, ведомствами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8" name="Picture 4" descr="БГРЭС"/>
          <p:cNvPicPr/>
          <p:nvPr/>
        </p:nvPicPr>
        <p:blipFill>
          <a:blip r:embed="rId1"/>
          <a:stretch/>
        </p:blipFill>
        <p:spPr>
          <a:xfrm>
            <a:off x="468360" y="4292640"/>
            <a:ext cx="2592360" cy="18050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79" name="Picture 6" descr="23"/>
          <p:cNvPicPr/>
          <p:nvPr/>
        </p:nvPicPr>
        <p:blipFill>
          <a:blip r:embed="rId2"/>
          <a:stretch/>
        </p:blipFill>
        <p:spPr>
          <a:xfrm>
            <a:off x="3276720" y="4294080"/>
            <a:ext cx="2665440" cy="1749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80" name="Picture 7" descr="27"/>
          <p:cNvPicPr/>
          <p:nvPr/>
        </p:nvPicPr>
        <p:blipFill>
          <a:blip r:embed="rId3"/>
          <a:stretch/>
        </p:blipFill>
        <p:spPr>
          <a:xfrm>
            <a:off x="6084720" y="4292640"/>
            <a:ext cx="2640240" cy="17604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Монопсония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- монополия покупателя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82" name="Picture 4" descr="Копия (2) рынок и монополия"/>
          <p:cNvPicPr/>
          <p:nvPr/>
        </p:nvPicPr>
        <p:blipFill>
          <a:blip r:embed="rId1"/>
          <a:stretch/>
        </p:blipFill>
        <p:spPr>
          <a:xfrm>
            <a:off x="539640" y="2133720"/>
            <a:ext cx="8064720" cy="36003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83" name="Text Box 6"/>
          <p:cNvSpPr/>
          <p:nvPr/>
        </p:nvSpPr>
        <p:spPr>
          <a:xfrm>
            <a:off x="1547640" y="5877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Когда подобная ситуация может возникнуть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16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машнее задание:</a:t>
            </a:r>
            <a:br>
              <a:rPr sz="32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полните таблицу «Характеристика рыночных структур» </a:t>
            </a:r>
            <a:br>
              <a:rPr sz="16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1557360"/>
          <a:ext cx="8062920" cy="4884840"/>
        </p:xfrm>
        <a:graphic>
          <a:graphicData uri="http://schemas.openxmlformats.org/drawingml/2006/table">
            <a:tbl>
              <a:tblPr/>
              <a:tblGrid>
                <a:gridCol w="1844640"/>
                <a:gridCol w="1554120"/>
                <a:gridCol w="1555920"/>
                <a:gridCol w="1554120"/>
                <a:gridCol w="15541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ризнаки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овершенная конкуренц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Монополистическая конкуренц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Олигопол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Монопол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Тип товара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л-во покупателей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л-во продавцов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ход в отрасль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лияние на рыночную цену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римеры товаров, продающихся на данном рынке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BORD716"/>
          <p:cNvPicPr/>
          <p:nvPr/>
        </p:nvPicPr>
        <p:blipFill>
          <a:blip r:embed="rId1"/>
          <a:stretch/>
        </p:blipFill>
        <p:spPr>
          <a:xfrm>
            <a:off x="395280" y="549360"/>
            <a:ext cx="8207280" cy="568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331640" y="1484280"/>
            <a:ext cx="7088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Какую рыночную структуру представляет каждое из следующих предприятий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лочный магазин, расположенный вблизи вашего дома;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рикмахерская, которую вы обычно посещаете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рополитен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аллургический комбинат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берегательный банк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ерновая ферма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3419280" y="1052640"/>
            <a:ext cx="48193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BORD716"/>
          <p:cNvPicPr/>
          <p:nvPr/>
        </p:nvPicPr>
        <p:blipFill>
          <a:blip r:embed="rId1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0" name="Rectangle 5"/>
          <p:cNvSpPr/>
          <p:nvPr/>
        </p:nvSpPr>
        <p:spPr>
          <a:xfrm>
            <a:off x="1403280" y="907920"/>
            <a:ext cx="698508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признаки положены в основу разграничения рыночных структур на 4 типа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иведите примеры товаров , которые можно отне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к однородным (стандартизированным)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дифференцированным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Почему во многих странах государство проводит антимонопольную политику, стремясь защитить потребителя и рыночную конкуренцию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роднит  монополистическую конкуренцию с совершенной и что их отличает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легальные (административные или экономические) барьеры? Кого они защищают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BORD716"/>
          <p:cNvPicPr/>
          <p:nvPr/>
        </p:nvPicPr>
        <p:blipFill>
          <a:blip r:embed="rId1"/>
          <a:stretch/>
        </p:blipFill>
        <p:spPr>
          <a:xfrm>
            <a:off x="468360" y="549360"/>
            <a:ext cx="8064360" cy="5761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2" name="Rectangle 5"/>
          <p:cNvSpPr/>
          <p:nvPr/>
        </p:nvSpPr>
        <p:spPr>
          <a:xfrm>
            <a:off x="1116000" y="1463760"/>
            <a:ext cx="7056360" cy="57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гда фирма, обладающая монопольными правами, продает свою продукцию по более чем одной цене. При чем эти отличия не связаны с изменениями в затратах. Поступая так, продавец заним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новой дискриминацие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 владельцы кинотеатров или теннисных кортов меняют цены в зависимости от времени (более высокие тарифы вечером и в выходные дни, когда сильный спрос) или возраста клиентов.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вы думаете, почему они так поступают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3" name="Picture 6" descr="Рисунок2"/>
          <p:cNvPicPr/>
          <p:nvPr/>
        </p:nvPicPr>
        <p:blipFill>
          <a:blip r:embed="rId2"/>
          <a:stretch/>
        </p:blipFill>
        <p:spPr>
          <a:xfrm>
            <a:off x="6084720" y="765000"/>
            <a:ext cx="1727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* (</a:t>
            </a:r>
            <a:r>
              <a:rPr b="1" lang="en-US" sz="1800" spc="-1" strike="noStrike">
                <a:solidFill>
                  <a:srgbClr val="f8f8f8"/>
                </a:solidFill>
                <a:latin typeface="Tahoma"/>
              </a:rPr>
              <a:t>concurrentia (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лат) – столкновение, состязание)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5" name="Picture 4" descr="LATL0005"/>
          <p:cNvPicPr/>
          <p:nvPr/>
        </p:nvPicPr>
        <p:blipFill>
          <a:blip r:embed="rId1"/>
          <a:stretch/>
        </p:blipFill>
        <p:spPr>
          <a:xfrm>
            <a:off x="1619280" y="1647720"/>
            <a:ext cx="66247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BORD716"/>
          <p:cNvPicPr/>
          <p:nvPr/>
        </p:nvPicPr>
        <p:blipFill>
          <a:blip r:embed="rId1"/>
          <a:stretch/>
        </p:blipFill>
        <p:spPr>
          <a:xfrm>
            <a:off x="324000" y="476280"/>
            <a:ext cx="8351640" cy="5864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ff"/>
                </a:solidFill>
                <a:latin typeface="BetinaScriptCTT"/>
              </a:rPr>
              <a:t>      </a:t>
            </a:r>
            <a:r>
              <a:rPr b="1" lang="ru-RU" sz="5400" spc="-1" strike="noStrike">
                <a:solidFill>
                  <a:srgbClr val="000099"/>
                </a:solidFill>
                <a:latin typeface="BetinaScriptCTT"/>
              </a:rPr>
              <a:t>Проверь себ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5640" y="2301840"/>
            <a:ext cx="734076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опрос 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ой из предложенных примеров характеризует ценовую дискриминацию?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лец булочной продает свежий горячий" хлеб по 12 руб. за булку, этот же черствый "остывший" хлеб по 10руб. за булку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кие товары продаются по сниженным ценам за счет удорожания предметов роскоши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лец коммерческого магазина продает спиртные напитки в ночное время по цене выше, чем днем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агазине изделия из натурального меха продаются дороже, чем на вещевом рынке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ных продуктовых магазинах одного района "Советское шампанское" продается по разным ценам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97" name="Picture 4" descr="Рисунок2"/>
          <p:cNvPicPr/>
          <p:nvPr/>
        </p:nvPicPr>
        <p:blipFill>
          <a:blip r:embed="rId2"/>
          <a:stretch/>
        </p:blipFill>
        <p:spPr>
          <a:xfrm>
            <a:off x="5940360" y="692280"/>
            <a:ext cx="2016360" cy="150012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5">
            <a:hlinkClick r:id="" action="ppaction://hlinkshowjump?jump=lastslide"/>
          </p:cNvPr>
          <p:cNvSpPr/>
          <p:nvPr/>
        </p:nvSpPr>
        <p:spPr>
          <a:xfrm>
            <a:off x="7812000" y="616572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619280" y="907920"/>
            <a:ext cx="590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99ff"/>
                </a:solidFill>
                <a:latin typeface="BetinaScriptCTT"/>
              </a:rPr>
              <a:t>        </a:t>
            </a: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Благодарю за урок!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258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     </a:t>
            </a: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Поздравляю с новыми знаниями!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00" name="Picture 7" descr="OFF001"/>
          <p:cNvPicPr/>
          <p:nvPr/>
        </p:nvPicPr>
        <p:blipFill>
          <a:blip r:embed="rId1"/>
          <a:stretch/>
        </p:blipFill>
        <p:spPr>
          <a:xfrm>
            <a:off x="6516720" y="4221000"/>
            <a:ext cx="1915920" cy="1751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OFF011"/>
          <p:cNvPicPr/>
          <p:nvPr/>
        </p:nvPicPr>
        <p:blipFill>
          <a:blip r:embed="rId2"/>
          <a:stretch/>
        </p:blipFill>
        <p:spPr>
          <a:xfrm flipH="1">
            <a:off x="468000" y="836640"/>
            <a:ext cx="18097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A00807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8360" y="333360"/>
            <a:ext cx="8136000" cy="6048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991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кусственные барьеры, защищающие монополист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иценз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официальное разрешение на  право заниматься определенным видом деятельности (например, разрешение на экспорт, импорт). Выдается органами государственного управления. Как правило, она является платной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атент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 документ, выдаваемый на определенный срок компетентным органом, удостоверяющим какое-то право. Он дает патентовладельцу исключительное  право производить, использовать, и продавать его изобретение  на протяжении срока действия патента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оварный зна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 товарная марка (символ, рисунок) или ее часть, обеспеченная правовой защитой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рское прав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исключительное право распоряжаться продажей и размножением (тиражированием) своих произведений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6600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Словар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7740720" y="6021360"/>
            <a:ext cx="718920" cy="287280"/>
          </a:xfrm>
          <a:custGeom>
            <a:avLst/>
            <a:gdLst>
              <a:gd name="textAreaLeft" fmla="*/ 18360 w 718920"/>
              <a:gd name="textAreaRight" fmla="*/ 700560 w 71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14" h="21600">
                <a:moveTo>
                  <a:pt x="0" y="0"/>
                </a:moveTo>
                <a:lnTo>
                  <a:pt x="54014" y="0"/>
                </a:lnTo>
                <a:lnTo>
                  <a:pt x="54014" y="21600"/>
                </a:lnTo>
                <a:lnTo>
                  <a:pt x="0" y="21600"/>
                </a:lnTo>
                <a:close/>
              </a:path>
              <a:path fill="lightenLess" w="54014" h="21600">
                <a:moveTo>
                  <a:pt x="0" y="0"/>
                </a:moveTo>
                <a:lnTo>
                  <a:pt x="54014" y="0"/>
                </a:lnTo>
                <a:lnTo>
                  <a:pt x="52614" y="1400"/>
                </a:lnTo>
                <a:lnTo>
                  <a:pt x="1400" y="1400"/>
                </a:lnTo>
                <a:close/>
              </a:path>
              <a:path fill="darken" w="54014" h="21600">
                <a:moveTo>
                  <a:pt x="54014" y="0"/>
                </a:moveTo>
                <a:lnTo>
                  <a:pt x="54014" y="21600"/>
                </a:lnTo>
                <a:lnTo>
                  <a:pt x="52614" y="20200"/>
                </a:lnTo>
                <a:lnTo>
                  <a:pt x="52614" y="1400"/>
                </a:lnTo>
                <a:close/>
              </a:path>
              <a:path fill="darkenLess" w="54014" h="21600">
                <a:moveTo>
                  <a:pt x="5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4" y="20200"/>
                </a:lnTo>
                <a:close/>
              </a:path>
              <a:path fill="lighten" w="5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4" h="21600">
                <a:moveTo>
                  <a:pt x="20000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6948360" y="6093000"/>
            <a:ext cx="57636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 repeatCount="3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ahoma"/>
              </a:rPr>
              <a:t>Конкуренция – это соперничество, состяз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Между кем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между производителями однотипных товаров, услуг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За что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за привлечение как можно большего числа покупателей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Во имя чего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для получения максимальной прибыл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4" descr="Bik097"/>
          <p:cNvPicPr/>
          <p:nvPr/>
        </p:nvPicPr>
        <p:blipFill>
          <a:blip r:embed="rId1"/>
          <a:stretch/>
        </p:blipFill>
        <p:spPr>
          <a:xfrm>
            <a:off x="6516720" y="3789360"/>
            <a:ext cx="2211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Organization Chart 2"/>
          <p:cNvGrpSpPr/>
          <p:nvPr/>
        </p:nvGrpSpPr>
        <p:grpSpPr>
          <a:xfrm>
            <a:off x="539640" y="549360"/>
            <a:ext cx="8063640" cy="4607280"/>
            <a:chOff x="539640" y="549360"/>
            <a:chExt cx="8063640" cy="4607280"/>
          </a:xfrm>
        </p:grpSpPr>
        <p:cxnSp>
          <p:nvCxnSpPr>
            <p:cNvPr id="120" name="_s1028"/>
            <p:cNvCxnSpPr>
              <a:stCxn id="121" idx="0"/>
              <a:endCxn id="122" idx="2"/>
            </p:cNvCxnSpPr>
            <p:nvPr/>
          </p:nvCxnSpPr>
          <p:spPr>
            <a:xfrm flipV="1">
              <a:off x="6742440" y="3428280"/>
              <a:ext cx="3960" cy="57636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3" name="_s1029"/>
            <p:cNvCxnSpPr>
              <a:stCxn id="124" idx="0"/>
              <a:endCxn id="125" idx="2"/>
            </p:cNvCxnSpPr>
            <p:nvPr/>
          </p:nvCxnSpPr>
          <p:spPr>
            <a:xfrm flipV="1">
              <a:off x="2400480" y="3428280"/>
              <a:ext cx="3960" cy="57636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6" name="_s1030"/>
            <p:cNvCxnSpPr>
              <a:stCxn id="122" idx="0"/>
              <a:endCxn id="127" idx="2"/>
            </p:cNvCxnSpPr>
            <p:nvPr/>
          </p:nvCxnSpPr>
          <p:spPr>
            <a:xfrm flipV="1" rot="16200000">
              <a:off x="5368680" y="902520"/>
              <a:ext cx="576360" cy="2171880"/>
            </a:xfrm>
            <a:prstGeom prst="bentConnector3">
              <a:avLst>
                <a:gd name="adj1" fmla="val 21812"/>
              </a:avLst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8" name="_s1031"/>
            <p:cNvCxnSpPr>
              <a:stCxn id="125" idx="0"/>
              <a:endCxn id="127" idx="2"/>
            </p:cNvCxnSpPr>
            <p:nvPr/>
          </p:nvCxnSpPr>
          <p:spPr>
            <a:xfrm flipH="1" flipV="1" rot="5400000">
              <a:off x="3197520" y="902880"/>
              <a:ext cx="576360" cy="2171160"/>
            </a:xfrm>
            <a:prstGeom prst="bentConnector3">
              <a:avLst>
                <a:gd name="adj1" fmla="val 21812"/>
              </a:avLst>
            </a:prstGeom>
            <a:ln w="28440">
              <a:solidFill>
                <a:srgbClr val="f8f8f8"/>
              </a:solidFill>
              <a:miter/>
            </a:ln>
          </p:spPr>
        </p:cxnSp>
        <p:sp>
          <p:nvSpPr>
            <p:cNvPr id="127" name="_s1032"/>
            <p:cNvSpPr/>
            <p:nvPr/>
          </p:nvSpPr>
          <p:spPr>
            <a:xfrm>
              <a:off x="2710080" y="54936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9933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f8f8f8"/>
                  </a:solidFill>
                  <a:latin typeface="Times New Roman"/>
                </a:rPr>
                <a:t>Конкуренция </a:t>
              </a:r>
              <a:endParaRPr b="0" lang="en-US" sz="41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539640" y="2277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8f8f8"/>
                  </a:solidFill>
                  <a:latin typeface="Times New Roman"/>
                </a:rPr>
                <a:t>Ценовая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2" name="_s1034"/>
            <p:cNvSpPr/>
            <p:nvPr/>
          </p:nvSpPr>
          <p:spPr>
            <a:xfrm>
              <a:off x="4881600" y="2277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8f8f8"/>
                  </a:solidFill>
                  <a:latin typeface="Times New Roman"/>
                </a:rPr>
                <a:t>Неценовая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4" name="_s1035"/>
            <p:cNvSpPr/>
            <p:nvPr/>
          </p:nvSpPr>
          <p:spPr>
            <a:xfrm>
              <a:off x="539640" y="4005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Снижение цен на товары и услуги </a:t>
              </a:r>
              <a:br>
                <a:rPr sz="1800"/>
              </a:b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в сравнении с соперниками.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1" name="_s1036"/>
            <p:cNvSpPr/>
            <p:nvPr/>
          </p:nvSpPr>
          <p:spPr>
            <a:xfrm>
              <a:off x="4881600" y="4005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Другие (неценовые) меры </a:t>
              </a:r>
              <a:br>
                <a:rPr sz="1800"/>
              </a:b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привлечения покупателей.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Какие? 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Comic Sans MS"/>
              </a:rPr>
              <a:t>Признаки классификации рыночных структу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количество покупателей и продавцов; 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тип товара (однородный, дифференцированный)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доступность информации  для всех участников  рынка о ценах всех продавцов и их изменениях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наличие входных барьеров для вступления в отрасль (юридические , или экономические)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степень влияния продавцов (покупателей) на цену товара.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7"/>
          <p:cNvSpPr/>
          <p:nvPr/>
        </p:nvSpPr>
        <p:spPr>
          <a:xfrm>
            <a:off x="2124000" y="549360"/>
            <a:ext cx="4680000" cy="504720"/>
          </a:xfrm>
          <a:prstGeom prst="bevel">
            <a:avLst>
              <a:gd name="adj" fmla="val 12500"/>
            </a:avLst>
          </a:prstGeom>
          <a:solidFill>
            <a:srgbClr val="9933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Конкуренци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90000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Совершенна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(идеальный рынок</a:t>
            </a: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514836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Несовершенна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755640" y="3429000"/>
            <a:ext cx="201600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и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3276720" y="3284640"/>
            <a:ext cx="251928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олистическа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6659640" y="3284640"/>
            <a:ext cx="208908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лиго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3635280" y="4581360"/>
            <a:ext cx="223380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6300720" y="4581360"/>
            <a:ext cx="223380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сон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 flipH="1">
            <a:off x="3276360" y="1052640"/>
            <a:ext cx="215640" cy="50472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435640" y="1052640"/>
            <a:ext cx="217440" cy="50472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1979640" y="2781360"/>
            <a:ext cx="0" cy="57636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Line 21"/>
          <p:cNvSpPr/>
          <p:nvPr/>
        </p:nvSpPr>
        <p:spPr>
          <a:xfrm flipH="1">
            <a:off x="5003280" y="2781360"/>
            <a:ext cx="289080" cy="504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7020000" y="2781360"/>
            <a:ext cx="216000" cy="504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Line 23"/>
          <p:cNvSpPr/>
          <p:nvPr/>
        </p:nvSpPr>
        <p:spPr>
          <a:xfrm flipH="1">
            <a:off x="5795640" y="2781360"/>
            <a:ext cx="144360" cy="180000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6300720" y="2781360"/>
            <a:ext cx="142920" cy="1728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AutoShape 26"/>
          <p:cNvSpPr/>
          <p:nvPr/>
        </p:nvSpPr>
        <p:spPr>
          <a:xfrm>
            <a:off x="684360" y="6021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ff"/>
                </a:solidFill>
                <a:latin typeface="Tahoma"/>
              </a:rPr>
              <a:t>Экономические барьер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низкие издержки производства за счет увеличение масштаба производства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закрыт доступ к материальным ресурсам и другим факторам в силу отсутствия их на свободном рынке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реклам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8028000" y="5734080"/>
            <a:ext cx="647640" cy="287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назад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ff"/>
                </a:solidFill>
                <a:latin typeface="Tahoma"/>
              </a:rPr>
              <a:t>Юридические</a:t>
            </a:r>
            <a:r>
              <a:rPr b="0" lang="ru-RU" sz="36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барьеры</a:t>
            </a: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непреодолимы, т.к. связаны с уголовным наказанием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2920" y="1752480"/>
            <a:ext cx="7415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роизводство  товара защищено патентом, авторским правом, лицензией, товарным знаком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Исключительное право заниматься данным видом деятельности (производство алкогольных напитков, табака,  монополия внешней торговли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Государственная регистрация отдельных видов деятельност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6948360" y="5661000"/>
            <a:ext cx="129564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назад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Совершенная конкуренция-</a:t>
            </a: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рынок с множеством равноправных продавцов, предлагающих однородную продукцию, где отсутствуют входные барьеры в отрасль и продавец практически не влияет на рыночную цену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Копия рынок и монополия"/>
          <p:cNvPicPr/>
          <p:nvPr/>
        </p:nvPicPr>
        <p:blipFill>
          <a:blip r:embed="rId1"/>
          <a:stretch/>
        </p:blipFill>
        <p:spPr>
          <a:xfrm>
            <a:off x="684360" y="2349360"/>
            <a:ext cx="7777080" cy="37674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09:49:44Z</dcterms:created>
  <dc:creator>User</dc:creator>
  <dc:description/>
  <dc:language>en-US</dc:language>
  <cp:lastModifiedBy>Nadyu</cp:lastModifiedBy>
  <dcterms:modified xsi:type="dcterms:W3CDTF">2011-05-05T11:14:27Z</dcterms:modified>
  <cp:revision>19</cp:revision>
  <dc:subject/>
  <dc:title>Конкуренция. Структура рынка</dc:title>
</cp:coreProperties>
</file>