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6.wmf" ContentType="image/x-wmf"/>
  <Override PartName="/ppt/media/image14.wmf" ContentType="image/x-wmf"/>
  <Override PartName="/ppt/media/image23.wmf" ContentType="image/x-wmf"/>
  <Override PartName="/ppt/media/image18.jpeg" ContentType="image/jpeg"/>
  <Override PartName="/ppt/media/image21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4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E28-B130-456B-9DCC-FDBF0CF3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F7E-263F-458F-A9F5-AD09D28D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23E-5ADF-4969-8D26-0B757FC3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405-CFE5-4C97-86CC-96912E27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04F1-D9A3-451C-96D9-D707A130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4B80-E742-4E7B-AB4F-7F2CE5BB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0205-D5EB-4F21-AB8C-A6219AD5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E682-18AE-4C00-B1BF-FBA82B4C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DADC-CFD3-4CE1-8035-72BF0DDA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9618-5955-472E-BB60-9DF08542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D7F6-0CA5-44B3-BA42-A88D0767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62F-63B1-4644-AB5F-A2BEAE68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4C8C-84F2-4BFF-BC84-C268997B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0E69-1357-46C9-A68F-87C9F911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1E0C-08FF-4FF4-B08D-70A51498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8EBA-F979-40BA-9974-DC559475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4D6C-1367-490A-B6D9-A6BD570D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4DE-9E77-4290-A769-7337C119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98F-45B6-4ED5-B596-5328408B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945-176B-4BE3-8375-01C2FBE2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2CB-8D98-4032-92D5-32BA33A6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8C0-7847-4CB7-B62F-6F3F9AA5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D30-05EE-4412-A9CE-F9FC6C3B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3E4-7839-48F4-AD6D-742218BA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МОУ-СОШ№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1"/>
          <p:cNvSpPr/>
          <p:nvPr/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Tahoma"/>
              </a:rPr>
              <a:t>Конкуренция. Структура рын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40000" y="62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Урок экономики. 9 клас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FES033"/>
          <p:cNvPicPr/>
          <p:nvPr/>
        </p:nvPicPr>
        <p:blipFill>
          <a:blip r:embed="rId1"/>
          <a:stretch/>
        </p:blipFill>
        <p:spPr>
          <a:xfrm rot="6185400">
            <a:off x="7850880" y="2694600"/>
            <a:ext cx="204840" cy="1000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5640" y="1989000"/>
            <a:ext cx="633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олистическая </a:t>
            </a:r>
            <a:br>
              <a:rPr sz="3200"/>
            </a:b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конкуренция – </a:t>
            </a:r>
            <a:br>
              <a:rPr sz="3200"/>
            </a:b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рынок с множеством производителей, предлагающих схожие,</a:t>
            </a: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о не одинаковые (дифференцированные) товары и услу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FSTV038"/>
          <p:cNvPicPr/>
          <p:nvPr/>
        </p:nvPicPr>
        <p:blipFill>
          <a:blip r:embed="rId2"/>
          <a:stretch/>
        </p:blipFill>
        <p:spPr>
          <a:xfrm>
            <a:off x="7380360" y="3500280"/>
            <a:ext cx="1584360" cy="63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FDDNK017"/>
          <p:cNvPicPr/>
          <p:nvPr/>
        </p:nvPicPr>
        <p:blipFill>
          <a:blip r:embed="rId3"/>
          <a:stretch/>
        </p:blipFill>
        <p:spPr>
          <a:xfrm>
            <a:off x="5651640" y="3933720"/>
            <a:ext cx="1758960" cy="206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CLOCK"/>
          <p:cNvPicPr/>
          <p:nvPr/>
        </p:nvPicPr>
        <p:blipFill>
          <a:blip r:embed="rId4"/>
          <a:stretch/>
        </p:blipFill>
        <p:spPr>
          <a:xfrm>
            <a:off x="2556000" y="4653000"/>
            <a:ext cx="1390680" cy="1409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60" name="Picture 10" descr="CLOCK"/>
          <p:cNvPicPr/>
          <p:nvPr/>
        </p:nvPicPr>
        <p:blipFill>
          <a:blip r:embed="rId5"/>
          <a:stretch/>
        </p:blipFill>
        <p:spPr>
          <a:xfrm>
            <a:off x="4140360" y="4724280"/>
            <a:ext cx="1182600" cy="121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ALARMCLK"/>
          <p:cNvPicPr/>
          <p:nvPr/>
        </p:nvPicPr>
        <p:blipFill>
          <a:blip r:embed="rId6"/>
          <a:stretch/>
        </p:blipFill>
        <p:spPr>
          <a:xfrm>
            <a:off x="3635280" y="4797360"/>
            <a:ext cx="1017720" cy="127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LOCK"/>
          <p:cNvPicPr/>
          <p:nvPr/>
        </p:nvPicPr>
        <p:blipFill>
          <a:blip r:embed="rId7"/>
          <a:stretch/>
        </p:blipFill>
        <p:spPr>
          <a:xfrm>
            <a:off x="1042920" y="3645000"/>
            <a:ext cx="1684440" cy="256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ALL3"/>
          <p:cNvPicPr/>
          <p:nvPr/>
        </p:nvPicPr>
        <p:blipFill>
          <a:blip r:embed="rId8"/>
          <a:stretch/>
        </p:blipFill>
        <p:spPr>
          <a:xfrm rot="20159400">
            <a:off x="468360" y="404640"/>
            <a:ext cx="1536480" cy="3724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BALL0"/>
          <p:cNvPicPr/>
          <p:nvPr/>
        </p:nvPicPr>
        <p:blipFill>
          <a:blip r:embed="rId9"/>
          <a:stretch/>
        </p:blipFill>
        <p:spPr>
          <a:xfrm>
            <a:off x="1403280" y="476280"/>
            <a:ext cx="1319400" cy="191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BALL1"/>
          <p:cNvPicPr/>
          <p:nvPr/>
        </p:nvPicPr>
        <p:blipFill>
          <a:blip r:embed="rId10"/>
          <a:stretch/>
        </p:blipFill>
        <p:spPr>
          <a:xfrm>
            <a:off x="1547640" y="2060640"/>
            <a:ext cx="744840" cy="1112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FES032"/>
          <p:cNvPicPr/>
          <p:nvPr/>
        </p:nvPicPr>
        <p:blipFill>
          <a:blip r:embed="rId11"/>
          <a:stretch/>
        </p:blipFill>
        <p:spPr>
          <a:xfrm rot="18893400">
            <a:off x="7439760" y="4305600"/>
            <a:ext cx="15843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2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Олигопол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, где господствует несколько крупных фирм, вход в отрасль для соперников крайне затруднен. При олигополии возможен ценовой сговор или  ориентирование на цены лидер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BACK054"/>
          <p:cNvPicPr/>
          <p:nvPr/>
        </p:nvPicPr>
        <p:blipFill>
          <a:blip r:embed="rId1"/>
          <a:stretch/>
        </p:blipFill>
        <p:spPr>
          <a:xfrm>
            <a:off x="3635280" y="2935440"/>
            <a:ext cx="1656000" cy="158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ORVET01"/>
          <p:cNvPicPr/>
          <p:nvPr/>
        </p:nvPicPr>
        <p:blipFill>
          <a:blip r:embed="rId2"/>
          <a:stretch/>
        </p:blipFill>
        <p:spPr>
          <a:xfrm>
            <a:off x="684360" y="4581360"/>
            <a:ext cx="3203280" cy="106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IVIL027"/>
          <p:cNvPicPr/>
          <p:nvPr/>
        </p:nvPicPr>
        <p:blipFill>
          <a:blip r:embed="rId3"/>
          <a:stretch/>
        </p:blipFill>
        <p:spPr>
          <a:xfrm>
            <a:off x="5219640" y="4413240"/>
            <a:ext cx="345456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Монополия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 где имеется только один производитель, который полностью контролирует объем производства и очень сильно влияет на цену. Монополия- главный враг конкуре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моноп"/>
          <p:cNvPicPr/>
          <p:nvPr/>
        </p:nvPicPr>
        <p:blipFill>
          <a:blip r:embed="rId1"/>
          <a:stretch/>
        </p:blipFill>
        <p:spPr>
          <a:xfrm>
            <a:off x="611280" y="2852640"/>
            <a:ext cx="8013600" cy="32958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тране с рыночной экономикой с монополизмом ведется борьба на государственном уровн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3141360"/>
            <a:ext cx="8066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Однако, есть сферы, где монополия просто необходима: производство атомных бомб, эмиссия денежных знаков, электрические и тепловые сети и др.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добные предприятия относят к естественной (государственной, легальной) монополи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356000" y="2492280"/>
            <a:ext cx="0" cy="433440"/>
          </a:xfrm>
          <a:prstGeom prst="line">
            <a:avLst/>
          </a:prstGeom>
          <a:ln w="76320">
            <a:solidFill>
              <a:srgbClr val="f8f8f8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643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Естественные монополии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то 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ополии, разрешенные государст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К ним относятся: коммунальные службы, железные дороги, телефонные компании, поставщики газа, электричества.  Конкуренция среди них может только повредить обществу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Они подлежат общественному регулированию. В частности, цены или тарифы на их продукцию очень часто определяются федеральными или региональными гос.службами, ведомствами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8" name="Picture 4" descr="БГРЭС"/>
          <p:cNvPicPr/>
          <p:nvPr/>
        </p:nvPicPr>
        <p:blipFill>
          <a:blip r:embed="rId1"/>
          <a:stretch/>
        </p:blipFill>
        <p:spPr>
          <a:xfrm>
            <a:off x="468360" y="4292640"/>
            <a:ext cx="2592360" cy="18050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79" name="Picture 6" descr="23"/>
          <p:cNvPicPr/>
          <p:nvPr/>
        </p:nvPicPr>
        <p:blipFill>
          <a:blip r:embed="rId2"/>
          <a:stretch/>
        </p:blipFill>
        <p:spPr>
          <a:xfrm>
            <a:off x="3276720" y="4294080"/>
            <a:ext cx="2665440" cy="1749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80" name="Picture 7" descr="27"/>
          <p:cNvPicPr/>
          <p:nvPr/>
        </p:nvPicPr>
        <p:blipFill>
          <a:blip r:embed="rId3"/>
          <a:stretch/>
        </p:blipFill>
        <p:spPr>
          <a:xfrm>
            <a:off x="6084720" y="4292640"/>
            <a:ext cx="2640240" cy="17604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сония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- монополия покупател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2" name="Picture 4" descr="Копия (2) рынок и монополия"/>
          <p:cNvPicPr/>
          <p:nvPr/>
        </p:nvPicPr>
        <p:blipFill>
          <a:blip r:embed="rId1"/>
          <a:stretch/>
        </p:blipFill>
        <p:spPr>
          <a:xfrm>
            <a:off x="539640" y="2133720"/>
            <a:ext cx="8064720" cy="3600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1547640" y="587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Когда подобная ситуация может возникну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16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полните таблицу «Характеристика рыночных структур» 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1557360"/>
          <a:ext cx="8062920" cy="4884840"/>
        </p:xfrm>
        <a:graphic>
          <a:graphicData uri="http://schemas.openxmlformats.org/drawingml/2006/table">
            <a:tbl>
              <a:tblPr/>
              <a:tblGrid>
                <a:gridCol w="1844640"/>
                <a:gridCol w="1554120"/>
                <a:gridCol w="1555920"/>
                <a:gridCol w="1554120"/>
                <a:gridCol w="1554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овершенн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стическ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Тип товар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окупателей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родавцов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ход в отрасль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лияние на рыночную цен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меры товаров, продающихся на данном рынке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BORD716"/>
          <p:cNvPicPr/>
          <p:nvPr/>
        </p:nvPicPr>
        <p:blipFill>
          <a:blip r:embed="rId1"/>
          <a:stretch/>
        </p:blipFill>
        <p:spPr>
          <a:xfrm>
            <a:off x="395280" y="549360"/>
            <a:ext cx="8207280" cy="568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31640" y="1484280"/>
            <a:ext cx="7088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Какую рыночную структуру представляет каждое из следующих предприятий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лочный магазин, расположенный вблизи вашего дома;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икмахерская, которую вы обычно посещает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рополитен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аллургический комбинат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берегательный банк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ерновая ферм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419280" y="1052640"/>
            <a:ext cx="4819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BORD716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Rectangle 5"/>
          <p:cNvSpPr/>
          <p:nvPr/>
        </p:nvSpPr>
        <p:spPr>
          <a:xfrm>
            <a:off x="1403280" y="907920"/>
            <a:ext cx="698508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изнаки положены в основу разграничения рыночных структур на 4 типа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ведите примеры товаров , которые можно отне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к однородным (стандартизированным)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дифференцированным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Почему во многих странах государство проводит антимонопольную политику, стремясь защитить потребителя и рыночную конкуренцию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роднит  монополистическую конкуренцию с совершенной и что их отличае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легальные (административные или экономические) барьеры? Кого они защищаю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BORD716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761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Rectangle 5"/>
          <p:cNvSpPr/>
          <p:nvPr/>
        </p:nvSpPr>
        <p:spPr>
          <a:xfrm>
            <a:off x="1116000" y="1463760"/>
            <a:ext cx="705636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фирма, обладающая монопольными правами, продает свою продукцию по более чем одной цене. При чем эти отличия не связаны с изменениями в затратах. Поступая так, продавец заним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овой дискриминаци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владельцы кинотеатров или теннисных кортов меняют цены в зависимости от времени (более высокие тарифы вечером и в выходные дни, когда сильный спрос) или возраста клиентов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они так поступают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3" name="Picture 6" descr="Рисунок2"/>
          <p:cNvPicPr/>
          <p:nvPr/>
        </p:nvPicPr>
        <p:blipFill>
          <a:blip r:embed="rId2"/>
          <a:stretch/>
        </p:blipFill>
        <p:spPr>
          <a:xfrm>
            <a:off x="6084720" y="765000"/>
            <a:ext cx="1727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* (</a:t>
            </a:r>
            <a:r>
              <a:rPr b="1" lang="en-US" sz="1800" spc="-1" strike="noStrike">
                <a:solidFill>
                  <a:srgbClr val="f8f8f8"/>
                </a:solidFill>
                <a:latin typeface="Tahoma"/>
              </a:rPr>
              <a:t>concurrentia (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ат) – столкновение, состязание)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5" name="Picture 4" descr="LATL0005"/>
          <p:cNvPicPr/>
          <p:nvPr/>
        </p:nvPicPr>
        <p:blipFill>
          <a:blip r:embed="rId1"/>
          <a:stretch/>
        </p:blipFill>
        <p:spPr>
          <a:xfrm>
            <a:off x="1619280" y="1647720"/>
            <a:ext cx="6624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BORD716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5864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ff"/>
                </a:solidFill>
                <a:latin typeface="BetinaScriptCTT"/>
              </a:rPr>
              <a:t>      </a:t>
            </a:r>
            <a:r>
              <a:rPr b="1" lang="ru-RU" sz="5400" spc="-1" strike="noStrike">
                <a:solidFill>
                  <a:srgbClr val="000099"/>
                </a:solidFill>
                <a:latin typeface="BetinaScriptCTT"/>
              </a:rPr>
              <a:t>Проверь себ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5640" y="2301840"/>
            <a:ext cx="73407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опрос 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ой из предложенных примеров характеризует ценовую дискриминацию?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булочной продает свежий горячий" хлеб по 12 руб. за булку, этот же черствый "остывший" хлеб по 10руб. за булку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е товары продаются по сниженным ценам за счет удорожания предметов роскоши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коммерческого магазина продает спиртные напитки в ночное время по цене выше, чем дне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газине изделия из натурального меха продаются дороже, чем на вещевом рынке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ых продуктовых магазинах одного района "Советское шампанское" продается по разным цена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7" name="Picture 4" descr="Рисунок2"/>
          <p:cNvPicPr/>
          <p:nvPr/>
        </p:nvPicPr>
        <p:blipFill>
          <a:blip r:embed="rId2"/>
          <a:stretch/>
        </p:blipFill>
        <p:spPr>
          <a:xfrm>
            <a:off x="5940360" y="692280"/>
            <a:ext cx="2016360" cy="15001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>
            <a:hlinkClick r:id="" action="ppaction://hlinkshowjump?jump=lastslide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619280" y="907920"/>
            <a:ext cx="590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ff"/>
                </a:solidFill>
                <a:latin typeface="BetinaScriptCTT"/>
              </a:rPr>
              <a:t>   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Благодарю за урок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Поздравляю с новыми знаниями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0" name="Picture 7" descr="OFF001"/>
          <p:cNvPicPr/>
          <p:nvPr/>
        </p:nvPicPr>
        <p:blipFill>
          <a:blip r:embed="rId1"/>
          <a:stretch/>
        </p:blipFill>
        <p:spPr>
          <a:xfrm>
            <a:off x="6516720" y="4221000"/>
            <a:ext cx="1915920" cy="1751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OFF011"/>
          <p:cNvPicPr/>
          <p:nvPr/>
        </p:nvPicPr>
        <p:blipFill>
          <a:blip r:embed="rId2"/>
          <a:stretch/>
        </p:blipFill>
        <p:spPr>
          <a:xfrm flipH="1">
            <a:off x="468000" y="836640"/>
            <a:ext cx="1809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A00807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333360"/>
            <a:ext cx="8136000" cy="6048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кусственные барьеры, защищающие монополис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ценз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официальное разрешение на  право заниматься определенным видом деятельности (например, разрешение на экспорт, импорт). Выдается органами государственного управления. Как правило, она является платн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тен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документ, выдаваемый на определенный срок компетентным органом, удостоверяющим какое-то право. Он дает патентовладельцу исключительное  право производить, использовать, и продавать его изобретение  на протяжении срока действия патента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оварный зна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 товарная марка (символ, рисунок) или ее часть, обеспеченная правовой защит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ское пра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исключительное право распоряжаться продажей и размножением (тиражированием) своих произведени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Словар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7740720" y="602136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948360" y="6093000"/>
            <a:ext cx="576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 repeatCount="3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Конкуренция – это соперничество, состяз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Между кем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между производителями однотипных товаров, услуг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За чт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за привлечение как можно большего числа покупателей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Во имя чег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для получения максимальной прибыл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Bik097"/>
          <p:cNvPicPr/>
          <p:nvPr/>
        </p:nvPicPr>
        <p:blipFill>
          <a:blip r:embed="rId1"/>
          <a:stretch/>
        </p:blipFill>
        <p:spPr>
          <a:xfrm>
            <a:off x="6516720" y="3789360"/>
            <a:ext cx="221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2"/>
          <p:cNvGrpSpPr/>
          <p:nvPr/>
        </p:nvGrpSpPr>
        <p:grpSpPr>
          <a:xfrm>
            <a:off x="539640" y="549360"/>
            <a:ext cx="8063640" cy="4607280"/>
            <a:chOff x="539640" y="549360"/>
            <a:chExt cx="8063640" cy="460728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>
              <a:off x="674244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5" idx="2"/>
            </p:cNvCxnSpPr>
            <p:nvPr/>
          </p:nvCxnSpPr>
          <p:spPr>
            <a:xfrm flipV="1">
              <a:off x="240048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6" name="_s1030"/>
            <p:cNvCxnSpPr>
              <a:stCxn id="122" idx="0"/>
              <a:endCxn id="127" idx="2"/>
            </p:cNvCxnSpPr>
            <p:nvPr/>
          </p:nvCxnSpPr>
          <p:spPr>
            <a:xfrm flipV="1" rot="16200000">
              <a:off x="5368680" y="902520"/>
              <a:ext cx="576360" cy="217188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8" name="_s1031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3197520" y="902880"/>
              <a:ext cx="576360" cy="217116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sp>
          <p:nvSpPr>
            <p:cNvPr id="127" name="_s1032"/>
            <p:cNvSpPr/>
            <p:nvPr/>
          </p:nvSpPr>
          <p:spPr>
            <a:xfrm>
              <a:off x="2710080" y="54936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8f8f8"/>
                  </a:solidFill>
                  <a:latin typeface="Times New Roman"/>
                </a:rPr>
                <a:t>Конкуренция </a:t>
              </a:r>
              <a:endParaRPr b="0" lang="en-US" sz="41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53964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488160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Не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53964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нижение цен на товары и услуги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в сравнении с соперниками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_s1036"/>
            <p:cNvSpPr/>
            <p:nvPr/>
          </p:nvSpPr>
          <p:spPr>
            <a:xfrm>
              <a:off x="488160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Другие (неценовые) меры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привлечения покупателей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акие? 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Признаки классификации рыночных структу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количество покупателей и продавцов; 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тип товара (однородный, дифференцированный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доступность информации  для всех участников  рынка о ценах всех продавцов и их изменениях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наличие входных барьеров для вступления в отрасль (юридические , или экономические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степень влияния продавцов (покупателей) на цену товара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2124000" y="549360"/>
            <a:ext cx="4680000" cy="504720"/>
          </a:xfrm>
          <a:prstGeom prst="bevel">
            <a:avLst>
              <a:gd name="adj" fmla="val 12500"/>
            </a:avLst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90000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Совершенн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(идеальный рынок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14836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Несовершенна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55640" y="3429000"/>
            <a:ext cx="201600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276720" y="3284640"/>
            <a:ext cx="25192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6659640" y="3284640"/>
            <a:ext cx="20890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иг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63528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630072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сон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3276360" y="1052640"/>
            <a:ext cx="2156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435640" y="1052640"/>
            <a:ext cx="2174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979640" y="2781360"/>
            <a:ext cx="0" cy="57636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Line 21"/>
          <p:cNvSpPr/>
          <p:nvPr/>
        </p:nvSpPr>
        <p:spPr>
          <a:xfrm flipH="1">
            <a:off x="5003280" y="2781360"/>
            <a:ext cx="28908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7020000" y="2781360"/>
            <a:ext cx="21600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5795640" y="2781360"/>
            <a:ext cx="144360" cy="180000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6300720" y="2781360"/>
            <a:ext cx="142920" cy="1728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68436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Экономические барье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изкие издержки производства за счет увеличение масштаба производства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закрыт доступ к материальным ресурсам и другим факторам в силу отсутствия их на свободном рынке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еклам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8028000" y="5734080"/>
            <a:ext cx="647640" cy="287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Юридические</a:t>
            </a:r>
            <a:r>
              <a:rPr b="0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барьеры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непреодолимы, т.к. связаны с уголовным наказание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920" y="1752480"/>
            <a:ext cx="74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оизводство  товара защищено патентом, авторским правом, лицензией, товарным знаком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Исключительное право заниматься данным видом деятельности (производство алкогольных напитков, табака,  монополия внешней торговли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Государственная регистрация отдельных видов деятельност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6948360" y="5661000"/>
            <a:ext cx="129564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Совершенная конкуренция-</a:t>
            </a: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ынок с множеством равноправных продавцов, предлагающих однородную продукцию, где отсутствуют входные барьеры в отрасль и продавец практически не влияет на рыночную цену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Копия рынок и монополия"/>
          <p:cNvPicPr/>
          <p:nvPr/>
        </p:nvPicPr>
        <p:blipFill>
          <a:blip r:embed="rId1"/>
          <a:stretch/>
        </p:blipFill>
        <p:spPr>
          <a:xfrm>
            <a:off x="684360" y="2349360"/>
            <a:ext cx="7777080" cy="37674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9:49:44Z</dcterms:created>
  <dc:creator>User</dc:creator>
  <dc:description/>
  <dc:language>en-US</dc:language>
  <cp:lastModifiedBy>Nadyu</cp:lastModifiedBy>
  <dcterms:modified xsi:type="dcterms:W3CDTF">2011-05-05T11:14:27Z</dcterms:modified>
  <cp:revision>19</cp:revision>
  <dc:subject/>
  <dc:title>Конкуренция. Структура рынка</dc:title>
</cp:coreProperties>
</file>