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EEC9-75CA-423B-A18E-ECCA4897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741-1858-40FD-B63A-1B4ADD02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D6DC-9014-49AB-BC34-2398F77F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C87F-8118-45C0-A428-C8D973C5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9945-6957-4083-87E9-FD627DA2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4D8BE-234E-4FA5-A468-E9FBDC914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D699-488D-4F5D-90A7-C6047F58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22222-5B3F-4F85-A4D7-4A7E34F0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8556-06B5-4062-9F6F-2F3DCDA5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04CA-9414-464B-9800-F5AF3312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CCD3D-B612-4980-8850-5EFCA47D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992-B2D5-4CF2-8DD4-6E8EA1A2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2C6-72CC-4558-BD41-090C383A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0110A-07C2-466F-91DC-B93EEF4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7CE7-DEE6-43AD-9ED7-BB704B19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CE5E-9F78-4CB9-A01F-6B733C75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0AF8F-C9F8-42BF-82DA-585076B2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1D2F-56EC-4633-8C34-CAD543C8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2DED-ED42-4DC5-AB18-FFC87478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150A-1B4D-47E1-B6C7-87AF7D73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1381-2007-45C4-845C-D9E5B761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6BCE-BD07-45C8-AC5A-D2BB1E9F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EEB1-356B-498A-A12E-C46B3820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8C4-9AD8-47FE-A84A-B8AEA242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511-D09F-4B8B-BBEC-FF2FE2F6C32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E4D8-296E-4271-BB21-80927F846F7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Экономические основы деятельности фирм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600360" cy="2798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284720" y="2429280"/>
            <a:ext cx="4535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Погоня за прибылью – единственный способ, при помощи которого люди могут удовлетворить потребности тех, кого они вовсе не знают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aeaea"/>
                </a:solidFill>
                <a:latin typeface="Times New Roman"/>
              </a:rPr>
              <a:t>(Фридрих фон Хайек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132000" y="476280"/>
            <a:ext cx="26751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987640" y="476280"/>
            <a:ext cx="26748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1683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914400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2781000"/>
            <a:ext cx="41054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ОСТОЯ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59280" y="2781360"/>
            <a:ext cx="40384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ПЕРЕМЕННЫЕ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771640" y="1557360"/>
            <a:ext cx="287640" cy="863640"/>
          </a:xfrm>
          <a:prstGeom prst="downArrow">
            <a:avLst>
              <a:gd name="adj1" fmla="val 50000"/>
              <a:gd name="adj2" fmla="val 75063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1628640"/>
            <a:ext cx="287280" cy="863640"/>
          </a:xfrm>
          <a:prstGeom prst="downArrow">
            <a:avLst>
              <a:gd name="adj1" fmla="val 50000"/>
              <a:gd name="adj2" fmla="val 75157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484360" y="361944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0"/>
          <a:ext cx="9144000" cy="687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5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Маржинальные (предельные)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4300" spc="-1" strike="noStrike">
                <a:solidFill>
                  <a:srgbClr val="ffffcc"/>
                </a:solidFill>
                <a:latin typeface="Times New Roman"/>
              </a:rPr>
              <a:t>издержки</a:t>
            </a:r>
            <a:r>
              <a:rPr b="0" lang="en-US" sz="4300" spc="-1" strike="noStrike">
                <a:solidFill>
                  <a:srgbClr val="ffffcc"/>
                </a:solidFill>
                <a:latin typeface="Times New Roman"/>
              </a:rPr>
              <a:t> – реальная сумма издержек, в которую обходится изготовление каждой дополнительной единицы продукции.</a:t>
            </a:r>
            <a:endParaRPr b="0" lang="en-US" sz="43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2344680" y="4005360"/>
                <a:ext cx="41720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77920"/>
            <a:ext cx="8207280" cy="37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Маржинальная (предельная) выручка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– показывает, на сколько изменится общая выручка фирмы в результате изменения объема выпуска на одну единицу продукции.</a:t>
            </a: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365720"/>
                <a:ext cx="403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Δ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imes New Roman"/>
              </a:rPr>
              <a:t>Условие максимизации прибыли: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для того чтобы величина прибыли была максимальной, фирме необходимо производить такое количество продукции, при котором предельная выручка равна предельным издержкам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92360" y="5013360"/>
                <a:ext cx="5321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C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50920" y="1452600"/>
            <a:ext cx="871380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68360" y="1436760"/>
            <a:ext cx="8064360" cy="45226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Практическое задание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Times New Roman"/>
              </a:rPr>
              <a:t>Вопросы для повторения.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773000"/>
            <a:ext cx="88200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Что такое фирма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Какие виды фирм вы знаете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Times New Roman"/>
              </a:rPr>
              <a:t>Зачем создаются фирмы?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2421000"/>
            <a:ext cx="5905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§ 22 читать;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aeaea"/>
                </a:solidFill>
                <a:latin typeface="Times New Roman"/>
              </a:rPr>
              <a:t>- записи в тетради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5280" y="5616720"/>
            <a:ext cx="84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Урок разработан учителем экономики МБОУ СОШ №8 г. Лобня Московской област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Мерзликиной Светланой Николаевной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Цели деятельности фирмы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8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Экономика в лицах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211640" y="2420640"/>
            <a:ext cx="4105440" cy="30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eaeaea"/>
                </a:solidFill>
                <a:latin typeface="Times New Roman"/>
              </a:rPr>
              <a:t>Матвей Кузнецов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eaeaea"/>
                </a:solidFill>
                <a:latin typeface="Times New Roman"/>
              </a:rPr>
              <a:t>российский предприниматель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331164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4108320"/>
            <a:ext cx="3635280" cy="274968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cc"/>
                </a:solidFill>
                <a:latin typeface="Times New Roman"/>
              </a:rPr>
              <a:t>Прибыль</a:t>
            </a:r>
            <a:r>
              <a:rPr b="0" lang="en-US" sz="4700" spc="-1" strike="noStrike">
                <a:solidFill>
                  <a:srgbClr val="ffffcc"/>
                </a:solidFill>
                <a:latin typeface="Times New Roman"/>
              </a:rPr>
              <a:t> – превышение выручки от продажи товара над суммарными затратами (издержками) на его изготовление и организацию продажи.</a:t>
            </a:r>
            <a:endParaRPr b="0" lang="en-US" sz="4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92000" y="4723920"/>
            <a:ext cx="565164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П</a:t>
            </a: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(Q) = TR (Q) – TC (Q)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Times New Roman"/>
              </a:rPr>
              <a:t>Прибыль = общая выручка – общие издерж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1,-123,94)"/>
                                          </p:val>
                                        </p:tav>
                                        <p:tav tm="50000">
                                          <p:val>
                                            <p:strVal val="rgb(94,-56,-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Общие издержки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  - расходы на приобретение всего объема ресурсов, который фирма использовала для организации производства определенного объема продукции.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859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РЕСУРСЫ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213200">
            <a:off x="2484000" y="1700280"/>
            <a:ext cx="432000" cy="1366920"/>
          </a:xfrm>
          <a:prstGeom prst="downArrow">
            <a:avLst>
              <a:gd name="adj1" fmla="val 50000"/>
              <a:gd name="adj2" fmla="val 79104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0641200">
            <a:off x="5651640" y="1699920"/>
            <a:ext cx="431640" cy="1366920"/>
          </a:xfrm>
          <a:prstGeom prst="downArrow">
            <a:avLst>
              <a:gd name="adj1" fmla="val 50000"/>
              <a:gd name="adj2" fmla="val 79170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3213000"/>
            <a:ext cx="370836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еш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3284640"/>
            <a:ext cx="435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внутренние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56000" y="433548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339640" y="1125360"/>
            <a:ext cx="352908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ОБЩИЕ ИЗДЕРЖКИ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(стоимость производства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2771640" cy="2089080"/>
          </a:xfrm>
          <a:prstGeom prst="rightArrow">
            <a:avLst>
              <a:gd name="adj1" fmla="val 50000"/>
              <a:gd name="adj2" fmla="val 33168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ешние (явные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80000" y="981000"/>
            <a:ext cx="3564000" cy="2160720"/>
          </a:xfrm>
          <a:prstGeom prst="leftArrow">
            <a:avLst>
              <a:gd name="adj1" fmla="val 50000"/>
              <a:gd name="adj2" fmla="val 41236"/>
            </a:avLst>
          </a:pr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Внутренние (неявные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издержки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268360" y="3213000"/>
            <a:ext cx="381816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4365360"/>
            <a:ext cx="86407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Бухгалтерские издержки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 – общая сумма внешних (явных) издержек фирмы на производство товаров или услуг в течение определенного периода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189000"/>
            <a:ext cx="882000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imes New Roman"/>
              </a:rPr>
              <a:t>Экономические издержк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– общие издержки фирмы на производство товаров или услуг, включающие как прямые денежные издержки по организации производства и сбыта товаров, так и альтернативные издержки, т.е. упущенную выгоду от использования ресурсов фирмы на иные варианты деятельности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5T10:40:35Z</dcterms:created>
  <dc:creator>msn</dc:creator>
  <dc:description/>
  <dc:language>en-US</dc:language>
  <cp:lastModifiedBy>msn</cp:lastModifiedBy>
  <dcterms:modified xsi:type="dcterms:W3CDTF">2012-10-17T06:36:15Z</dcterms:modified>
  <cp:revision>7</cp:revision>
  <dc:subject/>
  <dc:title>Экономические основы деятельности фирмы</dc:title>
</cp:coreProperties>
</file>