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3FA-2BD1-499F-8741-23571E7C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DFE-7817-4C52-B99E-5255FD4C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95D-6E0E-42E9-B9C8-6E373EAB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80F-3754-4458-8E20-908FFC91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8FEA-7A83-42CB-B601-82C8E0D1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AAFD-BD20-46B2-BB2D-1E406F54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02C6-4D7C-4889-8EA9-1F898B7C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B367-CEA3-40A8-9FC3-0685C4BD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6868-711D-4256-A18D-9F0960CF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D163-FC07-4979-B51B-2FB71F0E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502D-E6D1-47FD-A2EF-FFC55C24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464-1931-40A9-A5D4-56BD3BD0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5930-72CB-47A5-9398-090F4EEC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EE6D-2282-47CA-AC11-28D8EF2E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5C25-11D9-4ABF-AF67-74A9D44F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0CDF-D09A-485B-822E-39602E78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BD5C-E5E5-49CD-99ED-9D51FD55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9783-2B2A-4F15-9DB6-3A833F28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89B-DFAE-42DA-B6B8-FBB0C08B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021-7D5C-4E04-B236-8E330B6F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09B-13E5-4591-961E-AB517782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FFF-C0DD-4A0A-80AD-383CDA77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77C2-E0D2-4866-A408-135BC95C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645-2879-41EB-9786-28A68A9C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9BEB-6C8C-4250-B057-84A0F666E8E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9EC0-11B4-4015-BA12-67E53B93B12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Экономические основы деятельности фирм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600360" cy="279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84720" y="242928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Погоня за прибылью – единственный способ, при помощи которого люди могут удовлетворить потребности тех, кого они вовсе не знаю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(Фридрих фон Хайек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32000" y="476280"/>
            <a:ext cx="267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476280"/>
            <a:ext cx="2674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168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4105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ОСТОЯ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9280" y="278136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ЕРЕМЕ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557360"/>
            <a:ext cx="287640" cy="863640"/>
          </a:xfrm>
          <a:prstGeom prst="downArrow">
            <a:avLst>
              <a:gd name="adj1" fmla="val 50000"/>
              <a:gd name="adj2" fmla="val 75063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1628640"/>
            <a:ext cx="287280" cy="863640"/>
          </a:xfrm>
          <a:prstGeom prst="downArrow">
            <a:avLst>
              <a:gd name="adj1" fmla="val 50000"/>
              <a:gd name="adj2" fmla="val 7515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84360" y="3619440"/>
            <a:ext cx="4319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Маржинальные (предельные)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– реальная сумма издержек, в которую обходится изготовление каждой дополнительной единицы продукции.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344680" y="4005360"/>
                <a:ext cx="41720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20728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Маржинальная (предельная) выручка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показывает, на сколько изменится общая выручка фирмы в результате изменения объема выпуска на одну единицу продукции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11280" y="4365720"/>
                <a:ext cx="40388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Условие максимизации прибыли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для того чтобы величина прибыли была максимальной, фирме необходимо производить такое количество продукции, при котором предельная выручка равна предельным издержка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92360" y="5013360"/>
                <a:ext cx="5321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1452600"/>
            <a:ext cx="8713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436760"/>
            <a:ext cx="8064360" cy="4522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Times New Roman"/>
              </a:rPr>
              <a:t>Вопросы для повторения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773000"/>
            <a:ext cx="8820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Что такое фирма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Какие виды фирм вы знаете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Зачем создаются фирмы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242100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§ 22 читать;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записи в тетради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Цели деятельности фи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Экономика в лицах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211640" y="2420640"/>
            <a:ext cx="410544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Матвей Кузнецов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российский предпринимател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108320"/>
            <a:ext cx="3635280" cy="2749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Times New Roman"/>
              </a:rPr>
              <a:t>Прибыль</a:t>
            </a:r>
            <a:r>
              <a:rPr b="0" lang="en-US" sz="4700" spc="-1" strike="noStrike">
                <a:solidFill>
                  <a:srgbClr val="ffffcc"/>
                </a:solidFill>
                <a:latin typeface="Times New Roman"/>
              </a:rPr>
              <a:t> – превышение выручки от продажи товара над суммарными затратами (издержками) на его изготовление и организацию продажи.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92000" y="4723920"/>
            <a:ext cx="5651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П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(Q) = TR (Q) – TC (Q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рибыль = общая выручка – общие издерж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щие издержки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- расходы на приобретение всего объема ресурсов, который фирма использовала для организации производства определенного объема продукции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85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РЕСУРС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213200">
            <a:off x="2484000" y="1700280"/>
            <a:ext cx="432000" cy="1366920"/>
          </a:xfrm>
          <a:prstGeom prst="downArrow">
            <a:avLst>
              <a:gd name="adj1" fmla="val 50000"/>
              <a:gd name="adj2" fmla="val 7910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41200">
            <a:off x="5651640" y="1699920"/>
            <a:ext cx="431640" cy="1366920"/>
          </a:xfrm>
          <a:prstGeom prst="downArrow">
            <a:avLst>
              <a:gd name="adj1" fmla="val 50000"/>
              <a:gd name="adj2" fmla="val 7917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213000"/>
            <a:ext cx="370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еш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284640"/>
            <a:ext cx="43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утрен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43354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339640" y="1125360"/>
            <a:ext cx="3529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ОБЩИЕ ИЗДЕРЖКИ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(стоимость производств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52640"/>
            <a:ext cx="2771640" cy="2089080"/>
          </a:xfrm>
          <a:prstGeom prst="rightArrow">
            <a:avLst>
              <a:gd name="adj1" fmla="val 50000"/>
              <a:gd name="adj2" fmla="val 33168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ешние (явные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981000"/>
            <a:ext cx="3564000" cy="2160720"/>
          </a:xfrm>
          <a:prstGeom prst="leftArrow">
            <a:avLst>
              <a:gd name="adj1" fmla="val 50000"/>
              <a:gd name="adj2" fmla="val 4123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утренние (неявные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38181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365360"/>
            <a:ext cx="86407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Бухгалтерские издержки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– общая сумма внешних (явных) издержек фирмы на производство товаров или услуг в течение определенного период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Экономические издержк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– общие издержки фирмы на производство товаров или услуг, включающие как прямые денежные издержки по организации производства и сбыта товаров, так и альтернативные издержки, т.е. упущенную выгоду от использования ресурсов фирмы на иные варианты деятельн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0:40:35Z</dcterms:created>
  <dc:creator>msn</dc:creator>
  <dc:description/>
  <dc:language>en-US</dc:language>
  <cp:lastModifiedBy>msn</cp:lastModifiedBy>
  <dcterms:modified xsi:type="dcterms:W3CDTF">2012-10-17T06:36:15Z</dcterms:modified>
  <cp:revision>7</cp:revision>
  <dc:subject/>
  <dc:title>Экономические основы деятельности фирмы</dc:title>
</cp:coreProperties>
</file>