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BDD-4531-4762-9B60-33865CEA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492-2D21-4DF4-8617-96333339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E41-6139-40E7-A7BA-4F835C39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B99F-3F2A-49F9-B3A8-6E06720B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AF0B-8204-4A7E-B8A7-8689A404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11A5-677A-4A96-9D67-1DB5B80A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C57B-7E0F-4F54-A2D7-7B921BAB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015A-3EB9-43B8-B717-720F7E53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E369-21A5-48A9-A9C5-DC41F9D6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7D40-8AD3-4E08-A0FE-0017B477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D076-C180-454B-9968-D11E934E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856-96C3-43C5-A99A-F4F1D252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0D72-DCD2-44BB-ABB3-9E70BB60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F0FD-5076-4268-B425-2B2FC046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EEAD-A83D-46ED-A74B-74AD91D9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A0B8-EB2A-4752-97A4-4BB81BAA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0AA1-83ED-42C5-AB07-613D7770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ACF7A-6099-4182-9BDB-6461E9BA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DFA3C-CF00-4A96-96F3-0AD4906A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7652C-689F-4AE6-AA93-6B473C8D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D30C6-DECD-4287-AFA5-53562253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80771-6AD8-483A-81A9-66B1622D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E14-DA29-4450-9FEC-A8B57582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97632-78BB-43E9-9D34-BE7E82C7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700C9-69B1-4F26-9361-D17F2450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40DF4-2CC6-433C-94CE-1AB52C03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D75C4-3818-4FD7-B25E-A34A00E0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9732B-B6D5-4B97-A6BD-C69F244C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DA866-1F81-4834-8788-0F9458CA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3B39A-71D9-4260-B71A-42105F20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8AB6A-FBAF-4353-AEE5-4956B755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A5ED3-156D-45AB-B6BE-56233FBC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E25AA-0D95-49A4-9969-F9DD80D5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57B-B779-43FD-9B53-CC44D961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88B19-B7FC-490D-BBCC-35A3ADDE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0F2D7-8454-46BA-8C83-42760265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BBCEA-5CD9-4DCD-9294-98DF1214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73351-7243-44F9-9414-5CFD08F0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BEC23-4E7F-47A8-9345-0E62CE16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B2679-4C87-485E-8F8B-EF5F460F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6C07F-DE98-4751-8DC3-E86C9568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B4338-2C53-4E1F-9874-DB7C005E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4C48D-60AD-4215-920C-A4542248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52409-512C-49F3-9120-C12A66F7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521-134F-4E98-9524-2FAD59C1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ED0BF-B773-40EF-8A39-965038D1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A952E-4576-4400-AE40-0F14C319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CCFCD-65F1-46D9-A917-A70D1380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0FAA9-C7D9-4E22-8339-89614F9A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02D63-95A6-48D6-AD4E-9970267D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88F26-1A14-43E9-8946-A224741D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49451-EF97-4B91-9C96-9A28154A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ABE20-BBB5-4423-AEED-A45FCED9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6B606-37EC-4B8C-B29F-6EBF0784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AAA71-7F97-424C-8252-559C38A7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A02-77DC-4D12-B508-42FBF37F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90F64-5489-47E7-AD0F-258D5AEA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1C0-36A3-4064-B3B2-9C727D0F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F1D-B38A-498B-9DF7-BF816D10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229-71CD-46B2-8478-29FFD618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B6E3-E5FA-495F-BE84-81BB6D4E3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F276-5DE1-4B4A-A70C-2A6963164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407B-92CC-46C4-BF1C-12B2401E2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FE0B-232D-4858-86F9-8F9E1787CE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2BB8-6B21-43A7-83BB-07CADE2A3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476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Тема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        «Бюджет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142640" y="220932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Цель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Используя определённые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экономические знания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составлять и планировать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бюдж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оссвор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05360" y="3735000"/>
            <a:ext cx="1981080" cy="23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927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60020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505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5334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1752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686440" y="-2081160"/>
            <a:ext cx="76212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1981080"/>
            <a:ext cx="609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519120"/>
            <a:ext cx="8763120" cy="6033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83060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335268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5562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182880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943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28800" y="19051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1219320"/>
            <a:ext cx="380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409720" y="-5631480"/>
            <a:ext cx="304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153640" cy="61722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752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914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40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3060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0" y="3429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448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83640" y="1371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5012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1660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93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306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0" y="335268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5012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36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43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744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Кто не считает свои деньги, тот проявляет неуважение к своему труду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6864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27432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Книга расходов – это зеркало, заглянув в которое, каждый может увидеть, как он выгляди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Пл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нятие «бюджет», его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доходная и расходная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иды бюдж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ктическая работа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«Составление бюдже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Бюджет – это совокупность доходов и расходов за определённый период вре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= Д –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– бюд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 – до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 - рас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ход – получаемая часть денежных средств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ход – часть денежных средств которая тратится (расходует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686800" y="128520"/>
            <a:ext cx="2743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686440" y="6126120"/>
            <a:ext cx="228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до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304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рас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914400"/>
            <a:ext cx="32763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686800" y="6126120"/>
            <a:ext cx="449568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858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914400"/>
            <a:ext cx="41911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838080"/>
            <a:ext cx="35816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варт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упка одежды и обу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нспортные рас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телеф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нцтовары и школьные принадле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комства и игр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дос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ды бюдж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4495680"/>
            <a:ext cx="3429000" cy="2021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791320" y="838080"/>
            <a:ext cx="3009960" cy="218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" y="3276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+ про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- де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5486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0 сбаланс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ая работа       «Бюджет семьи» (за меся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62120" y="1600200"/>
          <a:ext cx="7772400" cy="4290840"/>
        </p:xfrm>
        <a:graphic>
          <a:graphicData uri="http://schemas.openxmlformats.org/drawingml/2006/table">
            <a:tbl>
              <a:tblPr/>
              <a:tblGrid>
                <a:gridCol w="2255760"/>
                <a:gridCol w="1629000"/>
                <a:gridCol w="2421000"/>
                <a:gridCol w="14666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 до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рас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до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рас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304920" y="63244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 = Д – Р = ?                                    Вид бюджета - ?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епаненко</cp:lastModifiedBy>
  <dcterms:modified xsi:type="dcterms:W3CDTF">2008-02-05T09:42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