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7BCE-087C-47B0-86A6-69A092415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E52A-20F8-4471-823A-5479397A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BB6B-70B6-4E0B-8F25-D6F178567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0192-0F8F-4CA7-9511-043F9C779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E22A-60C1-4CB8-BD05-F4B2CC880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B1F1-9663-4F70-94A7-4076D2F0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5CD6-9CD0-4C6F-B997-72DD7DC0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1E03-86AF-4A24-A9D7-8832795B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29E8-9C61-4F3B-8732-6C0FEB19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1D1D-FF13-4F9C-B199-4F9248A6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65D5-8123-4151-9BA6-948F3D59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8049-DB29-488E-9BB4-769F6F80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CB79-CB25-4E0F-8883-8E3189C2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C8FA-2EA5-4C9A-BA57-62AB159F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D1CC-EC12-4B3C-8818-11D23986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DED6-E5FD-49C8-9501-EE54B4EA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DC3B-210F-4148-978F-EBD4C925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E6121A-B83C-453A-A93F-2B4C3FA05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B7AFE7-E324-43B7-A0C0-91DA917D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A79256-B776-4EA5-99FE-649A16D5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D94BEE-0955-43FB-852E-F03AEB2A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2F0DD9-1B69-4AAB-817B-23AC1508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90C6-65A4-4182-97A0-4CF91798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47C9B5-0B40-4592-B72B-2FAE4B4C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15E405-01DB-4637-9A7F-99E783E2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C54204-4879-4BAE-87A9-B4605426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321874-8735-4D16-A720-D953E52E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6FDDE6-2939-4310-BA2E-D3BE911C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A6D99A-9DC0-482E-B5A2-CC975164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98127C-E014-47AA-894B-7F2927250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5E327-E3B8-455C-A7DC-04A004563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91D33-BF5D-4B07-B467-2E2CAD2A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2B282-1504-4A4C-A04A-A76A979E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37F4-B860-4AD9-8F64-6677AE29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C4802-8E36-40AE-A413-47725AA9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BC897-5F3E-4A6C-BFD8-07C4DE07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A9DC4-9837-4D32-8F05-75072A0B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A3D5F-E090-48D1-B92C-0CFE427E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F4488-4573-4D94-A175-FABB91AE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D17ED-41D4-4173-B179-F2C4C537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05B22-CB50-4AD9-A1F4-00AD7634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F1F2F-DA41-48DA-92B8-627B7CAF9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AFC10-2B2A-49F6-B4CF-A7BD1C2C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81777-88F5-4274-A695-4B838313A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5E5E-D44A-41C5-8A29-6E5C54A7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18165-D854-403E-900C-B9FCBAD0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0036F-F41B-4426-9E26-AF5CE540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A3F34-8FF1-4014-B1EC-516C06B1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26A8E-019C-4D08-A45D-CCA42BE6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A798E-A35D-47AD-9BFE-D19EA815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2AC04-50BF-4D06-8CC4-76ABFC8F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2DD15-C5F1-4E08-A3C8-86DB4BA0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696CC-56E2-4F11-96A1-90E5CACF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04A8D-3E71-4E80-AD56-192D00D0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017F6-61A7-4F5E-B7B9-905EFA4B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4D70-C2DB-49DA-B779-84A2C1EF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530FF-2F8C-4BA3-9416-F2043631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B374-2165-4B54-90D0-A7408BBC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E427-90AA-42FF-B083-FD8C6EB7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D040-F98C-4131-8137-B232CCE5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E779-68AE-45AC-B5F8-184A95217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B5AA-B9D4-4D1D-B0DB-C554F086D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1B89-93AE-4572-94DA-EABD08370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00BA-D9E0-4D8A-BAD5-8662E04106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5AD1-858F-4303-975F-20F5E1192B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476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Тема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         «Бюджет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142640" y="2209320"/>
            <a:ext cx="7162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Цель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Используя определённые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экономические знания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составлять и планировать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бюдж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россворд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705360" y="3735000"/>
            <a:ext cx="1981080" cy="23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49276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600200" y="2362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505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66680" y="5334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03848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2286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81480" y="1752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686440" y="-2081160"/>
            <a:ext cx="762120" cy="49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1981080"/>
            <a:ext cx="609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352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80880" y="519120"/>
            <a:ext cx="8763120" cy="60339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83060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1722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0" y="3352680"/>
            <a:ext cx="457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43000" y="5562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76520" y="1828800"/>
            <a:ext cx="457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5943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828800" y="190512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3200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5410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29200" y="1219320"/>
            <a:ext cx="380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409720" y="-5631480"/>
            <a:ext cx="3049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153640" cy="61722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752480" y="1600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5257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914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1523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458200" cy="57405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83060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40" y="34290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4480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83640" y="1371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5012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16600" y="487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5937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83060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20" y="335268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5012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83640" y="12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6432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9744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«Кто не считает свои деньги, тот проявляет неуважение к своему труду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686440" y="160020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274320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Книга расходов – это зеркало, заглянув в которое, каждый может увидеть, как он выгляди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Пла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нятие «бюджет», его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доходная и расходная ча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иды бюдж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актическая работа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«Составление бюджет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Бюджет – это совокупность доходов и расходов за определённый период врем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 = Д – 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 – бюдж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 – до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 - рас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647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ход – получаемая часть денежных средств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ход – часть денежных средств которая тратится (расходуетс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7086600" cy="42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686800" y="128520"/>
            <a:ext cx="2743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686440" y="6126120"/>
            <a:ext cx="228600" cy="1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304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татьи дох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76920" y="3049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татьи расх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атьи дохода:          Статьи расхода: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914400"/>
            <a:ext cx="327636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н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тское пособ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и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ипе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ьготные вы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цент от вклада в бан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игр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сл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атьи дохода:          Статьи расхода: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686800" y="6126120"/>
            <a:ext cx="449568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6858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914400"/>
            <a:ext cx="41911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н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тское пособ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и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ипе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ьготные вы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цент от вклада в бан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игр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сл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838080"/>
            <a:ext cx="358164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варт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ходы на 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купка одежды и обу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анспортные расх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лата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лата телеф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нцтовары и школьные принадле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акомства и игр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ходы на дос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иды бюдже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28600" y="4495680"/>
            <a:ext cx="3429000" cy="20210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04920" y="914400"/>
            <a:ext cx="3124080" cy="19051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791320" y="838080"/>
            <a:ext cx="3009960" cy="2187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28600" y="32767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 = Д – р = + профиц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3276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 = д – Р = - дефиц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54864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 = Д – Р = 0 сбалансирова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ктическая работа       «Бюджет семьи» (за месяц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762120" y="1600200"/>
          <a:ext cx="7772400" cy="4290840"/>
        </p:xfrm>
        <a:graphic>
          <a:graphicData uri="http://schemas.openxmlformats.org/drawingml/2006/table">
            <a:tbl>
              <a:tblPr/>
              <a:tblGrid>
                <a:gridCol w="2255760"/>
                <a:gridCol w="1629000"/>
                <a:gridCol w="2421000"/>
                <a:gridCol w="1466640"/>
              </a:tblGrid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ная ча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ная ча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и  дох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в руб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и расх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в руб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дохо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расхо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  <p:sp>
        <p:nvSpPr>
          <p:cNvPr id="233" name=""/>
          <p:cNvSpPr/>
          <p:nvPr/>
        </p:nvSpPr>
        <p:spPr>
          <a:xfrm>
            <a:off x="304920" y="632448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 = Д – Р = ?                                    Вид бюджета - ?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епаненко</cp:lastModifiedBy>
  <dcterms:modified xsi:type="dcterms:W3CDTF">2008-02-05T09:42:2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