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1199-6110-420C-889B-6DA7F3B1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F1F3-0A92-4966-9CB5-46424B94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8FEA-7306-454C-9757-B321C637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A244-24DD-43FE-A913-9EC1DC3C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3D7F-DCFF-40F6-81EA-81092986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96E2-3341-4827-836A-E968A0EA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0FC3-F7F1-45B3-8F3B-3959F1D8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CEC2-37D4-4F4A-B80C-72043B8F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E5AD-59F0-47B2-8071-96FB38A8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4976-91AA-4494-9933-533F50DE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A298-D82C-40C5-8D1E-F98F8DDE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6979-9E85-40D8-AB7F-D88B8A74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389F-C9CA-4329-95CB-5485D9BF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CEDA-8DB3-48CB-B028-B375BD0F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8CBA-BDA9-4E01-B6FF-25CD1B22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08BA-8058-4BE2-B65F-A1F52979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6928-6EBA-4B06-B176-45E7A4F8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E6C3EC-6BAF-49E0-AAF7-F75F36D9F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F465E-9DC6-474B-B7B5-D000B33E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52506-5B2D-48DF-9466-52B322D6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0C0CC-66CC-4202-AAAE-BB37CC67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C7E22F-432F-4D8D-BD80-350CCBD0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1C97-8998-4B1C-9633-85DF98FC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D5C372-227D-4929-BA70-B2729F4D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2865E1-DC32-48C0-BD93-C15C25DB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A9439-138D-4C97-8259-C7F4AC34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5B0FB8-C20E-4CB2-AD47-C775D452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FB952-AC44-4C41-BC59-2F03FFEC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4FAE37-2CCB-477C-B9CF-33D84813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F2FF92-A0DD-4C96-BC6F-1BC743C8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3851E-10EE-4CF7-BD90-71E31FBF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4B33A-1B65-40C2-B48F-F81782FD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67270-AC59-4212-974D-12BD8B00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19B4-5115-4065-9378-E507F86C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B5EB4-A6DC-43CE-B173-7267B09D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C00D3-11E7-40A7-92CA-3F11756E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B73E5-3BE9-4231-BB7B-A9D5ED07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14203-C562-464C-8471-C52749D8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53F7A-517A-4821-9FF4-85C73420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53C3D-7862-41B2-9A56-A3CCBF9B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531A7-B7C7-4D77-8030-B3C85027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9D2C1-0730-4092-8427-BEE0ED05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736B2-D7BC-40C5-9C5F-5067C903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A73B1-0A9A-42AB-99C0-5910962F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929B-7547-4A0B-8047-4A073007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E66F7-618D-45DA-B31E-9B552CDF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A3A00-5F91-4D47-8799-50976DA0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DCB6A-F6BF-4FA6-B3D9-2DD2492B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1BD55-2855-4FB5-AD83-8BA2C8D5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D2EDE-0AAF-462F-A3CF-05388704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8B5AE-9D08-4D7B-9C59-1FE87316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6B405-DA3F-4FD3-99ED-8FEC5BB7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25F46-AE1E-4423-A272-3C16C78F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0D02B-3EF2-4049-8C6E-A48D6CB5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EEEFF-18E3-4A45-A792-6AEB3B28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95A7-8471-4B08-AD29-8F4F412B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B955C-55E7-466C-AFB8-F57AFA92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A8CC-D188-4507-A361-0C02A15E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8D18-5728-4B5B-A1C1-E77FA992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93D3-9625-414D-9201-0E7600F8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F95E-E7D9-46F5-810C-535683F01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93DE-54EC-4F3C-A7CB-83E611D08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D402-6F0B-4307-8117-7E5644ED1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748D-9C1A-4D3E-B8A5-390437FDEA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C8BF-F54F-44D7-AAB1-A3F64EBBEB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476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Тема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         «Бюджет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142640" y="2209320"/>
            <a:ext cx="7162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Цель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Используя определённые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экономические знания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составлять и планировать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бюдж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оссвор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705360" y="3735000"/>
            <a:ext cx="1981080" cy="23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49276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600200" y="2362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505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5334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384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2286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1752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686440" y="-2081160"/>
            <a:ext cx="762120" cy="49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1981080"/>
            <a:ext cx="609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80880" y="519120"/>
            <a:ext cx="8763120" cy="6033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83060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1722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3352680"/>
            <a:ext cx="457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5562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76520" y="1828800"/>
            <a:ext cx="457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5943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28800" y="190512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541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29200" y="1219320"/>
            <a:ext cx="380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409720" y="-5631480"/>
            <a:ext cx="304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153640" cy="61722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752480" y="1600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5257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914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1523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7405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83060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40" y="34290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4480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83640" y="1371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5012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16600" y="487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5937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83060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20" y="335268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5012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8364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432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9744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«Кто не считает свои деньги, тот проявляет неуважение к своему труду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68644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274320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Книга расходов – это зеркало, заглянув в которое, каждый может увидеть, как он выгляди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Пла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нятие «бюджет», его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доходная и расходная ча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иды бюдж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актическая работа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«Составление бюджет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Бюджет – это совокупность доходов и расходов за определённый период врем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 = Д – 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 – бюдж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 – до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 - рас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647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ход – получаемая часть денежных средств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ход – часть денежных средств которая тратится (расходуетс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7086600" cy="42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686800" y="128520"/>
            <a:ext cx="2743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686440" y="6126120"/>
            <a:ext cx="228600" cy="1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304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татьи дох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76920" y="3049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татьи расх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тьи дохода:          Статьи расхода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914400"/>
            <a:ext cx="32763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н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т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и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ипе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ьготные вы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нт от вклада в ба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игр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л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тьи дохода:          Статьи расхода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686800" y="6126120"/>
            <a:ext cx="449568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858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914400"/>
            <a:ext cx="41911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н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т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и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ипе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ьготные вы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нт от вклада в ба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игр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л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838080"/>
            <a:ext cx="358164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варт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ходы на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купка одежды и обу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анспортные рас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лата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лата телеф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нцтовары и школьные принадле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акомства и игр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ходы на дос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ды бюдж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28600" y="4495680"/>
            <a:ext cx="3429000" cy="2021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3124080" cy="1905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791320" y="838080"/>
            <a:ext cx="3009960" cy="2187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28600" y="3276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+ профиц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3276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- дефиц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54864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0 сбалансиро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ктическая работа       «Бюджет семьи» (за месяц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62120" y="1600200"/>
          <a:ext cx="7772400" cy="4290840"/>
        </p:xfrm>
        <a:graphic>
          <a:graphicData uri="http://schemas.openxmlformats.org/drawingml/2006/table">
            <a:tbl>
              <a:tblPr/>
              <a:tblGrid>
                <a:gridCol w="2255760"/>
                <a:gridCol w="1629000"/>
                <a:gridCol w="2421000"/>
                <a:gridCol w="146664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ная ча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ная ча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 дох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в руб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расх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в руб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дох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расх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304920" y="632448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 = Д – Р = ?                                    Вид бюджета - ?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епаненко</cp:lastModifiedBy>
  <dcterms:modified xsi:type="dcterms:W3CDTF">2008-02-05T09:42:2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