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4FC-0DE0-44A7-AB69-6AA52301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CE9-4537-4B1E-BC7B-1E1A40BA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13F-7AB4-4C61-B644-4736A512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8A4-60C3-4EA1-8E25-998F8C48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54FDC-9EC5-406D-89E1-E0C94E09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A159-9647-4648-AFBD-4C4A69C7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6CEB-B872-43FA-B6F1-CFC4D994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0377-5CD3-4C59-9C79-BC8CEF58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013F-34E1-4617-9169-13330C89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3EBC-BC61-4EC4-BED9-478999F7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5B7C-A6DC-4C01-B293-1595EE8E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905-330D-48C1-8391-0D1E1488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7C35-0564-4415-9891-963431E0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DFB7-5468-4911-944F-623C1568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5D65-8830-4E4A-859B-EC1C6B97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F1EA-8986-48E4-80A4-08CE11E3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450C-D3CA-4209-A94F-020B908B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6A279-CC21-484E-A34F-001665C9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8019F-0D0D-4B94-941C-AC8E2E87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FF5CB-3B22-4162-BF04-FD4ACD22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055A6-5F43-47DE-82F3-AFF48725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DE5FC-8495-416C-BD2C-4111359C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91BC-E5C7-4638-BFC6-14CF4865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469ED-BF14-4CD6-972D-25CFE0C8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A236D-F727-43D2-97A6-D55A02C5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EED6E-E3B5-4FD4-A643-B028879E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E74A8-E181-4059-BC68-D79A70EC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95F6F-9C3D-42E9-BF08-230A7E8B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68C06-15A3-425B-B3E3-3C822131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C9AD1-833E-4821-95B5-291F9BE8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92FE0-C122-48F1-912B-1C793680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B7FBA-E0EE-48D8-AEDD-1534333D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0DDEB-E0D0-45E2-962A-C5BEB079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568-4C53-477C-A58B-E4E76908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5AB0-D51F-4E02-AEC0-B4A996F2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5FA8-BE87-4655-8652-526A29D9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01EBD-F63F-4BB7-AF4A-459F296C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8E9B2-53B9-4CE3-A9D0-5767BF96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C688A-0831-40AC-AF15-EC1E6A8A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16C67-D7C0-4956-8E1F-F2E4C528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66D7-41F0-4724-BB0D-1E140904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681B5-877F-406C-98C5-B7AABB63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6367-6028-40FA-990F-E7ACF96C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32908-C196-4E26-B67A-266F223D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C28-C945-4784-A6AE-73B59E23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6CE8E-4018-4BD9-BB4E-9E9DCD14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244EB-9772-4FE5-9D61-283C62AF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7A8E3-1602-40B2-94D9-23573D49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FBF1F-6100-4CBD-93F1-5DF824F2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41930-82E1-4D46-A1C3-AB1A41E2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77FE3-F987-4237-8F7B-1E7A75E6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3C9FB-2CB0-48CE-9860-D66C00E3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46977-6D30-416C-8584-2A06E87E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BADB8-EC28-4AD2-A0C8-181C7ED7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C0BBB-197D-4D30-A962-4842EFD2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1A6-4B13-494C-B987-AA5A7A10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2FC7-6867-4A55-9661-470AB057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421-90CA-4097-81D2-03E4EC80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BEB-7DA2-461C-B25E-F86E5230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410-E0D1-4E2B-8076-F2AFBA34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BC1C-FD24-4290-AA0C-2E3DBC877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61F7-7E85-4DE3-AC35-B9643450C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D1F7-AD39-46B2-A3D4-2F9B56377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1FF3-B49E-4EFA-AF77-B8B064BAD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596E-F9BF-4ADE-AB5A-52E3874DF0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476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Тем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        «Бюджет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Цель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Используя определённые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экономические знания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составлять и планировать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бюдж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россвор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05360" y="3735000"/>
            <a:ext cx="198108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927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600200" y="23623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505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384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2286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1752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686440" y="-2081160"/>
            <a:ext cx="762120" cy="49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1981080"/>
            <a:ext cx="609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519120"/>
            <a:ext cx="8763120" cy="603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830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35268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5562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1828800"/>
            <a:ext cx="457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28800" y="190512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1219320"/>
            <a:ext cx="380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409720" y="-5631480"/>
            <a:ext cx="304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153640" cy="6172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752480" y="1600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57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914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40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83060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0" y="3429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4480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83640" y="1371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5012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11660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37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306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0" y="33526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5012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364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432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7440" y="548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Кто не считает свои деньги, тот проявляет неуважение к своему труду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6864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274320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Книга расходов – это зеркало, заглянув в которое, каждый может увидеть, как он выгляди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лан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нятие «бюджет», его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доходная и расходная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иды бюдже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ктическая работа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«Составление бюджет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Бюджет – это совокупность доходов и расходов за определённый период време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= Д – 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 – 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 – д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 - рас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ход – получаемая часть денежных средств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ход – часть денежных средств которая тратится (расходует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42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86800" y="128520"/>
            <a:ext cx="27432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86440" y="6126120"/>
            <a:ext cx="228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до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3049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татьи расх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32763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тьи дохода:          Статьи расхода: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86800" y="6126120"/>
            <a:ext cx="449568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858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14400"/>
            <a:ext cx="41911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н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тское пособ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и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пе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ьготные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нт от вклада в бан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игр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838080"/>
            <a:ext cx="35816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рт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купка одежды и обу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анспортные рас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лата телеф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нцтовары и школьные принадле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акомства и игр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ходы на дос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бюдж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3429000" cy="2021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3124080" cy="1905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791320" y="838080"/>
            <a:ext cx="3009960" cy="218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+ про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- дефиц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5486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 = Д – Р = 0 сбаланс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актическая работа       «Бюджет семьи» (за месяц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1600200"/>
          <a:ext cx="7772400" cy="4290840"/>
        </p:xfrm>
        <a:graphic>
          <a:graphicData uri="http://schemas.openxmlformats.org/drawingml/2006/table">
            <a:tbl>
              <a:tblPr/>
              <a:tblGrid>
                <a:gridCol w="2255760"/>
                <a:gridCol w="1629000"/>
                <a:gridCol w="2421000"/>
                <a:gridCol w="146664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ая ча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 до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расход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в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до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расхо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304920" y="63244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 = Д – Р = ?                                    Вид бюджета - ?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тепаненко</cp:lastModifiedBy>
  <dcterms:modified xsi:type="dcterms:W3CDTF">2008-02-05T09:42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