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886-01A7-4502-BF52-8A881583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C12-9D8E-46A8-A094-58EB83CC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F5C-138F-416C-9B81-C28CE8F7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214-7E94-40B5-BF82-3503AE14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A2A-22C7-4097-B1D1-5914DDAA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BDF-A08B-42A4-BB2C-260FAF70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077-D26D-442E-9D6A-0EC7D433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49C-9106-473A-8C0E-C64DD8AF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5FA-AD90-44F1-A607-EECFD2D0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DC4-C558-4F19-B7B7-1FC059FC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F05-2819-4F62-AE4A-A428DB41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F0D-4703-4998-8148-FA6384E7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3832-AAE9-480E-A956-C874C5B3E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3"/>
          <p:cNvSpPr txBox="1"/>
          <p:nvPr/>
        </p:nvSpPr>
        <p:spPr>
          <a:xfrm>
            <a:off x="2079720" y="115920"/>
            <a:ext cx="51829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onotype Corsiva"/>
              </a:rPr>
              <a:t>Экономическ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3" name="WordArt 14"/>
          <p:cNvSpPr txBox="1"/>
          <p:nvPr/>
        </p:nvSpPr>
        <p:spPr>
          <a:xfrm>
            <a:off x="2195640" y="1095480"/>
            <a:ext cx="518292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onotype Corsiva"/>
              </a:rPr>
              <a:t>" Аукцион 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755640" y="3573360"/>
            <a:ext cx="740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Тема: "Рынок труда.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9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5" name="j0212150.wav" descr=""/>
          <p:cNvPicPr/>
          <p:nvPr/>
        </p:nvPicPr>
        <p:blipFill>
          <a:blip r:embed="rId5"/>
          <a:stretch/>
        </p:blipFill>
        <p:spPr>
          <a:xfrm>
            <a:off x="900000" y="5659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484360" y="5094360"/>
            <a:ext cx="640872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474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какой формуле измеряется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9"/>
              <p:cNvSpPr txBox="1"/>
              <p:nvPr/>
            </p:nvSpPr>
            <p:spPr>
              <a:xfrm>
                <a:off x="2484360" y="4797360"/>
                <a:ext cx="3024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292428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 фразу: «Если фирма стремится максимизировать прибыль, то она должна увеличивать затраты труда до тех пор, пока…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58920" y="5013360"/>
            <a:ext cx="87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ежный доход от предельного продукта не сравняется с денежными затратами на н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*M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равна альтернативная стоимость 1 часа дос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58920" y="5013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24000" y="42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положи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58920" y="49417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замены, который сокращает часы отдыха и заменяет их часами работы, т.е. дох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бъясняется отрицательный наклон кривой предложения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58920" y="494172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ом дохода, который сокращает часы работы и заменяет их часами отды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400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казывает вертикальная кривая предложения на рынк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58920" y="4797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 дохода полностью компенсирует эффект замены, т.е. они разнонаправленны, но по абсолютной величин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едложени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3716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акое рыночное  предложение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5892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объемов предложения труда всех работников при каждой возможной ставке заработной пл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ставка заработной платы является равновес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58920" y="4437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ри сложившемся ее уровне количество людей, желающих получить работу, и число рабочих мест, предлагаемых работодателем совпад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Формирование з/п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1187280" y="2060640"/>
            <a:ext cx="68421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73272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79280" y="2565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по графику равновесную ставку и равновесное количество зан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7"/>
          <p:cNvGrpSpPr/>
          <p:nvPr/>
        </p:nvGrpSpPr>
        <p:grpSpPr>
          <a:xfrm>
            <a:off x="1908000" y="4076640"/>
            <a:ext cx="4105440" cy="2782800"/>
            <a:chOff x="1908000" y="4076640"/>
            <a:chExt cx="4105440" cy="2782800"/>
          </a:xfrm>
        </p:grpSpPr>
        <p:sp>
          <p:nvSpPr>
            <p:cNvPr id="166" name="Line 9"/>
            <p:cNvSpPr/>
            <p:nvPr/>
          </p:nvSpPr>
          <p:spPr>
            <a:xfrm flipV="1">
              <a:off x="2627280" y="4292280"/>
              <a:ext cx="0" cy="20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2627280" y="6381720"/>
              <a:ext cx="3024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2627280" y="407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руб/ч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5076720" y="595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(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349236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3059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5"/>
            <p:cNvSpPr/>
            <p:nvPr/>
          </p:nvSpPr>
          <p:spPr>
            <a:xfrm>
              <a:off x="3851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>
              <a:off x="421164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7"/>
            <p:cNvSpPr/>
            <p:nvPr/>
          </p:nvSpPr>
          <p:spPr>
            <a:xfrm>
              <a:off x="4643280" y="6237360"/>
              <a:ext cx="0" cy="216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2843280" y="4724280"/>
              <a:ext cx="2520720" cy="115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0"/>
            <p:cNvSpPr/>
            <p:nvPr/>
          </p:nvSpPr>
          <p:spPr>
            <a:xfrm>
              <a:off x="2916360" y="4508640"/>
              <a:ext cx="1655640" cy="151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363528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771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327672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3995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6"/>
            <p:cNvSpPr/>
            <p:nvPr/>
          </p:nvSpPr>
          <p:spPr>
            <a:xfrm>
              <a:off x="4427640" y="6491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2484360" y="4941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2484360" y="537372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2484360" y="587700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>
              <a:off x="2484360" y="4508640"/>
              <a:ext cx="216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3"/>
            <p:cNvSpPr/>
            <p:nvPr/>
          </p:nvSpPr>
          <p:spPr>
            <a:xfrm>
              <a:off x="1908000" y="566100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4"/>
            <p:cNvSpPr/>
            <p:nvPr/>
          </p:nvSpPr>
          <p:spPr>
            <a:xfrm>
              <a:off x="1908000" y="515772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5"/>
            <p:cNvSpPr/>
            <p:nvPr/>
          </p:nvSpPr>
          <p:spPr>
            <a:xfrm>
              <a:off x="1908000" y="47242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36"/>
            <p:cNvSpPr/>
            <p:nvPr/>
          </p:nvSpPr>
          <p:spPr>
            <a:xfrm>
              <a:off x="1908000" y="42926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38"/>
          <p:cNvSpPr/>
          <p:nvPr/>
        </p:nvSpPr>
        <p:spPr>
          <a:xfrm>
            <a:off x="6516720" y="4724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50 руб/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30 ч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ичины различий в уровнях оплаты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главные факторы, определяющие уровень оплаты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8920" y="443700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ность труда, тягость труда, ограниченность талантов, степень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кройте понятие рынка т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вокупность экономических и юридических процедур, позволяющих людям обменивать свои трудовые услуги на заработную п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1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79280" y="2924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пределяется заработная плата рабочих, объединенных в профсою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58920" y="443700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равновесием между спросом и предложением, а коллективным договором между профсоюзом и фи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рофсоюзы на рынке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187280" y="2133720"/>
            <a:ext cx="6842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5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79280" y="270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сты считают, что профсоюзы могут стать источником инфляции. Так ли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0" y="450864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повышение з/п не сопровождается ростом производительности труда, то издержки фирмы возрастают, т.е. возникает инфляция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1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безрабо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468360" y="4581360"/>
                <a:ext cx="79200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безработицы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безработн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Что такое безработиц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определяется уровень занят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749160" y="4581360"/>
                <a:ext cx="7356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ровень занятости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заняты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рабочая сил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4000" y="400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79280" y="2924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числите виды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58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, структурная, циклическая, сез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79280" y="29973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безработный бухгалтер, уволившийся из-за сложных отношений с директором и ищущий работу по специ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2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2400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179280" y="292428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стеклодувы, которые много лет тому назад остались без работы из-за изобретения специальных станков для изготовления буты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55640" y="5805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24000" y="4508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ятся рабочие обувной фабрики, уволенные из-за кризи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клическ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5" name="WordArt 3"/>
          <p:cNvSpPr txBox="1"/>
          <p:nvPr/>
        </p:nvSpPr>
        <p:spPr>
          <a:xfrm>
            <a:off x="1258920" y="1125360"/>
            <a:ext cx="66261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иды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324000" y="4941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79280" y="299736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безработицы относится владелец водных аттракционов на Черном море в декаб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75564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зон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2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виды безработицы составляют естественный уровень безработ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75564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икционная и структурная безработ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особенность рынка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ы и покупатели меняются местами: покупателями услуг труда являются фирмы, а продавцами – люди, предлагающие эти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2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395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79280" y="2997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зывается экономическим потенциалом 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755640" y="5157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оизводства товаров и услуг при полной занятости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468360" y="1125360"/>
            <a:ext cx="83516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Полная занятость и сокращение безработицы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95280" y="386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9280" y="2997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предполагает полная занятость ресурс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агруженные производственные мощности на уровне 10-20% и естественный уровень безработицы на уровне 5,5-6,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ab7c15776273314921002d29fb57d9f1"/>
          <p:cNvPicPr/>
          <p:nvPr/>
        </p:nvPicPr>
        <p:blipFill>
          <a:blip r:embed="rId1"/>
          <a:stretch/>
        </p:blipFill>
        <p:spPr>
          <a:xfrm>
            <a:off x="6012000" y="3141720"/>
            <a:ext cx="2268360" cy="25970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 flipH="1">
            <a:off x="324000" y="260280"/>
            <a:ext cx="4465440" cy="4176720"/>
          </a:xfrm>
          <a:prstGeom prst="cloudCallout">
            <a:avLst>
              <a:gd name="adj1" fmla="val -90634"/>
              <a:gd name="adj2" fmla="val 35898"/>
            </a:avLst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6"/>
          <p:cNvSpPr txBox="1"/>
          <p:nvPr/>
        </p:nvSpPr>
        <p:spPr>
          <a:xfrm>
            <a:off x="1042920" y="981000"/>
            <a:ext cx="33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Monotype Corsiva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onotype Corsiva"/>
              </a:rPr>
              <a:t>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Monotype Corsiva"/>
              </a:rPr>
              <a:t>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Monotype Corsiva"/>
              <a:ea typeface="Monotype Corsiva"/>
            </a:endParaRPr>
          </a:p>
        </p:txBody>
      </p:sp>
      <p:pic>
        <p:nvPicPr>
          <p:cNvPr id="285" name="j0212430.wav" descr=""/>
          <p:cNvPicPr/>
          <p:nvPr/>
        </p:nvPicPr>
        <p:blipFill>
          <a:blip r:embed="rId8"/>
          <a:stretch/>
        </p:blipFill>
        <p:spPr>
          <a:xfrm>
            <a:off x="81010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4745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280" y="429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2781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родается и покупается на рынке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58920" y="522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уги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является ценой услуг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58920" y="450864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вка заработной платы, т.е. заработная плата работников за 1 час отработан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Экономическая природа рынка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2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95280" y="3933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068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акое монопсо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8920" y="4508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нок одного покупателя, когда он влияет на формирование цен в большей степени, чем остальные участ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кривая спроса фирмы на услуги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8920" y="501336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количество покупаемых услуг труда в зависимости от изменения ставки заработной 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вучит закон спроса для рынка 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выше плата, которую работники требуют за свой труд, тем меньше их число готовы нанять работод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987640" y="333360"/>
            <a:ext cx="2664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Лот №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4000" y="1125360"/>
            <a:ext cx="831528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Спрос на услуги труд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187280" y="2133720"/>
            <a:ext cx="6842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стартовая цена - 100 мо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24000" y="4365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>
            <a:hlinkClick r:id="" action="ppaction://hlinkshowjump?jump=nextslide"/>
            <a:hlinkClick r:id="rId3"/>
          </p:cNvPr>
          <p:cNvSpPr/>
          <p:nvPr/>
        </p:nvSpPr>
        <p:spPr>
          <a:xfrm>
            <a:off x="7885080" y="5877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3794"/>
                </a:moveTo>
                <a:lnTo>
                  <a:pt x="19979" y="10800"/>
                </a:lnTo>
                <a:lnTo>
                  <a:pt x="5966" y="17806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29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ывает предельный продукт тр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8920" y="501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меняется общий продукт труда при изменении трудозатрат на одну единицу и при прочих рав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4T11:22:59Z</dcterms:modified>
  <cp:revision>49</cp:revision>
  <dc:subject/>
  <dc:title>Основы компьютерной графики</dc:title>
</cp:coreProperties>
</file>