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DF9-2B2D-43C4-A784-2F392FCC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BE1-3C0A-43ED-9A8A-0ADEFE5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72D-78A4-4E78-B10B-9F3A3B85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24-AFE1-460B-8D96-DFC6D10D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948-FDDF-465F-B3FA-540A2FFE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2165-6584-41D6-BDAC-014E12C7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C8F-964F-4FA0-8951-40440626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3C09-2B95-412B-9E88-5349E1A9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6E0-C8D7-4D4A-9544-4851605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67E-85FB-4B89-814E-D0F61CB6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6A67-DBCB-46F4-B5BC-0980911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985-BFE6-4E36-9487-84C23478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C5D3-8D7F-4F4E-B1AE-A0EBE62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8E7A-9B35-42C1-A575-4C8CDEF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3119-05D7-45DE-B3D9-495B479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4C53-CB6E-4790-9FA1-E84DBA4E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DEE9-6A8D-4E80-B0D8-D5A73291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8AA-159A-46F1-8B33-35D0702A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165-556F-4E60-A0FD-62AFA754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A60-401B-4EED-AE6B-326CDEC8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98C-986F-4ADF-8476-46E7F7B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2C7-59ED-4F60-B4B8-2713B63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B27-5443-4E32-B2DA-CCF6324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42F-70E9-4FF8-9C16-DA415CE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765F-F97F-4A0C-AB1D-8881316E78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B78-38EF-4173-B603-678EAA772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ks.ru/" TargetMode="External"/><Relationship Id="rId2" Type="http://schemas.openxmlformats.org/officeDocument/2006/relationships/hyperlink" Target="http://www.fom.ru/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hyperlink" Target="http://www.zircon.ru/" TargetMode="External"/><Relationship Id="rId5" Type="http://schemas.openxmlformats.org/officeDocument/2006/relationships/hyperlink" Target="http://www.levada.ru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ГБОУ СПО Санкт-Петербургский колледж управления и экономики «Александровский лицей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ка насе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Преподаватель высшей категории Т.А.Герел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152-DA62-44AA-9D5C-B420C78692DD}" type="slidenum">
              <a:t>1</a:t>
            </a:fld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е и сельское населения по результатам переписи 2010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4280" y="1832040"/>
          <a:ext cx="60894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1832040"/>
                    <a:ext cx="6089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9EA-5F9C-4A1B-9E51-C1DA2E53D7F6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276120"/>
            <a:ext cx="77738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Методы обработки информ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28360" y="1793880"/>
            <a:ext cx="4116600" cy="3983040"/>
            <a:chOff x="2628360" y="1793880"/>
            <a:chExt cx="4116600" cy="3983040"/>
          </a:xfrm>
        </p:grpSpPr>
        <p:sp>
          <p:nvSpPr>
            <p:cNvPr id="162" name="_s105533"/>
            <p:cNvSpPr/>
            <p:nvPr/>
          </p:nvSpPr>
          <p:spPr>
            <a:xfrm>
              <a:off x="3877200" y="2360520"/>
              <a:ext cx="162036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489"/>
            <p:cNvSpPr/>
            <p:nvPr/>
          </p:nvSpPr>
          <p:spPr>
            <a:xfrm>
              <a:off x="4452120" y="1793880"/>
              <a:ext cx="47088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534"/>
            <p:cNvSpPr/>
            <p:nvPr/>
          </p:nvSpPr>
          <p:spPr>
            <a:xfrm>
              <a:off x="4312440" y="253980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5490"/>
            <p:cNvSpPr/>
            <p:nvPr/>
          </p:nvSpPr>
          <p:spPr>
            <a:xfrm>
              <a:off x="580860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бор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5535"/>
            <p:cNvSpPr/>
            <p:nvPr/>
          </p:nvSpPr>
          <p:spPr>
            <a:xfrm>
              <a:off x="4493160" y="2975040"/>
              <a:ext cx="162036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492"/>
            <p:cNvSpPr/>
            <p:nvPr/>
          </p:nvSpPr>
          <p:spPr>
            <a:xfrm>
              <a:off x="627372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5536"/>
            <p:cNvSpPr/>
            <p:nvPr/>
          </p:nvSpPr>
          <p:spPr>
            <a:xfrm>
              <a:off x="4313880" y="3409920"/>
              <a:ext cx="1620000" cy="1619280"/>
            </a:xfrm>
            <a:prstGeom prst="ellipse">
              <a:avLst/>
            </a:prstGeom>
            <a:solidFill>
              <a:srgbClr val="330033">
                <a:alpha val="50000"/>
              </a:srgbClr>
            </a:solidFill>
            <a:ln w="46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5494"/>
            <p:cNvSpPr/>
            <p:nvPr/>
          </p:nvSpPr>
          <p:spPr>
            <a:xfrm>
              <a:off x="580860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5537"/>
            <p:cNvSpPr/>
            <p:nvPr/>
          </p:nvSpPr>
          <p:spPr>
            <a:xfrm>
              <a:off x="3879000" y="3591000"/>
              <a:ext cx="1620000" cy="1619280"/>
            </a:xfrm>
            <a:prstGeom prst="ellipse">
              <a:avLst/>
            </a:prstGeom>
            <a:solidFill>
              <a:srgbClr val="cccc99">
                <a:alpha val="50000"/>
              </a:srgbClr>
            </a:solidFill>
            <a:ln w="468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5497"/>
            <p:cNvSpPr/>
            <p:nvPr/>
          </p:nvSpPr>
          <p:spPr>
            <a:xfrm>
              <a:off x="4452120" y="5371920"/>
              <a:ext cx="470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539"/>
            <p:cNvSpPr/>
            <p:nvPr/>
          </p:nvSpPr>
          <p:spPr>
            <a:xfrm>
              <a:off x="3444480" y="3411360"/>
              <a:ext cx="1620000" cy="1619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5501"/>
            <p:cNvSpPr/>
            <p:nvPr/>
          </p:nvSpPr>
          <p:spPr>
            <a:xfrm>
              <a:off x="3093480" y="49068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блиц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раф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5540"/>
            <p:cNvSpPr/>
            <p:nvPr/>
          </p:nvSpPr>
          <p:spPr>
            <a:xfrm>
              <a:off x="3263400" y="2976480"/>
              <a:ext cx="1620000" cy="1619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5503"/>
            <p:cNvSpPr/>
            <p:nvPr/>
          </p:nvSpPr>
          <p:spPr>
            <a:xfrm>
              <a:off x="2628360" y="3583080"/>
              <a:ext cx="4712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541"/>
            <p:cNvSpPr/>
            <p:nvPr/>
          </p:nvSpPr>
          <p:spPr>
            <a:xfrm>
              <a:off x="3442680" y="2541600"/>
              <a:ext cx="1620000" cy="1619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5505"/>
            <p:cNvSpPr/>
            <p:nvPr/>
          </p:nvSpPr>
          <p:spPr>
            <a:xfrm>
              <a:off x="3093480" y="2257200"/>
              <a:ext cx="4712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блюд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31520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710-04A2-4A9D-84C8-F649ADF69698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Для изучения состава населения применяются группировк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14400" y="1600200"/>
            <a:ext cx="7771320" cy="4530240"/>
            <a:chOff x="914400" y="1600200"/>
            <a:chExt cx="7771320" cy="4530240"/>
          </a:xfrm>
        </p:grpSpPr>
        <p:cxnSp>
          <p:nvCxnSpPr>
            <p:cNvPr id="181" name="_s92179"/>
            <p:cNvCxnSpPr>
              <a:stCxn id="182" idx="0"/>
              <a:endCxn id="183" idx="3"/>
            </p:cNvCxnSpPr>
            <p:nvPr/>
          </p:nvCxnSpPr>
          <p:spPr>
            <a:xfrm flipV="1" rot="16200000">
              <a:off x="6215040" y="5551200"/>
              <a:ext cx="252360" cy="43560"/>
            </a:xfrm>
            <a:prstGeom prst="bentConnector3">
              <a:avLst>
                <a:gd name="adj1" fmla="val 4542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4" name="_s92177"/>
            <p:cNvCxnSpPr>
              <a:stCxn id="185" idx="0"/>
              <a:endCxn id="186" idx="3"/>
            </p:cNvCxnSpPr>
            <p:nvPr/>
          </p:nvCxnSpPr>
          <p:spPr>
            <a:xfrm flipV="1" rot="16200000">
              <a:off x="6215400" y="4185000"/>
              <a:ext cx="252000" cy="43560"/>
            </a:xfrm>
            <a:prstGeom prst="bentConnector3">
              <a:avLst>
                <a:gd name="adj1" fmla="val 45493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87" name="_s92175"/>
            <p:cNvCxnSpPr>
              <a:stCxn id="188" idx="0"/>
              <a:endCxn id="189" idx="3"/>
            </p:cNvCxnSpPr>
            <p:nvPr/>
          </p:nvCxnSpPr>
          <p:spPr>
            <a:xfrm flipV="1" rot="16200000">
              <a:off x="6215040" y="2818440"/>
              <a:ext cx="252360" cy="43560"/>
            </a:xfrm>
            <a:prstGeom prst="bentConnector3">
              <a:avLst>
                <a:gd name="adj1" fmla="val 45142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0" name="_s92172"/>
            <p:cNvCxnSpPr>
              <a:stCxn id="183" idx="2"/>
              <a:endCxn id="191" idx="3"/>
            </p:cNvCxnSpPr>
            <p:nvPr/>
          </p:nvCxnSpPr>
          <p:spPr>
            <a:xfrm rot="10800000">
              <a:off x="3236040" y="2030760"/>
              <a:ext cx="759960" cy="32248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2" name="_s92171"/>
            <p:cNvCxnSpPr>
              <a:stCxn id="186" idx="2"/>
              <a:endCxn id="191" idx="3"/>
            </p:cNvCxnSpPr>
            <p:nvPr/>
          </p:nvCxnSpPr>
          <p:spPr>
            <a:xfrm rot="10800000">
              <a:off x="3236040" y="2030760"/>
              <a:ext cx="759960" cy="185832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93" name="_s92170"/>
            <p:cNvCxnSpPr>
              <a:stCxn id="189" idx="2"/>
              <a:endCxn id="191" idx="3"/>
            </p:cNvCxnSpPr>
            <p:nvPr/>
          </p:nvCxnSpPr>
          <p:spPr>
            <a:xfrm rot="10800000">
              <a:off x="3236040" y="2030760"/>
              <a:ext cx="759960" cy="4917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91" name="_s92166"/>
            <p:cNvSpPr/>
            <p:nvPr/>
          </p:nvSpPr>
          <p:spPr>
            <a:xfrm>
              <a:off x="914400" y="16002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руппиров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167"/>
            <p:cNvSpPr/>
            <p:nvPr/>
          </p:nvSpPr>
          <p:spPr>
            <a:xfrm>
              <a:off x="3996360" y="228312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пол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168"/>
            <p:cNvSpPr/>
            <p:nvPr/>
          </p:nvSpPr>
          <p:spPr>
            <a:xfrm>
              <a:off x="3996360" y="36496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семейному положени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169"/>
            <p:cNvSpPr/>
            <p:nvPr/>
          </p:nvSpPr>
          <p:spPr>
            <a:xfrm>
              <a:off x="3996360" y="501588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занят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174"/>
            <p:cNvSpPr/>
            <p:nvPr/>
          </p:nvSpPr>
          <p:spPr>
            <a:xfrm>
              <a:off x="3996360" y="29664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176"/>
            <p:cNvSpPr/>
            <p:nvPr/>
          </p:nvSpPr>
          <p:spPr>
            <a:xfrm>
              <a:off x="3996360" y="433260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месту житель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178"/>
            <p:cNvSpPr/>
            <p:nvPr/>
          </p:nvSpPr>
          <p:spPr>
            <a:xfrm>
              <a:off x="3996360" y="5699160"/>
              <a:ext cx="4689360" cy="431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ровню образо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265-A525-4A8F-86BF-87A8DF6D7E5B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ализация концепции демографической политики РФ на период до 2025 г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 итогам реализации концепции предполагается к 2016 год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билизировать численность населе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вне 42-143 млн. чел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продолжительность жизни до 7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еличить в 1,3 раза по сравнению с 2006 годом коэффициент рождаемости, на треть снизить 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21F-02A9-4C12-AFFE-1D84BD0AAF8C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и их характеристика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700280"/>
            <a:ext cx="4753080" cy="934920"/>
          </a:xfrm>
          <a:prstGeom prst="flowChartTerminator">
            <a:avLst/>
          </a:prstGeom>
          <a:solidFill>
            <a:srgbClr val="ffff99">
              <a:alpha val="99000"/>
            </a:srgbClr>
          </a:solidFill>
          <a:ln w="9360">
            <a:solidFill>
              <a:srgbClr val="ffff99">
                <a:alpha val="98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остоя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87280" y="285264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ли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084640"/>
            <a:ext cx="4753080" cy="935280"/>
          </a:xfrm>
          <a:prstGeom prst="flowChartTerminator">
            <a:avLst/>
          </a:prstGeom>
          <a:solidFill>
            <a:srgbClr val="ffff99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при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87280" y="3933720"/>
            <a:ext cx="4753080" cy="93528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но- отсут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асе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CA0-1A6D-458A-9DDF-5188A47AD8E0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тегории населения при проведении переписи 2010года (тыс.чел.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71640" y="1413000"/>
            <a:ext cx="7772040" cy="4823280"/>
            <a:chOff x="971640" y="1413000"/>
            <a:chExt cx="7772040" cy="4823280"/>
          </a:xfrm>
        </p:grpSpPr>
        <p:cxnSp>
          <p:nvCxnSpPr>
            <p:cNvPr id="204" name="_s111637"/>
            <p:cNvCxnSpPr>
              <a:stCxn id="205" idx="1"/>
              <a:endCxn id="206" idx="2"/>
            </p:cNvCxnSpPr>
            <p:nvPr/>
          </p:nvCxnSpPr>
          <p:spPr>
            <a:xfrm rot="10800000">
              <a:off x="2143080" y="4402800"/>
              <a:ext cx="369000" cy="125496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07" name="_s111628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875920" y="1550520"/>
              <a:ext cx="676080" cy="271440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0" name="_s111627"/>
            <p:cNvCxnSpPr>
              <a:stCxn id="211" idx="0"/>
              <a:endCxn id="209" idx="2"/>
            </p:cNvCxnSpPr>
            <p:nvPr/>
          </p:nvCxnSpPr>
          <p:spPr>
            <a:xfrm flipV="1">
              <a:off x="4857120" y="2570040"/>
              <a:ext cx="3600" cy="676080"/>
            </a:xfrm>
            <a:prstGeom prst="bentConnector2">
              <a:avLst/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212" name="_s111626"/>
            <p:cNvCxnSpPr>
              <a:stCxn id="206" idx="0"/>
              <a:endCxn id="209" idx="2"/>
            </p:cNvCxnSpPr>
            <p:nvPr/>
          </p:nvCxnSpPr>
          <p:spPr>
            <a:xfrm flipH="1" flipV="1" rot="5400000">
              <a:off x="3162240" y="1550880"/>
              <a:ext cx="676080" cy="2714040"/>
            </a:xfrm>
            <a:prstGeom prst="bentConnector3">
              <a:avLst>
                <a:gd name="adj1" fmla="val 16888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209" name="_s111622"/>
            <p:cNvSpPr/>
            <p:nvPr/>
          </p:nvSpPr>
          <p:spPr>
            <a:xfrm>
              <a:off x="3684960" y="1413000"/>
              <a:ext cx="2344680" cy="1157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63504" dir="19383909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сего учте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3436,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1623"/>
            <p:cNvSpPr/>
            <p:nvPr/>
          </p:nvSpPr>
          <p:spPr>
            <a:xfrm>
              <a:off x="971640" y="3245760"/>
              <a:ext cx="2344680" cy="1157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 Р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946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1624"/>
            <p:cNvSpPr/>
            <p:nvPr/>
          </p:nvSpPr>
          <p:spPr>
            <a:xfrm>
              <a:off x="3684960" y="3245760"/>
              <a:ext cx="2344680" cy="1157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Времен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рож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489,4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1625"/>
            <p:cNvSpPr/>
            <p:nvPr/>
          </p:nvSpPr>
          <p:spPr>
            <a:xfrm>
              <a:off x="6399000" y="3245760"/>
              <a:ext cx="2344680" cy="1157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Граждане РФ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ходящие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за рубежом 90,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1636"/>
            <p:cNvSpPr/>
            <p:nvPr/>
          </p:nvSpPr>
          <p:spPr>
            <a:xfrm>
              <a:off x="2512440" y="5078880"/>
              <a:ext cx="2342160" cy="1157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63504" dir="19383909" blurRad="0" rotWithShape="0">
                <a:srgbClr val="cc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Постоян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насе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142856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6CD-6A5C-45B5-917D-E7C1BA5DE606}" type="slidenum">
              <a:t>15</a:t>
            </a:fld>
          </a:p>
        </p:txBody>
      </p:sp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оссия занимает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девятое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место в мире по численности насел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итай-13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Индия-1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США-3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Индонезия-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Бразилия-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акистан-1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Нигерия-1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Бангладеш-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Россия-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Япония-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7996" t="2225" r="21303" b="3327"/>
          <a:stretch/>
        </p:blipFill>
        <p:spPr>
          <a:xfrm>
            <a:off x="6012000" y="2924280"/>
            <a:ext cx="1944720" cy="30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219-DF81-466A-A6BC-DEA6A3145B8F}" type="slidenum">
              <a:t>16</a:t>
            </a:fld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ейтинговая оценка ведущих стран мира по численности населения в 2011 год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76360" y="134136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1680" y="1371600"/>
          <a:ext cx="9132840" cy="545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80" y="1371600"/>
                    <a:ext cx="91328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436-2275-49D8-A38D-89617B9D39A3}" type="slidenum">
              <a:t>17</a:t>
            </a:fld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фимова М.Р., Бычкова С.Г. Социальная статистика: Учеб. пособие / Под ред. М.Р. Ефимовой. – М.: Финансы и статистика, 2011. – 56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урнал «Вопросы статистики»: 4 / 2010с. 10-11, 29-3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циальное положение и уровень жизни населения России. Статистический сборник. Официальное издание Рос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нет-сай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0BD-A531-468C-8DE5-9623035304EA}" type="slidenum">
              <a:t>18</a:t>
            </a:fld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ый сайт Госкомстата РФ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gk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нд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ероссийский центр изучения общественного мнения (сайт исследовательской организации с архивами данных) / адрес доступа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wcio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Исследовательская группа «Циркон» (сайт исследовательской организации с архивами данных) :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zircon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вада-центр (сайт исследовательской организации с архивами данных)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leva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AB5-6566-486C-A693-5EC002C4676B}" type="slidenum">
              <a:t>19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«Населить мир людьми легко. Избавить мир от людей легко. В чем же трудность?»(Станислав Ежи Лец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Население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– это совокупность лиц, проживающих на определенной территории (мира, континента, страны или ее части) в данное врем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9" idx="3"/>
            <a:endCxn id="99" idx="3"/>
          </p:cNvCxnSpPr>
          <p:nvPr/>
        </p:nvCxnSpPr>
        <p:spPr>
          <a:xfrm>
            <a:off x="8686440" y="386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1" name="" descr=""/>
          <p:cNvPicPr/>
          <p:nvPr/>
        </p:nvPicPr>
        <p:blipFill>
          <a:blip r:embed="rId1"/>
          <a:srcRect l="0" t="20972" r="2303" b="20868"/>
          <a:stretch/>
        </p:blipFill>
        <p:spPr>
          <a:xfrm>
            <a:off x="3419640" y="414972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DA3-CEA5-4754-823C-0B5522CCDC04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еобходимость изучения 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формация нужна для государственного регулирования,  управления и производства (для определения размеров производства различных видов продукции, развития здравоохранени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555" b="0"/>
          <a:stretch/>
        </p:blipFill>
        <p:spPr>
          <a:xfrm>
            <a:off x="6948360" y="422100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0" t="18623" r="2303" b="18623"/>
          <a:stretch/>
        </p:blipFill>
        <p:spPr>
          <a:xfrm>
            <a:off x="900000" y="414972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0" t="3898" r="1555" b="1555"/>
          <a:stretch/>
        </p:blipFill>
        <p:spPr>
          <a:xfrm>
            <a:off x="4572000" y="371628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FB4-8974-4C3A-93BD-CF28438A56FE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1560" y="287280"/>
            <a:ext cx="73436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 и предмет изучения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я населения – совокупность людей, проживающих на определенной терри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количественная сторона и закономерности протекания массовых явлений и процессов  воспроизводства, естественного и механического движения насел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DB6-B387-46C4-8727-F54CA52AD236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кты наблюдения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54160" y="1709640"/>
            <a:ext cx="6837120" cy="3437280"/>
            <a:chOff x="1154160" y="1709640"/>
            <a:chExt cx="6837120" cy="3437280"/>
          </a:xfrm>
        </p:grpSpPr>
        <p:cxnSp>
          <p:nvCxnSpPr>
            <p:cNvPr id="112" name="_s103429"/>
            <p:cNvCxnSpPr>
              <a:stCxn id="113" idx="0"/>
              <a:endCxn id="114" idx="3"/>
            </p:cNvCxnSpPr>
            <p:nvPr/>
          </p:nvCxnSpPr>
          <p:spPr>
            <a:xfrm flipH="1" flipV="1" rot="5400000">
              <a:off x="3787920" y="3061800"/>
              <a:ext cx="687960" cy="73188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5" name="_s103430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5560200" y="2020680"/>
              <a:ext cx="687960" cy="281376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7" name="_s103431"/>
            <p:cNvCxnSpPr>
              <a:stCxn id="118" idx="0"/>
              <a:endCxn id="114" idx="3"/>
            </p:cNvCxnSpPr>
            <p:nvPr/>
          </p:nvCxnSpPr>
          <p:spPr>
            <a:xfrm flipV="1" rot="16200000">
              <a:off x="4675680" y="2905920"/>
              <a:ext cx="687960" cy="10436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19" name="_s103432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899440" y="2173320"/>
              <a:ext cx="687960" cy="2508840"/>
            </a:xfrm>
            <a:prstGeom prst="bentConnector3">
              <a:avLst>
                <a:gd name="adj1" fmla="val 16544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14" name="_s103433"/>
            <p:cNvSpPr/>
            <p:nvPr/>
          </p:nvSpPr>
          <p:spPr>
            <a:xfrm>
              <a:off x="3810240" y="170964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Единиц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блю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4"/>
            <p:cNvSpPr/>
            <p:nvPr/>
          </p:nvSpPr>
          <p:spPr>
            <a:xfrm>
              <a:off x="11541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35"/>
            <p:cNvSpPr/>
            <p:nvPr/>
          </p:nvSpPr>
          <p:spPr>
            <a:xfrm>
              <a:off x="4705560" y="3772080"/>
              <a:ext cx="152280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До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436"/>
            <p:cNvSpPr/>
            <p:nvPr/>
          </p:nvSpPr>
          <p:spPr>
            <a:xfrm>
              <a:off x="6482520" y="3772080"/>
              <a:ext cx="1508760" cy="1360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Насел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пун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437"/>
            <p:cNvSpPr/>
            <p:nvPr/>
          </p:nvSpPr>
          <p:spPr>
            <a:xfrm>
              <a:off x="2930760" y="3772080"/>
              <a:ext cx="1520640" cy="13748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FA5-C443-477B-A7CD-E309E5C896B5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сточники данных о населен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4360" y="162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1575" b="0"/>
          <a:stretch/>
        </p:blipFill>
        <p:spPr>
          <a:xfrm>
            <a:off x="2843280" y="429264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0" t="0" r="1575" b="1575"/>
          <a:stretch/>
        </p:blipFill>
        <p:spPr>
          <a:xfrm>
            <a:off x="5148360" y="4292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4360" y="1557360"/>
            <a:ext cx="197136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3500280"/>
            <a:ext cx="194472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6021360"/>
            <a:ext cx="1944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59500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3080" y="342900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ч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4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0836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63640" y="2997000"/>
            <a:ext cx="79236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C51-6C68-4B56-91A8-A0096651A530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Реализация концепции демографической политики РФ на период до 2025 г.г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600200"/>
          <a:ext cx="7772400" cy="4927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че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 на 01.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одивш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. рожд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умерш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ительность жизни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851-B080-459C-BCBD-0AD59D55DF0C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исленность населения России, прогноз до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2100 года (экстраполяционный вариант)</a:t>
            </a:r>
            <a:br>
              <a:rPr sz="3200"/>
            </a:b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млн. человек (Источник: ЦДЭЧ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700280"/>
          <a:ext cx="7416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00280"/>
                    <a:ext cx="74167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298-D17E-42C5-895E-7920280C72C3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селени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00000" y="1628640"/>
            <a:ext cx="7771680" cy="4530240"/>
            <a:chOff x="900000" y="1628640"/>
            <a:chExt cx="7771680" cy="4530240"/>
          </a:xfrm>
        </p:grpSpPr>
        <p:cxnSp>
          <p:nvCxnSpPr>
            <p:cNvPr id="142" name="_s98309"/>
            <p:cNvCxnSpPr>
              <a:stCxn id="143" idx="0"/>
              <a:endCxn id="144" idx="3"/>
            </p:cNvCxnSpPr>
            <p:nvPr/>
          </p:nvCxnSpPr>
          <p:spPr>
            <a:xfrm flipV="1" rot="16200000">
              <a:off x="693684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5" name="_s98310"/>
            <p:cNvCxnSpPr>
              <a:stCxn id="146" idx="0"/>
              <a:endCxn id="147" idx="3"/>
            </p:cNvCxnSpPr>
            <p:nvPr/>
          </p:nvCxnSpPr>
          <p:spPr>
            <a:xfrm flipV="1" rot="16200000">
              <a:off x="431280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48" name="_s98311"/>
            <p:cNvCxnSpPr>
              <a:stCxn id="149" idx="0"/>
              <a:endCxn id="150" idx="3"/>
            </p:cNvCxnSpPr>
            <p:nvPr/>
          </p:nvCxnSpPr>
          <p:spPr>
            <a:xfrm flipV="1" rot="16200000">
              <a:off x="1688760" y="4448880"/>
              <a:ext cx="971640" cy="1033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1" name="_s98312"/>
            <p:cNvCxnSpPr>
              <a:stCxn id="144" idx="0"/>
              <a:endCxn id="152" idx="3"/>
            </p:cNvCxnSpPr>
            <p:nvPr/>
          </p:nvCxnSpPr>
          <p:spPr>
            <a:xfrm flipV="1" rot="16200000">
              <a:off x="5611680" y="1470960"/>
              <a:ext cx="971640" cy="270072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3" name="_s98313"/>
            <p:cNvCxnSpPr>
              <a:stCxn id="147" idx="0"/>
              <a:endCxn id="152" idx="3"/>
            </p:cNvCxnSpPr>
            <p:nvPr/>
          </p:nvCxnSpPr>
          <p:spPr>
            <a:xfrm flipV="1" rot="16200000">
              <a:off x="4299480" y="2783160"/>
              <a:ext cx="971640" cy="7668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cxnSp>
          <p:nvCxnSpPr>
            <p:cNvPr id="154" name="_s98314"/>
            <p:cNvCxnSpPr>
              <a:stCxn id="150" idx="0"/>
              <a:endCxn id="152" idx="3"/>
            </p:cNvCxnSpPr>
            <p:nvPr/>
          </p:nvCxnSpPr>
          <p:spPr>
            <a:xfrm flipH="1" flipV="1" rot="5400000">
              <a:off x="2988000" y="1547280"/>
              <a:ext cx="971640" cy="2548440"/>
            </a:xfrm>
            <a:prstGeom prst="bentConnector3">
              <a:avLst>
                <a:gd name="adj1" fmla="val 11749"/>
              </a:avLst>
            </a:prstGeom>
            <a:ln w="28440">
              <a:solidFill>
                <a:srgbClr val="330033"/>
              </a:solidFill>
              <a:miter/>
            </a:ln>
          </p:spPr>
        </p:cxnSp>
        <p:sp>
          <p:nvSpPr>
            <p:cNvPr id="152" name="_s98315"/>
            <p:cNvSpPr/>
            <p:nvPr/>
          </p:nvSpPr>
          <p:spPr>
            <a:xfrm>
              <a:off x="3524040" y="162864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99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дачи из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98316"/>
            <p:cNvSpPr/>
            <p:nvPr/>
          </p:nvSpPr>
          <p:spPr>
            <a:xfrm>
              <a:off x="90000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кор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менения Ч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98317"/>
            <p:cNvSpPr/>
            <p:nvPr/>
          </p:nvSpPr>
          <p:spPr>
            <a:xfrm>
              <a:off x="352404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соста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8318"/>
            <p:cNvSpPr/>
            <p:nvPr/>
          </p:nvSpPr>
          <p:spPr>
            <a:xfrm>
              <a:off x="6147360" y="3307320"/>
              <a:ext cx="2524320" cy="70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00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размещения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иг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98319"/>
            <p:cNvSpPr/>
            <p:nvPr/>
          </p:nvSpPr>
          <p:spPr>
            <a:xfrm>
              <a:off x="1285560" y="4986360"/>
              <a:ext cx="1755720" cy="1172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стестве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98320"/>
            <p:cNvSpPr/>
            <p:nvPr/>
          </p:nvSpPr>
          <p:spPr>
            <a:xfrm>
              <a:off x="390960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еханиче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виж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се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8321"/>
            <p:cNvSpPr/>
            <p:nvPr/>
          </p:nvSpPr>
          <p:spPr>
            <a:xfrm>
              <a:off x="6533640" y="4986360"/>
              <a:ext cx="1755720" cy="1170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0033">
                    <a:alpha val="40000"/>
                  </a:srgbClr>
                </a:gs>
                <a:gs pos="100000">
                  <a:srgbClr val="ffffe1"/>
                </a:gs>
              </a:gsLst>
              <a:lin ang="5400000"/>
            </a:gra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тенден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акономерност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61120" y="32781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CF1-BDF3-4269-9AC0-E151BCAFB13B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23:21Z</dcterms:created>
  <dc:creator>Татьяна Андреевна</dc:creator>
  <dc:description/>
  <dc:language>en-US</dc:language>
  <cp:lastModifiedBy>NicoTin™</cp:lastModifiedBy>
  <dcterms:modified xsi:type="dcterms:W3CDTF">2012-09-22T10:38:57Z</dcterms:modified>
  <cp:revision>198</cp:revision>
  <dc:subject/>
  <dc:title>Статистика населения</dc:title>
</cp:coreProperties>
</file>