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17.wmf" ContentType="image/x-wmf"/>
  <Override PartName="/ppt/media/image15.png" ContentType="image/png"/>
  <Override PartName="/ppt/media/image14.png" ContentType="image/png"/>
  <Override PartName="/ppt/media/image1.png" ContentType="image/png"/>
  <Override PartName="/ppt/media/image9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2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9127-843D-4A49-AB9D-0C7BF71FB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63B6-3888-4A9C-86DB-A3054B483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B384-1E4A-461C-812B-87004133B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0B59-F5C2-4A17-9DDB-B39420C96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13A24-97FA-467E-8DD5-D4E684658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69E25-E3E1-46DB-AF40-6FFBB1B0E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3D439-51EF-451E-93C4-A3FFFBDEE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E1A15-9E67-4441-A1D2-6181541C4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D7783-4FCC-4441-9BFC-218190455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A9371-9AAD-45B7-B0F1-B96786944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9A44A-DA2D-42A8-8A99-A32798018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3164-5BC5-4ACA-8CF5-8571901A0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E7C3F-98E1-409C-BEB3-800605D39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E7FDB-1E19-4C0A-880C-94BCEC1F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4D913-65F8-4F25-9B69-DAFBDF2E1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9B1BB-0A57-4F2B-AF34-00C1AE40E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102F1-DF9E-4C95-AAF0-683134EB5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5FF7-902B-4751-B689-9E7A7F227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3D61-CB14-40F1-A352-B418C0515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E868-634C-4A23-AE0A-2E9CE5FE5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AB6D-28BE-40D9-9CAF-D88B241ED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ED18-F447-48D0-8DE2-6A1A1A95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8BFE-D68B-473B-9F8B-7EC372050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B544-C9F2-4A03-8BD6-41FAA276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BD2F0-1C85-4D71-A187-2094B0C3DFE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AF436-E9A2-4B51-AFBE-D625F0B6916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gks.ru/" TargetMode="External"/><Relationship Id="rId2" Type="http://schemas.openxmlformats.org/officeDocument/2006/relationships/hyperlink" Target="http://www.fom.ru/" TargetMode="External"/><Relationship Id="rId3" Type="http://schemas.openxmlformats.org/officeDocument/2006/relationships/hyperlink" Target="http://www.wciom.ru/" TargetMode="External"/><Relationship Id="rId4" Type="http://schemas.openxmlformats.org/officeDocument/2006/relationships/hyperlink" Target="http://www.zircon.ru/" TargetMode="External"/><Relationship Id="rId5" Type="http://schemas.openxmlformats.org/officeDocument/2006/relationships/hyperlink" Target="http://www.levada.ru/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ГБОУ СПО Санкт-Петербургский колледж управления и экономики «Александровский лицей»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татистика населен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реподаватель высшей категории Т.А.Герел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B985-7D5B-4F73-BE45-7673759B6230}" type="slidenum">
              <a:t>1</a:t>
            </a:fld>
          </a:p>
        </p:txBody>
      </p:sp>
    </p:spTree>
  </p:cSld>
  <p:transition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Городское и сельское населения по результатам переписи 2010 год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754280" y="1832040"/>
          <a:ext cx="608940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4280" y="1832040"/>
                    <a:ext cx="608940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2FC0-5048-4AA6-ACE0-5931DB9463AC}" type="slidenum">
              <a:t>10</a:t>
            </a:fld>
          </a:p>
        </p:txBody>
      </p:sp>
    </p:spTree>
  </p:cSld>
  <p:transition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2960" y="276120"/>
            <a:ext cx="777384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Методы обработки информаци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628360" y="1793880"/>
            <a:ext cx="4116600" cy="3983040"/>
            <a:chOff x="2628360" y="1793880"/>
            <a:chExt cx="4116600" cy="3983040"/>
          </a:xfrm>
        </p:grpSpPr>
        <p:sp>
          <p:nvSpPr>
            <p:cNvPr id="162" name="_s105533"/>
            <p:cNvSpPr/>
            <p:nvPr/>
          </p:nvSpPr>
          <p:spPr>
            <a:xfrm>
              <a:off x="3877200" y="2360520"/>
              <a:ext cx="1620360" cy="161928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105489"/>
            <p:cNvSpPr/>
            <p:nvPr/>
          </p:nvSpPr>
          <p:spPr>
            <a:xfrm>
              <a:off x="4452120" y="1793880"/>
              <a:ext cx="47088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_s105534"/>
            <p:cNvSpPr/>
            <p:nvPr/>
          </p:nvSpPr>
          <p:spPr>
            <a:xfrm>
              <a:off x="4312440" y="2539800"/>
              <a:ext cx="1620000" cy="1619280"/>
            </a:xfrm>
            <a:prstGeom prst="ellipse">
              <a:avLst/>
            </a:prstGeom>
            <a:solidFill>
              <a:srgbClr val="990033">
                <a:alpha val="50000"/>
              </a:srgbClr>
            </a:solidFill>
            <a:ln w="46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105490"/>
            <p:cNvSpPr/>
            <p:nvPr/>
          </p:nvSpPr>
          <p:spPr>
            <a:xfrm>
              <a:off x="5808600" y="2257200"/>
              <a:ext cx="47124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Выборк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105535"/>
            <p:cNvSpPr/>
            <p:nvPr/>
          </p:nvSpPr>
          <p:spPr>
            <a:xfrm>
              <a:off x="4493160" y="2975040"/>
              <a:ext cx="1620360" cy="161928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46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_s105492"/>
            <p:cNvSpPr/>
            <p:nvPr/>
          </p:nvSpPr>
          <p:spPr>
            <a:xfrm>
              <a:off x="6273720" y="3583080"/>
              <a:ext cx="47124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Группировк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105536"/>
            <p:cNvSpPr/>
            <p:nvPr/>
          </p:nvSpPr>
          <p:spPr>
            <a:xfrm>
              <a:off x="4313880" y="3409920"/>
              <a:ext cx="1620000" cy="1619280"/>
            </a:xfrm>
            <a:prstGeom prst="ellipse">
              <a:avLst/>
            </a:prstGeom>
            <a:solidFill>
              <a:srgbClr val="330033">
                <a:alpha val="50000"/>
              </a:srgbClr>
            </a:solidFill>
            <a:ln w="468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105494"/>
            <p:cNvSpPr/>
            <p:nvPr/>
          </p:nvSpPr>
          <p:spPr>
            <a:xfrm>
              <a:off x="5808600" y="4906800"/>
              <a:ext cx="47124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105537"/>
            <p:cNvSpPr/>
            <p:nvPr/>
          </p:nvSpPr>
          <p:spPr>
            <a:xfrm>
              <a:off x="3879000" y="3591000"/>
              <a:ext cx="1620000" cy="1619280"/>
            </a:xfrm>
            <a:prstGeom prst="ellipse">
              <a:avLst/>
            </a:prstGeom>
            <a:solidFill>
              <a:srgbClr val="cccc99">
                <a:alpha val="50000"/>
              </a:srgbClr>
            </a:solidFill>
            <a:ln w="468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105497"/>
            <p:cNvSpPr/>
            <p:nvPr/>
          </p:nvSpPr>
          <p:spPr>
            <a:xfrm>
              <a:off x="4452120" y="5371920"/>
              <a:ext cx="4708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105539"/>
            <p:cNvSpPr/>
            <p:nvPr/>
          </p:nvSpPr>
          <p:spPr>
            <a:xfrm>
              <a:off x="3444480" y="3411360"/>
              <a:ext cx="1620000" cy="161928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105501"/>
            <p:cNvSpPr/>
            <p:nvPr/>
          </p:nvSpPr>
          <p:spPr>
            <a:xfrm>
              <a:off x="3093480" y="4906800"/>
              <a:ext cx="47124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Таблицы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график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105540"/>
            <p:cNvSpPr/>
            <p:nvPr/>
          </p:nvSpPr>
          <p:spPr>
            <a:xfrm>
              <a:off x="3263400" y="2976480"/>
              <a:ext cx="1620000" cy="1619280"/>
            </a:xfrm>
            <a:prstGeom prst="ellipse">
              <a:avLst/>
            </a:prstGeom>
            <a:solidFill>
              <a:srgbClr val="990033">
                <a:alpha val="50000"/>
              </a:srgbClr>
            </a:solidFill>
            <a:ln w="46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105503"/>
            <p:cNvSpPr/>
            <p:nvPr/>
          </p:nvSpPr>
          <p:spPr>
            <a:xfrm>
              <a:off x="2628360" y="3583080"/>
              <a:ext cx="47124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Прогно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_s105541"/>
            <p:cNvSpPr/>
            <p:nvPr/>
          </p:nvSpPr>
          <p:spPr>
            <a:xfrm>
              <a:off x="3442680" y="2541600"/>
              <a:ext cx="1620000" cy="161928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46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105505"/>
            <p:cNvSpPr/>
            <p:nvPr/>
          </p:nvSpPr>
          <p:spPr>
            <a:xfrm>
              <a:off x="3093480" y="2257200"/>
              <a:ext cx="47124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Наблюд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315200" y="436572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CAE4-8E7F-4F0C-A05B-E3B866E2C8A8}" type="slidenum">
              <a:t>11</a:t>
            </a:fld>
          </a:p>
        </p:txBody>
      </p:sp>
    </p:spTree>
  </p:cSld>
  <p:transition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Для изучения состава населения применяются группировк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914400" y="1600200"/>
            <a:ext cx="7771320" cy="4530240"/>
            <a:chOff x="914400" y="1600200"/>
            <a:chExt cx="7771320" cy="4530240"/>
          </a:xfrm>
        </p:grpSpPr>
        <p:cxnSp>
          <p:nvCxnSpPr>
            <p:cNvPr id="181" name="_s92179"/>
            <p:cNvCxnSpPr>
              <a:stCxn id="182" idx="0"/>
              <a:endCxn id="183" idx="3"/>
            </p:cNvCxnSpPr>
            <p:nvPr/>
          </p:nvCxnSpPr>
          <p:spPr>
            <a:xfrm flipV="1" rot="16200000">
              <a:off x="6215040" y="5551200"/>
              <a:ext cx="252360" cy="43560"/>
            </a:xfrm>
            <a:prstGeom prst="bentConnector3">
              <a:avLst>
                <a:gd name="adj1" fmla="val 45428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84" name="_s92177"/>
            <p:cNvCxnSpPr>
              <a:stCxn id="185" idx="0"/>
              <a:endCxn id="186" idx="3"/>
            </p:cNvCxnSpPr>
            <p:nvPr/>
          </p:nvCxnSpPr>
          <p:spPr>
            <a:xfrm flipV="1" rot="16200000">
              <a:off x="6215400" y="4185000"/>
              <a:ext cx="252000" cy="43560"/>
            </a:xfrm>
            <a:prstGeom prst="bentConnector3">
              <a:avLst>
                <a:gd name="adj1" fmla="val 45493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87" name="_s92175"/>
            <p:cNvCxnSpPr>
              <a:stCxn id="188" idx="0"/>
              <a:endCxn id="189" idx="3"/>
            </p:cNvCxnSpPr>
            <p:nvPr/>
          </p:nvCxnSpPr>
          <p:spPr>
            <a:xfrm flipV="1" rot="16200000">
              <a:off x="6215040" y="2818440"/>
              <a:ext cx="252360" cy="43560"/>
            </a:xfrm>
            <a:prstGeom prst="bentConnector3">
              <a:avLst>
                <a:gd name="adj1" fmla="val 45142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90" name="_s92172"/>
            <p:cNvCxnSpPr>
              <a:stCxn id="183" idx="2"/>
              <a:endCxn id="191" idx="3"/>
            </p:cNvCxnSpPr>
            <p:nvPr/>
          </p:nvCxnSpPr>
          <p:spPr>
            <a:xfrm rot="10800000">
              <a:off x="3236040" y="2030760"/>
              <a:ext cx="759960" cy="3224880"/>
            </a:xfrm>
            <a:prstGeom prst="bentConnector2">
              <a:avLst/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92" name="_s92171"/>
            <p:cNvCxnSpPr>
              <a:stCxn id="186" idx="2"/>
              <a:endCxn id="191" idx="3"/>
            </p:cNvCxnSpPr>
            <p:nvPr/>
          </p:nvCxnSpPr>
          <p:spPr>
            <a:xfrm rot="10800000">
              <a:off x="3236040" y="2030760"/>
              <a:ext cx="759960" cy="1858320"/>
            </a:xfrm>
            <a:prstGeom prst="bentConnector2">
              <a:avLst/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93" name="_s92170"/>
            <p:cNvCxnSpPr>
              <a:stCxn id="189" idx="2"/>
              <a:endCxn id="191" idx="3"/>
            </p:cNvCxnSpPr>
            <p:nvPr/>
          </p:nvCxnSpPr>
          <p:spPr>
            <a:xfrm rot="10800000">
              <a:off x="3236040" y="2030760"/>
              <a:ext cx="759960" cy="491760"/>
            </a:xfrm>
            <a:prstGeom prst="bentConnector2">
              <a:avLst/>
            </a:prstGeom>
            <a:ln w="28440">
              <a:solidFill>
                <a:srgbClr val="330033"/>
              </a:solidFill>
              <a:miter/>
            </a:ln>
          </p:spPr>
        </p:cxnSp>
        <p:sp>
          <p:nvSpPr>
            <p:cNvPr id="191" name="_s92166"/>
            <p:cNvSpPr/>
            <p:nvPr/>
          </p:nvSpPr>
          <p:spPr>
            <a:xfrm>
              <a:off x="914400" y="1600200"/>
              <a:ext cx="4689360" cy="4312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cc99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Группировк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92167"/>
            <p:cNvSpPr/>
            <p:nvPr/>
          </p:nvSpPr>
          <p:spPr>
            <a:xfrm>
              <a:off x="3996360" y="2283120"/>
              <a:ext cx="4689360" cy="4312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0000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По пол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92168"/>
            <p:cNvSpPr/>
            <p:nvPr/>
          </p:nvSpPr>
          <p:spPr>
            <a:xfrm>
              <a:off x="3996360" y="3649680"/>
              <a:ext cx="4689360" cy="4312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0000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По семейному положени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92169"/>
            <p:cNvSpPr/>
            <p:nvPr/>
          </p:nvSpPr>
          <p:spPr>
            <a:xfrm>
              <a:off x="3996360" y="5015880"/>
              <a:ext cx="4689360" cy="4312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0000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По занятост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_s92174"/>
            <p:cNvSpPr/>
            <p:nvPr/>
          </p:nvSpPr>
          <p:spPr>
            <a:xfrm>
              <a:off x="3996360" y="2966400"/>
              <a:ext cx="4689360" cy="4312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0033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По возраст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92176"/>
            <p:cNvSpPr/>
            <p:nvPr/>
          </p:nvSpPr>
          <p:spPr>
            <a:xfrm>
              <a:off x="3996360" y="4332600"/>
              <a:ext cx="4689360" cy="4312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0033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По месту жительств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92178"/>
            <p:cNvSpPr/>
            <p:nvPr/>
          </p:nvSpPr>
          <p:spPr>
            <a:xfrm>
              <a:off x="3996360" y="5699160"/>
              <a:ext cx="4689360" cy="4312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0033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По уровню образован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258920" y="278136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247E-9778-41B5-B562-82088F13F297}" type="slidenum">
              <a:t>12</a:t>
            </a:fld>
          </a:p>
        </p:txBody>
      </p:sp>
    </p:spTree>
  </p:cSld>
  <p:transition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еализация концепции демографической политики РФ на период до 2025 год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о итогам реализации концепции предполагается к 2016 году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абилизировать численность населения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ровне 42-143 млн. чел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величить продолжительность жизни до 70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величить в 1,3 раза по сравнению с 2006 годом коэффициент рождаемости, на треть снизить смерт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F739-83CC-4078-B133-F9AB33FD7C35}" type="slidenum">
              <a:t>13</a:t>
            </a:fld>
          </a:p>
        </p:txBody>
      </p:sp>
    </p:spTree>
  </p:cSld>
  <p:transition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Категории населения и их характеристика.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116000" y="1700280"/>
            <a:ext cx="4753080" cy="934920"/>
          </a:xfrm>
          <a:prstGeom prst="flowChartTerminator">
            <a:avLst/>
          </a:prstGeom>
          <a:solidFill>
            <a:srgbClr val="ffff99">
              <a:alpha val="99000"/>
            </a:srgbClr>
          </a:solidFill>
          <a:ln w="9360">
            <a:solidFill>
              <a:srgbClr val="ffff99">
                <a:alpha val="98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Постоян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население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187280" y="2852640"/>
            <a:ext cx="4753080" cy="935280"/>
          </a:xfrm>
          <a:prstGeom prst="flowChartTerminator">
            <a:avLst/>
          </a:prstGeom>
          <a:solidFill>
            <a:srgbClr val="ffff99"/>
          </a:solidFill>
          <a:ln w="9360">
            <a:solidFill>
              <a:srgbClr val="ffff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Налич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население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187280" y="5084640"/>
            <a:ext cx="4753080" cy="935280"/>
          </a:xfrm>
          <a:prstGeom prst="flowChartTerminator">
            <a:avLst/>
          </a:prstGeom>
          <a:solidFill>
            <a:srgbClr val="ffff99"/>
          </a:solidFill>
          <a:ln cap="rnd" w="93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Временно-присутствующ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187280" y="3933720"/>
            <a:ext cx="4753080" cy="935280"/>
          </a:xfrm>
          <a:prstGeom prst="flowChartTerminator">
            <a:avLst/>
          </a:prstGeom>
          <a:solidFill>
            <a:srgbClr val="ffff99"/>
          </a:solidFill>
          <a:ln w="9360">
            <a:solidFill>
              <a:srgbClr val="ffff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Временно- отсутствующ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население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42D6-0062-4A26-BA14-24E464A0B8D9}" type="slidenum">
              <a:t>14</a:t>
            </a:fld>
          </a:p>
        </p:txBody>
      </p:sp>
    </p:spTree>
  </p:cSld>
  <p:transition>
    <p:pull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Категории населения при проведении переписи 2010года (тыс.чел.)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971640" y="1413000"/>
            <a:ext cx="7772040" cy="4823280"/>
            <a:chOff x="971640" y="1413000"/>
            <a:chExt cx="7772040" cy="4823280"/>
          </a:xfrm>
        </p:grpSpPr>
        <p:cxnSp>
          <p:nvCxnSpPr>
            <p:cNvPr id="204" name="_s111637"/>
            <p:cNvCxnSpPr>
              <a:stCxn id="205" idx="1"/>
              <a:endCxn id="206" idx="2"/>
            </p:cNvCxnSpPr>
            <p:nvPr/>
          </p:nvCxnSpPr>
          <p:spPr>
            <a:xfrm rot="10800000">
              <a:off x="2143080" y="4402800"/>
              <a:ext cx="369000" cy="1254960"/>
            </a:xfrm>
            <a:prstGeom prst="bentConnector2">
              <a:avLst/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207" name="_s111628"/>
            <p:cNvCxnSpPr>
              <a:stCxn id="208" idx="0"/>
              <a:endCxn id="209" idx="2"/>
            </p:cNvCxnSpPr>
            <p:nvPr/>
          </p:nvCxnSpPr>
          <p:spPr>
            <a:xfrm flipV="1" rot="16200000">
              <a:off x="5875920" y="1550520"/>
              <a:ext cx="676080" cy="2714400"/>
            </a:xfrm>
            <a:prstGeom prst="bentConnector3">
              <a:avLst>
                <a:gd name="adj1" fmla="val 16888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210" name="_s111627"/>
            <p:cNvCxnSpPr>
              <a:stCxn id="211" idx="0"/>
              <a:endCxn id="209" idx="2"/>
            </p:cNvCxnSpPr>
            <p:nvPr/>
          </p:nvCxnSpPr>
          <p:spPr>
            <a:xfrm flipV="1">
              <a:off x="4857120" y="2570040"/>
              <a:ext cx="3600" cy="676080"/>
            </a:xfrm>
            <a:prstGeom prst="bentConnector2">
              <a:avLst/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212" name="_s111626"/>
            <p:cNvCxnSpPr>
              <a:stCxn id="206" idx="0"/>
              <a:endCxn id="209" idx="2"/>
            </p:cNvCxnSpPr>
            <p:nvPr/>
          </p:nvCxnSpPr>
          <p:spPr>
            <a:xfrm flipH="1" flipV="1" rot="5400000">
              <a:off x="3162240" y="1550880"/>
              <a:ext cx="676080" cy="2714040"/>
            </a:xfrm>
            <a:prstGeom prst="bentConnector3">
              <a:avLst>
                <a:gd name="adj1" fmla="val 16888"/>
              </a:avLst>
            </a:prstGeom>
            <a:ln w="28440">
              <a:solidFill>
                <a:srgbClr val="330033"/>
              </a:solidFill>
              <a:miter/>
            </a:ln>
          </p:spPr>
        </p:cxnSp>
        <p:sp>
          <p:nvSpPr>
            <p:cNvPr id="209" name="_s111622"/>
            <p:cNvSpPr/>
            <p:nvPr/>
          </p:nvSpPr>
          <p:spPr>
            <a:xfrm>
              <a:off x="3684960" y="1413000"/>
              <a:ext cx="2344680" cy="11574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990033"/>
              </a:solidFill>
              <a:miter/>
            </a:ln>
            <a:effectLst>
              <a:outerShdw dist="63504" dir="19383909" blurRad="0" rotWithShape="0">
                <a:srgbClr val="9900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Всего учтен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143436,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_s111623"/>
            <p:cNvSpPr/>
            <p:nvPr/>
          </p:nvSpPr>
          <p:spPr>
            <a:xfrm>
              <a:off x="971640" y="3245760"/>
              <a:ext cx="2344680" cy="11574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b2b2b2"/>
              </a:solidFill>
              <a:miter/>
            </a:ln>
            <a:effectLst>
              <a:outerShdw dist="63504" dir="19383909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Население Р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142946,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_s111624"/>
            <p:cNvSpPr/>
            <p:nvPr/>
          </p:nvSpPr>
          <p:spPr>
            <a:xfrm>
              <a:off x="3684960" y="3245760"/>
              <a:ext cx="2344680" cy="11574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b2b2b2"/>
              </a:solidFill>
              <a:miter/>
            </a:ln>
            <a:effectLst>
              <a:outerShdw dist="63504" dir="19383909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Временно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проживающи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489,4</a:t>
              </a:r>
              <a:r>
                <a:rPr b="0" lang="en-US" sz="19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_s111625"/>
            <p:cNvSpPr/>
            <p:nvPr/>
          </p:nvSpPr>
          <p:spPr>
            <a:xfrm>
              <a:off x="6399000" y="3245760"/>
              <a:ext cx="2344680" cy="11574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b2b2b2"/>
              </a:solidFill>
              <a:miter/>
            </a:ln>
            <a:effectLst>
              <a:outerShdw dist="63504" dir="19383909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Граждане РФ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находящиес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за рубежом 90,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_s111636"/>
            <p:cNvSpPr/>
            <p:nvPr/>
          </p:nvSpPr>
          <p:spPr>
            <a:xfrm>
              <a:off x="2512440" y="5078880"/>
              <a:ext cx="2342160" cy="11574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  <a:effectLst>
              <a:outerShdw dist="63504" dir="19383909" blurRad="0" rotWithShape="0">
                <a:srgbClr val="cc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Постоянно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насел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142856,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6738-6BF9-4E8A-BE3E-2A86B0C353FB}" type="slidenum">
              <a:t>15</a:t>
            </a:fld>
          </a:p>
        </p:txBody>
      </p:sp>
    </p:spTree>
  </p:cSld>
  <p:transition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Россия занимает </a:t>
            </a: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девятое</a:t>
            </a: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 место в мире по численности населения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811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Китай-13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Индия-12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США-3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Индонезия-2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Бразилия-1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Пакистан-17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Нигерия-15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Бангладеш-1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Россия-1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Япония-1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rcRect l="17996" t="2225" r="21303" b="3327"/>
          <a:stretch/>
        </p:blipFill>
        <p:spPr>
          <a:xfrm>
            <a:off x="6012000" y="2924280"/>
            <a:ext cx="1944720" cy="302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9D5F-6A8C-403A-B603-9B0F96A9896E}" type="slidenum">
              <a:t>16</a:t>
            </a:fld>
          </a:p>
        </p:txBody>
      </p:sp>
    </p:spTree>
  </p:cSld>
  <p:transition>
    <p:pull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Рейтинговая оценка ведущих стран мира по численности населения в 2011 году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476360" y="1341360"/>
          <a:ext cx="609588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34136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31680" y="1371600"/>
          <a:ext cx="9132840" cy="545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680" y="1371600"/>
                    <a:ext cx="9132840" cy="54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5EB6-82D4-4FCE-BAE1-55F0930DCFEE}" type="slidenum">
              <a:t>17</a:t>
            </a:fld>
          </a:p>
        </p:txBody>
      </p:sp>
    </p:spTree>
  </p:cSld>
  <p:transition>
    <p:pull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Список литературы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фимова М.Р., Бычкова С.Г. Социальная статистика: Учеб. пособие / Под ред. М.Р. Ефимовой. – М.: Финансы и статистика, 2011. – 560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Журнал «Вопросы статистики»: 4 / 2010с. 10-11, 29-3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оссийский статистический ежегодник. Официальное издание Росст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циальное положение и уровень жизни населения России. Статистический сборник. Официальное издание Росст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тернет-сайт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8231-B4F7-49BD-A7B0-95177DAA453F}" type="slidenum">
              <a:t>18</a:t>
            </a:fld>
          </a:p>
        </p:txBody>
      </p:sp>
    </p:spTree>
  </p:cSld>
  <p:transition>
    <p:pull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Список литератур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фициальный сайт Госкомстата РФ / адрес доступа: 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www.gks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Фонд общественного мнения (сайт исследовательской организации с архивами данных) / адрес доступа: 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www.fom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Всероссийский центр изучения общественного мнения (сайт исследовательской организации с архивами данных) / адрес доступа: 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"/>
                <a:hlinkClick r:id="rId3"/>
              </a:rPr>
              <a:t>www.wciom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Исследовательская группа «Циркон» (сайт исследовательской организации с архивами данных) : 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"/>
                <a:hlinkClick r:id="rId4"/>
              </a:rPr>
              <a:t>www.zircon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Левада-центр (сайт исследовательской организации с архивами данных)  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"/>
                <a:hlinkClick r:id="rId5"/>
              </a:rPr>
              <a:t>www.levada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9EC4-D390-4054-9357-34DEC21B10E1}" type="slidenum">
              <a:t>19</a:t>
            </a:fld>
          </a:p>
        </p:txBody>
      </p:sp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«Населить мир людьми легко. Избавить мир от людей легко. В чем же трудность?»(Станислав Ежи Лец</a:t>
            </a: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 Unicode MS"/>
              </a:rPr>
              <a:t>Население 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– это совокупность лиц, проживающих на определенной территории (мира, континента, страны или ее части) в данное время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>
            <a:stCxn id="99" idx="3"/>
            <a:endCxn id="99" idx="3"/>
          </p:cNvCxnSpPr>
          <p:nvPr/>
        </p:nvCxnSpPr>
        <p:spPr>
          <a:xfrm>
            <a:off x="8686440" y="38653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101" name="" descr=""/>
          <p:cNvPicPr/>
          <p:nvPr/>
        </p:nvPicPr>
        <p:blipFill>
          <a:blip r:embed="rId1"/>
          <a:srcRect l="0" t="20972" r="2303" b="20868"/>
          <a:stretch/>
        </p:blipFill>
        <p:spPr>
          <a:xfrm>
            <a:off x="3419640" y="4149720"/>
            <a:ext cx="3024000" cy="18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90D4-3E9D-4DE9-B5B9-5AF5BF9FDFBD}" type="slidenum">
              <a:t>2</a:t>
            </a:fld>
          </a:p>
        </p:txBody>
      </p:sp>
    </p:spTree>
  </p:cSld>
  <p:transition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Необходимость изучения население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Информация нужна для государственного регулирования,  управления и производства (для определения размеров производства различных видов продукции, развития здравоохранения и т.п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0" t="0" r="1555" b="0"/>
          <a:stretch/>
        </p:blipFill>
        <p:spPr>
          <a:xfrm>
            <a:off x="6948360" y="4221000"/>
            <a:ext cx="1800360" cy="18288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rcRect l="0" t="18623" r="2303" b="18623"/>
          <a:stretch/>
        </p:blipFill>
        <p:spPr>
          <a:xfrm>
            <a:off x="900000" y="4149720"/>
            <a:ext cx="3024360" cy="1943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rcRect l="0" t="3898" r="1555" b="1555"/>
          <a:stretch/>
        </p:blipFill>
        <p:spPr>
          <a:xfrm>
            <a:off x="4572000" y="3716280"/>
            <a:ext cx="1800360" cy="172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6C82-5E97-4B67-B68E-64283850C49A}" type="slidenum">
              <a:t>3</a:t>
            </a:fld>
          </a:p>
        </p:txBody>
      </p:sp>
    </p:spTree>
  </p:cSld>
  <p:transition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31560" y="287280"/>
            <a:ext cx="734364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Объект и предмет изучения 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ъект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учения населения – совокупность людей, проживающих на определенной территори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едмет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является количественная сторона и закономерности протекания массовых явлений и процессов  воспроизводства, естественного и механического движения населен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77080" y="458136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1F58-403B-43E9-AD7F-05F216941C8E}" type="slidenum">
              <a:t>4</a:t>
            </a:fld>
          </a:p>
        </p:txBody>
      </p:sp>
    </p:spTree>
  </p:cSld>
  <p:transition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Объекты наблюдения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  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154160" y="1709640"/>
            <a:ext cx="6837120" cy="3437280"/>
            <a:chOff x="1154160" y="1709640"/>
            <a:chExt cx="6837120" cy="3437280"/>
          </a:xfrm>
        </p:grpSpPr>
        <p:cxnSp>
          <p:nvCxnSpPr>
            <p:cNvPr id="112" name="_s103429"/>
            <p:cNvCxnSpPr>
              <a:stCxn id="113" idx="0"/>
              <a:endCxn id="114" idx="3"/>
            </p:cNvCxnSpPr>
            <p:nvPr/>
          </p:nvCxnSpPr>
          <p:spPr>
            <a:xfrm flipH="1" flipV="1" rot="5400000">
              <a:off x="3787920" y="3061800"/>
              <a:ext cx="687960" cy="731880"/>
            </a:xfrm>
            <a:prstGeom prst="bentConnector3">
              <a:avLst>
                <a:gd name="adj1" fmla="val 16544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15" name="_s103430"/>
            <p:cNvCxnSpPr>
              <a:stCxn id="116" idx="0"/>
              <a:endCxn id="114" idx="3"/>
            </p:cNvCxnSpPr>
            <p:nvPr/>
          </p:nvCxnSpPr>
          <p:spPr>
            <a:xfrm flipV="1" rot="16200000">
              <a:off x="5560200" y="2020680"/>
              <a:ext cx="687960" cy="2813760"/>
            </a:xfrm>
            <a:prstGeom prst="bentConnector3">
              <a:avLst>
                <a:gd name="adj1" fmla="val 16544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17" name="_s103431"/>
            <p:cNvCxnSpPr>
              <a:stCxn id="118" idx="0"/>
              <a:endCxn id="114" idx="3"/>
            </p:cNvCxnSpPr>
            <p:nvPr/>
          </p:nvCxnSpPr>
          <p:spPr>
            <a:xfrm flipV="1" rot="16200000">
              <a:off x="4675680" y="2905920"/>
              <a:ext cx="687960" cy="1043640"/>
            </a:xfrm>
            <a:prstGeom prst="bentConnector3">
              <a:avLst>
                <a:gd name="adj1" fmla="val 16544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19" name="_s103432"/>
            <p:cNvCxnSpPr>
              <a:stCxn id="120" idx="0"/>
              <a:endCxn id="114" idx="3"/>
            </p:cNvCxnSpPr>
            <p:nvPr/>
          </p:nvCxnSpPr>
          <p:spPr>
            <a:xfrm flipH="1" flipV="1" rot="5400000">
              <a:off x="2899440" y="2173320"/>
              <a:ext cx="687960" cy="2508840"/>
            </a:xfrm>
            <a:prstGeom prst="bentConnector3">
              <a:avLst>
                <a:gd name="adj1" fmla="val 16544"/>
              </a:avLst>
            </a:prstGeom>
            <a:ln w="28440">
              <a:solidFill>
                <a:srgbClr val="330033"/>
              </a:solidFill>
              <a:miter/>
            </a:ln>
          </p:spPr>
        </p:cxnSp>
        <p:sp>
          <p:nvSpPr>
            <p:cNvPr id="114" name="_s103433"/>
            <p:cNvSpPr/>
            <p:nvPr/>
          </p:nvSpPr>
          <p:spPr>
            <a:xfrm>
              <a:off x="3810240" y="1709640"/>
              <a:ext cx="1522800" cy="13748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cc99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33"/>
                  </a:solidFill>
                  <a:latin typeface="Arial"/>
                </a:rPr>
                <a:t>Единиц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33"/>
                  </a:solidFill>
                  <a:latin typeface="Arial"/>
                </a:rPr>
                <a:t>наблюд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103434"/>
            <p:cNvSpPr/>
            <p:nvPr/>
          </p:nvSpPr>
          <p:spPr>
            <a:xfrm>
              <a:off x="1154160" y="3772080"/>
              <a:ext cx="1522800" cy="13748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0000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33"/>
                  </a:solidFill>
                  <a:latin typeface="Arial"/>
                </a:rPr>
                <a:t>Челове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103435"/>
            <p:cNvSpPr/>
            <p:nvPr/>
          </p:nvSpPr>
          <p:spPr>
            <a:xfrm>
              <a:off x="4705560" y="3772080"/>
              <a:ext cx="1522800" cy="13748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0000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33"/>
                  </a:solidFill>
                  <a:latin typeface="Arial"/>
                </a:rPr>
                <a:t>Домо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33"/>
                  </a:solidFill>
                  <a:latin typeface="Arial"/>
                </a:rPr>
                <a:t>хозяйств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03436"/>
            <p:cNvSpPr/>
            <p:nvPr/>
          </p:nvSpPr>
          <p:spPr>
            <a:xfrm>
              <a:off x="6482520" y="3772080"/>
              <a:ext cx="1508760" cy="13608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0000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33"/>
                  </a:solidFill>
                  <a:latin typeface="Arial"/>
                </a:rPr>
                <a:t>Населенны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33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990033"/>
                  </a:solidFill>
                  <a:latin typeface="Arial"/>
                </a:rPr>
                <a:t>пунк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103437"/>
            <p:cNvSpPr/>
            <p:nvPr/>
          </p:nvSpPr>
          <p:spPr>
            <a:xfrm>
              <a:off x="2930760" y="3772080"/>
              <a:ext cx="1520640" cy="13748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0000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33"/>
                  </a:solidFill>
                  <a:latin typeface="Arial"/>
                </a:rPr>
                <a:t>Семь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2141-9CF8-4769-8034-2027B74152FF}" type="slidenum">
              <a:t>5</a:t>
            </a:fld>
          </a:p>
        </p:txBody>
      </p:sp>
    </p:spTree>
  </p:cSld>
  <p:transition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Источники данных о населени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164360" y="162864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rcRect l="0" t="0" r="1575" b="0"/>
          <a:stretch/>
        </p:blipFill>
        <p:spPr>
          <a:xfrm>
            <a:off x="2843280" y="4292640"/>
            <a:ext cx="1770120" cy="17985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rcRect l="0" t="0" r="1575" b="1575"/>
          <a:stretch/>
        </p:blipFill>
        <p:spPr>
          <a:xfrm>
            <a:off x="5148360" y="429264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684360" y="1557360"/>
            <a:ext cx="1971360" cy="19224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84360" y="3500280"/>
            <a:ext cx="1944720" cy="7192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еп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771640" y="6021360"/>
            <a:ext cx="1944720" cy="647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бо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76720" y="5950080"/>
            <a:ext cx="1944720" cy="7207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кущ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ч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093080" y="3429000"/>
            <a:ext cx="1944720" cy="7207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че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дприя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51280" y="2492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ТОЧ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87640" y="2708280"/>
            <a:ext cx="576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00720" y="2708280"/>
            <a:ext cx="5763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3708360" y="2997000"/>
            <a:ext cx="792360" cy="1152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63640" y="2997000"/>
            <a:ext cx="792360" cy="1152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9B66-5BB8-496B-9300-1CD2BCB3C56D}" type="slidenum">
              <a:t>6</a:t>
            </a:fld>
          </a:p>
        </p:txBody>
      </p:sp>
    </p:spTree>
  </p:cSld>
  <p:transition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Реализация концепции демографической политики РФ на период до 2025 г.г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914400" y="1600200"/>
          <a:ext cx="7772400" cy="492768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зат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ыс.чел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енность населения на 01.0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20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21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23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25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менение за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родивших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эфф. рождаем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умерши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олжительность жизни(лет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4762-5E31-4A00-8C01-FA67D42C51EE}" type="slidenum">
              <a:t>7</a:t>
            </a:fld>
          </a:p>
        </p:txBody>
      </p:sp>
    </p:spTree>
  </p:cSld>
  <p:transition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Численность населения России, прогноз до </a:t>
            </a:r>
            <a:br>
              <a:rPr sz="3200"/>
            </a:b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2100 года (экстраполяционный вариант)</a:t>
            </a:r>
            <a:br>
              <a:rPr sz="3200"/>
            </a:b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млн. человек (Источник: ЦДЭЧ)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116000" y="1700280"/>
          <a:ext cx="7416720" cy="502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700280"/>
                    <a:ext cx="7416720" cy="502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6CFA-3F0F-43C5-99F9-F146D8660842}" type="slidenum">
              <a:t>8</a:t>
            </a:fld>
          </a:p>
        </p:txBody>
      </p:sp>
    </p:spTree>
  </p:cSld>
  <p:transition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Население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900000" y="1628640"/>
            <a:ext cx="7771680" cy="4530240"/>
            <a:chOff x="900000" y="1628640"/>
            <a:chExt cx="7771680" cy="4530240"/>
          </a:xfrm>
        </p:grpSpPr>
        <p:cxnSp>
          <p:nvCxnSpPr>
            <p:cNvPr id="142" name="_s98309"/>
            <p:cNvCxnSpPr>
              <a:stCxn id="143" idx="0"/>
              <a:endCxn id="144" idx="3"/>
            </p:cNvCxnSpPr>
            <p:nvPr/>
          </p:nvCxnSpPr>
          <p:spPr>
            <a:xfrm flipV="1" rot="16200000">
              <a:off x="6936840" y="4448880"/>
              <a:ext cx="971640" cy="103320"/>
            </a:xfrm>
            <a:prstGeom prst="bentConnector3">
              <a:avLst>
                <a:gd name="adj1" fmla="val 11749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45" name="_s98310"/>
            <p:cNvCxnSpPr>
              <a:stCxn id="146" idx="0"/>
              <a:endCxn id="147" idx="3"/>
            </p:cNvCxnSpPr>
            <p:nvPr/>
          </p:nvCxnSpPr>
          <p:spPr>
            <a:xfrm flipV="1" rot="16200000">
              <a:off x="4312800" y="4448880"/>
              <a:ext cx="971640" cy="103320"/>
            </a:xfrm>
            <a:prstGeom prst="bentConnector3">
              <a:avLst>
                <a:gd name="adj1" fmla="val 11749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48" name="_s98311"/>
            <p:cNvCxnSpPr>
              <a:stCxn id="149" idx="0"/>
              <a:endCxn id="150" idx="3"/>
            </p:cNvCxnSpPr>
            <p:nvPr/>
          </p:nvCxnSpPr>
          <p:spPr>
            <a:xfrm flipV="1" rot="16200000">
              <a:off x="1688760" y="4448880"/>
              <a:ext cx="971640" cy="103320"/>
            </a:xfrm>
            <a:prstGeom prst="bentConnector3">
              <a:avLst>
                <a:gd name="adj1" fmla="val 11749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51" name="_s98312"/>
            <p:cNvCxnSpPr>
              <a:stCxn id="144" idx="0"/>
              <a:endCxn id="152" idx="3"/>
            </p:cNvCxnSpPr>
            <p:nvPr/>
          </p:nvCxnSpPr>
          <p:spPr>
            <a:xfrm flipV="1" rot="16200000">
              <a:off x="5611680" y="1470960"/>
              <a:ext cx="971640" cy="2700720"/>
            </a:xfrm>
            <a:prstGeom prst="bentConnector3">
              <a:avLst>
                <a:gd name="adj1" fmla="val 11749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53" name="_s98313"/>
            <p:cNvCxnSpPr>
              <a:stCxn id="147" idx="0"/>
              <a:endCxn id="152" idx="3"/>
            </p:cNvCxnSpPr>
            <p:nvPr/>
          </p:nvCxnSpPr>
          <p:spPr>
            <a:xfrm flipV="1" rot="16200000">
              <a:off x="4299480" y="2783160"/>
              <a:ext cx="971640" cy="76680"/>
            </a:xfrm>
            <a:prstGeom prst="bentConnector3">
              <a:avLst>
                <a:gd name="adj1" fmla="val 11749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54" name="_s98314"/>
            <p:cNvCxnSpPr>
              <a:stCxn id="150" idx="0"/>
              <a:endCxn id="152" idx="3"/>
            </p:cNvCxnSpPr>
            <p:nvPr/>
          </p:nvCxnSpPr>
          <p:spPr>
            <a:xfrm flipH="1" flipV="1" rot="5400000">
              <a:off x="2988000" y="1547280"/>
              <a:ext cx="971640" cy="2548440"/>
            </a:xfrm>
            <a:prstGeom prst="bentConnector3">
              <a:avLst>
                <a:gd name="adj1" fmla="val 11749"/>
              </a:avLst>
            </a:prstGeom>
            <a:ln w="28440">
              <a:solidFill>
                <a:srgbClr val="330033"/>
              </a:solidFill>
              <a:miter/>
            </a:ln>
          </p:spPr>
        </p:cxnSp>
        <p:sp>
          <p:nvSpPr>
            <p:cNvPr id="152" name="_s98315"/>
            <p:cNvSpPr/>
            <p:nvPr/>
          </p:nvSpPr>
          <p:spPr>
            <a:xfrm>
              <a:off x="3524040" y="1628640"/>
              <a:ext cx="2524320" cy="7077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cc99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Задачи изуч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насе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98316"/>
            <p:cNvSpPr/>
            <p:nvPr/>
          </p:nvSpPr>
          <p:spPr>
            <a:xfrm>
              <a:off x="900000" y="3307320"/>
              <a:ext cx="2524320" cy="7077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0000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Изуч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скорос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изменения Ч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_s98317"/>
            <p:cNvSpPr/>
            <p:nvPr/>
          </p:nvSpPr>
          <p:spPr>
            <a:xfrm>
              <a:off x="3524040" y="3307320"/>
              <a:ext cx="2524320" cy="7077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0000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Изучение состав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насел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_s98318"/>
            <p:cNvSpPr/>
            <p:nvPr/>
          </p:nvSpPr>
          <p:spPr>
            <a:xfrm>
              <a:off x="6147360" y="3307320"/>
              <a:ext cx="2524320" cy="7077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0000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Изучение размещения 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миграц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насел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98319"/>
            <p:cNvSpPr/>
            <p:nvPr/>
          </p:nvSpPr>
          <p:spPr>
            <a:xfrm>
              <a:off x="1285560" y="4986360"/>
              <a:ext cx="1755720" cy="11725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0033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Изуч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естественног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движ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насел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_s98320"/>
            <p:cNvSpPr/>
            <p:nvPr/>
          </p:nvSpPr>
          <p:spPr>
            <a:xfrm>
              <a:off x="3909600" y="4986360"/>
              <a:ext cx="1755720" cy="11700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0033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Изучени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механическог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движени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насел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98321"/>
            <p:cNvSpPr/>
            <p:nvPr/>
          </p:nvSpPr>
          <p:spPr>
            <a:xfrm>
              <a:off x="6533640" y="4986360"/>
              <a:ext cx="1755720" cy="11700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0033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Изуч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тенденц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и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закономерносте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461120" y="3278160"/>
            <a:ext cx="2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Arial Unicode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532D-44B7-445A-8F83-571B6EB0F4BB}" type="slidenum">
              <a:t>9</a:t>
            </a:fld>
          </a:p>
        </p:txBody>
      </p:sp>
    </p:spTree>
  </p:cSld>
  <p:transition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6:23:21Z</dcterms:created>
  <dc:creator>Татьяна Андреевна</dc:creator>
  <dc:description/>
  <dc:language>en-US</dc:language>
  <cp:lastModifiedBy>NicoTin™</cp:lastModifiedBy>
  <dcterms:modified xsi:type="dcterms:W3CDTF">2012-09-22T10:38:57Z</dcterms:modified>
  <cp:revision>198</cp:revision>
  <dc:subject/>
  <dc:title>Статистика населения</dc:title>
</cp:coreProperties>
</file>