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7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A6EF-6BF6-4254-945B-C14B847F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7BC1-B567-40F6-AB38-899168D5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6142-C449-4D55-9F71-66835146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F6A0-47FC-4E1D-A82D-D524B7D6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379C-CBA9-421B-8A5B-A2B51CC2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63E1-3073-43FB-8E32-C07A3874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15F0-5F4A-44DF-ACE8-096C0656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A1CE-EDF8-4685-8AA8-047D42B0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5130-A0D0-4F05-8EC3-FC6EEE1D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142E-6ED0-4DF6-A23D-3DD9BFC9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151D-FAF8-44D4-8F51-7009E9DC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074B-540B-46E9-9C89-21AD8830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7054-77BB-493B-AE15-9506970E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F800-7AA4-4989-AEDD-859313AA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4B17-2E22-456B-80C0-0F5FB51B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8060-B74E-4716-99C5-92049FCA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293B-5726-42B2-BC08-BAD6E7C9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8E3A-96A1-4A98-8853-16D54403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F5B3-EB37-40EC-AE02-D51E2CED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871D-AA64-430C-872E-647191F6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914E-E204-4978-A5EE-84B89E30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C82F-C67E-4B43-BD67-E71314E0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DD2A-EA5A-4D1D-BD1F-81AFF0D4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6F44-F3D6-4C63-89CD-94DB78B8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3C77-1994-4ECF-9368-06D15DEF78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EFB2-404B-47F8-AEFC-C6F9647868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ks.ru/" TargetMode="External"/><Relationship Id="rId2" Type="http://schemas.openxmlformats.org/officeDocument/2006/relationships/hyperlink" Target="http://www.fom.ru/" TargetMode="External"/><Relationship Id="rId3" Type="http://schemas.openxmlformats.org/officeDocument/2006/relationships/hyperlink" Target="http://www.wciom.ru/" TargetMode="External"/><Relationship Id="rId4" Type="http://schemas.openxmlformats.org/officeDocument/2006/relationships/hyperlink" Target="http://www.zircon.ru/" TargetMode="External"/><Relationship Id="rId5" Type="http://schemas.openxmlformats.org/officeDocument/2006/relationships/hyperlink" Target="http://www.levada.ru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ГБОУ СПО Санкт-Петербургский колледж управления и экономики «Александровский лицей»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тистика насел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реподаватель высшей категории Т.А.Герел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300-0C6C-4C5C-9708-4BB7EDA37FE1}" type="slidenum">
              <a:t>1</a:t>
            </a:fld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Городское и сельское населения по результатам переписи 2010 год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54280" y="1832040"/>
          <a:ext cx="60894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1832040"/>
                    <a:ext cx="60894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5F2D-893F-4621-9C6C-101E0351DEED}" type="slidenum">
              <a:t>10</a:t>
            </a:fld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2960" y="276120"/>
            <a:ext cx="777384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Методы обработки информа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628360" y="1793880"/>
            <a:ext cx="4116600" cy="3983040"/>
            <a:chOff x="2628360" y="1793880"/>
            <a:chExt cx="4116600" cy="3983040"/>
          </a:xfrm>
        </p:grpSpPr>
        <p:sp>
          <p:nvSpPr>
            <p:cNvPr id="162" name="_s105533"/>
            <p:cNvSpPr/>
            <p:nvPr/>
          </p:nvSpPr>
          <p:spPr>
            <a:xfrm>
              <a:off x="3877200" y="2360520"/>
              <a:ext cx="1620360" cy="16192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5489"/>
            <p:cNvSpPr/>
            <p:nvPr/>
          </p:nvSpPr>
          <p:spPr>
            <a:xfrm>
              <a:off x="4452120" y="1793880"/>
              <a:ext cx="47088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05534"/>
            <p:cNvSpPr/>
            <p:nvPr/>
          </p:nvSpPr>
          <p:spPr>
            <a:xfrm>
              <a:off x="4312440" y="2539800"/>
              <a:ext cx="1620000" cy="1619280"/>
            </a:xfrm>
            <a:prstGeom prst="ellipse">
              <a:avLst/>
            </a:prstGeom>
            <a:solidFill>
              <a:srgbClr val="990033">
                <a:alpha val="50000"/>
              </a:srgbClr>
            </a:solidFill>
            <a:ln w="46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05490"/>
            <p:cNvSpPr/>
            <p:nvPr/>
          </p:nvSpPr>
          <p:spPr>
            <a:xfrm>
              <a:off x="5808600" y="22572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ыбор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05535"/>
            <p:cNvSpPr/>
            <p:nvPr/>
          </p:nvSpPr>
          <p:spPr>
            <a:xfrm>
              <a:off x="4493160" y="2975040"/>
              <a:ext cx="1620360" cy="1619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05492"/>
            <p:cNvSpPr/>
            <p:nvPr/>
          </p:nvSpPr>
          <p:spPr>
            <a:xfrm>
              <a:off x="6273720" y="3583080"/>
              <a:ext cx="4712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руппиров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05536"/>
            <p:cNvSpPr/>
            <p:nvPr/>
          </p:nvSpPr>
          <p:spPr>
            <a:xfrm>
              <a:off x="4313880" y="3409920"/>
              <a:ext cx="1620000" cy="1619280"/>
            </a:xfrm>
            <a:prstGeom prst="ellipse">
              <a:avLst/>
            </a:prstGeom>
            <a:solidFill>
              <a:srgbClr val="330033">
                <a:alpha val="50000"/>
              </a:srgbClr>
            </a:solidFill>
            <a:ln w="46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5494"/>
            <p:cNvSpPr/>
            <p:nvPr/>
          </p:nvSpPr>
          <p:spPr>
            <a:xfrm>
              <a:off x="5808600" y="49068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05537"/>
            <p:cNvSpPr/>
            <p:nvPr/>
          </p:nvSpPr>
          <p:spPr>
            <a:xfrm>
              <a:off x="3879000" y="3591000"/>
              <a:ext cx="1620000" cy="1619280"/>
            </a:xfrm>
            <a:prstGeom prst="ellipse">
              <a:avLst/>
            </a:prstGeom>
            <a:solidFill>
              <a:srgbClr val="cccc99">
                <a:alpha val="50000"/>
              </a:srgbClr>
            </a:solidFill>
            <a:ln w="468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05497"/>
            <p:cNvSpPr/>
            <p:nvPr/>
          </p:nvSpPr>
          <p:spPr>
            <a:xfrm>
              <a:off x="4452120" y="5371920"/>
              <a:ext cx="4708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05539"/>
            <p:cNvSpPr/>
            <p:nvPr/>
          </p:nvSpPr>
          <p:spPr>
            <a:xfrm>
              <a:off x="3444480" y="3411360"/>
              <a:ext cx="1620000" cy="16192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05501"/>
            <p:cNvSpPr/>
            <p:nvPr/>
          </p:nvSpPr>
          <p:spPr>
            <a:xfrm>
              <a:off x="3093480" y="49068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Таблицы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раф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05540"/>
            <p:cNvSpPr/>
            <p:nvPr/>
          </p:nvSpPr>
          <p:spPr>
            <a:xfrm>
              <a:off x="3263400" y="2976480"/>
              <a:ext cx="1620000" cy="1619280"/>
            </a:xfrm>
            <a:prstGeom prst="ellipse">
              <a:avLst/>
            </a:prstGeom>
            <a:solidFill>
              <a:srgbClr val="990033">
                <a:alpha val="50000"/>
              </a:srgbClr>
            </a:solidFill>
            <a:ln w="46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5503"/>
            <p:cNvSpPr/>
            <p:nvPr/>
          </p:nvSpPr>
          <p:spPr>
            <a:xfrm>
              <a:off x="2628360" y="3583080"/>
              <a:ext cx="4712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огно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05541"/>
            <p:cNvSpPr/>
            <p:nvPr/>
          </p:nvSpPr>
          <p:spPr>
            <a:xfrm>
              <a:off x="3442680" y="2541600"/>
              <a:ext cx="1620000" cy="1619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05505"/>
            <p:cNvSpPr/>
            <p:nvPr/>
          </p:nvSpPr>
          <p:spPr>
            <a:xfrm>
              <a:off x="3093480" y="22572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блюд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315200" y="4365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FB08-7FEC-4077-83AE-AF97AD90BEEA}" type="slidenum">
              <a:t>11</a:t>
            </a:fld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Для изучения состава населения применяются группировк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914400" y="1600200"/>
            <a:ext cx="7771320" cy="4530240"/>
            <a:chOff x="914400" y="1600200"/>
            <a:chExt cx="7771320" cy="4530240"/>
          </a:xfrm>
        </p:grpSpPr>
        <p:cxnSp>
          <p:nvCxnSpPr>
            <p:cNvPr id="181" name="_s92179"/>
            <p:cNvCxnSpPr>
              <a:stCxn id="182" idx="0"/>
              <a:endCxn id="183" idx="3"/>
            </p:cNvCxnSpPr>
            <p:nvPr/>
          </p:nvCxnSpPr>
          <p:spPr>
            <a:xfrm flipV="1" rot="16200000">
              <a:off x="6215040" y="5551200"/>
              <a:ext cx="252360" cy="43560"/>
            </a:xfrm>
            <a:prstGeom prst="bentConnector3">
              <a:avLst>
                <a:gd name="adj1" fmla="val 45428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84" name="_s92177"/>
            <p:cNvCxnSpPr>
              <a:stCxn id="185" idx="0"/>
              <a:endCxn id="186" idx="3"/>
            </p:cNvCxnSpPr>
            <p:nvPr/>
          </p:nvCxnSpPr>
          <p:spPr>
            <a:xfrm flipV="1" rot="16200000">
              <a:off x="6215400" y="4185000"/>
              <a:ext cx="252000" cy="43560"/>
            </a:xfrm>
            <a:prstGeom prst="bentConnector3">
              <a:avLst>
                <a:gd name="adj1" fmla="val 45493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87" name="_s92175"/>
            <p:cNvCxnSpPr>
              <a:stCxn id="188" idx="0"/>
              <a:endCxn id="189" idx="3"/>
            </p:cNvCxnSpPr>
            <p:nvPr/>
          </p:nvCxnSpPr>
          <p:spPr>
            <a:xfrm flipV="1" rot="16200000">
              <a:off x="6215040" y="2818440"/>
              <a:ext cx="252360" cy="43560"/>
            </a:xfrm>
            <a:prstGeom prst="bentConnector3">
              <a:avLst>
                <a:gd name="adj1" fmla="val 45142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0" name="_s92172"/>
            <p:cNvCxnSpPr>
              <a:stCxn id="183" idx="2"/>
              <a:endCxn id="191" idx="3"/>
            </p:cNvCxnSpPr>
            <p:nvPr/>
          </p:nvCxnSpPr>
          <p:spPr>
            <a:xfrm rot="10800000">
              <a:off x="3236040" y="2030760"/>
              <a:ext cx="759960" cy="322488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2" name="_s92171"/>
            <p:cNvCxnSpPr>
              <a:stCxn id="186" idx="2"/>
              <a:endCxn id="191" idx="3"/>
            </p:cNvCxnSpPr>
            <p:nvPr/>
          </p:nvCxnSpPr>
          <p:spPr>
            <a:xfrm rot="10800000">
              <a:off x="3236040" y="2030760"/>
              <a:ext cx="759960" cy="185832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3" name="_s92170"/>
            <p:cNvCxnSpPr>
              <a:stCxn id="189" idx="2"/>
              <a:endCxn id="191" idx="3"/>
            </p:cNvCxnSpPr>
            <p:nvPr/>
          </p:nvCxnSpPr>
          <p:spPr>
            <a:xfrm rot="10800000">
              <a:off x="3236040" y="2030760"/>
              <a:ext cx="759960" cy="49176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91" name="_s92166"/>
            <p:cNvSpPr/>
            <p:nvPr/>
          </p:nvSpPr>
          <p:spPr>
            <a:xfrm>
              <a:off x="914400" y="16002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Группиров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167"/>
            <p:cNvSpPr/>
            <p:nvPr/>
          </p:nvSpPr>
          <p:spPr>
            <a:xfrm>
              <a:off x="3996360" y="228312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пол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168"/>
            <p:cNvSpPr/>
            <p:nvPr/>
          </p:nvSpPr>
          <p:spPr>
            <a:xfrm>
              <a:off x="3996360" y="364968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семейному положени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169"/>
            <p:cNvSpPr/>
            <p:nvPr/>
          </p:nvSpPr>
          <p:spPr>
            <a:xfrm>
              <a:off x="3996360" y="501588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занят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174"/>
            <p:cNvSpPr/>
            <p:nvPr/>
          </p:nvSpPr>
          <p:spPr>
            <a:xfrm>
              <a:off x="3996360" y="29664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возраст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176"/>
            <p:cNvSpPr/>
            <p:nvPr/>
          </p:nvSpPr>
          <p:spPr>
            <a:xfrm>
              <a:off x="3996360" y="43326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месту житель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178"/>
            <p:cNvSpPr/>
            <p:nvPr/>
          </p:nvSpPr>
          <p:spPr>
            <a:xfrm>
              <a:off x="3996360" y="569916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уровню образов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58920" y="278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983F-E978-4E52-97F9-841BF24AFFDE}" type="slidenum">
              <a:t>12</a:t>
            </a:fld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ализация концепции демографической политики РФ на период до 2025 год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 итогам реализации концепции предполагается к 2016 год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билизировать численность населения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ровне 42-143 млн. чел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еличить продолжительность жизни до 70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еличить в 1,3 раза по сравнению с 2006 годом коэффициент рождаемости, на треть снизить смер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56D7-9E35-4D81-BE1B-838027A0F32E}" type="slidenum">
              <a:t>13</a:t>
            </a:fld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Категории населения и их характеристика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1700280"/>
            <a:ext cx="4753080" cy="934920"/>
          </a:xfrm>
          <a:prstGeom prst="flowChartTerminator">
            <a:avLst/>
          </a:prstGeom>
          <a:solidFill>
            <a:srgbClr val="ffff99">
              <a:alpha val="99000"/>
            </a:srgbClr>
          </a:solidFill>
          <a:ln w="9360">
            <a:solidFill>
              <a:srgbClr val="ffff99">
                <a:alpha val="98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Постоя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87280" y="2852640"/>
            <a:ext cx="4753080" cy="93528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лич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87280" y="5084640"/>
            <a:ext cx="4753080" cy="935280"/>
          </a:xfrm>
          <a:prstGeom prst="flowChartTerminator">
            <a:avLst/>
          </a:prstGeom>
          <a:solidFill>
            <a:srgbClr val="ffff99"/>
          </a:solidFill>
          <a:ln cap="rnd" w="93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Временно-присут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87280" y="3933720"/>
            <a:ext cx="4753080" cy="93528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Временно- отсут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DB5E-2876-4E13-9037-1A542C825ED8}" type="slidenum">
              <a:t>14</a:t>
            </a:fld>
          </a:p>
        </p:txBody>
      </p:sp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Категории населения при проведении переписи 2010года (тыс.чел.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971640" y="1413000"/>
            <a:ext cx="7772040" cy="4823280"/>
            <a:chOff x="971640" y="1413000"/>
            <a:chExt cx="7772040" cy="4823280"/>
          </a:xfrm>
        </p:grpSpPr>
        <p:cxnSp>
          <p:nvCxnSpPr>
            <p:cNvPr id="204" name="_s111637"/>
            <p:cNvCxnSpPr>
              <a:stCxn id="205" idx="1"/>
              <a:endCxn id="206" idx="2"/>
            </p:cNvCxnSpPr>
            <p:nvPr/>
          </p:nvCxnSpPr>
          <p:spPr>
            <a:xfrm rot="10800000">
              <a:off x="2143080" y="4402800"/>
              <a:ext cx="369000" cy="125496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07" name="_s111628"/>
            <p:cNvCxnSpPr>
              <a:stCxn id="208" idx="0"/>
              <a:endCxn id="209" idx="2"/>
            </p:cNvCxnSpPr>
            <p:nvPr/>
          </p:nvCxnSpPr>
          <p:spPr>
            <a:xfrm flipV="1" rot="16200000">
              <a:off x="5875920" y="1550520"/>
              <a:ext cx="676080" cy="2714400"/>
            </a:xfrm>
            <a:prstGeom prst="bentConnector3">
              <a:avLst>
                <a:gd name="adj1" fmla="val 16888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10" name="_s111627"/>
            <p:cNvCxnSpPr>
              <a:stCxn id="211" idx="0"/>
              <a:endCxn id="209" idx="2"/>
            </p:cNvCxnSpPr>
            <p:nvPr/>
          </p:nvCxnSpPr>
          <p:spPr>
            <a:xfrm flipV="1">
              <a:off x="4857120" y="2570040"/>
              <a:ext cx="3600" cy="67608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12" name="_s111626"/>
            <p:cNvCxnSpPr>
              <a:stCxn id="206" idx="0"/>
              <a:endCxn id="209" idx="2"/>
            </p:cNvCxnSpPr>
            <p:nvPr/>
          </p:nvCxnSpPr>
          <p:spPr>
            <a:xfrm flipH="1" flipV="1" rot="5400000">
              <a:off x="3162240" y="1550880"/>
              <a:ext cx="676080" cy="2714040"/>
            </a:xfrm>
            <a:prstGeom prst="bentConnector3">
              <a:avLst>
                <a:gd name="adj1" fmla="val 16888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209" name="_s111622"/>
            <p:cNvSpPr/>
            <p:nvPr/>
          </p:nvSpPr>
          <p:spPr>
            <a:xfrm>
              <a:off x="3684960" y="1413000"/>
              <a:ext cx="2344680" cy="1157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0033"/>
              </a:solidFill>
              <a:miter/>
            </a:ln>
            <a:effectLst>
              <a:outerShdw dist="63504" dir="19383909" blurRad="0" rotWithShape="0">
                <a:srgbClr val="99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Всего учте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3436,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111623"/>
            <p:cNvSpPr/>
            <p:nvPr/>
          </p:nvSpPr>
          <p:spPr>
            <a:xfrm>
              <a:off x="971640" y="3245760"/>
              <a:ext cx="2344680" cy="1157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селение Р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2946,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11624"/>
            <p:cNvSpPr/>
            <p:nvPr/>
          </p:nvSpPr>
          <p:spPr>
            <a:xfrm>
              <a:off x="3684960" y="3245760"/>
              <a:ext cx="2344680" cy="1157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Временн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проживающ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489,4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11625"/>
            <p:cNvSpPr/>
            <p:nvPr/>
          </p:nvSpPr>
          <p:spPr>
            <a:xfrm>
              <a:off x="6399000" y="3245760"/>
              <a:ext cx="2344680" cy="1157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Граждане РФ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ходящиес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за рубежом 90,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111636"/>
            <p:cNvSpPr/>
            <p:nvPr/>
          </p:nvSpPr>
          <p:spPr>
            <a:xfrm>
              <a:off x="2512440" y="5078880"/>
              <a:ext cx="2342160" cy="1157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  <a:effectLst>
              <a:outerShdw dist="63504" dir="19383909" blurRad="0" rotWithShape="0">
                <a:srgbClr val="cc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Постоянно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се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2856,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9C59-1B47-4391-BF57-3C683C348387}" type="slidenum">
              <a:t>15</a:t>
            </a:fld>
          </a:p>
        </p:txBody>
      </p:sp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Россия занимает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девятое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место в мире по численности насел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Китай-13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Индия-12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США-3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Индонезия-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Бразилия-1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Пакистан-1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Нигерия-1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Бангладеш-1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Россия-1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Япония-1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17996" t="2225" r="21303" b="3327"/>
          <a:stretch/>
        </p:blipFill>
        <p:spPr>
          <a:xfrm>
            <a:off x="6012000" y="2924280"/>
            <a:ext cx="1944720" cy="302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B91B-5797-4048-81B1-C60C99C1104E}" type="slidenum">
              <a:t>16</a:t>
            </a:fld>
          </a:p>
        </p:txBody>
      </p:sp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Рейтинговая оценка ведущих стран мира по численности населения в 2011 году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476360" y="134136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34136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31680" y="1371600"/>
          <a:ext cx="9132840" cy="545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680" y="1371600"/>
                    <a:ext cx="91328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130A-88AA-4DAC-B339-91EBEC586103}" type="slidenum">
              <a:t>17</a:t>
            </a:fld>
          </a:p>
        </p:txBody>
      </p: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Список литературы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фимова М.Р., Бычкова С.Г. Социальная статистика: Учеб. пособие / Под ред. М.Р. Ефимовой. – М.: Финансы и статистика, 2011. – 560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урнал «Вопросы статистики»: 4 / 2010с. 10-11, 29-3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ссийский статистический ежегодник. Официальное издание Росс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ое положение и уровень жизни населения России. Статистический сборник. Официальное издание Росс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нет-сай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4683-A1A8-4365-9067-9E6BFF4444B9}" type="slidenum">
              <a:t>18</a:t>
            </a:fld>
          </a:p>
        </p:txBody>
      </p:sp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писок литерату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фициальный сайт Госкомстата РФ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gks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Фонд общественного мнения (сайт исследовательской организации с архивами данных)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www.fom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сероссийский центр изучения общественного мнения (сайт исследовательской организации с архивами данных)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www.wciom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Исследовательская группа «Циркон» (сайт исследовательской организации с архивами данных) 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www.zircon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Левада-центр (сайт исследовательской организации с архивами данных) 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www.levad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DDBE-BAA1-4FAE-B60A-3266190B4800}" type="slidenum">
              <a:t>19</a:t>
            </a:fld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«Населить мир людьми легко. Избавить мир от людей легко. В чем же трудность?»(Станислав Ежи Лец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Население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– это совокупность лиц, проживающих на определенной территории (мира, континента, страны или ее части) в данное врем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9" idx="3"/>
            <a:endCxn id="99" idx="3"/>
          </p:cNvCxnSpPr>
          <p:nvPr/>
        </p:nvCxnSpPr>
        <p:spPr>
          <a:xfrm>
            <a:off x="8686440" y="38653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101" name="" descr=""/>
          <p:cNvPicPr/>
          <p:nvPr/>
        </p:nvPicPr>
        <p:blipFill>
          <a:blip r:embed="rId1"/>
          <a:srcRect l="0" t="20972" r="2303" b="20868"/>
          <a:stretch/>
        </p:blipFill>
        <p:spPr>
          <a:xfrm>
            <a:off x="3419640" y="4149720"/>
            <a:ext cx="302400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0D60-6524-4F62-ACDC-EFBBA8CD5EC9}" type="slidenum">
              <a:t>2</a:t>
            </a:fld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Необходимость изучения населени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Информация нужна для государственного регулирования,  управления и производства (для определения размеров производства различных видов продукции, развития здравоохранения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1555" b="0"/>
          <a:stretch/>
        </p:blipFill>
        <p:spPr>
          <a:xfrm>
            <a:off x="6948360" y="422100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0" t="18623" r="2303" b="18623"/>
          <a:stretch/>
        </p:blipFill>
        <p:spPr>
          <a:xfrm>
            <a:off x="900000" y="4149720"/>
            <a:ext cx="3024360" cy="1943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0" t="3898" r="1555" b="1555"/>
          <a:stretch/>
        </p:blipFill>
        <p:spPr>
          <a:xfrm>
            <a:off x="4572000" y="3716280"/>
            <a:ext cx="1800360" cy="17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C05C-4185-49AF-A15B-0C3F64C15068}" type="slidenum">
              <a:t>3</a:t>
            </a:fld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31560" y="287280"/>
            <a:ext cx="734364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Объект и предмет изучения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к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ения населения – совокупность людей, проживающих на определенной территор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ме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является количественная сторона и закономерности протекания массовых явлений и процессов  воспроизводства, естественного и механического движения насел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77080" y="458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0D6C-B939-4F31-B5E6-0DEC8E3DC949}" type="slidenum">
              <a:t>4</a:t>
            </a:fld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Объекты наблюд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54160" y="1709640"/>
            <a:ext cx="6837120" cy="3437280"/>
            <a:chOff x="1154160" y="1709640"/>
            <a:chExt cx="6837120" cy="3437280"/>
          </a:xfrm>
        </p:grpSpPr>
        <p:cxnSp>
          <p:nvCxnSpPr>
            <p:cNvPr id="112" name="_s103429"/>
            <p:cNvCxnSpPr>
              <a:stCxn id="113" idx="0"/>
              <a:endCxn id="114" idx="3"/>
            </p:cNvCxnSpPr>
            <p:nvPr/>
          </p:nvCxnSpPr>
          <p:spPr>
            <a:xfrm flipH="1" flipV="1" rot="5400000">
              <a:off x="3787920" y="3061800"/>
              <a:ext cx="687960" cy="73188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5" name="_s103430"/>
            <p:cNvCxnSpPr>
              <a:stCxn id="116" idx="0"/>
              <a:endCxn id="114" idx="3"/>
            </p:cNvCxnSpPr>
            <p:nvPr/>
          </p:nvCxnSpPr>
          <p:spPr>
            <a:xfrm flipV="1" rot="16200000">
              <a:off x="5560200" y="2020680"/>
              <a:ext cx="687960" cy="281376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7" name="_s103431"/>
            <p:cNvCxnSpPr>
              <a:stCxn id="118" idx="0"/>
              <a:endCxn id="114" idx="3"/>
            </p:cNvCxnSpPr>
            <p:nvPr/>
          </p:nvCxnSpPr>
          <p:spPr>
            <a:xfrm flipV="1" rot="16200000">
              <a:off x="4675680" y="2905920"/>
              <a:ext cx="687960" cy="104364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9" name="_s103432"/>
            <p:cNvCxnSpPr>
              <a:stCxn id="120" idx="0"/>
              <a:endCxn id="114" idx="3"/>
            </p:cNvCxnSpPr>
            <p:nvPr/>
          </p:nvCxnSpPr>
          <p:spPr>
            <a:xfrm flipH="1" flipV="1" rot="5400000">
              <a:off x="2899440" y="2173320"/>
              <a:ext cx="687960" cy="250884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14" name="_s103433"/>
            <p:cNvSpPr/>
            <p:nvPr/>
          </p:nvSpPr>
          <p:spPr>
            <a:xfrm>
              <a:off x="3810240" y="170964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Единиц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наблюд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434"/>
            <p:cNvSpPr/>
            <p:nvPr/>
          </p:nvSpPr>
          <p:spPr>
            <a:xfrm>
              <a:off x="1154160" y="377208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Чело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35"/>
            <p:cNvSpPr/>
            <p:nvPr/>
          </p:nvSpPr>
          <p:spPr>
            <a:xfrm>
              <a:off x="4705560" y="377208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Домо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хозяй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436"/>
            <p:cNvSpPr/>
            <p:nvPr/>
          </p:nvSpPr>
          <p:spPr>
            <a:xfrm>
              <a:off x="6482520" y="3772080"/>
              <a:ext cx="1508760" cy="1360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Населен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пунк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437"/>
            <p:cNvSpPr/>
            <p:nvPr/>
          </p:nvSpPr>
          <p:spPr>
            <a:xfrm>
              <a:off x="2930760" y="3772080"/>
              <a:ext cx="152064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Семь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4A46-16C5-44CC-98B6-371CCA814EDC}" type="slidenum">
              <a:t>5</a:t>
            </a:fld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Источники данных о населен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164360" y="1628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0" r="1575" b="0"/>
          <a:stretch/>
        </p:blipFill>
        <p:spPr>
          <a:xfrm>
            <a:off x="2843280" y="4292640"/>
            <a:ext cx="1770120" cy="1798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0" t="0" r="1575" b="1575"/>
          <a:stretch/>
        </p:blipFill>
        <p:spPr>
          <a:xfrm>
            <a:off x="5148360" y="4292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84360" y="1557360"/>
            <a:ext cx="1971360" cy="1922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4360" y="3500280"/>
            <a:ext cx="1944720" cy="71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71640" y="6021360"/>
            <a:ext cx="194472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о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76720" y="5950080"/>
            <a:ext cx="194472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ку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93080" y="3429000"/>
            <a:ext cx="194472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че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2708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2708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708360" y="2997000"/>
            <a:ext cx="79236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63640" y="2997000"/>
            <a:ext cx="79236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0306-F74E-462E-AA6C-60E70232BF9C}" type="slidenum">
              <a:t>6</a:t>
            </a:fld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Реализация концепции демографической политики РФ на период до 2025 г.г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1600200"/>
          <a:ext cx="7772400" cy="492768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че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селения на 01.0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0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1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3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за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родивш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эфф. рождаем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умерш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олжительность жизни(ле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2286-627A-429D-AC35-7E9B744AD5E7}" type="slidenum">
              <a:t>7</a:t>
            </a:fld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Численность населения России, прогноз до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2100 года (экстраполяционный вариант)</a:t>
            </a:r>
            <a:br>
              <a:rPr sz="32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млн. человек (Источник: ЦДЭЧ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16000" y="1700280"/>
          <a:ext cx="7416720" cy="50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00280"/>
                    <a:ext cx="7416720" cy="50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78A7-94EF-4927-8AB9-C566EAABC02A}" type="slidenum">
              <a:t>8</a:t>
            </a:fld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Населени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00000" y="1628640"/>
            <a:ext cx="7771680" cy="4530240"/>
            <a:chOff x="900000" y="1628640"/>
            <a:chExt cx="7771680" cy="4530240"/>
          </a:xfrm>
        </p:grpSpPr>
        <p:cxnSp>
          <p:nvCxnSpPr>
            <p:cNvPr id="142" name="_s98309"/>
            <p:cNvCxnSpPr>
              <a:stCxn id="143" idx="0"/>
              <a:endCxn id="144" idx="3"/>
            </p:cNvCxnSpPr>
            <p:nvPr/>
          </p:nvCxnSpPr>
          <p:spPr>
            <a:xfrm flipV="1" rot="16200000">
              <a:off x="693684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45" name="_s98310"/>
            <p:cNvCxnSpPr>
              <a:stCxn id="146" idx="0"/>
              <a:endCxn id="147" idx="3"/>
            </p:cNvCxnSpPr>
            <p:nvPr/>
          </p:nvCxnSpPr>
          <p:spPr>
            <a:xfrm flipV="1" rot="16200000">
              <a:off x="431280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48" name="_s98311"/>
            <p:cNvCxnSpPr>
              <a:stCxn id="149" idx="0"/>
              <a:endCxn id="150" idx="3"/>
            </p:cNvCxnSpPr>
            <p:nvPr/>
          </p:nvCxnSpPr>
          <p:spPr>
            <a:xfrm flipV="1" rot="16200000">
              <a:off x="168876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1" name="_s98312"/>
            <p:cNvCxnSpPr>
              <a:stCxn id="144" idx="0"/>
              <a:endCxn id="152" idx="3"/>
            </p:cNvCxnSpPr>
            <p:nvPr/>
          </p:nvCxnSpPr>
          <p:spPr>
            <a:xfrm flipV="1" rot="16200000">
              <a:off x="5611680" y="1470960"/>
              <a:ext cx="971640" cy="27007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3" name="_s98313"/>
            <p:cNvCxnSpPr>
              <a:stCxn id="147" idx="0"/>
              <a:endCxn id="152" idx="3"/>
            </p:cNvCxnSpPr>
            <p:nvPr/>
          </p:nvCxnSpPr>
          <p:spPr>
            <a:xfrm flipV="1" rot="16200000">
              <a:off x="4299480" y="2783160"/>
              <a:ext cx="971640" cy="7668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4" name="_s98314"/>
            <p:cNvCxnSpPr>
              <a:stCxn id="150" idx="0"/>
              <a:endCxn id="152" idx="3"/>
            </p:cNvCxnSpPr>
            <p:nvPr/>
          </p:nvCxnSpPr>
          <p:spPr>
            <a:xfrm flipH="1" flipV="1" rot="5400000">
              <a:off x="2988000" y="1547280"/>
              <a:ext cx="971640" cy="254844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52" name="_s98315"/>
            <p:cNvSpPr/>
            <p:nvPr/>
          </p:nvSpPr>
          <p:spPr>
            <a:xfrm>
              <a:off x="3524040" y="162864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Задачи изуч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98316"/>
            <p:cNvSpPr/>
            <p:nvPr/>
          </p:nvSpPr>
          <p:spPr>
            <a:xfrm>
              <a:off x="90000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кор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менения Ч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98317"/>
            <p:cNvSpPr/>
            <p:nvPr/>
          </p:nvSpPr>
          <p:spPr>
            <a:xfrm>
              <a:off x="352404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соста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98318"/>
            <p:cNvSpPr/>
            <p:nvPr/>
          </p:nvSpPr>
          <p:spPr>
            <a:xfrm>
              <a:off x="614736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размещения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иг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98319"/>
            <p:cNvSpPr/>
            <p:nvPr/>
          </p:nvSpPr>
          <p:spPr>
            <a:xfrm>
              <a:off x="1285560" y="4986360"/>
              <a:ext cx="1755720" cy="1172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естественн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виж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98320"/>
            <p:cNvSpPr/>
            <p:nvPr/>
          </p:nvSpPr>
          <p:spPr>
            <a:xfrm>
              <a:off x="3909600" y="4986360"/>
              <a:ext cx="1755720" cy="1170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еханическ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вижен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98321"/>
            <p:cNvSpPr/>
            <p:nvPr/>
          </p:nvSpPr>
          <p:spPr>
            <a:xfrm>
              <a:off x="6533640" y="4986360"/>
              <a:ext cx="1755720" cy="1170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тенденц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закономерност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61120" y="327816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5374-A738-4C52-8926-70A5282D0C5F}" type="slidenum">
              <a:t>9</a:t>
            </a:fld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6:23:21Z</dcterms:created>
  <dc:creator>Татьяна Андреевна</dc:creator>
  <dc:description/>
  <dc:language>en-US</dc:language>
  <cp:lastModifiedBy>NicoTin™</cp:lastModifiedBy>
  <dcterms:modified xsi:type="dcterms:W3CDTF">2012-09-22T10:38:57Z</dcterms:modified>
  <cp:revision>198</cp:revision>
  <dc:subject/>
  <dc:title>Статистика населения</dc:title>
</cp:coreProperties>
</file>