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image5.gif" ContentType="image/gif"/>
  <Override PartName="/ppt/media/image6.gif" ContentType="image/gif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554D-4917-457A-9E9E-94CC235F8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01D3-81C8-4B00-8E4F-8A899FAA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216C-2420-4D93-B854-853FF5A08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FFA62-1199-495E-8CF5-8326E5ED9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A430-8739-43A2-8C48-E516DAE89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74BF-C8BC-4092-9EFE-733C970B0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30AB-6434-42D8-95F8-77CACAA75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45F8-B104-4F7B-8B8F-AEDC3355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8BEB-07D8-4A12-B3F1-B87BBD0E6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5FF8-C9AD-40DB-9945-86515194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A0FC-1D51-4605-BA45-D71E50153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6722-AD3E-4628-A629-CFD35ECD2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C5256-9EF7-4844-916A-F6C6C777D7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9.xml"/><Relationship Id="rId3" Type="http://schemas.openxmlformats.org/officeDocument/2006/relationships/slide" Target="slide11.xml"/><Relationship Id="rId4" Type="http://schemas.openxmlformats.org/officeDocument/2006/relationships/slide" Target="slide10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868640"/>
            <a:ext cx="7772400" cy="75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Безработица: причины и послед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5640" y="6021000"/>
            <a:ext cx="784872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a3c18"/>
                </a:solidFill>
                <a:latin typeface="Arial"/>
              </a:rPr>
              <a:t>Савка Н.В., учитель истории и обществознания МОУ «Февральская СОШ № 1», 2009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553080" y="4191120"/>
            <a:ext cx="1752840" cy="243828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труктур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Характеризуется несовпадением спроса на труд и предложением в различных фирмах, отраслях, по различным профессиям, происходит «исчезновение» профессии в результате НТ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10800"/>
                </a:moveTo>
                <a:lnTo>
                  <a:pt x="25751" y="3794"/>
                </a:lnTo>
                <a:lnTo>
                  <a:pt x="2575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2852640"/>
            <a:ext cx="820728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Представлена работниками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которые не в состоянии занять имеющиеся рабочие места вследствие отсутствия необходимых навыков и умений для производства нового вида продукции, имеющего спрос на рынке.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Более продолжительна  и дорогостояща, чем фрикционн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Циклическ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ызывается сменой фаз в производственном цикл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previousslide"/>
          </p:cNvPr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26920" y="2421000"/>
            <a:ext cx="68407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представлена работникам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уволенными в период, когда вся экономика страдает от экономического спа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16000" y="5013360"/>
            <a:ext cx="68580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Comic Sans MS"/>
              </a:rPr>
              <a:t>Считается, что при улучшении положения в экономике такие работники снова находят работу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640"/>
                            </p:stCondLst>
                            <p:childTnLst>
                              <p:par>
                                <p:cTn id="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" dur="8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ез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a3c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a3c18"/>
                </a:solidFill>
                <a:latin typeface="Arial"/>
              </a:rPr>
              <a:t>В результате необходимости в ряде отраслей проводятся сезонные работы (например, в сельском хозяйств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8172360" y="6381720"/>
            <a:ext cx="971640" cy="476280"/>
          </a:xfrm>
          <a:custGeom>
            <a:avLst/>
            <a:gdLst>
              <a:gd name="textAreaLeft" fmla="*/ 30600 w 971640"/>
              <a:gd name="textAreaRight" fmla="*/ 941040 w 971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44048" h="21600">
                <a:moveTo>
                  <a:pt x="0" y="0"/>
                </a:moveTo>
                <a:lnTo>
                  <a:pt x="44048" y="0"/>
                </a:lnTo>
                <a:lnTo>
                  <a:pt x="44048" y="21600"/>
                </a:lnTo>
                <a:lnTo>
                  <a:pt x="0" y="21600"/>
                </a:lnTo>
                <a:close/>
              </a:path>
              <a:path fill="lightenLess" w="44048" h="21600">
                <a:moveTo>
                  <a:pt x="0" y="0"/>
                </a:moveTo>
                <a:lnTo>
                  <a:pt x="44048" y="0"/>
                </a:lnTo>
                <a:lnTo>
                  <a:pt x="42648" y="1400"/>
                </a:lnTo>
                <a:lnTo>
                  <a:pt x="1400" y="1400"/>
                </a:lnTo>
                <a:close/>
              </a:path>
              <a:path fill="darken" w="44048" h="21600">
                <a:moveTo>
                  <a:pt x="44048" y="0"/>
                </a:moveTo>
                <a:lnTo>
                  <a:pt x="44048" y="21600"/>
                </a:lnTo>
                <a:lnTo>
                  <a:pt x="42648" y="20200"/>
                </a:lnTo>
                <a:lnTo>
                  <a:pt x="42648" y="1400"/>
                </a:lnTo>
                <a:close/>
              </a:path>
              <a:path fill="darkenLess" w="44048" h="21600">
                <a:moveTo>
                  <a:pt x="440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2648" y="20200"/>
                </a:lnTo>
                <a:close/>
              </a:path>
              <a:path fill="lighten" w="440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048" h="21600">
                <a:moveTo>
                  <a:pt x="15018" y="10800"/>
                </a:moveTo>
                <a:lnTo>
                  <a:pt x="29031" y="3794"/>
                </a:lnTo>
                <a:lnTo>
                  <a:pt x="2903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187280" y="1413000"/>
            <a:ext cx="187200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рик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76720" y="1413000"/>
            <a:ext cx="1871640" cy="57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уктур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124000" y="1987560"/>
            <a:ext cx="3960720" cy="505080"/>
            <a:chOff x="2124000" y="1987560"/>
            <a:chExt cx="3960720" cy="505080"/>
          </a:xfrm>
        </p:grpSpPr>
        <p:cxnSp>
          <p:nvCxnSpPr>
            <p:cNvPr id="123" name=""/>
            <p:cNvCxnSpPr>
              <a:stCxn id="120" idx="2"/>
            </p:cNvCxnSpPr>
            <p:nvPr/>
          </p:nvCxnSpPr>
          <p:spPr>
            <a:xfrm flipH="1" rot="16200000">
              <a:off x="3852000" y="259560"/>
              <a:ext cx="505440" cy="3961080"/>
            </a:xfrm>
            <a:prstGeom prst="bentConnector2">
              <a:avLst/>
            </a:prstGeom>
            <a:ln w="19080">
              <a:solidFill>
                <a:srgbClr val="339966"/>
              </a:solidFill>
              <a:miter/>
            </a:ln>
          </p:spPr>
        </p:cxnSp>
        <p:sp>
          <p:nvSpPr>
            <p:cNvPr id="124" name=""/>
            <p:cNvSpPr/>
            <p:nvPr/>
          </p:nvSpPr>
          <p:spPr>
            <a:xfrm flipV="1">
              <a:off x="6084720" y="1989000"/>
              <a:ext cx="0" cy="503280"/>
            </a:xfrm>
            <a:prstGeom prst="line">
              <a:avLst/>
            </a:prstGeom>
            <a:ln w="1908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4140360" y="2492280"/>
            <a:ext cx="0" cy="432000"/>
          </a:xfrm>
          <a:prstGeom prst="line">
            <a:avLst/>
          </a:prstGeom>
          <a:ln w="1908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92360" y="2924280"/>
            <a:ext cx="4751280" cy="576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Естестве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3789360"/>
            <a:ext cx="89647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ная занятость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чая сил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(1- естественная норма безработиц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4930920"/>
            <a:ext cx="74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Естественная норма безработицы – это ситуация, когда в стране существует только структурная и фрикционная безработи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Измерение безработицы 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уровня безработи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8360" y="17002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Население стра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7640" y="1916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48000" y="1628640"/>
            <a:ext cx="50403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Рабочая сила + Выбывшие из состава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2637000"/>
            <a:ext cx="8353440" cy="3988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</a:rPr>
              <a:t>Рабочая сила = Женщины (16 – 55 лет) + Мужчины (16 – 60 л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3213000"/>
            <a:ext cx="2376720" cy="576360"/>
          </a:xfrm>
          <a:prstGeom prst="roundRect">
            <a:avLst>
              <a:gd name="adj" fmla="val 16667"/>
            </a:avLst>
          </a:prstGeom>
          <a:solidFill>
            <a:srgbClr val="ff9999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Рабочая с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2000" y="3789360"/>
            <a:ext cx="215640" cy="360360"/>
          </a:xfrm>
          <a:prstGeom prst="downArrow">
            <a:avLst>
              <a:gd name="adj1" fmla="val 50000"/>
              <a:gd name="adj2" fmla="val 4177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3789360"/>
            <a:ext cx="216000" cy="360360"/>
          </a:xfrm>
          <a:prstGeom prst="downArrow">
            <a:avLst>
              <a:gd name="adj1" fmla="val 50000"/>
              <a:gd name="adj2" fmla="val 41708"/>
            </a:avLst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4149720"/>
            <a:ext cx="2232000" cy="863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56000" y="4149720"/>
            <a:ext cx="2879640" cy="1079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кономичес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активное насе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обровольно незаняты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5516640"/>
            <a:ext cx="1692360" cy="45864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ня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50920" y="5516640"/>
            <a:ext cx="2016360" cy="5047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826920" y="5013360"/>
            <a:ext cx="21600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5013360"/>
            <a:ext cx="1368720" cy="503280"/>
          </a:xfrm>
          <a:prstGeom prst="line">
            <a:avLst/>
          </a:prstGeom>
          <a:ln w="2844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076720" y="3500280"/>
            <a:ext cx="352764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ровень безработицы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езрабо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нятые+Безработные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12000" y="4365720"/>
            <a:ext cx="180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101080" y="4005360"/>
            <a:ext cx="863640" cy="54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100%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146" name=""/>
          <p:cNvSpPr txBox="1"/>
          <p:nvPr/>
        </p:nvSpPr>
        <p:spPr>
          <a:xfrm rot="5400000">
            <a:off x="7888320" y="4217040"/>
            <a:ext cx="182880" cy="190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28800"/>
            <a:ext cx="81360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числить уровень безработицы в стране, численность населения которой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. Из них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дети до 16 ле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млн. человек выбыли из состава рабочей силы по возрасту,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,6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- безработные,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лн. человек заняты неполный рабочий день  и ищут рабо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684360" y="1125360"/>
            <a:ext cx="75722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тоды регулирования безработицы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56400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труктурной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8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26920" y="2852640"/>
            <a:ext cx="18702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фрикционной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372360" y="2852640"/>
            <a:ext cx="186984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Метод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регулирования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циклической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8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безработицы</a:t>
            </a:r>
            <a:endParaRPr b="0" lang="en-US" sz="1800" spc="1" strike="noStrike">
              <a:ln w="0">
                <a:noFill/>
              </a:ln>
              <a:solidFill>
                <a:srgbClr val="00008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54764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020000" y="1773360"/>
            <a:ext cx="216000" cy="934920"/>
          </a:xfrm>
          <a:prstGeom prst="downArrow">
            <a:avLst>
              <a:gd name="adj1" fmla="val 50000"/>
              <a:gd name="adj2" fmla="val 108208"/>
            </a:avLst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фрикцион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учшение информационного обеспечения рынка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транение факторов, снижающих мобильность рабочей си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4360" y="4724280"/>
            <a:ext cx="7777080" cy="115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етоды регулирования структурн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е системы и программ профессиональног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ереобучения и переквалифик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84360" y="4365720"/>
            <a:ext cx="7850160" cy="24922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тоды регулирования циклической безработицы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проса на товары (стимулир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оста экспорта, поддержка инвестиций в реконструкцию предприят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ощрение иностранных инвестиций в экономику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сокращения предложения рабочей сил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снижение возраста для выхода на пенсию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роста самозанято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ализация программ поддержки молодых работн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1899360"/>
            <a:ext cx="914400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Широкие масштабы в России приобрела также так называемая </a:t>
            </a: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«скрытая»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безработиц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случае скрытой безработицы человек </a:t>
            </a:r>
            <a:r>
              <a:rPr b="0" lang="en-US" sz="1800" spc="-1" strike="noStrike">
                <a:solidFill>
                  <a:srgbClr val="99cc00"/>
                </a:solidFill>
                <a:latin typeface="Arial"/>
              </a:rPr>
              <a:t>является безработным по су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не работает, хотя хочет работать), но по ряду причин, часто связанных со статистическим учетом, не считается безрабо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из-за недостаточного развития службы занятос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в регионе люди, не имеющие работы, не обращаются в бюро по трудоустройству и поэтому не учитываются в качестве безработны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предприятия простаивают, но людей не увольняют, а отправляют в бессрочный неоплачиваемый отпуск; в результате люди не работают и не получают заработной платы, но при этом не считаются безработн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44480" y="333360"/>
            <a:ext cx="599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Особенности безработицы 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052640"/>
            <a:ext cx="8569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Высокая территориальная концентрация производства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. В период существования СССР многие города и поселки России создавались или развивались на основе 1-3 крупных «градообразующих» предприятий. На этих предприятиях работало большинство трудоспособного населения города, и этим предприятиям принадлежала вся городская инфраструктура. В период перехода России к рыночной экономике многие градообразующие предприятия стали испытывать трудности. В то же время, в городах и поселках, где они располагались, практически не было альтернативных рабочих мест, поэтому работникам, уволенным с таких предприятий, не находилось иного места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13716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) Важнейшим отличием трудовых ресурсов России по сравнению с трудовыми ресурсами индустриально развитых стран мира является 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их низкая мобильность</a:t>
            </a:r>
            <a:r>
              <a:rPr b="1" i="1" lang="en-U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В России многие работники крайне неохотно меняют место жительства, даже если на новом месте они могут устроиться на работу с более высокой опла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4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a3c1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7556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Структура занятост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85800" y="1828800"/>
          <a:ext cx="7620120" cy="3657600"/>
        </p:xfrm>
        <a:graphic>
          <a:graphicData uri="http://schemas.openxmlformats.org/drawingml/2006/table">
            <a:tbl>
              <a:tblPr/>
              <a:tblGrid>
                <a:gridCol w="2540160"/>
                <a:gridCol w="2539800"/>
                <a:gridCol w="2540160"/>
              </a:tblGrid>
              <a:tr h="5310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Не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9dfe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6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Трудоспособ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00"/>
                          </a:solidFill>
                          <a:latin typeface="Arial"/>
                        </a:rPr>
                        <a:t>(трудовые ресурсы)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бровольноне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1f5d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Экономически активное нас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Н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анят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(З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езработны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Б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71f5d2"/>
                    </a:solidFill>
                  </a:tcPr>
                </a:tc>
              </a:tr>
            </a:tbl>
          </a:graphicData>
        </a:graphic>
      </p:graphicFrame>
      <p:sp>
        <p:nvSpPr>
          <p:cNvPr id="46" name=""/>
          <p:cNvSpPr/>
          <p:nvPr/>
        </p:nvSpPr>
        <p:spPr>
          <a:xfrm>
            <a:off x="1219320" y="58183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бщая площадь прямоугольника соответствует численности населения стр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7124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r" pos="449280"/>
                <a:tab algn="ctr" pos="2637000"/>
                <a:tab algn="r" pos="5273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99cc00"/>
                </a:solidFill>
                <a:latin typeface="Comic Sans MS"/>
              </a:rPr>
              <a:t>  </a:t>
            </a:r>
            <a:r>
              <a:rPr b="1" i="1" lang="en-US" sz="2400" spc="-1" strike="noStrike">
                <a:solidFill>
                  <a:srgbClr val="99cc00"/>
                </a:solidFill>
                <a:latin typeface="Comic Sans MS"/>
              </a:rPr>
              <a:t>К нетрудоспособному населению относятся </a:t>
            </a:r>
            <a:r>
              <a:rPr b="1" i="1" lang="en-US" sz="2400" spc="-1" strike="noStrike">
                <a:solidFill>
                  <a:srgbClr val="009900"/>
                </a:solidFill>
                <a:latin typeface="Comic Sans MS"/>
              </a:rPr>
              <a:t>люди, которые в силу возраста и состояния здоровья не способны к труду: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1905120"/>
            <a:ext cx="675972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дети  до 16 л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енсионеры  (мужчины старше 60 лет,  женщины  старше 55 лет)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нвали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003640" y="4449600"/>
            <a:ext cx="2089440" cy="19018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1476360" y="4508640"/>
            <a:ext cx="1395360" cy="17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Трудоспособное насел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ccff33"/>
                </a:solidFill>
                <a:uFillTx/>
                <a:latin typeface="Comic Sans MS"/>
              </a:rPr>
              <a:t>(трудовые ресурсы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Добровольно незанятые-</a:t>
            </a:r>
            <a:r>
              <a:rPr b="1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трудоспособные люди, не занятые в общественном производстве и не стремящиеся получить работу:</a:t>
            </a:r>
            <a:r>
              <a:rPr b="0" i="1" lang="en-US" sz="2800" spc="-1" strike="noStrike">
                <a:solidFill>
                  <a:srgbClr val="99cc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2895480"/>
            <a:ext cx="8229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1. студенты дневного отделе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2. домохозяй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3. бродяг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Comic Sans MS"/>
              </a:rPr>
              <a:t>4. люди, искавшие работу, но отчаявшиеся её найти и поэтому прекратившие поиск рабо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477120" y="4572000"/>
            <a:ext cx="1904760" cy="1752480"/>
          </a:xfrm>
          <a:prstGeom prst="rect">
            <a:avLst/>
          </a:prstGeom>
          <a:ln w="0">
            <a:noFill/>
          </a:ln>
        </p:spPr>
      </p:pic>
      <p:sp>
        <p:nvSpPr>
          <p:cNvPr id="58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835280" y="4869000"/>
            <a:ext cx="1876320" cy="15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9640" y="990720"/>
            <a:ext cx="76899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6600"/>
                </a:solidFill>
                <a:uFillTx/>
                <a:latin typeface="Comic Sans MS"/>
              </a:rPr>
              <a:t>Занятые</a:t>
            </a:r>
            <a:r>
              <a:rPr b="1" lang="en-US" sz="2800" spc="-1" strike="noStrike" u="sng">
                <a:solidFill>
                  <a:srgbClr val="99cc00"/>
                </a:solidFill>
                <a:uFillTx/>
                <a:latin typeface="Comic Sans MS"/>
              </a:rPr>
              <a:t> </a:t>
            </a:r>
            <a:r>
              <a:rPr b="1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-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Comic Sans MS"/>
              </a:rPr>
              <a:t>л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юди, </a:t>
            </a:r>
            <a:r>
              <a:rPr b="1" lang="en-US" sz="2800" spc="-1" strike="noStrike">
                <a:solidFill>
                  <a:srgbClr val="009900"/>
                </a:solidFill>
                <a:latin typeface="Comic Sans MS"/>
              </a:rPr>
              <a:t>имеющие работу, </a:t>
            </a: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причем не важно, занят человек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олный рабочий день или  неполный, полную рабочую неделю или неполную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При этом человек считается  занятым, если он  не работает по следующим причина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оле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находится в отпуске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бастуе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171880" indent="-343080">
              <a:lnSpc>
                <a:spcPct val="100000"/>
              </a:lnSpc>
              <a:buClr>
                <a:srgbClr val="009900"/>
              </a:buClr>
              <a:buFont typeface="Comic Sans MS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из-за 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5562720"/>
            <a:ext cx="67816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71600" y="6248520"/>
            <a:ext cx="76320" cy="75960"/>
          </a:xfrm>
          <a:custGeom>
            <a:avLst/>
            <a:gdLst>
              <a:gd name="textAreaLeft" fmla="*/ 4680 w 76320"/>
              <a:gd name="textAreaRight" fmla="*/ 71640 w 76320"/>
              <a:gd name="textAreaTop" fmla="*/ 4680 h 75960"/>
              <a:gd name="textAreaBottom" fmla="*/ 71280 h 75960"/>
            </a:gdLst>
            <a:ahLst/>
            <a:rect l="textAreaLeft" t="textAreaTop" r="textAreaRight" b="textAreaBottom"/>
            <a:pathLst>
              <a:path w="21702" h="21600">
                <a:moveTo>
                  <a:pt x="0" y="0"/>
                </a:moveTo>
                <a:lnTo>
                  <a:pt x="21702" y="0"/>
                </a:lnTo>
                <a:lnTo>
                  <a:pt x="21702" y="21600"/>
                </a:lnTo>
                <a:lnTo>
                  <a:pt x="0" y="21600"/>
                </a:lnTo>
                <a:close/>
              </a:path>
              <a:path fill="lightenLess" w="21702" h="21600">
                <a:moveTo>
                  <a:pt x="0" y="0"/>
                </a:moveTo>
                <a:lnTo>
                  <a:pt x="21702" y="0"/>
                </a:lnTo>
                <a:lnTo>
                  <a:pt x="20302" y="1400"/>
                </a:lnTo>
                <a:lnTo>
                  <a:pt x="1400" y="1400"/>
                </a:lnTo>
                <a:close/>
              </a:path>
              <a:path fill="darken" w="21702" h="21600">
                <a:moveTo>
                  <a:pt x="21702" y="0"/>
                </a:moveTo>
                <a:lnTo>
                  <a:pt x="21702" y="21600"/>
                </a:lnTo>
                <a:lnTo>
                  <a:pt x="20302" y="20200"/>
                </a:lnTo>
                <a:lnTo>
                  <a:pt x="20302" y="1400"/>
                </a:lnTo>
                <a:close/>
              </a:path>
              <a:path fill="darkenLess" w="21702" h="21600">
                <a:moveTo>
                  <a:pt x="217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2" y="20200"/>
                </a:lnTo>
                <a:close/>
              </a:path>
              <a:path fill="lighten" w="217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702" h="21600">
                <a:moveTo>
                  <a:pt x="3844" y="7493"/>
                </a:moveTo>
                <a:lnTo>
                  <a:pt x="7352" y="7493"/>
                </a:lnTo>
                <a:lnTo>
                  <a:pt x="7352" y="12828"/>
                </a:lnTo>
                <a:cubicBezTo>
                  <a:pt x="7352" y="13751"/>
                  <a:pt x="8153" y="14482"/>
                  <a:pt x="9189" y="14482"/>
                </a:cubicBezTo>
                <a:lnTo>
                  <a:pt x="10851" y="14482"/>
                </a:lnTo>
                <a:cubicBezTo>
                  <a:pt x="11887" y="14482"/>
                  <a:pt x="12687" y="13751"/>
                  <a:pt x="12687" y="12828"/>
                </a:cubicBezTo>
                <a:lnTo>
                  <a:pt x="12687" y="7493"/>
                </a:lnTo>
                <a:lnTo>
                  <a:pt x="10851" y="7493"/>
                </a:lnTo>
                <a:lnTo>
                  <a:pt x="14359" y="3985"/>
                </a:lnTo>
                <a:lnTo>
                  <a:pt x="18031" y="7493"/>
                </a:lnTo>
                <a:lnTo>
                  <a:pt x="16195" y="7493"/>
                </a:lnTo>
                <a:lnTo>
                  <a:pt x="16195" y="12828"/>
                </a:lnTo>
                <a:cubicBezTo>
                  <a:pt x="16195" y="15596"/>
                  <a:pt x="13619" y="18155"/>
                  <a:pt x="10851" y="18155"/>
                </a:cubicBezTo>
                <a:lnTo>
                  <a:pt x="9189" y="18155"/>
                </a:lnTo>
                <a:cubicBezTo>
                  <a:pt x="6421" y="18155"/>
                  <a:pt x="3844" y="15596"/>
                  <a:pt x="384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800" bIns="19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900000" y="333360"/>
            <a:ext cx="748836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>
                <a:solidFill>
                  <a:srgbClr val="ffffff"/>
                </a:solidFill>
                <a:uFillTx/>
                <a:latin typeface="Comic Sans MS"/>
              </a:rPr>
              <a:t>Безработными признаются: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удоспособные граждане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не имеющие работы и заработк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зарегистрированные в службе занятости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активно ищущие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работу и ожидающие начала трудовой деятель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851440"/>
            <a:ext cx="72388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previousslide"/>
          </p:cNvPr>
          <p:cNvSpPr/>
          <p:nvPr/>
        </p:nvSpPr>
        <p:spPr>
          <a:xfrm>
            <a:off x="8604360" y="638172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10800"/>
                </a:moveTo>
                <a:lnTo>
                  <a:pt x="19242" y="3794"/>
                </a:lnTo>
                <a:lnTo>
                  <a:pt x="1924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52280" y="4198320"/>
            <a:ext cx="861084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99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447920"/>
            <a:ext cx="53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не работ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733920"/>
            <a:ext cx="493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743200"/>
            <a:ext cx="891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езработные ищут работу, добровольно незанятые не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143000" y="4648320"/>
            <a:ext cx="6454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245960" y="3886200"/>
            <a:ext cx="54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рудоспособные, желают работ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600200" y="525780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анятые имеют работу, безработные ищу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190512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добровольно незанятыми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-71280" y="836640"/>
            <a:ext cx="92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добровольно не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49760" y="3427560"/>
            <a:ext cx="682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Сходство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4648320"/>
            <a:ext cx="747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 Unicode MS"/>
              </a:rPr>
              <a:t>Различие между безработными и заняты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68360" y="907920"/>
            <a:ext cx="8351640" cy="865440"/>
          </a:xfrm>
          <a:prstGeom prst="roundRect">
            <a:avLst>
              <a:gd name="adj" fmla="val 16667"/>
            </a:avLst>
          </a:prstGeom>
          <a:solidFill>
            <a:srgbClr val="5bdb9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а – социально-экономическое явление, характеризующее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сутствием работы для части нас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92360" y="1916280"/>
            <a:ext cx="5327640" cy="433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ee683"/>
              </a:gs>
              <a:gs pos="100000">
                <a:srgbClr val="ccff33"/>
              </a:gs>
            </a:gsLst>
            <a:lin ang="5400000"/>
          </a:gradFill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ды 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87280" y="2649600"/>
            <a:ext cx="2880000" cy="995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6d2f2"/>
              </a:gs>
              <a:gs pos="100000">
                <a:srgbClr val="ff99cc"/>
              </a:gs>
            </a:gsLst>
            <a:lin ang="5400000"/>
          </a:gra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характе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теснения работ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производ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43280" y="2637000"/>
            <a:ext cx="2881440" cy="1008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5bae4"/>
              </a:gs>
              <a:gs pos="100000">
                <a:srgbClr val="9966ff"/>
              </a:gs>
            </a:gsLst>
            <a:lin ang="5400000"/>
          </a:gradFill>
          <a:ln w="9360">
            <a:solidFill>
              <a:srgbClr val="99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 точки зрения прич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 условий возникнов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зрабо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393372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66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броволь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4360" y="5013360"/>
            <a:ext cx="251928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99"/>
              </a:gs>
              <a:gs pos="100000">
                <a:srgbClr val="ffff00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нужде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808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ff"/>
              </a:gs>
              <a:gs pos="100000">
                <a:srgbClr val="c8c2c7"/>
              </a:gs>
            </a:gsLst>
            <a:lin ang="5400000"/>
          </a:gradFill>
          <a:ln w="9360">
            <a:solidFill>
              <a:srgbClr val="b0d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Фрикци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5600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cc"/>
              </a:gs>
              <a:gs pos="100000">
                <a:srgbClr val="da708e"/>
              </a:gs>
            </a:gsLst>
            <a:lin ang="5400000"/>
          </a:gradFill>
          <a:ln w="9360">
            <a:solidFill>
              <a:srgbClr val="da70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Цикл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40640" y="4941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ff99"/>
              </a:gs>
              <a:gs pos="100000">
                <a:srgbClr val="7ec49a"/>
              </a:gs>
            </a:gsLst>
            <a:lin ang="5400000"/>
          </a:gradFill>
          <a:ln w="936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езон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32720" y="3933720"/>
            <a:ext cx="1871640" cy="57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3c4da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труктур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2349360"/>
            <a:ext cx="0" cy="792360"/>
          </a:xfrm>
          <a:prstGeom prst="line">
            <a:avLst/>
          </a:prstGeom>
          <a:ln w="28440">
            <a:solidFill>
              <a:srgbClr val="7ec49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stCxn id="80" idx="3"/>
            <a:endCxn id="81" idx="1"/>
          </p:cNvCxnSpPr>
          <p:nvPr/>
        </p:nvCxnSpPr>
        <p:spPr>
          <a:xfrm flipV="1">
            <a:off x="4067280" y="3141000"/>
            <a:ext cx="576360" cy="6840"/>
          </a:xfrm>
          <a:prstGeom prst="straightConnector1">
            <a:avLst/>
          </a:prstGeom>
          <a:ln w="19080">
            <a:solidFill>
              <a:srgbClr val="7ec49a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90" name=""/>
          <p:cNvGrpSpPr/>
          <p:nvPr/>
        </p:nvGrpSpPr>
        <p:grpSpPr>
          <a:xfrm>
            <a:off x="250920" y="4292640"/>
            <a:ext cx="433440" cy="1152360"/>
            <a:chOff x="250920" y="4292640"/>
            <a:chExt cx="433440" cy="1152360"/>
          </a:xfrm>
        </p:grpSpPr>
        <p:sp>
          <p:nvSpPr>
            <p:cNvPr id="91" name=""/>
            <p:cNvSpPr/>
            <p:nvPr/>
          </p:nvSpPr>
          <p:spPr>
            <a:xfrm>
              <a:off x="250920" y="544500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292640"/>
              <a:ext cx="43344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284800" y="3141720"/>
            <a:ext cx="3679920" cy="1800000"/>
            <a:chOff x="5284800" y="3141720"/>
            <a:chExt cx="3679920" cy="1800000"/>
          </a:xfrm>
        </p:grpSpPr>
        <p:cxnSp>
          <p:nvCxnSpPr>
            <p:cNvPr id="94" name=""/>
            <p:cNvCxnSpPr>
              <a:stCxn id="81" idx="3"/>
            </p:cNvCxnSpPr>
            <p:nvPr/>
          </p:nvCxnSpPr>
          <p:spPr>
            <a:xfrm>
              <a:off x="7524720" y="3141720"/>
              <a:ext cx="1440360" cy="1583280"/>
            </a:xfrm>
            <a:prstGeom prst="bentConnector2">
              <a:avLst/>
            </a:prstGeom>
            <a:ln w="19080">
              <a:solidFill>
                <a:srgbClr val="7ec49a"/>
              </a:solidFill>
              <a:miter/>
            </a:ln>
          </p:spPr>
        </p:cxnSp>
        <p:sp>
          <p:nvSpPr>
            <p:cNvPr id="95" name=""/>
            <p:cNvSpPr/>
            <p:nvPr/>
          </p:nvSpPr>
          <p:spPr>
            <a:xfrm flipH="1">
              <a:off x="5292720" y="4724280"/>
              <a:ext cx="3672000" cy="0"/>
            </a:xfrm>
            <a:prstGeom prst="line">
              <a:avLst/>
            </a:prstGeom>
            <a:ln w="19080">
              <a:solidFill>
                <a:srgbClr val="7ec4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" name=""/>
            <p:cNvCxnSpPr>
              <a:stCxn id="84" idx="2"/>
              <a:endCxn id="85" idx="0"/>
            </p:cNvCxnSpPr>
            <p:nvPr/>
          </p:nvCxnSpPr>
          <p:spPr>
            <a:xfrm>
              <a:off x="528480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7" name=""/>
            <p:cNvCxnSpPr>
              <a:stCxn id="87" idx="2"/>
              <a:endCxn id="86" idx="0"/>
            </p:cNvCxnSpPr>
            <p:nvPr/>
          </p:nvCxnSpPr>
          <p:spPr>
            <a:xfrm>
              <a:off x="7669080" y="4508280"/>
              <a:ext cx="8640" cy="433800"/>
            </a:xfrm>
            <a:prstGeom prst="straightConnector1">
              <a:avLst/>
            </a:prstGeom>
            <a:ln w="19080">
              <a:solidFill>
                <a:srgbClr val="7ec49a"/>
              </a:solidFill>
              <a:miter/>
              <a:headEnd len="med" type="triangle" w="med"/>
              <a:tailEnd len="med" type="triangle" w="med"/>
            </a:ln>
          </p:spPr>
        </p:cxnSp>
      </p:grpSp>
      <p:cxnSp>
        <p:nvCxnSpPr>
          <p:cNvPr id="98" name=""/>
          <p:cNvCxnSpPr>
            <a:stCxn id="80" idx="1"/>
          </p:cNvCxnSpPr>
          <p:nvPr/>
        </p:nvCxnSpPr>
        <p:spPr>
          <a:xfrm flipV="1" rot="10800000">
            <a:off x="250200" y="3146760"/>
            <a:ext cx="937080" cy="2297880"/>
          </a:xfrm>
          <a:prstGeom prst="bentConnector2">
            <a:avLst/>
          </a:prstGeom>
          <a:ln w="19080">
            <a:solidFill>
              <a:srgbClr val="7ec49a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8317080" y="6381720"/>
            <a:ext cx="826920" cy="476280"/>
          </a:xfrm>
          <a:custGeom>
            <a:avLst/>
            <a:gdLst>
              <a:gd name="textAreaLeft" fmla="*/ 30600 w 826920"/>
              <a:gd name="textAreaRight" fmla="*/ 796320 w 82692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7490" h="21600">
                <a:moveTo>
                  <a:pt x="0" y="0"/>
                </a:moveTo>
                <a:lnTo>
                  <a:pt x="37490" y="0"/>
                </a:lnTo>
                <a:lnTo>
                  <a:pt x="37490" y="21600"/>
                </a:lnTo>
                <a:lnTo>
                  <a:pt x="0" y="21600"/>
                </a:lnTo>
                <a:close/>
              </a:path>
              <a:path fill="lightenLess" w="37490" h="21600">
                <a:moveTo>
                  <a:pt x="0" y="0"/>
                </a:moveTo>
                <a:lnTo>
                  <a:pt x="37490" y="0"/>
                </a:lnTo>
                <a:lnTo>
                  <a:pt x="36090" y="1400"/>
                </a:lnTo>
                <a:lnTo>
                  <a:pt x="1400" y="1400"/>
                </a:lnTo>
                <a:close/>
              </a:path>
              <a:path fill="darken" w="37490" h="21600">
                <a:moveTo>
                  <a:pt x="37490" y="0"/>
                </a:moveTo>
                <a:lnTo>
                  <a:pt x="37490" y="21600"/>
                </a:lnTo>
                <a:lnTo>
                  <a:pt x="36090" y="20200"/>
                </a:lnTo>
                <a:lnTo>
                  <a:pt x="36090" y="1400"/>
                </a:lnTo>
                <a:close/>
              </a:path>
              <a:path fill="darkenLess" w="37490" h="21600">
                <a:moveTo>
                  <a:pt x="37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090" y="20200"/>
                </a:lnTo>
                <a:close/>
              </a:path>
              <a:path fill="lighten" w="37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490" h="21600">
                <a:moveTo>
                  <a:pt x="11739" y="3794"/>
                </a:moveTo>
                <a:lnTo>
                  <a:pt x="25751" y="10800"/>
                </a:lnTo>
                <a:lnTo>
                  <a:pt x="1173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72835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Фрикционная безрабо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Связана с поиском и ожиданием работы по разным причинам, например, переезд в связи с изменением семейного положения, окончанием вуза. Этот вид безработицы предполагает перемещение рабочей силы по отраслям, регионам, в связи с возрастом, переменой профессии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14600" y="327672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Особен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" y="3733920"/>
            <a:ext cx="769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Работу ищут уже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9999"/>
                </a:solidFill>
                <a:latin typeface="Comic Sans MS"/>
              </a:rPr>
              <a:t>готовые специалисты</a:t>
            </a:r>
            <a:r>
              <a:rPr b="0" i="1" lang="en-US" sz="2000" spc="-1" strike="noStrike">
                <a:solidFill>
                  <a:srgbClr val="009999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 определённым уровнем профессиональной подготовки и квалифик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4581360"/>
            <a:ext cx="7086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Безработица этого вида обычно продолжается короткий период времени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55640" y="5445000"/>
            <a:ext cx="5638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99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Comic Sans MS"/>
              </a:rPr>
              <a:t>Способствует более рациональному  размещению рабочей силы и более высокой производительн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6T13:21:31Z</dcterms:created>
  <dc:creator>Надежда</dc:creator>
  <dc:description/>
  <dc:language>en-US</dc:language>
  <cp:lastModifiedBy>Надежда</cp:lastModifiedBy>
  <dcterms:modified xsi:type="dcterms:W3CDTF">2009-12-08T08:16:52Z</dcterms:modified>
  <cp:revision>6</cp:revision>
  <dc:subject/>
  <dc:title>Слайд 1</dc:title>
</cp:coreProperties>
</file>