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30D7-EEAC-46FA-A7CB-6374E8BE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4771-517E-4620-84B7-1ECAC1AA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DAB-4B60-49C3-9561-5845E14E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FEA-224B-405E-B1B9-63C03D10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145-CA41-4B60-95A1-EB8BBD23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5A5-6CAE-4014-9EE8-024FFD0C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3F5-FD28-45A5-A048-1863F81E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BA9-623B-475F-8D2E-853521A5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768-5F13-42B8-AE0C-78909A0D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37F-4AF1-4AED-8334-2960BD68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291-8307-45CF-B71C-FF9B63DB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827D-8164-4B1A-90D6-49552DE7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1AA4-5452-4030-AD64-4599B6954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868640"/>
            <a:ext cx="777240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работица: причины и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6021000"/>
            <a:ext cx="784872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3c18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1752840" cy="2438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уктур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Характеризуется несовпадением спроса на труд и предложением в различных фирмах, отраслях, по различным профессиям, происходит «исчезновение» профессии в результате НТ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852640"/>
            <a:ext cx="82072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редставлена работниками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которые не в состоянии занять имеющиеся рабочие места вследствие отсутствия необходимых навыков и умений для производства нового вида продукции, имеющего спрос на рынке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Более продолжительна  и дорогостояща, чем фрикцио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иклическ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ызывается сменой фаз в производственном цик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421000"/>
            <a:ext cx="684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представлена работник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уволенными в период, когда вся экономика страдает от экономического сп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5013360"/>
            <a:ext cx="685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Считается, что при улучшении положения в экономике такие работники снова находят работу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64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з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 результате необходимости в ряде отраслей проводятся сезонные работы (например, в сельском хозяйств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413000"/>
            <a:ext cx="18720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ик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1413000"/>
            <a:ext cx="187164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124000" y="1987560"/>
            <a:ext cx="3960720" cy="505080"/>
            <a:chOff x="2124000" y="1987560"/>
            <a:chExt cx="3960720" cy="505080"/>
          </a:xfrm>
        </p:grpSpPr>
        <p:cxnSp>
          <p:nvCxnSpPr>
            <p:cNvPr id="123" name=""/>
            <p:cNvCxnSpPr>
              <a:stCxn id="120" idx="2"/>
            </p:cNvCxnSpPr>
            <p:nvPr/>
          </p:nvCxnSpPr>
          <p:spPr>
            <a:xfrm flipH="1" rot="16200000">
              <a:off x="3852000" y="259560"/>
              <a:ext cx="505440" cy="3961080"/>
            </a:xfrm>
            <a:prstGeom prst="bentConnector2">
              <a:avLst/>
            </a:prstGeom>
            <a:ln w="19080">
              <a:solidFill>
                <a:srgbClr val="339966"/>
              </a:solidFill>
              <a:miter/>
            </a:ln>
          </p:spPr>
        </p:cxnSp>
        <p:sp>
          <p:nvSpPr>
            <p:cNvPr id="124" name=""/>
            <p:cNvSpPr/>
            <p:nvPr/>
          </p:nvSpPr>
          <p:spPr>
            <a:xfrm flipV="1">
              <a:off x="6084720" y="1989000"/>
              <a:ext cx="0" cy="50328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140360" y="2492280"/>
            <a:ext cx="0" cy="432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2924280"/>
            <a:ext cx="4751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тестве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789360"/>
            <a:ext cx="896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ная занятость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чая си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1- естественная норма безработиц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930920"/>
            <a:ext cx="74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Естественная норма безработицы – это ситуация, когда в стране существует только структурная и фрикционная безработ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змерение безработицы 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уровня безрабо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700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селение стра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1628640"/>
            <a:ext cx="504036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263700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321300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378936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414972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41497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51664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5516640"/>
            <a:ext cx="201636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826920" y="5013360"/>
            <a:ext cx="21600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5013360"/>
            <a:ext cx="136872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3500280"/>
            <a:ext cx="3527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4365720"/>
            <a:ext cx="18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101080" y="400536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 rot="5400000">
            <a:off x="7888320" y="4217040"/>
            <a:ext cx="18288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136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числить уровень безработицы в стране, численность населения которой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. Из них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дети до 16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 выбыли из состава рабочей силы по возрасту,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,6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- безработные,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заняты неполный рабочий день  и ищут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4360" y="1125360"/>
            <a:ext cx="7572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ы регулирования безрабо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400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ктурной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2852640"/>
            <a:ext cx="187020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икционно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37236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ической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000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фрикцион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учшение информационного обеспечения рынка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анение факторов, снижающих мобильность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структур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системы и программ профессион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обучения и пере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4365720"/>
            <a:ext cx="7850160" cy="2492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регулирования циклическ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проса на товары (стимул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а экспорта, поддержка инвестиций в реконструкцию предприя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 иностранных инвестиций в экономику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сокращения предложения рабочей си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нижение возраста для выхода на пенсию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амозанят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программ поддержки молодых рабо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899360"/>
            <a:ext cx="9144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Широкие масштабы в России приобрела также так называемая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«скрытая»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безработиц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случае скрытой безработицы человек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является безработным по су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не работает, хотя хочет работать), но по ряду причин, часто связанных со статистическим учетом, не считается безрабо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-за недостаточного развития службы занят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регионе люди, не имеющие работы, не обращаются в бюро по трудоустройству и поэтому не учитываются в качестве безработны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редприятия простаивают, но людей не увольняют, а отправляют в бессрочный неоплачиваемый отпуск; в результате люди не работают и не получают заработной платы, но при этом не считаются безраб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44480" y="33336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Особенности безработицы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052640"/>
            <a:ext cx="85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ысокая территориальная концентрация производств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В период существования СССР многие города и поселки России создавались или развивались на основе 1-3 крупных «градообразующих» предприятий. На этих предприятиях работало большинство трудоспособного населения города, и этим предприятиям принадлежала вся городская инфраструктура. В период перехода России к рыночной экономике многие градообразующие предприятия стали испытывать трудности. В то же время, в городах и поселках, где они располагались, практически не было альтернативных рабочих мест, поэтому работникам, уволенным с таких предприятий, не находилось иного места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371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Важнейшим отличием трудовых ресурсов России по сравнению с трудовыми ресурсами индустриально развитых стран мира является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их низкая мобильность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 России многие работники крайне неохотно меняют место жительства, даже если на новом месте они могут устроиться на работу с более высокой опла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3c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55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Структура занят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828800"/>
          <a:ext cx="7620120" cy="36576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531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Не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9df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трудовые ресурсы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овольноне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1f5d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Экономически актив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З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раб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219320" y="5818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щая площадь прямоугольника соответствует численности населения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712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Comic Sans MS"/>
              </a:rPr>
              <a:t>  </a:t>
            </a:r>
            <a:r>
              <a:rPr b="1" i="1" lang="en-US" sz="2400" spc="-1" strike="noStrike">
                <a:solidFill>
                  <a:srgbClr val="99cc00"/>
                </a:solidFill>
                <a:latin typeface="Comic Sans MS"/>
              </a:rPr>
              <a:t>К нетрудоспособному населению относятся </a:t>
            </a:r>
            <a:r>
              <a:rPr b="1" i="1" lang="en-US" sz="2400" spc="-1" strike="noStrike">
                <a:solidFill>
                  <a:srgbClr val="009900"/>
                </a:solidFill>
                <a:latin typeface="Comic Sans MS"/>
              </a:rPr>
              <a:t>люди, которые в силу возраста и состояния здоровья не способны к труду: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905120"/>
            <a:ext cx="6759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ти  до 16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нсионеры  (мужчины старше 60 лет,  женщины  старше 55 лет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нвал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03640" y="4449600"/>
            <a:ext cx="2089440" cy="190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76360" y="4508640"/>
            <a:ext cx="139536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Трудоспособное насе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(трудовые ресур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Добровольно незанятые-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трудоспособные люди, не занятые в общественном производстве и не стремящиеся получить работу:</a:t>
            </a:r>
            <a:r>
              <a:rPr b="0" i="1" lang="en-US" sz="2800" spc="-1" strike="noStrike">
                <a:solidFill>
                  <a:srgbClr val="99cc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8954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1. студенты дневного отд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2. домохозяй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3. бродя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4. люди, искавшие работу, но отчаявшиеся её найти и поэтому прекратившие поиск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1904760" cy="175248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835280" y="4869000"/>
            <a:ext cx="187632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990720"/>
            <a:ext cx="7689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Занятые</a:t>
            </a:r>
            <a:r>
              <a:rPr b="1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-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л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юди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имеющие работу, 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причем не важно, занят человек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олный рабочий день или  неполный, полную рабочую неделю или неполну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ри этом человек считается  занятым, если он  не работает по следующим причин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ол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аходится в отпус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асту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из-за стихийных бед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5562720"/>
            <a:ext cx="6781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6248520"/>
            <a:ext cx="76320" cy="7596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02" y="1400"/>
                </a:lnTo>
                <a:lnTo>
                  <a:pt x="1400" y="140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02" y="20200"/>
                </a:lnTo>
                <a:lnTo>
                  <a:pt x="20302" y="140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2" y="2020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2" h="21600">
                <a:moveTo>
                  <a:pt x="3844" y="7493"/>
                </a:moveTo>
                <a:lnTo>
                  <a:pt x="7352" y="7493"/>
                </a:lnTo>
                <a:lnTo>
                  <a:pt x="7352" y="12828"/>
                </a:lnTo>
                <a:cubicBezTo>
                  <a:pt x="7352" y="13751"/>
                  <a:pt x="8153" y="14482"/>
                  <a:pt x="9189" y="14482"/>
                </a:cubicBezTo>
                <a:lnTo>
                  <a:pt x="10851" y="14482"/>
                </a:lnTo>
                <a:cubicBezTo>
                  <a:pt x="11887" y="14482"/>
                  <a:pt x="12687" y="13751"/>
                  <a:pt x="12687" y="12828"/>
                </a:cubicBezTo>
                <a:lnTo>
                  <a:pt x="12687" y="7493"/>
                </a:lnTo>
                <a:lnTo>
                  <a:pt x="10851" y="7493"/>
                </a:lnTo>
                <a:lnTo>
                  <a:pt x="14359" y="3985"/>
                </a:lnTo>
                <a:lnTo>
                  <a:pt x="18031" y="7493"/>
                </a:lnTo>
                <a:lnTo>
                  <a:pt x="16195" y="7493"/>
                </a:lnTo>
                <a:lnTo>
                  <a:pt x="16195" y="12828"/>
                </a:lnTo>
                <a:cubicBezTo>
                  <a:pt x="16195" y="15596"/>
                  <a:pt x="13619" y="18155"/>
                  <a:pt x="10851" y="18155"/>
                </a:cubicBezTo>
                <a:lnTo>
                  <a:pt x="9189" y="18155"/>
                </a:lnTo>
                <a:cubicBezTo>
                  <a:pt x="6421" y="18155"/>
                  <a:pt x="3844" y="15596"/>
                  <a:pt x="384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333360"/>
            <a:ext cx="74883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Безработными признаются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удоспособные граждан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имеющие работы и заработ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регистрированные в службе занят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активно ищущи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работу и ожидающие начала трудов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851440"/>
            <a:ext cx="7238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198320"/>
            <a:ext cx="86108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447920"/>
            <a:ext cx="53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не работ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733920"/>
            <a:ext cx="493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43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езработные ищут работу, добровольно незанятые не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4648320"/>
            <a:ext cx="64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45960" y="38862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257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нятые имеют работу, безработные ищ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51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добровольно незаняты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1280" y="836640"/>
            <a:ext cx="92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добровольно не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9760" y="3427560"/>
            <a:ext cx="68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648320"/>
            <a:ext cx="74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907920"/>
            <a:ext cx="8351640" cy="865440"/>
          </a:xfrm>
          <a:prstGeom prst="roundRect">
            <a:avLst>
              <a:gd name="adj" fmla="val 16667"/>
            </a:avLst>
          </a:prstGeom>
          <a:solidFill>
            <a:srgbClr val="5b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а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e683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6d2f2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bae4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100000">
                <a:srgbClr val="da708e"/>
              </a:gs>
            </a:gsLst>
            <a:lin ang="5400000"/>
          </a:gra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7ec49a"/>
              </a:gs>
            </a:gsLst>
            <a:lin ang="5400000"/>
          </a:gra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0" idx="3"/>
            <a:endCxn id="81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90" name="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91" name="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94" name=""/>
            <p:cNvCxnSpPr>
              <a:stCxn id="81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95" name="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"/>
            <p:cNvCxnSpPr>
              <a:stCxn id="84" idx="2"/>
              <a:endCxn id="85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7" name=""/>
            <p:cNvCxnSpPr>
              <a:stCxn id="87" idx="2"/>
              <a:endCxn id="86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98" name=""/>
          <p:cNvCxnSpPr>
            <a:stCxn id="80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рикци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вязана с поиском и ожиданием работы по разным причинам, например, переезд в связи с изменением семейного положения, окончанием вуза. Этот вид безработицы предполагает перемещение рабочей силы по отраслям, регионам, в связи с возрастом, переменой професси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Работу ищут уже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готовые специалисты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 определённым уровнем профессиональной подготовки и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581360"/>
            <a:ext cx="708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Безработица этого вида обычно продолжается короткий период времени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544500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пособствует более рациональному  размещению рабочей силы и более высокой производи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3:21:31Z</dcterms:created>
  <dc:creator>Надежда</dc:creator>
  <dc:description/>
  <dc:language>en-US</dc:language>
  <cp:lastModifiedBy>Надежда</cp:lastModifiedBy>
  <dcterms:modified xsi:type="dcterms:W3CDTF">2009-12-08T08:16:52Z</dcterms:modified>
  <cp:revision>6</cp:revision>
  <dc:subject/>
  <dc:title>Слайд 1</dc:title>
</cp:coreProperties>
</file>