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png" ContentType="image/png"/>
  <Override PartName="/ppt/media/image5.gif" ContentType="image/gif"/>
  <Override PartName="/ppt/media/image6.gif" ContentType="image/gif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99CA-68F2-4032-8FE4-54C822DF7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B0F2-2181-4159-9E05-060D3014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65FD-B626-4C79-904B-DD3AA06AF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16B2-58FB-4CB6-9DE6-C59D0D234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42FA-A4A3-49C0-9D96-CAA0A722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2663-49C0-45D8-92D6-3F99D315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AA8C-0EF5-4DEF-A1E2-7A0EB08D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86A2-5D15-42EC-9C0A-C290B029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B09B-DD8B-4F53-BF23-80CD4F72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0988-F1FC-49D2-AD8A-F2082C2C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60B6-1B67-4877-B139-9BB0D0EE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28EF-37B1-451D-A116-FCBAC306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6204-C600-4D2C-AD4D-A18110448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868640"/>
            <a:ext cx="7772400" cy="75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езработица: причины и послед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6021000"/>
            <a:ext cx="784872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a3c18"/>
                </a:solidFill>
                <a:latin typeface="Arial"/>
              </a:rPr>
              <a:t>Савка Н.В., учитель истории и обществознания МОУ «Февральская СОШ № 1», 2009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553080" y="4191120"/>
            <a:ext cx="1752840" cy="24382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7283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руктурная безрабо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Характеризуется несовпадением спроса на труд и предложением в различных фирмах, отраслях, по различным профессиям, происходит «исчезновение» профессии в результате НТ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10800"/>
                </a:moveTo>
                <a:lnTo>
                  <a:pt x="25751" y="3794"/>
                </a:lnTo>
                <a:lnTo>
                  <a:pt x="257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2852640"/>
            <a:ext cx="820728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Представлена работниками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которые не в состоянии занять имеющиеся рабочие места вследствие отсутствия необходимых навыков и умений для производства нового вида продукции, имеющего спрос на рынке.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Более продолжительна  и дорогостояща, чем фрикцион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7283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Циклическая безрабо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3c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3c18"/>
                </a:solidFill>
                <a:latin typeface="Arial"/>
              </a:rPr>
              <a:t>Вызывается сменой фаз в производственном цик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10800"/>
                </a:moveTo>
                <a:lnTo>
                  <a:pt x="24695" y="3794"/>
                </a:lnTo>
                <a:lnTo>
                  <a:pt x="2469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26920" y="2421000"/>
            <a:ext cx="6840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представлена работника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уволенными в период, когда вся экономика страдает от экономического спа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16000" y="5013360"/>
            <a:ext cx="6858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Считается, что при улучшении положения в экономике такие работники снова находят работу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640"/>
                            </p:stCondLst>
                            <p:childTnLst>
                              <p:par>
                                <p:cTn id="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7283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езонная безрабо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3c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3c18"/>
                </a:solidFill>
                <a:latin typeface="Arial"/>
              </a:rPr>
              <a:t>В результате необходимости в ряде отраслей проводятся сезонные работы (например, в сельском хозяйств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previousslide"/>
          </p:cNvPr>
          <p:cNvSpPr/>
          <p:nvPr/>
        </p:nvSpPr>
        <p:spPr>
          <a:xfrm>
            <a:off x="8172360" y="6381720"/>
            <a:ext cx="971640" cy="476280"/>
          </a:xfrm>
          <a:custGeom>
            <a:avLst/>
            <a:gdLst>
              <a:gd name="textAreaLeft" fmla="*/ 30600 w 971640"/>
              <a:gd name="textAreaRight" fmla="*/ 941040 w 971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4048" h="21600">
                <a:moveTo>
                  <a:pt x="0" y="0"/>
                </a:moveTo>
                <a:lnTo>
                  <a:pt x="44048" y="0"/>
                </a:lnTo>
                <a:lnTo>
                  <a:pt x="44048" y="21600"/>
                </a:lnTo>
                <a:lnTo>
                  <a:pt x="0" y="21600"/>
                </a:lnTo>
                <a:close/>
              </a:path>
              <a:path fill="lightenLess" w="44048" h="21600">
                <a:moveTo>
                  <a:pt x="0" y="0"/>
                </a:moveTo>
                <a:lnTo>
                  <a:pt x="44048" y="0"/>
                </a:lnTo>
                <a:lnTo>
                  <a:pt x="42648" y="1400"/>
                </a:lnTo>
                <a:lnTo>
                  <a:pt x="1400" y="1400"/>
                </a:lnTo>
                <a:close/>
              </a:path>
              <a:path fill="darken" w="44048" h="21600">
                <a:moveTo>
                  <a:pt x="44048" y="0"/>
                </a:moveTo>
                <a:lnTo>
                  <a:pt x="44048" y="21600"/>
                </a:lnTo>
                <a:lnTo>
                  <a:pt x="42648" y="20200"/>
                </a:lnTo>
                <a:lnTo>
                  <a:pt x="42648" y="1400"/>
                </a:lnTo>
                <a:close/>
              </a:path>
              <a:path fill="darkenLess" w="44048" h="21600">
                <a:moveTo>
                  <a:pt x="440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648" y="20200"/>
                </a:lnTo>
                <a:close/>
              </a:path>
              <a:path fill="lighten" w="440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048" h="21600">
                <a:moveTo>
                  <a:pt x="15018" y="10800"/>
                </a:moveTo>
                <a:lnTo>
                  <a:pt x="29031" y="3794"/>
                </a:lnTo>
                <a:lnTo>
                  <a:pt x="290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87280" y="1413000"/>
            <a:ext cx="187200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100000">
                <a:srgbClr val="c8c2c7"/>
              </a:gs>
            </a:gsLst>
            <a:lin ang="5400000"/>
          </a:gradFill>
          <a:ln w="9360">
            <a:solidFill>
              <a:srgbClr val="b0d0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рикци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76720" y="1413000"/>
            <a:ext cx="187164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c4da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руктур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124000" y="1987560"/>
            <a:ext cx="3960720" cy="505080"/>
            <a:chOff x="2124000" y="1987560"/>
            <a:chExt cx="3960720" cy="505080"/>
          </a:xfrm>
        </p:grpSpPr>
        <p:cxnSp>
          <p:nvCxnSpPr>
            <p:cNvPr id="123" name=""/>
            <p:cNvCxnSpPr>
              <a:stCxn id="120" idx="2"/>
            </p:cNvCxnSpPr>
            <p:nvPr/>
          </p:nvCxnSpPr>
          <p:spPr>
            <a:xfrm flipH="1" rot="16200000">
              <a:off x="3852000" y="259560"/>
              <a:ext cx="505440" cy="3961080"/>
            </a:xfrm>
            <a:prstGeom prst="bentConnector2">
              <a:avLst/>
            </a:prstGeom>
            <a:ln w="19080">
              <a:solidFill>
                <a:srgbClr val="339966"/>
              </a:solidFill>
              <a:miter/>
            </a:ln>
          </p:spPr>
        </p:cxnSp>
        <p:sp>
          <p:nvSpPr>
            <p:cNvPr id="124" name=""/>
            <p:cNvSpPr/>
            <p:nvPr/>
          </p:nvSpPr>
          <p:spPr>
            <a:xfrm flipV="1">
              <a:off x="6084720" y="1989000"/>
              <a:ext cx="0" cy="503280"/>
            </a:xfrm>
            <a:prstGeom prst="line">
              <a:avLst/>
            </a:prstGeom>
            <a:ln w="1908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140360" y="2492280"/>
            <a:ext cx="0" cy="43200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92360" y="2924280"/>
            <a:ext cx="475128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Естественная безрабо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3789360"/>
            <a:ext cx="8964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ная занятость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бочая сил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(1- естественная норма безработиц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26920" y="4930920"/>
            <a:ext cx="741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Естественная норма безработицы – это ситуация, когда в стране существует только структурная и фрикционная безработи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Измерение безработицы 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уровня безработ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7002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Население стра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87640" y="1916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48000" y="1628640"/>
            <a:ext cx="504036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Рабочая сила + Выбывшие из состава рабочей си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2637000"/>
            <a:ext cx="83534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бочая сила = Женщины (16 – 55 лет) + Мужчины (16 – 60 л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87280" y="3213000"/>
            <a:ext cx="2376720" cy="57636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Рабочая с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32000" y="3789360"/>
            <a:ext cx="215640" cy="360360"/>
          </a:xfrm>
          <a:prstGeom prst="downArrow">
            <a:avLst>
              <a:gd name="adj1" fmla="val 50000"/>
              <a:gd name="adj2" fmla="val 41778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378936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4149720"/>
            <a:ext cx="2232000" cy="8636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ономиче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ктивное нас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56000" y="414972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ономиче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активное нас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добровольно незанят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5516640"/>
            <a:ext cx="1692360" cy="458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ня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50920" y="5516640"/>
            <a:ext cx="2016360" cy="5047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зраб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826920" y="5013360"/>
            <a:ext cx="216000" cy="50328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47640" y="5013360"/>
            <a:ext cx="1368720" cy="50328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76720" y="3500280"/>
            <a:ext cx="352764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вень безработицы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зраб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нятые+Безработные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12000" y="4365720"/>
            <a:ext cx="180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101080" y="4005360"/>
            <a:ext cx="863640" cy="5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100%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46" name=""/>
          <p:cNvSpPr txBox="1"/>
          <p:nvPr/>
        </p:nvSpPr>
        <p:spPr>
          <a:xfrm rot="5400000">
            <a:off x="7888320" y="4217040"/>
            <a:ext cx="182880" cy="190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136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числить уровень безработицы в стране, численность населения которой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млн. человек. Из них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млн. дети до 16 л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3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млн. человек выбыли из состава рабочей силы по возрасту,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4,6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лн. человек - безработные,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лн. человек заняты неполный рабочий день  и ищут рабо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4360" y="1125360"/>
            <a:ext cx="7572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тоды регулирования безработиц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564000" y="2852640"/>
            <a:ext cx="1869840" cy="13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тоды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гулирования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руктурной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зработицы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26920" y="2852640"/>
            <a:ext cx="1870200" cy="13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тод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гулировани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рикционно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зработиц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372360" y="2852640"/>
            <a:ext cx="1869840" cy="13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тоды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гулирования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иклической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зработицы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1773360"/>
            <a:ext cx="216000" cy="934920"/>
          </a:xfrm>
          <a:prstGeom prst="downArrow">
            <a:avLst>
              <a:gd name="adj1" fmla="val 50000"/>
              <a:gd name="adj2" fmla="val 10820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84720" y="1773360"/>
            <a:ext cx="216000" cy="934920"/>
          </a:xfrm>
          <a:prstGeom prst="downArrow">
            <a:avLst>
              <a:gd name="adj1" fmla="val 50000"/>
              <a:gd name="adj2" fmla="val 108208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20000" y="1773360"/>
            <a:ext cx="216000" cy="934920"/>
          </a:xfrm>
          <a:prstGeom prst="downArrow">
            <a:avLst>
              <a:gd name="adj1" fmla="val 50000"/>
              <a:gd name="adj2" fmla="val 108208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4360" y="4724280"/>
            <a:ext cx="7777080" cy="115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тоды регулирования фрикционной безработ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лучшение информационного обеспечения рынка тру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транение факторов, снижающих мобильность рабочей си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4360" y="4724280"/>
            <a:ext cx="7777080" cy="115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тоды регулирования структурной безработ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здание системы и программ профессиональ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обучения и переквалифик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4360" y="4365720"/>
            <a:ext cx="7850160" cy="2492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ы регулирования циклической безработ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условий для роста спроса на товары (стимулир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та экспорта, поддержка инвестиций в реконструкцию предприят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ощрение иностранных инвестиций в экономику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условий для сокращения предложения рабочей си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нижение возраста для выхода на пенсию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условий для роста самозанят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изация программ поддержки молодых работ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1899360"/>
            <a:ext cx="91440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Широкие масштабы в России приобрела также так называемая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«скрытая»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безработиц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 случае скрытой безработицы человек 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является безработным по су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не работает, хотя хочет работать), но по ряду причин, часто связанных со статистическим учетом, не считается безработ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из-за недостаточного развития службы занят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 регионе люди, не имеющие работы, не обращаются в бюро по трудоустройству и поэтому не учитываются в качестве безработных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) предприятия простаивают, но людей не увольняют, а отправляют в бессрочный неоплачиваемый отпуск; в результате люди не работают и не получают заработной платы, но при этом не считаются безработ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44480" y="333360"/>
            <a:ext cx="599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Особенности безработицы в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1052640"/>
            <a:ext cx="8569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)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Высокая территориальная концентрация производств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В период существования СССР многие города и поселки России создавались или развивались на основе 1-3 крупных «градообразующих» предприятий. На этих предприятиях работало большинство трудоспособного населения города, и этим предприятиям принадлежала вся городская инфраструктура. В период перехода России к рыночной экономике многие градообразующие предприятия стали испытывать трудности. В то же время, в городах и поселках, где они располагались, практически не было альтернативных рабочих мест, поэтому работникам, уволенным с таких предприятий, не находилось иного места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3716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) Важнейшим отличием трудовых ресурсов России по сравнению с трудовыми ресурсами индустриально развитых стран мира является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их низкая мобильность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В России многие работники крайне неохотно меняют место жительства, даже если на новом месте они могут устроиться на работу с более высокой опла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7283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3c1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7556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Структура занят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5800" y="1828800"/>
          <a:ext cx="7620120" cy="3657600"/>
        </p:xfrm>
        <a:graphic>
          <a:graphicData uri="http://schemas.openxmlformats.org/drawingml/2006/table">
            <a:tbl>
              <a:tblPr/>
              <a:tblGrid>
                <a:gridCol w="2540160"/>
                <a:gridCol w="2539800"/>
                <a:gridCol w="2540160"/>
              </a:tblGrid>
              <a:tr h="531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Нетрудоспособное насе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9df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Трудоспособное насе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(трудовые ресурсы)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1f5d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бровольнонезанят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71f5d2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Экономически активное насе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1f5d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Н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1f5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нят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(З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1f5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работ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Б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1f5d2"/>
                    </a:solidFill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1219320" y="5818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бщая площадь прямоугольника соответствует численности населения стр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8360" y="6381720"/>
            <a:ext cx="755640" cy="476280"/>
          </a:xfrm>
          <a:custGeom>
            <a:avLst/>
            <a:gdLst>
              <a:gd name="textAreaLeft" fmla="*/ 30600 w 755640"/>
              <a:gd name="textAreaRight" fmla="*/ 725040 w 755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4260" h="21600">
                <a:moveTo>
                  <a:pt x="0" y="0"/>
                </a:moveTo>
                <a:lnTo>
                  <a:pt x="34260" y="0"/>
                </a:lnTo>
                <a:lnTo>
                  <a:pt x="34260" y="21600"/>
                </a:lnTo>
                <a:lnTo>
                  <a:pt x="0" y="21600"/>
                </a:lnTo>
                <a:close/>
              </a:path>
              <a:path fill="lightenLess" w="34260" h="21600">
                <a:moveTo>
                  <a:pt x="0" y="0"/>
                </a:moveTo>
                <a:lnTo>
                  <a:pt x="34260" y="0"/>
                </a:lnTo>
                <a:lnTo>
                  <a:pt x="32860" y="1400"/>
                </a:lnTo>
                <a:lnTo>
                  <a:pt x="1400" y="1400"/>
                </a:lnTo>
                <a:close/>
              </a:path>
              <a:path fill="darken" w="34260" h="21600">
                <a:moveTo>
                  <a:pt x="34260" y="0"/>
                </a:moveTo>
                <a:lnTo>
                  <a:pt x="34260" y="21600"/>
                </a:lnTo>
                <a:lnTo>
                  <a:pt x="32860" y="20200"/>
                </a:lnTo>
                <a:lnTo>
                  <a:pt x="32860" y="1400"/>
                </a:lnTo>
                <a:close/>
              </a:path>
              <a:path fill="darkenLess" w="34260" h="21600">
                <a:moveTo>
                  <a:pt x="34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60" y="20200"/>
                </a:lnTo>
                <a:close/>
              </a:path>
              <a:path fill="lighten" w="34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60" h="21600">
                <a:moveTo>
                  <a:pt x="10123" y="3794"/>
                </a:moveTo>
                <a:lnTo>
                  <a:pt x="24136" y="10800"/>
                </a:lnTo>
                <a:lnTo>
                  <a:pt x="101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712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4928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Comic Sans MS"/>
              </a:rPr>
              <a:t>  </a:t>
            </a:r>
            <a:r>
              <a:rPr b="1" i="1" lang="en-US" sz="2400" spc="-1" strike="noStrike">
                <a:solidFill>
                  <a:srgbClr val="99cc00"/>
                </a:solidFill>
                <a:latin typeface="Comic Sans MS"/>
              </a:rPr>
              <a:t>К нетрудоспособному населению относятся </a:t>
            </a:r>
            <a:r>
              <a:rPr b="1" i="1" lang="en-US" sz="2400" spc="-1" strike="noStrike">
                <a:solidFill>
                  <a:srgbClr val="009900"/>
                </a:solidFill>
                <a:latin typeface="Comic Sans MS"/>
              </a:rPr>
              <a:t>люди, которые в силу возраста и состояния здоровья не способны к труду: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1905120"/>
            <a:ext cx="67597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ети  до 16 л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енсионеры  (мужчины старше 60 лет,  женщины  старше 55 лет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нвали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003640" y="4449600"/>
            <a:ext cx="2089440" cy="1901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476360" y="4508640"/>
            <a:ext cx="1395360" cy="17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cff33"/>
                </a:solidFill>
                <a:uFillTx/>
                <a:latin typeface="Comic Sans MS"/>
              </a:rPr>
              <a:t>Трудоспособное насел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cff33"/>
                </a:solidFill>
                <a:uFillTx/>
                <a:latin typeface="Comic Sans MS"/>
              </a:rPr>
              <a:t>(трудовые ресурс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9900"/>
                </a:solidFill>
                <a:uFillTx/>
                <a:latin typeface="Comic Sans MS"/>
              </a:rPr>
              <a:t>Добровольно незанятые-</a:t>
            </a:r>
            <a:r>
              <a:rPr b="1" i="1" lang="en-US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трудоспособные люди, не занятые в общественном производстве и не стремящиеся получить работу:</a:t>
            </a:r>
            <a:r>
              <a:rPr b="0" i="1" lang="en-US" sz="2800" spc="-1" strike="noStrike">
                <a:solidFill>
                  <a:srgbClr val="99cc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289548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1. студенты дневного отдел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2. домохозяй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3. бродяг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4. люди, искавшие работу, но отчаявшиеся её найти и поэтому прекратившие поиск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477120" y="4572000"/>
            <a:ext cx="1904760" cy="175248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835280" y="4869000"/>
            <a:ext cx="1876320" cy="150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9640" y="990720"/>
            <a:ext cx="76899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Comic Sans MS"/>
              </a:rPr>
              <a:t>Занятые</a:t>
            </a:r>
            <a:r>
              <a:rPr b="1" lang="en-US" sz="2800" spc="-1" strike="noStrike" u="sng">
                <a:solidFill>
                  <a:srgbClr val="99cc0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9900"/>
                </a:solidFill>
                <a:uFillTx/>
                <a:latin typeface="Comic Sans MS"/>
              </a:rPr>
              <a:t>-</a:t>
            </a:r>
            <a:r>
              <a:rPr b="0" lang="en-US" sz="2800" spc="-1" strike="noStrike" u="sng">
                <a:solidFill>
                  <a:srgbClr val="009900"/>
                </a:solidFill>
                <a:uFillTx/>
                <a:latin typeface="Comic Sans MS"/>
              </a:rPr>
              <a:t>л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юди, 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имеющие работу, </a:t>
            </a: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причем не важно, занят человек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полный рабочий день или  неполный, полную рабочую неделю или неполну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При этом человек считается  занятым, если он  не работает по следующим причина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боле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находится в отпуск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басту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из-за стихийных бедств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05120" y="5562720"/>
            <a:ext cx="6781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6248520"/>
            <a:ext cx="76320" cy="75960"/>
          </a:xfrm>
          <a:custGeom>
            <a:avLst/>
            <a:gdLst>
              <a:gd name="textAreaLeft" fmla="*/ 4680 w 76320"/>
              <a:gd name="textAreaRight" fmla="*/ 71640 w 76320"/>
              <a:gd name="textAreaTop" fmla="*/ 4680 h 75960"/>
              <a:gd name="textAreaBottom" fmla="*/ 71280 h 75960"/>
            </a:gdLst>
            <a:ahLst/>
            <a:rect l="textAreaLeft" t="textAreaTop" r="textAreaRight" b="textAreaBottom"/>
            <a:pathLst>
              <a:path w="21702" h="21600">
                <a:moveTo>
                  <a:pt x="0" y="0"/>
                </a:moveTo>
                <a:lnTo>
                  <a:pt x="21702" y="0"/>
                </a:lnTo>
                <a:lnTo>
                  <a:pt x="21702" y="21600"/>
                </a:lnTo>
                <a:lnTo>
                  <a:pt x="0" y="21600"/>
                </a:lnTo>
                <a:close/>
              </a:path>
              <a:path fill="lightenLess" w="21702" h="21600">
                <a:moveTo>
                  <a:pt x="0" y="0"/>
                </a:moveTo>
                <a:lnTo>
                  <a:pt x="21702" y="0"/>
                </a:lnTo>
                <a:lnTo>
                  <a:pt x="20302" y="1400"/>
                </a:lnTo>
                <a:lnTo>
                  <a:pt x="1400" y="1400"/>
                </a:lnTo>
                <a:close/>
              </a:path>
              <a:path fill="darken" w="21702" h="21600">
                <a:moveTo>
                  <a:pt x="21702" y="0"/>
                </a:moveTo>
                <a:lnTo>
                  <a:pt x="21702" y="21600"/>
                </a:lnTo>
                <a:lnTo>
                  <a:pt x="20302" y="20200"/>
                </a:lnTo>
                <a:lnTo>
                  <a:pt x="20302" y="1400"/>
                </a:lnTo>
                <a:close/>
              </a:path>
              <a:path fill="darkenLess" w="21702" h="21600">
                <a:moveTo>
                  <a:pt x="21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2" y="20200"/>
                </a:lnTo>
                <a:close/>
              </a:path>
              <a:path fill="lighten" w="21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2" h="21600">
                <a:moveTo>
                  <a:pt x="3844" y="7493"/>
                </a:moveTo>
                <a:lnTo>
                  <a:pt x="7352" y="7493"/>
                </a:lnTo>
                <a:lnTo>
                  <a:pt x="7352" y="12828"/>
                </a:lnTo>
                <a:cubicBezTo>
                  <a:pt x="7352" y="13751"/>
                  <a:pt x="8153" y="14482"/>
                  <a:pt x="9189" y="14482"/>
                </a:cubicBezTo>
                <a:lnTo>
                  <a:pt x="10851" y="14482"/>
                </a:lnTo>
                <a:cubicBezTo>
                  <a:pt x="11887" y="14482"/>
                  <a:pt x="12687" y="13751"/>
                  <a:pt x="12687" y="12828"/>
                </a:cubicBezTo>
                <a:lnTo>
                  <a:pt x="12687" y="7493"/>
                </a:lnTo>
                <a:lnTo>
                  <a:pt x="10851" y="7493"/>
                </a:lnTo>
                <a:lnTo>
                  <a:pt x="14359" y="3985"/>
                </a:lnTo>
                <a:lnTo>
                  <a:pt x="18031" y="7493"/>
                </a:lnTo>
                <a:lnTo>
                  <a:pt x="16195" y="7493"/>
                </a:lnTo>
                <a:lnTo>
                  <a:pt x="16195" y="12828"/>
                </a:lnTo>
                <a:cubicBezTo>
                  <a:pt x="16195" y="15596"/>
                  <a:pt x="13619" y="18155"/>
                  <a:pt x="10851" y="18155"/>
                </a:cubicBezTo>
                <a:lnTo>
                  <a:pt x="9189" y="18155"/>
                </a:lnTo>
                <a:cubicBezTo>
                  <a:pt x="6421" y="18155"/>
                  <a:pt x="3844" y="15596"/>
                  <a:pt x="384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00000" y="333360"/>
            <a:ext cx="748836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Безработными признаются: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рудоспособные граждан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е имеющие работы и заработ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зарегистрированные в службе занят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активно ищущи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работу и ожидающие начала трудов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5851440"/>
            <a:ext cx="7238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52280" y="4198320"/>
            <a:ext cx="86108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1447920"/>
            <a:ext cx="53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рудоспособные, не работ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3733920"/>
            <a:ext cx="493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74320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Безработные ищут работу, добровольно незанятые не желают работ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4648320"/>
            <a:ext cx="64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45960" y="388620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рудоспособные, желают работ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00200" y="52578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нятые имеют работу, безработные ищу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90512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Unicode MS"/>
              </a:rPr>
              <a:t>Различие между безработными и добровольно незанятым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71280" y="836640"/>
            <a:ext cx="92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Unicode MS"/>
              </a:rPr>
              <a:t>Сходство между безработными и добровольно незаняты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9760" y="3427560"/>
            <a:ext cx="68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Unicode MS"/>
              </a:rPr>
              <a:t>Сходство между безработными и заняты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4648320"/>
            <a:ext cx="747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Unicode MS"/>
              </a:rPr>
              <a:t>Различие между безработными и заняты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68360" y="907920"/>
            <a:ext cx="8351640" cy="865440"/>
          </a:xfrm>
          <a:prstGeom prst="roundRect">
            <a:avLst>
              <a:gd name="adj" fmla="val 16667"/>
            </a:avLst>
          </a:prstGeom>
          <a:solidFill>
            <a:srgbClr val="5bdb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зработица – социально-экономическое явление, характеризующее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сутствием работы для части нас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92360" y="1916280"/>
            <a:ext cx="5327640" cy="43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ee683"/>
              </a:gs>
              <a:gs pos="100000">
                <a:srgbClr val="ccff33"/>
              </a:gs>
            </a:gsLst>
            <a:lin ang="5400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ды безрабо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7280" y="2649600"/>
            <a:ext cx="2880000" cy="99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6d2f2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точки зрения характ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теснения работ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произво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3280" y="2637000"/>
            <a:ext cx="288144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5bae4"/>
              </a:gs>
              <a:gs pos="100000">
                <a:srgbClr val="9966ff"/>
              </a:gs>
            </a:gsLst>
            <a:lin ang="5400000"/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точки зрения прич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условий возникнов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зрабо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3933720"/>
            <a:ext cx="251928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100000">
                <a:srgbClr val="cc9900"/>
              </a:gs>
            </a:gsLst>
            <a:lin ang="5400000"/>
          </a:gra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брово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5013360"/>
            <a:ext cx="251928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нужд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8080" y="3933720"/>
            <a:ext cx="187164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100000">
                <a:srgbClr val="c8c2c7"/>
              </a:gs>
            </a:gsLst>
            <a:lin ang="5400000"/>
          </a:gradFill>
          <a:ln w="9360">
            <a:solidFill>
              <a:srgbClr val="b0d0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Фрикци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56000" y="4941720"/>
            <a:ext cx="187164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cc"/>
              </a:gs>
              <a:gs pos="100000">
                <a:srgbClr val="da708e"/>
              </a:gs>
            </a:gsLst>
            <a:lin ang="5400000"/>
          </a:gradFill>
          <a:ln w="9360">
            <a:solidFill>
              <a:srgbClr val="da70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Цикл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40640" y="4941720"/>
            <a:ext cx="187164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/>
              </a:gs>
              <a:gs pos="100000">
                <a:srgbClr val="7ec49a"/>
              </a:gs>
            </a:gsLst>
            <a:lin ang="5400000"/>
          </a:gradFill>
          <a:ln w="9360">
            <a:solidFill>
              <a:srgbClr val="7e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з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32720" y="3933720"/>
            <a:ext cx="187164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c4da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Структу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56000" y="2349360"/>
            <a:ext cx="0" cy="792360"/>
          </a:xfrm>
          <a:prstGeom prst="line">
            <a:avLst/>
          </a:prstGeom>
          <a:ln w="28440">
            <a:solidFill>
              <a:srgbClr val="7e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stCxn id="80" idx="3"/>
            <a:endCxn id="81" idx="1"/>
          </p:cNvCxnSpPr>
          <p:nvPr/>
        </p:nvCxnSpPr>
        <p:spPr>
          <a:xfrm flipV="1">
            <a:off x="4067280" y="3141000"/>
            <a:ext cx="576360" cy="6840"/>
          </a:xfrm>
          <a:prstGeom prst="straightConnector1">
            <a:avLst/>
          </a:prstGeom>
          <a:ln w="19080">
            <a:solidFill>
              <a:srgbClr val="7ec49a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90" name=""/>
          <p:cNvGrpSpPr/>
          <p:nvPr/>
        </p:nvGrpSpPr>
        <p:grpSpPr>
          <a:xfrm>
            <a:off x="250920" y="4292640"/>
            <a:ext cx="433440" cy="1152360"/>
            <a:chOff x="250920" y="4292640"/>
            <a:chExt cx="433440" cy="1152360"/>
          </a:xfrm>
        </p:grpSpPr>
        <p:sp>
          <p:nvSpPr>
            <p:cNvPr id="91" name=""/>
            <p:cNvSpPr/>
            <p:nvPr/>
          </p:nvSpPr>
          <p:spPr>
            <a:xfrm>
              <a:off x="250920" y="5445000"/>
              <a:ext cx="433440" cy="0"/>
            </a:xfrm>
            <a:prstGeom prst="line">
              <a:avLst/>
            </a:prstGeom>
            <a:ln w="19080">
              <a:solidFill>
                <a:srgbClr val="7ec49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0920" y="4292640"/>
              <a:ext cx="433440" cy="0"/>
            </a:xfrm>
            <a:prstGeom prst="line">
              <a:avLst/>
            </a:prstGeom>
            <a:ln w="19080">
              <a:solidFill>
                <a:srgbClr val="7ec49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284800" y="3141720"/>
            <a:ext cx="3679920" cy="1800000"/>
            <a:chOff x="5284800" y="3141720"/>
            <a:chExt cx="3679920" cy="1800000"/>
          </a:xfrm>
        </p:grpSpPr>
        <p:cxnSp>
          <p:nvCxnSpPr>
            <p:cNvPr id="94" name=""/>
            <p:cNvCxnSpPr>
              <a:stCxn id="81" idx="3"/>
            </p:cNvCxnSpPr>
            <p:nvPr/>
          </p:nvCxnSpPr>
          <p:spPr>
            <a:xfrm>
              <a:off x="7524720" y="3141720"/>
              <a:ext cx="1440360" cy="1583280"/>
            </a:xfrm>
            <a:prstGeom prst="bentConnector2">
              <a:avLst/>
            </a:prstGeom>
            <a:ln w="19080">
              <a:solidFill>
                <a:srgbClr val="7ec49a"/>
              </a:solidFill>
              <a:miter/>
            </a:ln>
          </p:spPr>
        </p:cxnSp>
        <p:sp>
          <p:nvSpPr>
            <p:cNvPr id="95" name=""/>
            <p:cNvSpPr/>
            <p:nvPr/>
          </p:nvSpPr>
          <p:spPr>
            <a:xfrm flipH="1">
              <a:off x="5292720" y="4724280"/>
              <a:ext cx="3672000" cy="0"/>
            </a:xfrm>
            <a:prstGeom prst="line">
              <a:avLst/>
            </a:prstGeom>
            <a:ln w="19080">
              <a:solidFill>
                <a:srgbClr val="7ec4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" name=""/>
            <p:cNvCxnSpPr>
              <a:stCxn id="84" idx="2"/>
              <a:endCxn id="85" idx="0"/>
            </p:cNvCxnSpPr>
            <p:nvPr/>
          </p:nvCxnSpPr>
          <p:spPr>
            <a:xfrm>
              <a:off x="5284800" y="4508280"/>
              <a:ext cx="8640" cy="433800"/>
            </a:xfrm>
            <a:prstGeom prst="straightConnector1">
              <a:avLst/>
            </a:prstGeom>
            <a:ln w="19080">
              <a:solidFill>
                <a:srgbClr val="7ec49a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97" name=""/>
            <p:cNvCxnSpPr>
              <a:stCxn id="87" idx="2"/>
              <a:endCxn id="86" idx="0"/>
            </p:cNvCxnSpPr>
            <p:nvPr/>
          </p:nvCxnSpPr>
          <p:spPr>
            <a:xfrm>
              <a:off x="7669080" y="4508280"/>
              <a:ext cx="8640" cy="433800"/>
            </a:xfrm>
            <a:prstGeom prst="straightConnector1">
              <a:avLst/>
            </a:prstGeom>
            <a:ln w="19080">
              <a:solidFill>
                <a:srgbClr val="7ec49a"/>
              </a:solidFill>
              <a:miter/>
              <a:headEnd len="med" type="triangle" w="med"/>
              <a:tailEnd len="med" type="triangle" w="med"/>
            </a:ln>
          </p:spPr>
        </p:cxnSp>
      </p:grpSp>
      <p:cxnSp>
        <p:nvCxnSpPr>
          <p:cNvPr id="98" name=""/>
          <p:cNvCxnSpPr>
            <a:stCxn id="80" idx="1"/>
          </p:cNvCxnSpPr>
          <p:nvPr/>
        </p:nvCxnSpPr>
        <p:spPr>
          <a:xfrm flipV="1" rot="10800000">
            <a:off x="250200" y="3146760"/>
            <a:ext cx="937080" cy="2297880"/>
          </a:xfrm>
          <a:prstGeom prst="bentConnector2">
            <a:avLst/>
          </a:prstGeom>
          <a:ln w="19080">
            <a:solidFill>
              <a:srgbClr val="7ec49a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7283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рикционная безрабо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Связана с поиском и ожиданием работы по разным причинам, например, переезд в связи с изменением семейного положения, окончанием вуза. Этот вид безработицы предполагает перемещение рабочей силы по отраслям, регионам, в связи с возрастом, переменой профессии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previousslide"/>
          </p:cNvPr>
          <p:cNvSpPr/>
          <p:nvPr/>
        </p:nvSpPr>
        <p:spPr>
          <a:xfrm>
            <a:off x="8459640" y="6381720"/>
            <a:ext cx="684360" cy="476280"/>
          </a:xfrm>
          <a:custGeom>
            <a:avLst/>
            <a:gdLst>
              <a:gd name="textAreaLeft" fmla="*/ 30600 w 684360"/>
              <a:gd name="textAreaRight" fmla="*/ 653760 w 684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1030" h="21600">
                <a:moveTo>
                  <a:pt x="0" y="0"/>
                </a:moveTo>
                <a:lnTo>
                  <a:pt x="31030" y="0"/>
                </a:lnTo>
                <a:lnTo>
                  <a:pt x="31030" y="21600"/>
                </a:lnTo>
                <a:lnTo>
                  <a:pt x="0" y="21600"/>
                </a:lnTo>
                <a:close/>
              </a:path>
              <a:path fill="lightenLess" w="31030" h="21600">
                <a:moveTo>
                  <a:pt x="0" y="0"/>
                </a:moveTo>
                <a:lnTo>
                  <a:pt x="31030" y="0"/>
                </a:lnTo>
                <a:lnTo>
                  <a:pt x="29630" y="1400"/>
                </a:lnTo>
                <a:lnTo>
                  <a:pt x="1400" y="1400"/>
                </a:lnTo>
                <a:close/>
              </a:path>
              <a:path fill="darken" w="31030" h="21600">
                <a:moveTo>
                  <a:pt x="31030" y="0"/>
                </a:moveTo>
                <a:lnTo>
                  <a:pt x="31030" y="21600"/>
                </a:lnTo>
                <a:lnTo>
                  <a:pt x="29630" y="20200"/>
                </a:lnTo>
                <a:lnTo>
                  <a:pt x="29630" y="1400"/>
                </a:lnTo>
                <a:close/>
              </a:path>
              <a:path fill="darkenLess" w="31030" h="21600">
                <a:moveTo>
                  <a:pt x="31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30" y="20200"/>
                </a:lnTo>
                <a:close/>
              </a:path>
              <a:path fill="lighten" w="31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30" h="21600">
                <a:moveTo>
                  <a:pt x="8508" y="10800"/>
                </a:moveTo>
                <a:lnTo>
                  <a:pt x="22521" y="3794"/>
                </a:lnTo>
                <a:lnTo>
                  <a:pt x="2252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14600" y="3276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собе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373392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Работу ищут уже</a:t>
            </a:r>
            <a:r>
              <a:rPr b="0" i="1" lang="en-US" sz="20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готовые специалисты</a:t>
            </a:r>
            <a:r>
              <a:rPr b="0" i="1" lang="en-US" sz="20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с определённым уровнем профессиональной подготовки и квалифик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4581360"/>
            <a:ext cx="7086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Безработица этого вида обычно продолжается короткий период времени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5445000"/>
            <a:ext cx="563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Способствует более рациональному  размещению рабочей силы и более высокой производи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13:21:31Z</dcterms:created>
  <dc:creator>Надежда</dc:creator>
  <dc:description/>
  <dc:language>en-US</dc:language>
  <cp:lastModifiedBy>Надежда</cp:lastModifiedBy>
  <dcterms:modified xsi:type="dcterms:W3CDTF">2009-12-08T08:16:52Z</dcterms:modified>
  <cp:revision>6</cp:revision>
  <dc:subject/>
  <dc:title>Слайд 1</dc:title>
</cp:coreProperties>
</file>