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4E3-6F34-4FB0-9FA7-A0F15226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203-D523-49E8-9328-4108F3A9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AFA-AF7C-465B-BC7B-0F82CFB3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E2F-F1D1-438E-A7DE-BA7B1625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84E-9450-4E74-B932-2D1112D0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B9A-C8A2-4A63-A43A-8919D222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2ED-4526-4CBF-8243-DD9B4150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2A4-7EF8-45EE-882A-7E6CEFD3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74B8-9350-47BA-8E9B-0E0C3B02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3E3-3CCF-4397-A7C7-5719E420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71B-0A39-4BEE-8819-3081F523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7A4-FDA4-488B-A9DD-89421404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345E-AB32-4F1E-813D-7E6D0527F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86864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работица: причины и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021000"/>
            <a:ext cx="78487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3c18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75284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арактеризуется несовпадением спроса на труд и предложением в различных фирмах, отраслях, по различным профессиям, происходит «исчезновение» профессии в результате НТ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852640"/>
            <a:ext cx="820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едставлена работникам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которые не в состоянии занять имеющиеся рабочие места вследствие отсутствия необходимых навыков и умений для производства нового вида продукции, имеющего спрос на рынке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Более продолжительна  и дорогостояща, чем фрик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клическ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ызывается сменой фаз в производственном цик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21000"/>
            <a:ext cx="684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представлена работник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воленными в период, когда вся экономика страдает от экономическо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013360"/>
            <a:ext cx="685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Считается, что при улучшении положения в экономике такие работники снова находят работу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з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 результате необходимости в ряде отраслей проводятся сезонные работы (например, в сельском хозяйств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413000"/>
            <a:ext cx="1872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ик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1413000"/>
            <a:ext cx="1871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24000" y="1987560"/>
            <a:ext cx="3960720" cy="505080"/>
            <a:chOff x="2124000" y="1987560"/>
            <a:chExt cx="3960720" cy="505080"/>
          </a:xfrm>
        </p:grpSpPr>
        <p:cxnSp>
          <p:nvCxnSpPr>
            <p:cNvPr id="123" name=""/>
            <p:cNvCxnSpPr>
              <a:stCxn id="120" idx="2"/>
            </p:cNvCxnSpPr>
            <p:nvPr/>
          </p:nvCxnSpPr>
          <p:spPr>
            <a:xfrm flipH="1" rot="16200000">
              <a:off x="3852000" y="259560"/>
              <a:ext cx="505440" cy="3961080"/>
            </a:xfrm>
            <a:prstGeom prst="bentConnector2">
              <a:avLst/>
            </a:prstGeom>
            <a:ln w="19080">
              <a:solidFill>
                <a:srgbClr val="339966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 flipV="1">
              <a:off x="6084720" y="1989000"/>
              <a:ext cx="0" cy="50328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40360" y="2492280"/>
            <a:ext cx="0" cy="432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924280"/>
            <a:ext cx="4751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тестве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78936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ая занятость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ая си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1- естественная норма безработ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93092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Естественная норма безработицы – это ситуация, когда в стране существует только структурная и фрикционная безрабо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змерение безработицы 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уровня безрабо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7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селени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50403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63700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21300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789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14972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1497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1664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516640"/>
            <a:ext cx="201636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6920" y="5013360"/>
            <a:ext cx="21600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5013360"/>
            <a:ext cx="136872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3500280"/>
            <a:ext cx="3527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36572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101080" y="400536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 rot="5400000">
            <a:off x="7888320" y="4217040"/>
            <a:ext cx="18288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13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 уровень безработицы в стране, численность населения которой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. Из них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дети до 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 выбыли из состава рабочей силы по возрасту,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,6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- безработные,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заняты неполный рабочий день  и ищут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25360"/>
            <a:ext cx="757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регулирования безрабо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400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но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852640"/>
            <a:ext cx="18702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икцио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7236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ическо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фрикцион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учшение информационного обеспечения рынка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анение факторов, снижающих мобильность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структур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системы и программ професс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обучения и пере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365720"/>
            <a:ext cx="7850160" cy="2492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регулирования циклическ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проса на товары (стим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а экспорта, поддержка инвестиций в реконструкцию предприя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иностранных инвестиций в экономик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сокращения предложения рабочей си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ижение возраста для выхода на пенсию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амозаня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программ поддержки молодых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9936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ирокие масштабы в России приобрела также так называема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«скрытая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безработ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случае скрытой безработицы человек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является безработным по су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не работает, хотя хочет работать), но по ряду причин, часто связанных со статистическим учетом, не считается безраб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-за недостаточного развития службы занят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регионе люди, не имеющие работы, не обращаются в бюро по трудоустройству и поэтому не учитываются в качестве безработ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едприятия простаивают, но людей не увольняют, а отправляют в бессрочный неоплачиваемый отпуск; в результате люди не работают и не получают заработной платы, но при этом не считаются безраб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44480" y="33336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Особенности безработицы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05264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ысокая территориальная концентрация производ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В период существования СССР многие города и поселки России создавались или развивались на основе 1-3 крупных «градообразующих» предприятий. На этих предприятиях работало большинство трудоспособного населения города, и этим предприятиям принадлежала вся городская инфраструктура. В период перехода России к рыночной экономике многие градообразующие предприятия стали испытывать трудности. В то же время, в городах и поселках, где они располагались, практически не было альтернативных рабочих мест, поэтому работникам, уволенным с таких предприятий, не находилось иного места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Важнейшим отличием трудовых ресурсов России по сравнению с трудовыми ресурсами индустриально развитых стран мира являетс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их низкая мобильность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 России многие работники крайне неохотно меняют место жительства, даже если на новом месте они могут устроиться на работу с более высокой опла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c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труктура зан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828800"/>
          <a:ext cx="7620120" cy="3657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3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Не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9df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трудовые ресурсы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оне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1f5d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Экономически актив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З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раб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219320" y="5818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ая площадь прямоугольника соответствует численности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712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99cc00"/>
                </a:solidFill>
                <a:latin typeface="Comic Sans MS"/>
              </a:rPr>
              <a:t>К нетрудоспособному населению относятся </a:t>
            </a:r>
            <a:r>
              <a:rPr b="1" i="1" lang="en-US" sz="2400" spc="-1" strike="noStrike">
                <a:solidFill>
                  <a:srgbClr val="009900"/>
                </a:solidFill>
                <a:latin typeface="Comic Sans MS"/>
              </a:rPr>
              <a:t>люди, которые в силу возраста и состояния здоровья не способны к труду: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905120"/>
            <a:ext cx="6759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ти  до 16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нсионеры  (мужчины старше 60 лет,  женщины  старше 55 лет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ва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03640" y="4449600"/>
            <a:ext cx="2089440" cy="190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1395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Трудоспособное нас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(трудовые рес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Добровольно незанятые-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трудоспособные люди, не занятые в общественном производстве и не стремящиеся получить работу:</a:t>
            </a:r>
            <a:r>
              <a:rPr b="0" i="1" lang="en-US" sz="28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895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1. студенты дневного отд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2. домохозяй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3. бродя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4. люди, искавшие работу, но отчаявшиеся её найти и поэтому прекратившие поиск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1904760" cy="17524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187632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990720"/>
            <a:ext cx="7689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Занятые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-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л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юди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имеющие работу,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причем не важно, занят человек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олный рабочий день или  неполный, полную рабочую неделю или неполн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ри этом человек считается  занятым, если он  не работает по следующим причин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ол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аходится в отпу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аст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из-за 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5562720"/>
            <a:ext cx="678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62485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3844" y="7493"/>
                </a:moveTo>
                <a:lnTo>
                  <a:pt x="7352" y="7493"/>
                </a:lnTo>
                <a:lnTo>
                  <a:pt x="7352" y="12828"/>
                </a:lnTo>
                <a:cubicBezTo>
                  <a:pt x="7352" y="13751"/>
                  <a:pt x="8153" y="14482"/>
                  <a:pt x="9189" y="14482"/>
                </a:cubicBezTo>
                <a:lnTo>
                  <a:pt x="10851" y="14482"/>
                </a:lnTo>
                <a:cubicBezTo>
                  <a:pt x="11887" y="14482"/>
                  <a:pt x="12687" y="13751"/>
                  <a:pt x="12687" y="12828"/>
                </a:cubicBezTo>
                <a:lnTo>
                  <a:pt x="12687" y="7493"/>
                </a:lnTo>
                <a:lnTo>
                  <a:pt x="10851" y="7493"/>
                </a:lnTo>
                <a:lnTo>
                  <a:pt x="14359" y="3985"/>
                </a:lnTo>
                <a:lnTo>
                  <a:pt x="18031" y="7493"/>
                </a:lnTo>
                <a:lnTo>
                  <a:pt x="16195" y="7493"/>
                </a:lnTo>
                <a:lnTo>
                  <a:pt x="16195" y="12828"/>
                </a:lnTo>
                <a:cubicBezTo>
                  <a:pt x="16195" y="15596"/>
                  <a:pt x="13619" y="18155"/>
                  <a:pt x="10851" y="18155"/>
                </a:cubicBezTo>
                <a:lnTo>
                  <a:pt x="9189" y="18155"/>
                </a:lnTo>
                <a:cubicBezTo>
                  <a:pt x="6421" y="18155"/>
                  <a:pt x="3844" y="15596"/>
                  <a:pt x="384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333360"/>
            <a:ext cx="7488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Безработными признаются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доспособные гражда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имеющие работы и за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регистрированные в службе занят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активно ищущи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аботу и ожидающие начала 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851440"/>
            <a:ext cx="7238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198320"/>
            <a:ext cx="86108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44792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не рабо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733920"/>
            <a:ext cx="493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езработные ищут работу, добровольно незанятые не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64832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5960" y="38862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нятые имеют работу, безработные ищ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добровольно незаняты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1280" y="836640"/>
            <a:ext cx="92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добровольно не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9760" y="34275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648320"/>
            <a:ext cx="74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907920"/>
            <a:ext cx="8351640" cy="865440"/>
          </a:xfrm>
          <a:prstGeom prst="roundRect">
            <a:avLst>
              <a:gd name="adj" fmla="val 16667"/>
            </a:avLst>
          </a:prstGeom>
          <a:solidFill>
            <a:srgbClr val="5b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а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e683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d2f2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bae4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da708e"/>
              </a:gs>
            </a:gsLst>
            <a:lin ang="5400000"/>
          </a:gra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7ec49a"/>
              </a:gs>
            </a:gsLst>
            <a:lin ang="5400000"/>
          </a:gra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3"/>
            <a:endCxn id="81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91" name="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94" name=""/>
            <p:cNvCxnSpPr>
              <a:stCxn id="81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84" idx="2"/>
              <a:endCxn id="85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" name=""/>
            <p:cNvCxnSpPr>
              <a:stCxn id="87" idx="2"/>
              <a:endCxn id="86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98" name=""/>
          <p:cNvCxnSpPr>
            <a:stCxn id="80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икци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вязана с поиском и ожиданием работы по разным причинам, например, переезд в связи с изменением семейного положения, окончанием вуза. Этот вид безработицы предполагает перемещение рабочей силы по отраслям, регионам, в связи с возрастом, переменой професси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Работу ищут уже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готовые специалисты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 определённым уровнем профессиональной подготовки и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58136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Безработица этого вида обычно продолжается короткий период времени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4450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пособствует более рациональному  размещению рабочей силы и более высокой производ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3:21:31Z</dcterms:created>
  <dc:creator>Надежда</dc:creator>
  <dc:description/>
  <dc:language>en-US</dc:language>
  <cp:lastModifiedBy>Надежда</cp:lastModifiedBy>
  <dcterms:modified xsi:type="dcterms:W3CDTF">2009-12-08T08:16:52Z</dcterms:modified>
  <cp:revision>6</cp:revision>
  <dc:subject/>
  <dc:title>Слайд 1</dc:title>
</cp:coreProperties>
</file>