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861-6DA1-492C-944F-36BF1B54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1EF-7ED5-4248-A97C-AFA9C0D5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3D4E-0054-4F73-B721-5B8DD81E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138-27B2-498D-A207-39D70583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21DE-64F4-485E-8C75-763D55EC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5A6B-4044-442D-9A39-3F11BAB8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A0B0-A984-4234-8E3E-03704B69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729F-9AC4-4F1C-AAEE-6D124A6A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06D6-2659-45C1-A59F-5CC829D6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135D-AF56-4D3C-A895-9870274E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1A3C-F42A-46C8-87F1-4577108D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10C-3C27-4BBA-AF14-AC4A1B36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E1FC-6A13-4E60-A629-4874181F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0A86-FD10-47B2-99F2-7CFEFABE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FA6E-9E23-4A79-AA32-3EA8AFCD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83AA-67A3-4B4A-A9B9-FEA7AED9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266C-1A54-4F7A-B33A-E2D6083C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990-DD0D-4BB9-8786-37ABEB4D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FAA-AFF2-46BF-8B17-379EBFB4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EE6-6A76-4B94-BCD3-4D7138EF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E16-645D-485F-9D3F-E0B56FE9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A7A-764A-457A-8358-17366BD3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956-2051-4D43-94A3-D15D702C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D03-2D50-4DBD-93AA-E2C6C078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BDF4-9BEC-4DFA-8101-85623CCA360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0B95-D9A2-4515-95A1-6953CDC12D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13BB-3A96-4C15-8C76-0E7D7696745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F5E2-67D4-4867-A730-95EC6E9030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360" y="1125360"/>
            <a:ext cx="482472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еторговая политика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064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26028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84A9-5DEA-41E3-9C56-F827DA2E7F0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3D0E68E-E667-4E28-B149-CBEB183B5E37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476280"/>
            <a:ext cx="813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алютный курс влияет эластичность спроса по цене на импортные това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личия в процентных ставках по вкладу в банк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жидания владельцев денег относительно динамики курса в будущ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213372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лютная полит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852640"/>
            <a:ext cx="79200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4558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овокупность экономических, правовых и организацио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 в области регулирования валютных отношени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нимаемых государственными органами, централь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анковскими учреждения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ждународными финансовыми организа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859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и валютная политика оформляется законами (в России Закон РФ «О валютном регулировании и валютном контроле»). Регулирование валютного курса называетс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визной политико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516D-27CD-42DA-83FB-B4AEB9FC5C4C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7159F-4C04-4A33-B695-2646048F7A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49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ка фиксированных курсов обеспечивается валютными интервенц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341360"/>
            <a:ext cx="2781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лют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рвенц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268280"/>
            <a:ext cx="4895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ятельность Центрального банка п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упке-продаже иностранной валюты дл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ания курса национальной валю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2708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окращении валютных резервов или инфляции требуется девальвация или ревальвация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342900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Д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42900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снижение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360" y="501336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08464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повышение 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EB4-1B32-4066-81A0-FCF36D8FBA1D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2823E-3984-4CC7-87D8-59E2BC28FC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620640"/>
            <a:ext cx="770436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струментом валютной политики являются валютные ограничения – меры, регламентирующие операции с национальной и иностранной валютой, для поддержания валютного курса и других целей (Федеральный закон РФ «О валютном регулировании и валютном контроле» 200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соглашений между государствами возникает мировая валютная система.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867г. принята Париж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золотомонетный стандарт): параллельное обращение золотых монет и банкнот, конвертируемость банкнот в золото, свободный ввоз и вывоз зол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44г. принята Бреттон-Вуд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в качестве международных денег были приняты золото и резервные валюты (доллар и фунт стерлингов). Доллар США приравнивался к золоту как эталон ценности валют и мог обмениваться на золото по официальной цене 35 долл. За 1 тройскую унц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76г. принята Ямай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отменены официальные цены золота и золотые паритеты валют, т.е. золото демонетизировалось; отменены фиксированные курсы валют; модифицированы функции МВФ как института валютного регул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E81-7FCD-4AA5-AD80-DD4C06329112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6B4D0-1061-405C-8528-4269CE1A12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404640"/>
            <a:ext cx="777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ошла в МВФ в 1992г. И стала полноправным участником современной международной валютной сис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убль является частично конвертируемой валютой с управляемо плавающим курсом. Либерализованы операции с капита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48000" y="184464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ЗЮМ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924280"/>
            <a:ext cx="8137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е хозяйство представляет собой совокупность экономик отдельных стран, связанных системой международных экономических отношений. Оно основывается на международном разделении труда. Оно включает более 200 стран и территорий, который могут быть классифицированы по различным критериям с учетом многих экономических показателей. Три основные группы: индустриальные страны, развивающиеся страны и страны с переходной экономи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жнейший элемент системы м-н отношений – международная торговля. Международные расчеты осуществляются при посредстве валютного рынка, который представлен многообразными операциями. В результате межгосударственных соглашений возникает мировая валютная сист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121-4EC3-4757-929A-4FE9DFF5EA43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62F98-6D06-4821-84BF-B916F6046E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549360"/>
            <a:ext cx="36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ритредер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3360"/>
            <a:ext cx="410364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5f5f5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нешнеторговая полити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риентированная на свобод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звитие торгов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484280"/>
            <a:ext cx="8066160" cy="13341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47г. заключено Генеральное соглашение по тарифам и торгов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страны используют комплекс мер для стимулирования и защиты рынка от внешней конкуренци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лассический инструмент протекционизма – таможенные пошл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068640"/>
            <a:ext cx="2762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моженны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шлин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3068640"/>
            <a:ext cx="5545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f5f5f"/>
              </a:gs>
              <a:gs pos="50000">
                <a:srgbClr val="0000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государственные денежные сборы, взимаем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ровозимых  через границу товаров в соответств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таможенными тарифами и в зависимости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епени обработки товара, страны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схождения и других обстоятель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013360"/>
            <a:ext cx="143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5013360"/>
            <a:ext cx="14400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мож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шл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941720"/>
            <a:ext cx="223200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я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45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652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37372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544500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5013360"/>
            <a:ext cx="1873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ь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а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B37-6FCA-4519-9C3D-47904A360D7C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E2EC3-E9C6-48B6-A00A-A90EB234F5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538200"/>
            <a:ext cx="8353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одн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щита от внешней конкуренции способствует консервации технологической отсталости местных предприятий, которые не имеют стимулов для снижения издержек производства. Сохранение пошлин препятствует развитию международной торговли. По оценкам ВТО, снижение пошлин приведет к росту мировой торговли на 12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друг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пошлины способствуют развитию молодых отраслей национальной экономики, созданию новых рабочих мест. Государство получает стабильные доходы от таможенного обложения, что дает возможность выполнять социальные програм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ортные пошлины в России выше среднеевропейских, так как при снижении пошлин значительная часть отечественных предприятий обанкротится. Для снижения пошлин необходим подъем эконом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524520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165564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7E9-C531-466C-9F5F-AA8399C9F525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8BD7C-DBC8-494A-9702-87751D6F2E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549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видностью импортных пошлин являются антидемпинговые пошлины. Они устанавливаются для борьбы с демпин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484280"/>
            <a:ext cx="230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мпин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1413000"/>
            <a:ext cx="568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5f5f5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ановление искусственно заниженных цен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ируемые товары для достиж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тноспособности на внешних рын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068640"/>
            <a:ext cx="835344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уютс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тарифные инструмен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меры, не связанные с установлением пошлин: установление импортных квот, т.е. количественных ограничений на ввоз определенных товаров, установление жестких стандартов и технических условий для импортных това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имулирования экспорта применяются государственные субсидии, льготные кредиты экспортерам и иностранным покупателям, страхование коммерческих рис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могут возникнуть и возникают «стальные», «автомобильные», «куриные» и др. торговые вой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5A1-B2D3-451E-B0E5-B4467A343E00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013F0-68F7-4634-BC96-002D85EEBD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еждународное регулирование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1989000"/>
            <a:ext cx="79930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Всемирной торговой организацией (ВТО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преемницей Генерального соглашения по тарифам и торговле с 1995г. Членами ВТО являются 140 государ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Основные принципы В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ация торговли путем постоянного снижения ставок таможенных пошли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аз от нетарифных ограничени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дискриминационный характер торговл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блюдение правил торговли услугами и объектами интеллектуальной соб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едет переговоры о вступлении в В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F4B-DDF7-4D6B-A066-D729C83BDA8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8A74B-7EDD-4A97-9087-84C42E9BCD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628640"/>
            <a:ext cx="8353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уществление международных расчетов предполагает использование валю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алют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нимается любая национальная денежная единица. Термин «валюта» применяется для обозначения денежных знаков иностранных государств и платежных средств, выраженных в тех или иных национальных денежных единицах и используемых в международных расчет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3860640"/>
            <a:ext cx="2228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лютны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645000"/>
            <a:ext cx="568944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а устойчивых экономических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онных отношений, возникающих в связи 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плей-продажей иностранных валю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62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лютный рынок существует, так нет единых денег, обязательных для приема во всех государст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E00-70D0-4B81-901F-3C7589429C2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AF295-4E80-4833-8591-CD30ADB214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92280"/>
            <a:ext cx="82803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ые валютные рынки расположены более чем в 25 международных финансовых центрах, среди которых выделяются Лондон, Нью-Йорк, Токио, Париж, Цюрих, Франкфурт-на-Майне, Гонконг, Сингапур, Бахрей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ажнейшие операторы на международном валютном рынке – банки, особенно транснациональные. Покупают и продают валюту предприятия, участвующие во внешнеэкономической деятельности, валютные органы государства, частные л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сштабы: более 1 трлн долл. В д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национальном валютном рынке операции производятся в границах территории страны в соответствии с законами данного государства. Центральный банк устанавливает курс национальной валюты в отношении валют зарубежных ст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5157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алютный кур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4797360"/>
            <a:ext cx="4969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cc66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Цена денежной единицы одной стра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раженная в иностранных денеж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 или международных расчет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09E-C58B-438A-BB70-6AB6C6B49CA7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2412F-C3D2-4535-AF77-C70C538357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49360"/>
            <a:ext cx="770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спрос и предложение валют непрерывно меняется, валютный курс нестабилен. Его фиксация на определенную дату банками или валютной биржей называется котиров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ямая котировка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– к единице иностранной валюты приравнивается то или иное количество национальных денежных един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свенная котировк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– единица национально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алюты приравнивается к определенному количеству иностранной валю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9784-2128-4E78-8104-174D37501C2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401D4-E734-42D8-AD2D-5C5C4037FF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8056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меняются курсы валю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05264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ка курса определяется сдвигами в соотношениях цен одинаковых «корзин» товаров на внутренних рынках. Например: предположим, что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75 €, цена компьютера, который заменяет в данном случае корзину товаров, в США составляет 1000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 Германии – 750 €. Если в Германии компьютеры подорожают до 800€, то будет выгоден их экспорт из США, так как при курсе 0,75€ за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жно будет продать его в Германии за 800 € и поменять их на 10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ибыль составит 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 принимая в расчет  транспортировку и другие расходы. Это приведет к росту спроса на доллары для закупок компьютеров в США, и курс доллара вырастет, допустим, до 0,85 €. В таком случае станет выгоден их экспорт из Германии, выгода на одной сделке составит 50 €. Это приведет к росту спроса на евро. Равновесие установится при курсе 0,80 евро за один доллар. Этот курс будет отражать новое соотношение цен компьютеров в США и Германии. Таким образом, курс валюты зависит от темпов инфляции в стран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урса определяется изменениями в динамике экспорта и импорта страны. Например, чем больше экспорт, тем больше спрос за границей на валюту этой страны, тем выше ее курс. Рост импорта вызывает рост спроса на иностранную валюту и ослабление национальной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186-58B9-4538-96DA-7E4B5693192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DFEAD-691B-4573-9C89-A8911CCDBE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16:07Z</dcterms:created>
  <dc:creator>Надежда</dc:creator>
  <dc:description/>
  <dc:language>en-US</dc:language>
  <cp:lastModifiedBy>Надежда</cp:lastModifiedBy>
  <dcterms:modified xsi:type="dcterms:W3CDTF">2009-05-26T08:09:07Z</dcterms:modified>
  <cp:revision>4</cp:revision>
  <dc:subject/>
  <dc:title>Внешнеторговая поли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