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4D41-F668-411C-B814-38C7C00D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595-6EF9-4172-A0FA-EF38317B1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608-499D-4D32-A0FC-DD559397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BA5-3B61-46B4-B84A-15C0F755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3261-0410-4BAA-8BE6-F07CE4CE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51A9-2F8E-4884-AED0-C026222B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3571-F4A8-425C-A6D6-405D4795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8B83-2E57-4865-8385-28AE1888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C7F8-2378-4A08-B667-D4C31CEA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5F14-C82F-43E1-8325-EEB8E62C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3B6B-2437-4B8A-9996-09B8D284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4AC4-A68F-4002-A084-361FBD4E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BF20-F992-4C8E-BF14-5B1D0DC0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55D9-4CF9-463D-810B-D5F3B2D3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64DF-3B8D-4050-B398-8920243C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DCDF-D7BF-4712-A02F-C0871A30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83D8-2EAF-4AD2-B9C1-A851E557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5B6-2183-419B-9A7E-B3DEF888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C9E-045C-40F7-BDDF-4CB43BF5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A97-B65F-43A1-B1D8-7EDA3A68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B403-B7FC-440F-8B00-0B44D267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5A1-A268-4476-9976-09468457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5785-21B2-44E3-B67F-7472AAE4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6DF-A362-4656-90A3-31EBE0F4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3206-0321-44F5-8ED2-1F50E4FAEE3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45B5-10C2-4C3A-B218-2AF968AEDA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D724-43C6-4EE5-8D30-5BF7AEDC460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9EFC-3179-47A8-B96D-5903BAA98E5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360" y="1125360"/>
            <a:ext cx="4824720" cy="41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еторговая политика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230640" cy="324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995640" y="26028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6317-9AF5-4D57-B2C5-CF5D883F9C6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1EDC563-BEB3-4FAA-98AA-7F5E60175551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476280"/>
            <a:ext cx="813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валютный курс влияет эластичность спроса по цене на импортные това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личия в процентных ставках по вкладу в банк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жидания владельцев денег относительно динамики курса в будущ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95640" y="2133720"/>
            <a:ext cx="42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алютная политик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2852640"/>
            <a:ext cx="792000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4558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о совокупность экономических, правовых и организацион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 в области регулирования валютных отношени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нимаемых государственными органами, централь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анковскими учреждениям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ждународными финансовыми организац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85928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и валютная политика оформляется законами (в России Закон РФ «О валютном регулировании и валютном контроле»). Регулирование валютного курса называется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евизной политико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749-F926-4AAD-AFF1-5AFF5BAD9313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B7D77-CB04-4D78-9921-5448856D41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54936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ка фиксированных курсов обеспечивается валютными интервенци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1341360"/>
            <a:ext cx="2781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алют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тервенц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1268280"/>
            <a:ext cx="48956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деятельность Центрального банка п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упке-продаже иностранной валюты дл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ания курса национальной валю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2708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сокращении валютных резервов или инфляции требуется девальвация или ревальвация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4360" y="342900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Д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42900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снижение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4360" y="501336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Р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508464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повышение 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DBC-5055-4C07-8BC3-8BE3DA683C8B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AD02F-5A83-4E3A-8769-870601A456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620640"/>
            <a:ext cx="7704360" cy="58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струментом валютной политики являются валютные ограничения – меры, регламентирующие операции с национальной и иностранной валютой, для поддержания валютного курса и других целей (Федеральный закон РФ «О валютном регулировании и валютном контроле» 2004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соглашений между государствами возникает мировая валютная система.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867г. принята Париж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золотомонетный стандарт): параллельное обращение золотых монет и банкнот, конвертируемость банкнот в золото, свободный ввоз и вывоз зол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44г. принята Бреттон-Вуд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в качестве международных денег были приняты золото и резервные валюты (доллар и фунт стерлингов). Доллар США приравнивался к золоту как эталон ценности валют и мог обмениваться на золото по официальной цене 35 долл. За 1 тройскую унц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76г. принята Ямай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отменены официальные цены золота и золотые паритеты валют, т.е. золото демонетизировалось; отменены фиксированные курсы валют; модифицированы функции МВФ как института валютного регулиро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FFA1-3F04-4394-BD48-62D487B7EA2F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86148-1F9B-4C5A-8179-5E23F22C24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4360" y="404640"/>
            <a:ext cx="7775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ошла в МВФ в 1992г. И стала полноправным участником современной международной валютной систе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йский рубль является частично конвертируемой валютой с управляемо плавающим курсом. Либерализованы операции с капита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348000" y="1844640"/>
            <a:ext cx="1914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ЗЮМ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2924280"/>
            <a:ext cx="8137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ое хозяйство представляет собой совокупность экономик отдельных стран, связанных системой международных экономических отношений. Оно основывается на международном разделении труда. Оно включает более 200 стран и территорий, который могут быть классифицированы по различным критериям с учетом многих экономических показателей. Три основные группы: индустриальные страны, развивающиеся страны и страны с переходной экономи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жнейший элемент системы м-н отношений – международная торговля. Международные расчеты осуществляются при посредстве валютного рынка, который представлен многообразными операциями. В результате межгосударственных соглашений возникает мировая валютная сист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7623-26C0-409A-A554-2A9D273E54FE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6E0AB-C824-4A25-9FEA-6B0F6AC13F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549360"/>
            <a:ext cx="36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ритредерств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3360"/>
            <a:ext cx="410364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5f5f5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нешнеторговая политик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риентированная на свободно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развитие торгов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484280"/>
            <a:ext cx="8066160" cy="13341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47г. заключено Генеральное соглашение по тарифам и торговл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 страны используют комплекс мер для стимулирования и защиты рынка от внешней конкуренции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лассический инструмент протекционизма – таможенные пошл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3068640"/>
            <a:ext cx="2762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аможенны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шлин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3068640"/>
            <a:ext cx="5545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f5f5f"/>
              </a:gs>
              <a:gs pos="50000">
                <a:srgbClr val="0000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государственные денежные сборы, взимаем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провозимых  через границу товаров в соответств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таможенными тарифами и в зависимости о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епени обработки товара, страны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схождения и других обстоятель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5013360"/>
            <a:ext cx="14396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5013360"/>
            <a:ext cx="14400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мож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шл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4941720"/>
            <a:ext cx="223200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выш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я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544500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6520" y="5300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537372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5445000"/>
            <a:ext cx="504720" cy="73080"/>
          </a:xfrm>
          <a:prstGeom prst="rightArrow">
            <a:avLst>
              <a:gd name="adj1" fmla="val 50000"/>
              <a:gd name="adj2" fmla="val 17266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5013360"/>
            <a:ext cx="1873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меньш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роса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D17-B1D0-4F2E-99F5-C6D45C75B6A9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97E34-A4EC-4AD3-80E8-7950F1205C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538200"/>
            <a:ext cx="8353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одн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щита от внешней конкуренции способствует консервации технологической отсталости местных предприятий, которые не имеют стимулов для снижения издержек производства. Сохранение пошлин препятствует развитию международной торговли. По оценкам ВТО, снижение пошлин приведет к росту мировой торговли на 12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друг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пошлины способствуют развитию молодых отраслей национальной экономики, созданию новых рабочих мест. Государство получает стабильные доходы от таможенного обложения, что дает возможность выполнять социальные програм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ортные пошлины в России выше среднеевропейских, так как при снижении пошлин значительная часть отечественных предприятий обанкротится. Для снижения пошлин необходим подъем экономи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5245200" cy="2440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1655640" cy="20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A49A-1FF1-4C52-AD89-BFEA2BC588E3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B5988-4FEC-4E7D-9C37-3871771539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5493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видностью импортных пошлин являются антидемпинговые пошлины. Они устанавливаются для борьбы с демпинг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484280"/>
            <a:ext cx="2305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мпинг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1413000"/>
            <a:ext cx="568944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50000">
                <a:srgbClr val="5f5f5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тановление искусственно заниженных цен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ируемые товары для достиж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курентноспособности на внешних рынк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3068640"/>
            <a:ext cx="835344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уютс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тарифные инструмент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меры, не связанные с установлением пошлин: установление импортных квот, т.е. количественных ограничений на ввоз определенных товаров, установление жестких стандартов и технических условий для импортных товар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имулирования экспорта применяются государственные субсидии, льготные кредиты экспортерам и иностранным покупателям, страхование коммерческих рис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могут возникнуть и возникают «стальные», «автомобильные», «куриные» и др. торговые вой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FA93-D666-4412-B6C3-C4D647C637F0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DABEF-2150-420E-AF0C-C6C2B29D1C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еждународное регулирование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1989000"/>
            <a:ext cx="799308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уществляется Всемирной торговой организацией (ВТО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преемницей Генерального соглашения по тарифам и торговле с 1995г. Членами ВТО являются 140 государ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Основные принципы В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ация торговли путем постоянного снижения ставок таможенных пошлин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каз от нетарифных ограничени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дискриминационный характер торговл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блюдение правил торговли услугами и объектами интеллектуальной собствен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едет переговоры о вступлении в В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59B2-7ADE-463A-8A43-D3E15280BF6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877D79-F2D1-4212-A5E0-9733C3FDDA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628640"/>
            <a:ext cx="8353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уществление международных расчетов предполагает использование валю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валюто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нимается любая национальная денежная единица. Термин «валюта» применяется для обозначения денежных знаков иностранных государств и платежных средств, выраженных в тех или иных национальных денежных единицах и используемых в международных расчет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360" y="3860640"/>
            <a:ext cx="22287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алютный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к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645000"/>
            <a:ext cx="568944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истема устойчивых экономических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зационных отношений, возникающих в связи 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плей-продажей иностранных валю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3625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лютный рынок существует, так нет единых денег, обязательных для приема во всех государств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5300-F77A-4D35-9CDE-DD9335D8F221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166AF-F24B-4F98-B2FF-40D2A8E845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692280"/>
            <a:ext cx="828036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ые валютные рынки расположены более чем в 25 международных финансовых центрах, среди которых выделяются Лондон, Нью-Йорк, Токио, Париж, Цюрих, Франкфурт-на-Майне, Гонконг, Сингапур, Бахрей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ажнейшие операторы на международном валютном рынке – банки, особенно транснациональные. Покупают и продают валюту предприятия, участвующие во внешнеэкономической деятельности, валютные органы государства, частные лиц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сштабы: более 1 трлн долл. В д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На национальном валютном рынке операции производятся в границах территории страны в соответствии с законами данного государства. Центральный банк устанавливает курс национальной валюты в отношении валют зарубежных стр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5157720"/>
            <a:ext cx="32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алютный кур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4797360"/>
            <a:ext cx="4969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50000">
                <a:srgbClr val="cc6600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Цена денежной единицы одной стран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раженная в иностранных денежны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 или международных расчет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6A07-681D-49A2-BD11-3789ECDDF3EC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4744A-F8B9-4A81-88CF-25BCF2B67C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549360"/>
            <a:ext cx="770400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 спрос и предложение валют непрерывно меняется, валютный курс нестабилен. Его фиксация на определенную дату банками или валютной биржей называется котиров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рямая котировка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– к единице иностранной валюты приравнивается то или иное количество национальных денежных един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освенная котировк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– единица национальной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валюты приравнивается к определенному количеству иностранной валю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4701-459A-4EB0-8C44-925FE4551CE4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0B23D-09D6-4FE6-8C7F-2BB4BD0F12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08056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меняются курсы валют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052640"/>
            <a:ext cx="8280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намика курса определяется сдвигами в соотношениях цен одинаковых «корзин» товаров на внутренних рынках. Например: предположим, что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75 €, цена компьютера, который заменяет в данном случае корзину товаров, в США составляет 1000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в Германии – 750 €. Если в Германии компьютеры подорожают до 800€, то будет выгоден их экспорт из США, так как при курсе 0,75€ за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ожно будет продать его в Германии за 800 € и поменять их на 10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рибыль составит 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е принимая в расчет  транспортировку и другие расходы. Это приведет к росту спроса на доллары для закупок компьютеров в США, и курс доллара вырастет, допустим, до 0,85 €. В таком случае станет выгоден их экспорт из Германии, выгода на одной сделке составит 50 €. Это приведет к росту спроса на евро. Равновесие установится при курсе 0,80 евро за один доллар. Этот курс будет отражать новое соотношение цен компьютеров в США и Германии. Таким образом, курс валюты зависит от темпов инфляции в стран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курса определяется изменениями в динамике экспорта и импорта страны. Например, чем больше экспорт, тем больше спрос за границей на валюту этой страны, тем выше ее курс. Рост импорта вызывает рост спроса на иностранную валюту и ослабление национальной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819-1AA9-4D47-BD97-B4A244FE9AE5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0DB03-C971-4B47-AF66-4255ACDDFA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1:16:07Z</dcterms:created>
  <dc:creator>Надежда</dc:creator>
  <dc:description/>
  <dc:language>en-US</dc:language>
  <cp:lastModifiedBy>Надежда</cp:lastModifiedBy>
  <dcterms:modified xsi:type="dcterms:W3CDTF">2009-05-26T08:09:07Z</dcterms:modified>
  <cp:revision>4</cp:revision>
  <dc:subject/>
  <dc:title>Внешнеторговая поли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