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2A4-0421-409F-9DCC-E21E42EA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945-BFD9-44A5-9AC1-154E2481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B49-BC3B-4680-8039-E63E8A37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B4D8-E007-41EB-8A29-9F023BAE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AC76-8F49-4D64-BF40-57B2C719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5849-F982-4B1A-AD8C-2F1E91BE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2690-82BC-4DB1-BFD0-B5AE05AA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B768-BBB9-4E35-923D-6FF15404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D0E6-E21F-444B-80E1-33BD62E8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B63F-B7C8-48B8-A2B7-56425D1F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BFE1-9B83-4D17-BCF9-B6F9E3B8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E0C-EBDC-435A-B825-053EEC7B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DCC9-90C0-40DB-9358-C4903BCA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DB87-B631-418E-AFB6-0A256486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9BA1-1E66-4B77-987B-3E619F37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5B27-F5C7-46D2-AE15-6DF112FB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B933-357A-4ED2-BC3D-813E6C00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181-4E37-488B-8DFC-0534878D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2AA-0E1F-4A0C-8E52-77ABC441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2EE-190F-4528-8C7A-D465FD29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252-E7FE-4F30-80AB-75007D62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CCF-7B9E-46B5-B203-700DF6C7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6809-C44B-4590-85B5-8E9863CA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703-B710-46CA-92E7-385B76F1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4CA0-0A42-4B10-90C7-7FF497C8ECC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BD7D-8C73-41CD-9611-883E534573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2B51-5850-4BE2-A9BD-0B19847E4B0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E1E9-BFA6-435E-ABA0-0C8BD57DE1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360" y="1125360"/>
            <a:ext cx="4824720" cy="41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еторговая политика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23064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995640" y="26028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6BE4-F463-471F-B536-11AD8349D94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704CD06-7B90-4AFC-89BF-0A2A60EBB861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476280"/>
            <a:ext cx="813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валютный курс влияет эластичность спроса по цене на импортные това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личия в процентных ставках по вкладу в банк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жидания владельцев денег относительно динамики курса в будущ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95640" y="2133720"/>
            <a:ext cx="42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алютная полит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852640"/>
            <a:ext cx="792000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4558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о совокупность экономических, правовых и организацион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 в области регулирования валютных отношени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нимаемых государственными органами, централь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анковскими учреждения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ждународными финансовыми организац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85928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и валютная политика оформляется законами (в России Закон РФ «О валютном регулировании и валютном контроле»). Регулирование валютного курса называетс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евизной политико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642-8A9C-4BD3-9C94-898199F6ACCC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FF8D6-4F82-43EB-A712-89771F9A62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4936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ка фиксированных курсов обеспечивается валютными интервенц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341360"/>
            <a:ext cx="2781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лют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тервенц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1268280"/>
            <a:ext cx="4895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деятельность Центрального банка п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упке-продаже иностранной валюты дл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ания курса национальной валю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2708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сокращении валютных резервов или инфляции требуется девальвация или ревальвация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4360" y="342900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Д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42900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снижение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4360" y="501336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Р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508464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повышение 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0A5-99EF-4C4B-A472-9777AA8B9A9E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1C800-C9CC-4B59-918F-FD75168FB1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620640"/>
            <a:ext cx="770436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струментом валютной политики являются валютные ограничения – меры, регламентирующие операции с национальной и иностранной валютой, для поддержания валютного курса и других целей (Федеральный закон РФ «О валютном регулировании и валютном контроле» 2004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соглашений между государствами возникает мировая валютная система.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867г. принята Париж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золотомонетный стандарт): параллельное обращение золотых монет и банкнот, конвертируемость банкнот в золото, свободный ввоз и вывоз зол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44г. принята Бреттон-Вуд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в качестве международных денег были приняты золото и резервные валюты (доллар и фунт стерлингов). Доллар США приравнивался к золоту как эталон ценности валют и мог обмениваться на золото по официальной цене 35 долл. За 1 тройскую унц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76г. принята Ямай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отменены официальные цены золота и золотые паритеты валют, т.е. золото демонетизировалось; отменены фиксированные курсы валют; модифицированы функции МВФ как института валютного регулиро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D39-606B-470C-BE86-688842C5D78A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2A72F-3A8E-4BDF-A1F3-79699FDBFF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404640"/>
            <a:ext cx="7775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ошла в МВФ в 1992г. И стала полноправным участником современной международной валютной систе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йский рубль является частично конвертируемой валютой с управляемо плавающим курсом. Либерализованы операции с капита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348000" y="184464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ЗЮМ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924280"/>
            <a:ext cx="8137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е хозяйство представляет собой совокупность экономик отдельных стран, связанных системой международных экономических отношений. Оно основывается на международном разделении труда. Оно включает более 200 стран и территорий, который могут быть классифицированы по различным критериям с учетом многих экономических показателей. Три основные группы: индустриальные страны, развивающиеся страны и страны с переходной экономи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жнейший элемент системы м-н отношений – международная торговля. Международные расчеты осуществляются при посредстве валютного рынка, который представлен многообразными операциями. В результате межгосударственных соглашений возникает мировая валютная сист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6B7-92F8-4666-ABED-A43741FF3902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12D2E-10C5-49B3-B5EE-C82AC44CDD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549360"/>
            <a:ext cx="36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ритредерств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3360"/>
            <a:ext cx="410364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5f5f5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нешнеторговая политик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риентированная на свободно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звитие торгов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484280"/>
            <a:ext cx="8066160" cy="13341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47г. заключено Генеральное соглашение по тарифам и торгов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 страны используют комплекс мер для стимулирования и защиты рынка от внешней конкуренции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лассический инструмент протекционизма – таможенные пошл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3068640"/>
            <a:ext cx="2762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моженны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шлин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3068640"/>
            <a:ext cx="5545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f5f5f"/>
              </a:gs>
              <a:gs pos="50000">
                <a:srgbClr val="0000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государственные денежные сборы, взимаем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провозимых  через границу товаров в соответств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таможенными тарифами и в зависимости 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епени обработки товара, страны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схождения и других обстоятель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013360"/>
            <a:ext cx="1439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5013360"/>
            <a:ext cx="14400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мож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шл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941720"/>
            <a:ext cx="223200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я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445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652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537372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5445000"/>
            <a:ext cx="504720" cy="73080"/>
          </a:xfrm>
          <a:prstGeom prst="rightArrow">
            <a:avLst>
              <a:gd name="adj1" fmla="val 50000"/>
              <a:gd name="adj2" fmla="val 17266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5013360"/>
            <a:ext cx="1873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нь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а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9B6-A6D1-49AC-AF0F-871F007B6AB9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82F45-E0B9-4606-B27A-DEE8E2AE6F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538200"/>
            <a:ext cx="8353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одн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щита от внешней конкуренции способствует консервации технологической отсталости местных предприятий, которые не имеют стимулов для снижения издержек производства. Сохранение пошлин препятствует развитию международной торговли. По оценкам ВТО, снижение пошлин приведет к росту мировой торговли на 12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друг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пошлины способствуют развитию молодых отраслей национальной экономики, созданию новых рабочих мест. Государство получает стабильные доходы от таможенного обложения, что дает возможность выполнять социальные програм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ортные пошлины в России выше среднеевропейских, так как при снижении пошлин значительная часть отечественных предприятий обанкротится. Для снижения пошлин необходим подъем экономи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5245200" cy="2440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1655640" cy="20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1FB-F46E-4131-A50E-859DBB930445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F4B4B-C088-45E3-99D7-7AF095B3C2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5493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видностью импортных пошлин являются антидемпинговые пошлины. Они устанавливаются для борьбы с демпинг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484280"/>
            <a:ext cx="2305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мпинг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1413000"/>
            <a:ext cx="56894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50000">
                <a:srgbClr val="5f5f5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ановление искусственно заниженных цен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ируемые товары для достиж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тноспособности на внешних рынк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068640"/>
            <a:ext cx="835344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уютс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тарифные инструмент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меры, не связанные с установлением пошлин: установление импортных квот, т.е. количественных ограничений на ввоз определенных товаров, установление жестких стандартов и технических условий для импортных товар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имулирования экспорта применяются государственные субсидии, льготные кредиты экспортерам и иностранным покупателям, страхование коммерческих рис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могут возникнуть и возникают «стальные», «автомобильные», «куриные» и др. торговые вой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8D8-A41E-4C84-BFF0-7C03DF73D023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0D8B8-3D2A-4EDD-ADF0-80BCFE00A7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еждународное регулирование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1989000"/>
            <a:ext cx="79930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уществляется Всемирной торговой организацией (ВТО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преемницей Генерального соглашения по тарифам и торговле с 1995г. Членами ВТО являются 140 государ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Основные принципы В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ация торговли путем постоянного снижения ставок таможенных пошли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каз от нетарифных ограничени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дискриминационный характер торговл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блюдение правил торговли услугами и объектами интеллектуальной собств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едет переговоры о вступлении в В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DE8-BEDD-4DD1-8345-0A916D7B696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CEEC8-442F-421C-86D3-ECC018897F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628640"/>
            <a:ext cx="8353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уществление международных расчетов предполагает использование валю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валюто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нимается любая национальная денежная единица. Термин «валюта» применяется для обозначения денежных знаков иностранных государств и платежных средств, выраженных в тех или иных национальных денежных единицах и используемых в международных расчет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3860640"/>
            <a:ext cx="22287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лютный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к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645000"/>
            <a:ext cx="568944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тема устойчивых экономических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зационных отношений, возникающих в связи 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плей-продажей иностранных валю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3625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лютный рынок существует, так нет единых денег, обязательных для приема во всех государств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86B-2C93-479B-943F-BD2B8D834F2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E0284-8DCF-4D70-9FB5-BD99E8C1FA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692280"/>
            <a:ext cx="828036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ые валютные рынки расположены более чем в 25 международных финансовых центрах, среди которых выделяются Лондон, Нью-Йорк, Токио, Париж, Цюрих, Франкфурт-на-Майне, Гонконг, Сингапур, Бахрей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ажнейшие операторы на международном валютном рынке – банки, особенно транснациональные. Покупают и продают валюту предприятия, участвующие во внешнеэкономической деятельности, валютные органы государства, частные лиц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сштабы: более 1 трлн долл. В д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На национальном валютном рынке операции производятся в границах территории страны в соответствии с законами данного государства. Центральный банк устанавливает курс национальной валюты в отношении валют зарубежных стр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515772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алютный кур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4797360"/>
            <a:ext cx="4969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cc6600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Цена денежной единицы одной стра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раженная в иностранных денеж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 или международных расчет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C3D-A544-4437-9063-48CE65159E07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E007C-D4CC-429B-A9D5-AA244460B8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549360"/>
            <a:ext cx="770400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спрос и предложение валют непрерывно меняется, валютный курс нестабилен. Его фиксация на определенную дату банками или валютной биржей называется котиров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ямая котировка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– к единице иностранной валюты приравнивается то или иное количество национальных денежных един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свенная котировк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– единица национальной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алюты приравнивается к определенному количеству иностранной валю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75A-90EE-42FF-9808-9142F8977653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2265D-6F5A-4AA1-845F-835A94BD15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08056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меняются курсы валю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052640"/>
            <a:ext cx="8280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намика курса определяется сдвигами в соотношениях цен одинаковых «корзин» товаров на внутренних рынках. Например: предположим, что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75 €, цена компьютера, который заменяет в данном случае корзину товаров, в США составляет 1000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 Германии – 750 €. Если в Германии компьютеры подорожают до 800€, то будет выгоден их экспорт из США, так как при курсе 0,75€ за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жно будет продать его в Германии за 800 € и поменять их на 10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рибыль составит 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е принимая в расчет  транспортировку и другие расходы. Это приведет к росту спроса на доллары для закупок компьютеров в США, и курс доллара вырастет, допустим, до 0,85 €. В таком случае станет выгоден их экспорт из Германии, выгода на одной сделке составит 50 €. Это приведет к росту спроса на евро. Равновесие установится при курсе 0,80 евро за один доллар. Этот курс будет отражать новое соотношение цен компьютеров в США и Германии. Таким образом, курс валюты зависит от темпов инфляции в стран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урса определяется изменениями в динамике экспорта и импорта страны. Например, чем больше экспорт, тем больше спрос за границей на валюту этой страны, тем выше ее курс. Рост импорта вызывает рост спроса на иностранную валюту и ослабление национальной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507-6E9E-4F6B-90BA-C6B7FD413F9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1A805-5C92-45F4-990D-EABCAD03CD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16:07Z</dcterms:created>
  <dc:creator>Надежда</dc:creator>
  <dc:description/>
  <dc:language>en-US</dc:language>
  <cp:lastModifiedBy>Надежда</cp:lastModifiedBy>
  <dcterms:modified xsi:type="dcterms:W3CDTF">2009-05-26T08:09:07Z</dcterms:modified>
  <cp:revision>4</cp:revision>
  <dc:subject/>
  <dc:title>Внешнеторговая поли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