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BEF4-BD31-49FA-9E29-1E53E4712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F411-EDC3-48C3-B2B0-68C5A904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780A-2DBA-4131-95BB-2AA5AF538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A733-D314-48DB-A227-11C6A6A73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5F96-D011-4AD4-B98A-628112B8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1A0B-7E07-4A01-98A7-AB566E3B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A18A-9CD1-4769-A68A-F997F2BD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AEE0-407C-4FD8-92A0-46332605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0336-69AD-4832-8D65-AB867E59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DDEB-E674-4FE8-AD72-9BD6B26D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C61A-5F2D-4C09-8523-817FF73C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B8A0-1583-4C69-AE3A-E5AD25E2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2E02-E728-4C11-9ACE-7AB5C5A2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2CE4-49D1-44A5-8940-705F7960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ADD7-F7AE-40D3-8497-77E272B8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EA2C-152B-4C32-8A31-A8788956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F139-773B-4DE4-AF7B-2937287E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FB85-DE43-46DC-A889-A2C874DB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1077-E99D-4417-98F1-86D0AC67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5D06-DAD4-42FB-9DCA-10F3E1F2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FAC5-98A6-403A-B48A-EEA682EE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B6F5-7386-4F34-9F9D-AAD27C35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13C5-011F-49E7-9608-1298A9DB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02BC-A29E-4E14-8CAD-53AFEA98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944C-2547-49A5-BF1E-91C34D1BD40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9FC1-E5AF-42F7-B137-D1083B50581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5197-AE78-40B1-9054-FA0F1DDF0E9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BF54-9C67-4E74-80C8-2A5226DCB63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349000"/>
            <a:ext cx="6707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Мировая экономика и международная торговля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631656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586692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вка Н.В., учитель истории и обществознания МОУ «Февральская СОШ №1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09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492360" y="189000"/>
            <a:ext cx="2162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Эконом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86AA-7341-4880-92A2-75EC254D61C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02EAACB-3F87-4793-85FF-A2F55386ED29}" type="datetime1">
              <a:rPr lang="en-US"/>
              <a:t>07/29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360" y="476280"/>
            <a:ext cx="79088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ЕОТЕХНОЛОГИЧЕСКИЕ ТЕОРИИ М-Н ТОРГОВЛИ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126828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ти теории объясняют, например,  причины торговли между странами, притом что структура и техническая характеристика факторов производства у них схож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249228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амках этих теорий учитываются возможности новой развивающейся техники и технологи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3284640"/>
            <a:ext cx="1873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cc00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Крупносерийно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производ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284640"/>
            <a:ext cx="266508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cc00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Снижение себестоимост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единицы  продук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00720" y="3284640"/>
            <a:ext cx="21589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cc00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Снижени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цен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84360" y="3645000"/>
            <a:ext cx="574920" cy="144360"/>
          </a:xfrm>
          <a:prstGeom prst="rightArrow">
            <a:avLst>
              <a:gd name="adj1" fmla="val 50000"/>
              <a:gd name="adj2" fmla="val 99564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24360" y="3573360"/>
            <a:ext cx="574920" cy="144720"/>
          </a:xfrm>
          <a:prstGeom prst="rightArrow">
            <a:avLst>
              <a:gd name="adj1" fmla="val 50000"/>
              <a:gd name="adj2" fmla="val 9931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4508640"/>
            <a:ext cx="8207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ономисты обращают внимание на непрерывные технологические изменения, осуществляемые фирмами с целью формирования конкурентных преимуще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, например, Голландия экспортирует цветы на сумму более 1 млрд долл. в год, используя усовершенствованные теплицы, отапливаемые электричеством или газом, и авиатранспорт для доставки товара потребителя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4D5A-7AC0-4CC4-95CF-63DEA0774FCA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F2B574-09BF-44C0-B780-D8ABE0A4FC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Закономерности развития мировой торговл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2060640"/>
            <a:ext cx="813744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ая торговля растет очень быстро, экспортные доли стран в объеме ВВП увеличиваются. В 1950г. мировой экспорт товаров и услуг составлял 13% мирового ВВП, в 2000г. – 17,1%, в 2015г., по прогнозу, составит 18,7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растает доля готовой продукции, особенно высокотехнологичной, наукоем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ыстро растут цены машин и оборудования, выпускаемые ведущими странами ми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нижение спроса развитых стран на сырье и продовольствие, производимые развивающимися странами. Их положение в мировой торговле ухудшается. Выгодность внешней торговли для развитых стран раст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величение мирового рынка услуг, особенно туристских, транспортных, финансовых, в сфере передачи технологии. Лидеры – развитые стра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A10F-1AEA-4149-82DD-C3C8E35DF1D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36441-4172-410A-8B56-C3B8F70EAE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0802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нешняя торговля Росси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822240"/>
            <a:ext cx="8207280" cy="60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начение внешней торговли выросло. В 2003г. экспорт товаров составил 135,9 млрд долл., и увеличился на 26,2% по сравнению с уровнем 2002г., импорт вырос на 23,6% и равнялся 75,4 млрд долл. Увеличилась доля экспорта в ВВП. Россия перешла к более рациональным связям, крупнейшие ее партнеры – Германия, США, Итал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ля России в мировой торговле снижается. Ее внешнеторговый оборот составляет около 1% от мирового по сравнению с 3% во второй половине 80-х г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благоприятна товарная структура внешней торговли. Более половины экспорта – невоспроизводимые сырьевые товары с низкой степенью обработки, цветные и черные металлы, электроэнергия, минеральные удобрения, каменный уголь, лес. Вывоз машин и оборудования – около 5%. На 70-75% поступление валюты связано с экспортом сырь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мпортируется оборудование и машины - около трети стоимости импорта, продовольствие, с/х сырье, медикаменты, одежда, обувь, ткан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7A38-4572-47E6-97B6-D32BF32A83FB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3C0DA1-10C8-40AD-A6DA-4C0932C3F5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0802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Формы международной торговл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628640"/>
            <a:ext cx="806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ямые коммерческие операции, оплата в валюте – основное мест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тречная торговля: оплата поставок осуществляется встречными поставками товаров (бартер, компенсационные сделки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3141720"/>
            <a:ext cx="1333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БАРТЕ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</p:txBody>
      </p:sp>
      <p:sp>
        <p:nvSpPr>
          <p:cNvPr id="130" name=""/>
          <p:cNvSpPr/>
          <p:nvPr/>
        </p:nvSpPr>
        <p:spPr>
          <a:xfrm>
            <a:off x="2484360" y="3141720"/>
            <a:ext cx="5616720" cy="8636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СДЕЛКА НА ОСНОВЕ НАТУРАЛЬНОГО ОБМ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ТОВАРАМИ БЕЗ ДЕНЕЖНОГО РАСЧЕ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407664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оссии бартер составляет от 11 до 14%. Самый большой бартерный оборот с Китаем, Германией, Швейцарией, Венгрией (экспорт рыбы, каменного угля, чугуна, жел.руды, импорт сахара, мясных консервов, легковых автомобилей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11280" y="4941720"/>
            <a:ext cx="38383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Компенсацион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сдел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5157720"/>
            <a:ext cx="43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ставка оборудования на условиях кредита, который погашается поставками продукции, выпущенной на этом оборудовании и т.п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35280" y="573408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E2CD-DA88-4A88-8415-5E5F32F71E89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8F2E74-60CE-449A-8B10-33D4987A0C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68360" y="333360"/>
            <a:ext cx="493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тоды м-н торговли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907920"/>
            <a:ext cx="741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ямые сделки с экспортера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ьзование посредников,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дистрибьютер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комиссионер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агентов (биржевая торговля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2205000"/>
            <a:ext cx="5067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ды сделок на биржах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2920" y="2852640"/>
            <a:ext cx="7777080" cy="33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99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Сделки на реальный товар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едполагают его поставку немедленно, т.е. в срок до 15 дней (сделка кэш или спот), или поставка в будущем (форвард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99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Срочные (фьючерсные) сделк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сделки, которые не предусматривают обязательства сторон поставить или принять реальный товар, а предполагают куплю или продажу прав на товар, т.е.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фьючерсных контракт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Результат сделки – уплата или получение разницы между ценой контракта в день его заключения и ценой в день исполнения. Целью является не получение товара, получение спекулятивной прибыли за счет разницы цен или застраховаться от потерь в случае изменения це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D008-B313-430F-AEEE-942F55A4B51D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C83865-685F-4621-8EFA-56C95BDAB4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55640" y="692280"/>
            <a:ext cx="77040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3. Международные торг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на мировых рынках строительных услуг, при поставках дорогого оборудования. Заказ получает фирма, предложившая лучшие условия его выполн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4. Международные аукционы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На них реализуются товары, обладающие индивидуальными свойствами: пушно-меховые изделия, произведения искусства и т.п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5. Электронная коммерция</a:t>
            </a:r>
            <a:r>
              <a:rPr b="0" lang="ru-RU" sz="2000" spc="-1" strike="noStrike">
                <a:solidFill>
                  <a:srgbClr val="ff99ff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например, сбыт энергоносителей на международной нефтяной бирже в Лондоне, Нью-Йоркской и Гонконгской фьючерсных бирж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7EB4-46DC-4DD6-802C-DD6D97E5B363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014B55-0F11-4459-B309-3048951FBD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Роль ООН в мировой экономике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ятельность шести основных органов ООН регламентирует Десятая глава Устава. Одним из них, непосредственно связанным с международными экономическими отношениями, является ЭКОКОС - Экономический и социальный совет ООН, под эгидой которого действует и большинство других экономических органов этой организаци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функции ЭКОКОС входит организация исследований и подготовка различного рода докладов и рекомендаций по самому широкому спектру международных экономических, социальных, культурных и сопряженных с ними вопрос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58B0-008D-40A4-9048-9DE1D9041B0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469401-AFEE-4F52-B589-BBDE3E0D5A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55640" y="333000"/>
            <a:ext cx="7772400" cy="6335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ферой деятельности ЭКОКО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яется рассмотрение следующих вопросов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состояние мирового экономического и социального положения и международная торговля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облемы окружающей среды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вопросы оказания экономической и научной помощи развивающимся странам, а также аспекты состояния в них продовольственной проблемы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состояние проблем социально-экономической статистики, народонаселения и природных ресурсов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облема планирования и мобилизации финансовых ресурсов, а также роли государственного и кооперативного секторов в экономике развивающихся стран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облемы регионального сотрудниче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1A91-B321-4E4A-92BD-945106B71B0D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5DCBC-F673-4125-BD84-0FB50B1C27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0920" y="260280"/>
            <a:ext cx="8424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ференция ООН по торговле и развитию (ЮНКТАД) - международный орган, призванный регулировать всемирные торговые отношени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иболее важные требования к участникам международной торговли разрабатываются ГАТТ (Генеральное соглашение по торговле и тарифам) - они выполняют приоритетную роль и при разработке документов ЮНКТАД. С 1997 года ГАТТ решением ее участников было преобразовано во Всемирную торговую организацию, как специализированное учреждение ОО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B59D-D29F-4D23-B646-07CE980336EB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8FA4E-B497-4EE0-8C74-B1097F3FF0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4360" y="76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ьючер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Futures contract; Futu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ьючерсный контракт - контракт на покупку или продажу товара (финансового актива) с поставкой на будущую дату. Фьючерсный контракт предусматривает строго определенное количество товара установленного вида с минимально допустимыми отклонениями, поставляемого на определенных условиях оплаты накладных или транспортных расход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делка по продаже (покупке) фьючерсного контракта обязательно регистрируется расчетной палатой бирж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2124000" y="6381720"/>
            <a:ext cx="1008000" cy="476280"/>
          </a:xfrm>
          <a:custGeom>
            <a:avLst/>
            <a:gdLst>
              <a:gd name="textAreaLeft" fmla="*/ 30600 w 1008000"/>
              <a:gd name="textAreaRight" fmla="*/ 977400 w 1008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5696" h="21600">
                <a:moveTo>
                  <a:pt x="0" y="0"/>
                </a:moveTo>
                <a:lnTo>
                  <a:pt x="45696" y="0"/>
                </a:lnTo>
                <a:lnTo>
                  <a:pt x="45696" y="21600"/>
                </a:lnTo>
                <a:lnTo>
                  <a:pt x="0" y="21600"/>
                </a:lnTo>
                <a:close/>
              </a:path>
              <a:path fill="lightenLess" w="45696" h="21600">
                <a:moveTo>
                  <a:pt x="0" y="0"/>
                </a:moveTo>
                <a:lnTo>
                  <a:pt x="45696" y="0"/>
                </a:lnTo>
                <a:lnTo>
                  <a:pt x="44296" y="1400"/>
                </a:lnTo>
                <a:lnTo>
                  <a:pt x="1400" y="1400"/>
                </a:lnTo>
                <a:close/>
              </a:path>
              <a:path fill="darken" w="45696" h="21600">
                <a:moveTo>
                  <a:pt x="45696" y="0"/>
                </a:moveTo>
                <a:lnTo>
                  <a:pt x="45696" y="21600"/>
                </a:lnTo>
                <a:lnTo>
                  <a:pt x="44296" y="20200"/>
                </a:lnTo>
                <a:lnTo>
                  <a:pt x="44296" y="1400"/>
                </a:lnTo>
                <a:close/>
              </a:path>
              <a:path fill="darkenLess" w="45696" h="21600">
                <a:moveTo>
                  <a:pt x="45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96" y="20200"/>
                </a:lnTo>
                <a:close/>
              </a:path>
              <a:path fill="lighten" w="45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96" h="21600">
                <a:moveTo>
                  <a:pt x="15842" y="10800"/>
                </a:moveTo>
                <a:lnTo>
                  <a:pt x="29855" y="3794"/>
                </a:lnTo>
                <a:lnTo>
                  <a:pt x="29855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EB71-C04A-4840-A1A4-F59489E4EBA2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7C91A-92F2-490E-8C40-650F4DDC28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ировая экономи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1268280"/>
            <a:ext cx="84247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ровую экономику можно определить как совокупность национальных хозяйств и негосударственных структур, объединенных международными отношени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ровая экономика возникла благодаря международному разделению труда, что повлекло за собой как разделение производства (то есть международную специализацию), так и его объединение — коопераци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ные характеристик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ерархичность (наличие наднациональных институтов, например ООН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ногоуровнев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руктур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равномерность распределения экономической мощи (на 32 развитые страны мира приходится 80% мировой покупательной способности граждан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личие определенного мирового поряд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358D-114D-4499-8E71-E492C81F67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744F38-CAB2-40DB-9963-54CB6B07DA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ятельность дистрибьютора состоит в том, что он делает оптовую закупу товара и реализует его на региональных рынках. Одновременно дистрибьютор оказывает консультационные и маркетинговые услуги, при необходимости занимается установкой оборудования. То есть, фактически, дистрибьютор – продавец, торговый представитель фирм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2124000" y="6237360"/>
            <a:ext cx="1079640" cy="620640"/>
          </a:xfrm>
          <a:custGeom>
            <a:avLst/>
            <a:gdLst>
              <a:gd name="textAreaLeft" fmla="*/ 39960 w 1079640"/>
              <a:gd name="textAreaRight" fmla="*/ 1039680 w 1079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7565" h="21600">
                <a:moveTo>
                  <a:pt x="0" y="0"/>
                </a:moveTo>
                <a:lnTo>
                  <a:pt x="37565" y="0"/>
                </a:lnTo>
                <a:lnTo>
                  <a:pt x="37565" y="21600"/>
                </a:lnTo>
                <a:lnTo>
                  <a:pt x="0" y="21600"/>
                </a:lnTo>
                <a:close/>
              </a:path>
              <a:path fill="lightenLess" w="37565" h="21600">
                <a:moveTo>
                  <a:pt x="0" y="0"/>
                </a:moveTo>
                <a:lnTo>
                  <a:pt x="37565" y="0"/>
                </a:lnTo>
                <a:lnTo>
                  <a:pt x="36165" y="1400"/>
                </a:lnTo>
                <a:lnTo>
                  <a:pt x="1400" y="1400"/>
                </a:lnTo>
                <a:close/>
              </a:path>
              <a:path fill="darken" w="37565" h="21600">
                <a:moveTo>
                  <a:pt x="37565" y="0"/>
                </a:moveTo>
                <a:lnTo>
                  <a:pt x="37565" y="21600"/>
                </a:lnTo>
                <a:lnTo>
                  <a:pt x="36165" y="20200"/>
                </a:lnTo>
                <a:lnTo>
                  <a:pt x="36165" y="1400"/>
                </a:lnTo>
                <a:close/>
              </a:path>
              <a:path fill="darkenLess" w="37565" h="21600">
                <a:moveTo>
                  <a:pt x="37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65" y="20200"/>
                </a:lnTo>
                <a:close/>
              </a:path>
              <a:path fill="lighten" w="37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65" h="21600">
                <a:moveTo>
                  <a:pt x="11776" y="10800"/>
                </a:moveTo>
                <a:lnTo>
                  <a:pt x="25789" y="3794"/>
                </a:lnTo>
                <a:lnTo>
                  <a:pt x="25789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9D9B-4FA1-4CC7-BE72-0A53DC908B20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C5B17-B6FA-4E24-A82C-92EEB95DAC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ИССИОНЕР — посредник в торговых сделках; лицо, выполняющее за особое вознаграждение торговые поручения от своего имени, но за счет комитен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previousslide"/>
          </p:cNvPr>
          <p:cNvSpPr/>
          <p:nvPr/>
        </p:nvSpPr>
        <p:spPr>
          <a:xfrm>
            <a:off x="1547640" y="6237360"/>
            <a:ext cx="936720" cy="620640"/>
          </a:xfrm>
          <a:custGeom>
            <a:avLst/>
            <a:gdLst>
              <a:gd name="textAreaLeft" fmla="*/ 39960 w 936720"/>
              <a:gd name="textAreaRight" fmla="*/ 896760 w 936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2594" h="21600">
                <a:moveTo>
                  <a:pt x="0" y="0"/>
                </a:moveTo>
                <a:lnTo>
                  <a:pt x="32594" y="0"/>
                </a:lnTo>
                <a:lnTo>
                  <a:pt x="32594" y="21600"/>
                </a:lnTo>
                <a:lnTo>
                  <a:pt x="0" y="21600"/>
                </a:lnTo>
                <a:close/>
              </a:path>
              <a:path fill="lightenLess" w="32594" h="21600">
                <a:moveTo>
                  <a:pt x="0" y="0"/>
                </a:moveTo>
                <a:lnTo>
                  <a:pt x="32594" y="0"/>
                </a:lnTo>
                <a:lnTo>
                  <a:pt x="31194" y="1400"/>
                </a:lnTo>
                <a:lnTo>
                  <a:pt x="1400" y="1400"/>
                </a:lnTo>
                <a:close/>
              </a:path>
              <a:path fill="darken" w="32594" h="21600">
                <a:moveTo>
                  <a:pt x="32594" y="0"/>
                </a:moveTo>
                <a:lnTo>
                  <a:pt x="32594" y="21600"/>
                </a:lnTo>
                <a:lnTo>
                  <a:pt x="31194" y="20200"/>
                </a:lnTo>
                <a:lnTo>
                  <a:pt x="31194" y="1400"/>
                </a:lnTo>
                <a:close/>
              </a:path>
              <a:path fill="darkenLess" w="32594" h="21600">
                <a:moveTo>
                  <a:pt x="32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4" y="20200"/>
                </a:lnTo>
                <a:close/>
              </a:path>
              <a:path fill="lighten" w="32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4" h="21600">
                <a:moveTo>
                  <a:pt x="9291" y="10800"/>
                </a:moveTo>
                <a:lnTo>
                  <a:pt x="23304" y="3794"/>
                </a:lnTo>
                <a:lnTo>
                  <a:pt x="23304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2BCE-4E34-4116-8CA6-9F8EDAD3B1E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7FCD6C-34CA-4949-9869-3CFD49B3EC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0" t="0" r="3969" b="0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622F-05BB-4592-8D30-39D4FD2A4D99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F61734-C299-4CDD-9E66-14B24502BC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15184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Направления и формы международных экономических отношений: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341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международная торговля товарами, работами, услугам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международная специализация производства и научно-технических работ, или международный научно-технический обмен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обмен научно-техническими результатам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информационные, валютно-финансовые и кредитные связи между странам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движение капитала (инвестиции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движение (миграция) рабочей силы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деятельность международных экономических организаций, хозяйственное сотрудничество в решении глобальных пробл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169B-9951-4C70-9801-54C4E7B92DA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E6EEA3-2E7B-45C4-BF59-72E1DA4A6D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Субъекты мировых хозяйственных отношений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анснациональные корпорации (ТНК) и их долгосрочные альянсы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анснациональные банк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инансово-промышленные группы — объединение ТНК и ТНБ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иржи (особенно крупные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упные предпринимател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сударства, и приравненные к ним территории, а также административные единицы данных государств и территорий; Мировые финансовые и экономические организации (включая крупных инвесторов и организации-объединения крупных компаний, занимающиеся контролем определенных международных рынков, объединения стран внутри региона — СНГ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494172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ост мировой экономики за 2005 год составил 4,4 %. Суммарный ВВП всех стран составил на конец 2005 года — 43,07 трлн долл. США в номинальном выражении. В среднем ВВП на душу населения составляет около 9500 долл. (ППП) на человека. Сейчас в мире насчитывается около 30 тысяч транснациональных корпораций и около 300 тысяч их филиал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5479-1D24-484D-AA3C-573B5C49817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4ECE44-FCAE-4AB0-A938-4A65F225CB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9640" y="907920"/>
            <a:ext cx="77724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развитая инфраструктура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наличие политических решений правительства (создание условий для интеграции – политическая и экономическая база);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1280" y="2421000"/>
          <a:ext cx="7848360" cy="3963960"/>
        </p:xfrm>
        <a:graphic>
          <a:graphicData uri="http://schemas.openxmlformats.org/drawingml/2006/table">
            <a:tbl>
              <a:tblPr/>
              <a:tblGrid>
                <a:gridCol w="2057400"/>
                <a:gridCol w="5790960"/>
              </a:tblGrid>
              <a:tr h="75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ип интегр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зна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она свободной торговл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орма соглашения, когда участники договариваются о снятии таможенных тарифов и квот в отношении друг друга. При этом к третьим странам – у каждого своя политика. Примеры: НАФТА, ЕЭС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аможенный союз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ное устранение препятствий для перемещений всех факторов производства между странами-участницами. В процессе решения находятся такие вопросы, как: полное согласование экономической политики и т.д., выравнивание экономических показателей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260280"/>
            <a:ext cx="808056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Условия и типы интеграции: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6040-B62A-457D-9EEE-3DDCB313137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90FA16-03EB-40CF-BFD0-F2E1E6703B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24000" y="304920"/>
          <a:ext cx="8819640" cy="7086240"/>
        </p:xfrm>
        <a:graphic>
          <a:graphicData uri="http://schemas.openxmlformats.org/drawingml/2006/table">
            <a:tbl>
              <a:tblPr/>
              <a:tblGrid>
                <a:gridCol w="2122920"/>
                <a:gridCol w="6696720"/>
              </a:tblGrid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кономический союз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зникает на этапе высокого экономического развития. Проводится согласованная (или даже единая) экономическая политика и на этой основе идет снятие всех препятствий. Создаются межгосударственные (надгосударственные) органы. Идут крупные экономические преобразования во всех странах-участницах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алютный союз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орма экономического союза и одновременно его крупная составляющая. Характерными чертами валютного союза являются: 1) согласованное (совместное) плавание национальных валют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) установление по соглашению фиксированных валютных курсов, которые целенаправленно поддерживаются Центробанками стран-участниц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) создание единой региональной валюты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) формирование единого регионального банка, являющегося эмиссионным центром этой международной валютной единицы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ная экономическая интеграц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диная экономическая политика и, как следствие, унификация законодательной базы. Условия: 1) общая налоговая система; 2) наличие единых стандартов; 3) единое трудовое законодательство и т.д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68A0-08EF-4A85-8416-DFF25D344599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D6812D-7259-4312-809C-803914D13F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8360" y="1341360"/>
            <a:ext cx="8209080" cy="29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правление экономической мысл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VI-XVII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в., видным представителем которого был Т.Манн (1571-1641) изучали проблемы внешней торговл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ркантилисты полагали, что внешняя торговля необходима стране для накопления золота, которое считалось главным источником богатства нации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иток золота в страну обеспечивается, если вывоз товаров, за которые государство получает золото, будет больше ввоза, за который надлежит расплачиваться благородным металл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этому меркантилисты выступали за расширение экспорта и всемерное ограничение импор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40000" y="4365720"/>
            <a:ext cx="3024000" cy="22366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еркантилизм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2186-5F9A-4F10-A591-9F383D157E7A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C78A8-A5B1-475A-8850-A4EEB6F73C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дам Смит выдвинул теорию мировой торговли, обосновав необходимость либерализации импорта и ослабления таможенных ограничений. Подход Смита получил назва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4360" y="1052640"/>
            <a:ext cx="74041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НЦИП АБСОЛЮТНОГО ПРЕИМУЩЕСТВ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773360"/>
            <a:ext cx="849600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аждая страна должна специализироваться на производстве товаров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редние издержки которых меньш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ем средние издержки в других страна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5516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бсолютное преимущество по какому-либо товару определяется наделенностью соответствующими ресурсами. Экспортируя часть товаров, на вырученные деньги страна приобретает товары, в производстве которых преимущество у другой стра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3213000"/>
            <a:ext cx="476244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956C-93DD-4000-8A12-10A73FC748B4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93C4A-4CC8-4A4E-BE2F-18FE9DEE5D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116000" y="404640"/>
            <a:ext cx="68198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НЦИП СРАВНИТЕЛЬНОГО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ЕИМУЩЕСТВ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1557360"/>
            <a:ext cx="6985080" cy="172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АНА  ДОЛЖНА  СПЕЦИАЛИЗИРОВАТЬСЯ  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ПУСКЕ  ТОВАРОВ,  ПРОИЗВОДСТВО  КОТОР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НОСИТЕЛЬНО  БОЛЕЕ  ВЫГОДНО  В  СОПОСТАВЛЕН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 ПРОИЗВОДСТВОМ  ТАКИХ  ЖЕ  ТОВАРОВ  В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РУГИХ   СТРАН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3500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нцип сравнительного преимущества Д.Рикардо впоследствии развили другие  экономисты, которые распространили его на всю совокупность факторов производства, включая капитал. Страны экспортируют те товары, на производство которых идут факторы, имеющиеся в относительном избытке и поэтому относительно дешевые (рабочая сила в развивающихся странах дешевая, страны экспортируют трудоемкие товары, а импортируют наукоемкую продукцию, так собственное их производство потребовало бы относительно больших затрат в связи с нехваткой капитала и квалифицированного труд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DC2D-7FA7-4094-87E9-9BF29E02056F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A9FED-2380-4E94-911A-D7E03F5D21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4:11:11Z</dcterms:created>
  <dc:creator>Надежда</dc:creator>
  <dc:description/>
  <dc:language>en-US</dc:language>
  <cp:lastModifiedBy>Надежда</cp:lastModifiedBy>
  <dcterms:modified xsi:type="dcterms:W3CDTF">2009-12-14T12:20:20Z</dcterms:modified>
  <cp:revision>6</cp:revision>
  <dc:subject/>
  <dc:title>Международная торгов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