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6.gif" ContentType="image/gif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2652-A84B-4294-8154-3911B2EF3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D145-39B9-4985-901D-44FE88CF8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46AF-FC1C-44EB-8939-36D342D43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B738-B430-4E4E-B886-548E61792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3C6966-FAE3-4E6F-8F63-30CA884C2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7B51EA-19BF-41E3-9342-474F24C77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DEAF06-06A0-4358-AC7A-836C83A51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02DAE4-6DFB-4D35-B7F6-346B5ED9E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A7954D-12EF-4E38-8103-DEA1FE99F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1097FF-161A-4322-9AFB-38C878F1C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D87762-BA52-4459-85C7-CD715C229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2C6B-FC53-4F81-B1FC-48A87607D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D78A40-D2A3-4481-A8C5-54A8C86B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84D8B4-86F7-44F0-875A-ED6A47A3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DA88C7-EFDC-439C-9A35-C5831E40E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B56B60-4549-49C3-BAA4-78442E88A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27B25F-098D-40B5-8027-B60A7EB62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BBB1-6366-4BCD-803B-ABF380EB2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75F2-7479-4941-BE7C-8D9F5D134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7720-3FA9-412C-95D3-899BE4208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311B-4521-42C0-90B9-BDDF301AF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9BE2-979B-4611-8AC3-41C44F96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44D2-64CD-48A7-9B19-E5B4D06D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E56B-2117-4D2A-8963-2955194B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6A5EA-3036-4CE0-9089-F1162EF0017F}" type="slidenum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4"/>
          </p:nvPr>
        </p:nvSpPr>
        <p:spPr>
          <a:xfrm>
            <a:off x="8100720" y="6244920"/>
            <a:ext cx="58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78056-5DAA-4D63-B77C-194822581D43}" type="slidenum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05ff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05ff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05ff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Банковская систе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195640" y="5734080"/>
            <a:ext cx="62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Савка Н.В., учитель истории и обществознания, 2008г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02B374-E26E-48B7-BD8E-C94C69B4EE2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fld id="{6A275C5D-F94F-4D82-BEBD-98F8DE05D1FA}" type="datetime1">
              <a:rPr lang="en-US"/>
              <a:t>07/28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 rot="20717400">
            <a:off x="178920" y="1196640"/>
            <a:ext cx="2876760" cy="52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возвратно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56000" y="1341360"/>
            <a:ext cx="5616360" cy="358920"/>
          </a:xfrm>
          <a:prstGeom prst="rect">
            <a:avLst/>
          </a:prstGeom>
          <a:solidFill>
            <a:srgbClr val="99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Кредит должен быть возвращен воврем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51280" y="1700280"/>
            <a:ext cx="360360" cy="433440"/>
          </a:xfrm>
          <a:prstGeom prst="downArrow">
            <a:avLst>
              <a:gd name="adj1" fmla="val 50000"/>
              <a:gd name="adj2" fmla="val 30070"/>
            </a:avLst>
          </a:prstGeom>
          <a:solidFill>
            <a:srgbClr val="99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627280" y="2133720"/>
            <a:ext cx="4321080" cy="3585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Проверка кредитоспособности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8360" y="2924280"/>
            <a:ext cx="3087720" cy="54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редитоспособность</a:t>
            </a:r>
            <a:endParaRPr b="0" lang="en-US" sz="1800" spc="1" strike="noStrike">
              <a:ln w="0">
                <a:noFill/>
              </a:ln>
              <a:solidFill>
                <a:srgbClr val="00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2" name=""/>
          <p:cNvSpPr/>
          <p:nvPr/>
        </p:nvSpPr>
        <p:spPr>
          <a:xfrm>
            <a:off x="3672000" y="2565360"/>
            <a:ext cx="5364000" cy="1150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50000">
                <a:srgbClr val="ffffff"/>
              </a:gs>
              <a:gs pos="100000">
                <a:srgbClr val="99ff99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Наличие у заемщика готовности и возможнос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вовремя выполнить свои обязательства по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кредитному договору – вернуть займ 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выплатить проценты по нему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2268360" y="4005360"/>
            <a:ext cx="4133880" cy="52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гарантированно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971640" y="1700280"/>
            <a:ext cx="1285920" cy="7430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3276720" y="4724280"/>
            <a:ext cx="12286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Зало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788000" y="4437000"/>
            <a:ext cx="4176720" cy="1368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Собственность заемщика, которую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он передает под контроль или в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распоряжение банка, разрешая ее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продать, если он сам не сможет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вернуть долг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5"/>
          <a:stretch/>
        </p:blipFill>
        <p:spPr>
          <a:xfrm>
            <a:off x="684360" y="4508640"/>
            <a:ext cx="2158920" cy="15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оль Центрального банка в регулировании кредитно-денежной системы стра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2411400">
            <a:off x="703080" y="870120"/>
            <a:ext cx="2087280" cy="3457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Выпуск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наличных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денег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1218000">
            <a:off x="2124000" y="1413000"/>
            <a:ext cx="1944720" cy="36716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«Банк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банков»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492360" y="1628640"/>
            <a:ext cx="1944720" cy="3673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«Банкир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правитель-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ства»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20584800">
            <a:off x="5003640" y="1483920"/>
            <a:ext cx="1884600" cy="35989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Регулиро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вание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денежно-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кредитной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массы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20073600">
            <a:off x="6659280" y="980640"/>
            <a:ext cx="1871640" cy="34560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Контроль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з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деятель-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ностью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коммерче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ских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банков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4000" y="5661000"/>
            <a:ext cx="85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ЦБ не ведет операций с фирмами или гражданами и имеет дело только с банками внутри страны и за ее рубежом. Главная задача ЦБ – борьба с инфляцией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Функции ЦБ по регулированию экономи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Контроль за созданием и деятельностью коммерческих банков.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Определение правил денежных операций с национальной и иностранными валютами.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Регулирование масштабов кредитной эмиссии коммерческих банков.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роисхождение банков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1484280"/>
            <a:ext cx="5976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Слово “банк” происходит от итальянского “banco” и означает “стол”, «скамья». Предшественниками банков были средневековые менялы – представители денежно-торгового капитала; они принимали денежные средства у купцов и специализировались на обмене денег различных городов и стран. Со временем менялы стали использовать эти вклады, а также собственные денежные средства для выдачи ссуд и получения процентов, что означало превращение менял в банкиров.</a:t>
            </a:r>
            <a:br>
              <a:rPr sz="1800"/>
            </a:b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В Англии капиталистическая банковская система возникла в XVI в., причём банкиры вышли из среды либо золотых дел мастеров, либо купцов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156360" y="1700280"/>
            <a:ext cx="2774880" cy="26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5867280" cy="26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5ff6"/>
                </a:solidFill>
                <a:latin typeface="Arial"/>
              </a:rPr>
              <a:t>Менялы были уже в Древней Греции. Они знали до тонкостей все пересчеты, могли сразу определить, какая монета и какого государства лежит перед ними, сколько монет другого города нужно выдать за нее. Опытным глазом меняла мог в куче монет найти фальшивую. Древний философ Эпиктет говорил, что для этого менялы (в Греции они назывались «трапезиты») пользовались четырьмя чув­ствами: зрением, осязанием, обонянием и слухом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012000" y="1413000"/>
            <a:ext cx="2919240" cy="27478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50920" y="4149720"/>
            <a:ext cx="8893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От лавок менял ведут свое происхождение современные банки. Само слово «банк» происходит от староанглийского слова bank, что означало «скамья», на которой сидел меняла. Когда менялу уличали в обмане, его скамью и стол ломали. Banca rotta — разбитая скамья. Потом этими словами стали обозначать крах предприятия или банка, т. е. банкротство. Итальянские торговые, финансовые дома и агентства, ведущие свое происхождение от лавок менял, ста­ли прообразом крупных финансовых капиталистических предприятий. Уже в XIV в., на заре капиталистического общества, в Италии банкирские компании обладали колоссальными капиталами и пускали в оборот огромные вклады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Банковская систе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34136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1 уровень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08000" y="1341360"/>
            <a:ext cx="381636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05ff6"/>
                </a:solidFill>
                <a:latin typeface="Arial"/>
              </a:rPr>
              <a:t>Центральный банк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92360" y="2060640"/>
            <a:ext cx="43200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205ff6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79640" y="2565360"/>
            <a:ext cx="36734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Коммерческие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банки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780000" y="3213000"/>
            <a:ext cx="287280" cy="1008000"/>
          </a:xfrm>
          <a:prstGeom prst="downArrow">
            <a:avLst>
              <a:gd name="adj1" fmla="val 50000"/>
              <a:gd name="adj2" fmla="val 87719"/>
            </a:avLst>
          </a:prstGeom>
          <a:solidFill>
            <a:srgbClr val="205ff6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87280" y="3573360"/>
            <a:ext cx="5400720" cy="216000"/>
          </a:xfrm>
          <a:prstGeom prst="rect">
            <a:avLst/>
          </a:prstGeom>
          <a:solidFill>
            <a:srgbClr val="205ff6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24000" y="3789360"/>
            <a:ext cx="287280" cy="431640"/>
          </a:xfrm>
          <a:prstGeom prst="downArrow">
            <a:avLst>
              <a:gd name="adj1" fmla="val 50000"/>
              <a:gd name="adj2" fmla="val 37563"/>
            </a:avLst>
          </a:prstGeom>
          <a:solidFill>
            <a:srgbClr val="205ff6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4360" y="3789360"/>
            <a:ext cx="287640" cy="431640"/>
          </a:xfrm>
          <a:prstGeom prst="downArrow">
            <a:avLst>
              <a:gd name="adj1" fmla="val 50000"/>
              <a:gd name="adj2" fmla="val 37516"/>
            </a:avLst>
          </a:prstGeom>
          <a:solidFill>
            <a:srgbClr val="205ff6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92360" y="4221000"/>
            <a:ext cx="1008000" cy="1224000"/>
          </a:xfrm>
          <a:custGeom>
            <a:avLst/>
            <a:gdLst>
              <a:gd name="textAreaLeft" fmla="*/ 48960 w 1008000"/>
              <a:gd name="textAreaRight" fmla="*/ 959040 w 1008000"/>
              <a:gd name="textAreaTop" fmla="*/ 48960 h 1224000"/>
              <a:gd name="textAreaBottom" fmla="*/ 1175040 h 1224000"/>
            </a:gdLst>
            <a:ahLst/>
            <a:rect l="textAreaLeft" t="textAreaTop" r="textAreaRight" b="textAreaBottom"/>
            <a:pathLst>
              <a:path w="21600" h="26227">
                <a:moveTo>
                  <a:pt x="3600" y="0"/>
                </a:moveTo>
                <a:arcTo wR="3600" hR="3600" stAng="16200000" swAng="-5400000"/>
                <a:lnTo>
                  <a:pt x="0" y="22627"/>
                </a:lnTo>
                <a:arcTo wR="3600" hR="3600" stAng="10800000" swAng="-5400000"/>
                <a:lnTo>
                  <a:pt x="18000" y="262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19640" y="4221000"/>
            <a:ext cx="1008000" cy="1224000"/>
          </a:xfrm>
          <a:custGeom>
            <a:avLst/>
            <a:gdLst>
              <a:gd name="textAreaLeft" fmla="*/ 48960 w 1008000"/>
              <a:gd name="textAreaRight" fmla="*/ 959040 w 1008000"/>
              <a:gd name="textAreaTop" fmla="*/ 48960 h 1224000"/>
              <a:gd name="textAreaBottom" fmla="*/ 1175040 h 1224000"/>
            </a:gdLst>
            <a:ahLst/>
            <a:rect l="textAreaLeft" t="textAreaTop" r="textAreaRight" b="textAreaBottom"/>
            <a:pathLst>
              <a:path w="21600" h="26227">
                <a:moveTo>
                  <a:pt x="3600" y="0"/>
                </a:moveTo>
                <a:arcTo wR="3600" hR="3600" stAng="16200000" swAng="-5400000"/>
                <a:lnTo>
                  <a:pt x="0" y="22627"/>
                </a:lnTo>
                <a:arcTo wR="3600" hR="3600" stAng="10800000" swAng="-5400000"/>
                <a:lnTo>
                  <a:pt x="18000" y="262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35640" y="4221000"/>
            <a:ext cx="1008000" cy="1224000"/>
          </a:xfrm>
          <a:custGeom>
            <a:avLst/>
            <a:gdLst>
              <a:gd name="textAreaLeft" fmla="*/ 48960 w 1008000"/>
              <a:gd name="textAreaRight" fmla="*/ 959040 w 1008000"/>
              <a:gd name="textAreaTop" fmla="*/ 48960 h 1224000"/>
              <a:gd name="textAreaBottom" fmla="*/ 1175040 h 1224000"/>
            </a:gdLst>
            <a:ahLst/>
            <a:rect l="textAreaLeft" t="textAreaTop" r="textAreaRight" b="textAreaBottom"/>
            <a:pathLst>
              <a:path w="21600" h="26227">
                <a:moveTo>
                  <a:pt x="3600" y="0"/>
                </a:moveTo>
                <a:arcTo wR="3600" hR="3600" stAng="16200000" swAng="-5400000"/>
                <a:lnTo>
                  <a:pt x="0" y="22627"/>
                </a:lnTo>
                <a:arcTo wR="3600" hR="3600" stAng="10800000" swAng="-5400000"/>
                <a:lnTo>
                  <a:pt x="18000" y="262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5400000">
            <a:off x="3923640" y="3860640"/>
            <a:ext cx="432000" cy="3600360"/>
          </a:xfrm>
          <a:custGeom>
            <a:avLst/>
            <a:gdLst>
              <a:gd name="textAreaLeft" fmla="*/ 0 w 432000"/>
              <a:gd name="textAreaRight" fmla="*/ 155880 w 432000"/>
              <a:gd name="textAreaTop" fmla="*/ 93600 h 3600360"/>
              <a:gd name="textAreaBottom" fmla="*/ 3506760 h 36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95640" y="5734080"/>
            <a:ext cx="3528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Клиенты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фирмы и частные лица)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63700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 уровень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6720" y="1916280"/>
            <a:ext cx="2519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Создателем двухуровневой банковской системы считается Великобритан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Банковское законодательств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1484280"/>
            <a:ext cx="374328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Гражданский кодекс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от 21 октября 1994г, изменен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0 февраля, 12 августа 1996г.,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4 октября 1997г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1484280"/>
            <a:ext cx="374328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ff"/>
              </a:gs>
              <a:gs pos="100000">
                <a:srgbClr val="ffcccc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Федеральный закон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«О банках и банковской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деятельности» от 19 июн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001г. № 82-Ф3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916360" y="907920"/>
            <a:ext cx="287280" cy="576360"/>
          </a:xfrm>
          <a:prstGeom prst="upArrow">
            <a:avLst>
              <a:gd name="adj1" fmla="val 50000"/>
              <a:gd name="adj2" fmla="val 5015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580000" y="907920"/>
            <a:ext cx="287280" cy="576360"/>
          </a:xfrm>
          <a:prstGeom prst="upArrow">
            <a:avLst>
              <a:gd name="adj1" fmla="val 50000"/>
              <a:gd name="adj2" fmla="val 50157"/>
            </a:avLst>
          </a:prstGeom>
          <a:solidFill>
            <a:srgbClr val="ffcccc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95640" y="2852640"/>
            <a:ext cx="288720" cy="505080"/>
          </a:xfrm>
          <a:prstGeom prst="downArrow">
            <a:avLst>
              <a:gd name="adj1" fmla="val 50000"/>
              <a:gd name="adj2" fmla="val 43734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3357720"/>
            <a:ext cx="4032360" cy="26636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Содержит основные положен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о регулировании банковской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деятельности и банковских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операций (в том числе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по договорам банковского вклада,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банковского счета) и о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расчетах с помощью чеков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788000" y="3357720"/>
            <a:ext cx="4032000" cy="30240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Регулирует отношения в облас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банковского дела между банкам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и кредитными организациями, с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одной стороны, и гражданами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предприятиями, организациями, с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другой стороны отношения банков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между собой; так же устанавливает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основные принципы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государственного регулирования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банковской деятельности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72360" y="2852640"/>
            <a:ext cx="288720" cy="505080"/>
          </a:xfrm>
          <a:prstGeom prst="downArrow">
            <a:avLst>
              <a:gd name="adj1" fmla="val 50000"/>
              <a:gd name="adj2" fmla="val 43734"/>
            </a:avLst>
          </a:prstGeom>
          <a:solidFill>
            <a:srgbClr val="ffcccc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Банки и их функц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1268280"/>
            <a:ext cx="8820000" cy="1008360"/>
          </a:xfrm>
          <a:prstGeom prst="rect">
            <a:avLst/>
          </a:prstGeom>
          <a:solidFill>
            <a:srgbClr val="ffff99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Банк – это финансовая организация, которая производит, хранит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распределяет, обменивает и контролирует денежные средства 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обращение денег и ценных бумаг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2421000"/>
            <a:ext cx="251928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Банк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(в зависимости от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формы собственности)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2492280"/>
            <a:ext cx="298764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Государственный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3860640"/>
            <a:ext cx="298764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9ffb3"/>
              </a:gs>
              <a:gs pos="100000">
                <a:srgbClr val="99ff99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Акционерный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84720" y="2421000"/>
            <a:ext cx="305928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4e1ec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Муниципальный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156360" y="3789360"/>
            <a:ext cx="298764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ffcc66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Межгосударственный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92360" y="4149720"/>
            <a:ext cx="230364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fe9f1"/>
              </a:gs>
              <a:gs pos="100000">
                <a:srgbClr val="c8d8e6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Смешанный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987280" y="2708280"/>
            <a:ext cx="289080" cy="0"/>
          </a:xfrm>
          <a:prstGeom prst="line">
            <a:avLst/>
          </a:prstGeom>
          <a:ln w="9360">
            <a:solidFill>
              <a:srgbClr val="205ff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484360" y="3357720"/>
            <a:ext cx="935280" cy="502920"/>
          </a:xfrm>
          <a:prstGeom prst="line">
            <a:avLst/>
          </a:prstGeom>
          <a:ln w="9360">
            <a:solidFill>
              <a:srgbClr val="205ff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0" y="3357720"/>
            <a:ext cx="0" cy="792000"/>
          </a:xfrm>
          <a:prstGeom prst="line">
            <a:avLst/>
          </a:prstGeom>
          <a:ln w="9360">
            <a:solidFill>
              <a:srgbClr val="205ff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96000" y="2852640"/>
            <a:ext cx="216000" cy="0"/>
          </a:xfrm>
          <a:prstGeom prst="line">
            <a:avLst/>
          </a:prstGeom>
          <a:ln w="9360">
            <a:solidFill>
              <a:srgbClr val="205ff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51640" y="3357720"/>
            <a:ext cx="720720" cy="431640"/>
          </a:xfrm>
          <a:prstGeom prst="line">
            <a:avLst/>
          </a:prstGeom>
          <a:ln w="9360">
            <a:solidFill>
              <a:srgbClr val="205ff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Банковская система РФ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56000" y="1197000"/>
            <a:ext cx="3887640" cy="71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Центральный Банк РФ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43280" y="3213000"/>
            <a:ext cx="3456000" cy="865440"/>
          </a:xfrm>
          <a:prstGeom prst="ellipse">
            <a:avLst/>
          </a:prstGeom>
          <a:gradFill rotWithShape="0">
            <a:gsLst>
              <a:gs pos="0">
                <a:srgbClr val="ff66ff"/>
              </a:gs>
              <a:gs pos="50000">
                <a:srgbClr val="ffccff"/>
              </a:gs>
              <a:gs pos="100000">
                <a:srgbClr val="ff66ff"/>
              </a:gs>
            </a:gsLst>
            <a:lin ang="5400000"/>
          </a:gradFill>
          <a:ln w="9360">
            <a:solidFill>
              <a:srgbClr val="dc3a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Коммерческие банки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2133720"/>
            <a:ext cx="2663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Инновационные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76720" y="2205000"/>
            <a:ext cx="2663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Торговые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300720" y="2133720"/>
            <a:ext cx="266400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Ипотечные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213000"/>
            <a:ext cx="266400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Биржевые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480000" y="3213000"/>
            <a:ext cx="266400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Земельные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9280" y="4365720"/>
            <a:ext cx="266400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Страховые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03640" y="4941720"/>
            <a:ext cx="2663640" cy="64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Залоговые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300720" y="4365720"/>
            <a:ext cx="266400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Трастовые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00720" y="4149720"/>
            <a:ext cx="0" cy="6476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2916360" y="4076640"/>
            <a:ext cx="576000" cy="50472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508720" y="4076640"/>
            <a:ext cx="718920" cy="50472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700360" y="3429000"/>
            <a:ext cx="28728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84720" y="3357720"/>
            <a:ext cx="3589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843280" y="2852640"/>
            <a:ext cx="433440" cy="432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4500720" y="2852280"/>
            <a:ext cx="0" cy="36036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5651640" y="2852280"/>
            <a:ext cx="649080" cy="36036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Кредитов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635280" y="189000"/>
            <a:ext cx="504036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редоставление денежных средств во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временное пользование за плату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79280" y="1628640"/>
            <a:ext cx="4048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редитный догово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"/>
          <p:cNvSpPr/>
          <p:nvPr/>
        </p:nvSpPr>
        <p:spPr>
          <a:xfrm>
            <a:off x="4427640" y="1341360"/>
            <a:ext cx="4535280" cy="18734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Соглашение между банком и тем, кто у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него одалживает деньги (заемщиком)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определяющее обязанности и прав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каждой из сторон: срок предоставления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кредита, плату за пользование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им и гарантии возврата денег банку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763640" y="3357720"/>
            <a:ext cx="5305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Принципы кредитова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4005360"/>
            <a:ext cx="547236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cc66"/>
              </a:gs>
            </a:gsLst>
            <a:lin ang="5400000"/>
          </a:gra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</a:rPr>
              <a:t>СРОЧНОСТЬ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</a:rPr>
              <a:t>ПЛАТНОСТЬ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</a:rPr>
              <a:t>ВОЗВРАТНОСТЬ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</a:rPr>
              <a:t>ГАРАНТИРОВАННОСТЬ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250920" y="2492280"/>
            <a:ext cx="14284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2340000" y="0"/>
            <a:ext cx="1333440" cy="1143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468360" y="1413000"/>
            <a:ext cx="20667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ЕПОЗИТ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6" name=""/>
          <p:cNvSpPr/>
          <p:nvPr/>
        </p:nvSpPr>
        <p:spPr>
          <a:xfrm>
            <a:off x="2987640" y="1197000"/>
            <a:ext cx="576108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0099"/>
              </a:gs>
              <a:gs pos="50000">
                <a:srgbClr val="ffffff"/>
              </a:gs>
              <a:gs pos="100000">
                <a:srgbClr val="990099"/>
              </a:gs>
            </a:gsLst>
            <a:lin ang="5400000"/>
          </a:gra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Все виды денежных средств, переданные их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владельцами на временное хранение в банк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с предоставлением ему права использовать э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деньги для кредитован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8000" y="3500280"/>
            <a:ext cx="3240000" cy="648000"/>
          </a:xfrm>
          <a:custGeom>
            <a:avLst/>
            <a:gdLst>
              <a:gd name="textAreaLeft" fmla="*/ 712440 w 3240000"/>
              <a:gd name="textAreaRight" fmla="*/ 2527560 w 3240000"/>
              <a:gd name="textAreaTop" fmla="*/ 142560 h 648000"/>
              <a:gd name="textAreaBottom" fmla="*/ 505440 h 6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50000">
                <a:srgbClr val="ffffff"/>
              </a:gs>
              <a:gs pos="100000">
                <a:srgbClr val="990099"/>
              </a:gs>
            </a:gsLst>
            <a:lin ang="5400000"/>
          </a:gra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До востребован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2852640"/>
            <a:ext cx="3240000" cy="647640"/>
          </a:xfrm>
          <a:custGeom>
            <a:avLst/>
            <a:gdLst>
              <a:gd name="textAreaLeft" fmla="*/ 712440 w 3240000"/>
              <a:gd name="textAreaRight" fmla="*/ 2527560 w 3240000"/>
              <a:gd name="textAreaTop" fmla="*/ 142200 h 647640"/>
              <a:gd name="textAreaBottom" fmla="*/ 50544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50000">
                <a:srgbClr val="ffffff"/>
              </a:gs>
              <a:gs pos="100000">
                <a:srgbClr val="990099"/>
              </a:gs>
            </a:gsLst>
            <a:lin ang="5400000"/>
          </a:gra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Срочные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87280" y="2492280"/>
            <a:ext cx="576360" cy="936720"/>
          </a:xfrm>
          <a:prstGeom prst="line">
            <a:avLst/>
          </a:prstGeom>
          <a:ln w="2844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050920" y="2349360"/>
            <a:ext cx="1297080" cy="574920"/>
          </a:xfrm>
          <a:prstGeom prst="line">
            <a:avLst/>
          </a:prstGeom>
          <a:ln w="2844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0" y="2349000"/>
            <a:ext cx="9144000" cy="3240360"/>
          </a:xfrm>
          <a:prstGeom prst="line">
            <a:avLst/>
          </a:prstGeom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 rot="19727400">
            <a:off x="250560" y="764640"/>
            <a:ext cx="2171520" cy="524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рочно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300720" y="3429000"/>
            <a:ext cx="2171880" cy="52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латно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6732720" y="3645000"/>
            <a:ext cx="799920" cy="7808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5219640" y="4292640"/>
            <a:ext cx="352440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роцент за креди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995640" y="5084640"/>
            <a:ext cx="4176720" cy="100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Устанавливается в процентах к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сумме кредита в расчете на 1 год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использования заемных средств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1T12:08:51Z</dcterms:created>
  <dc:creator>Надежда</dc:creator>
  <dc:description/>
  <cp:keywords/>
  <dc:language>en-US</dc:language>
  <cp:lastModifiedBy>MAMA</cp:lastModifiedBy>
  <dcterms:modified xsi:type="dcterms:W3CDTF">2009-12-06T04:14:00Z</dcterms:modified>
  <cp:revision>5</cp:revision>
  <dc:subject/>
  <dc:title>Банковская систем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950921049</vt:lpwstr>
  </property>
</Properties>
</file>