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8DA-3366-405F-9DB6-D7C705A7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1E5-9768-4067-BFC3-D2BD09D3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B9A-9B31-4ACC-A1A0-35024AFB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37B-D674-4124-A51A-519AAEBE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66593-15E1-416B-B918-E46B17A4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03052-1586-478A-9D52-D63A5744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A8E16-8666-4903-9004-0A70CBE4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7A733-44AC-4683-AFEE-36AAA23B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30FE7-383F-4EC7-AECC-187DD2E5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55E0F-A30F-4F8D-A238-67E6A6AA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0A9F6-4E2F-4C17-A734-1F66940E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F2F-C528-4ED0-BD9E-C31FF328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797B2-1583-4FBE-9246-0BF1D74C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CAF44-F7EF-47B2-A32B-88A44617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846F5-B41C-42AD-9E4A-48BC62AF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0E010-E34B-4648-B2FF-3AEB562E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7E43B-D2EB-43C9-BC12-50A1A955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120-8FC4-44D8-B42E-48B2E1E8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8D7-DDDA-4E2A-AAFD-4F58E822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680-36EF-4B77-A5E6-B57D0B50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765-A9A9-4A6A-B114-6AF8B803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A03-90C5-475A-B1FC-F9757A36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487-B1CE-441E-A86E-4BF613E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A9C-8F33-4992-B32E-9C6FCBC4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D62D-82A2-4EB8-9CE7-9437C1C83038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7E1B-A7A1-4A86-8ED8-D10A0903F17F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8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D18E0-3472-4E56-85CB-BDF14AD7F8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FE4C2871-5537-40CE-9756-B3CFF98EA524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 rot="20717400">
            <a:off x="178920" y="1196640"/>
            <a:ext cx="28767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озвр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341360"/>
            <a:ext cx="5616360" cy="358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редит должен быть возвращен воврем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1700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2133720"/>
            <a:ext cx="4321080" cy="358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Проверка кредитоспособ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2924280"/>
            <a:ext cx="3087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едитоспособность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3672000" y="2565360"/>
            <a:ext cx="536400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личие у заемщика готовности и возмож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время выполнить свои обязательства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редитному договору – вернуть займ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ыплатить проценты по нем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68360" y="4005360"/>
            <a:ext cx="4133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арантирова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128592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276720" y="4724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л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4437000"/>
            <a:ext cx="417672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Собственность заемщика, котору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он передает под контроль или 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распоряжение банка, разрешая е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продать, если он сам не смож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вернуть долг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84360" y="4508640"/>
            <a:ext cx="21589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ль Центрального банка в регулировании кредитно-денежной системы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411400">
            <a:off x="703080" y="870120"/>
            <a:ext cx="2087280" cy="3457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ус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ич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нег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218000">
            <a:off x="2124000" y="1413000"/>
            <a:ext cx="1944720" cy="3671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анков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1628640"/>
            <a:ext cx="194472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Банкир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ави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ва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584800">
            <a:off x="5003640" y="1483920"/>
            <a:ext cx="1884600" cy="359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егулир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нежно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редит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сс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0073600">
            <a:off x="6659280" y="980640"/>
            <a:ext cx="1871640" cy="345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нтроль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ость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ммерч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661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ЦБ не ведет операций с фирмами или гражданами и имеет дело только с банками внутри страны и за ее рубежом. Главная задача ЦБ – борьба с инфляцией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ункции ЦБ по регулированию эконом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Контроль за созданием и деятельностью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Определение правил денежных операций с национальной и иностранными валютами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Регулирование масштабов кредитной эмиссии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исхождение банко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59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лово “банк” происходит от итальянского “banco” и означает “стол”, «скамья». Предшественниками банков были средневековые менялы – представители денежно-торгового капитала; они принимали денежные средства у купцов и специализировались на обмене денег различных городов и стран. Со временем менялы стали использовать эти вклады, а также собственные денежные средства для выдачи ссуд и получения процентов, что означало превращение менял в банкиров.</a:t>
            </a:r>
            <a:br>
              <a:rPr sz="1800"/>
            </a:b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Англии капиталистическая банковская система возникла в XVI в., причём банкиры вышли из среды либо золотых дел мастеров, либо купц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360" y="1700280"/>
            <a:ext cx="27748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8672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Менялы были уже в Древней Греции. Они знали до тонкостей все пересчеты, могли сразу определить, какая монета и какого государства лежит перед ними, сколько монет другого города нужно выдать за нее. Опытным глазом меняла мог в куче монет найти фальшивую. Древний философ Эпиктет говорил, что для этого менялы (в Греции они назывались «трапезиты») пользовались четырьмя чув­ствами: зрением, осязанием, обонянием и слухом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2919240" cy="274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149720"/>
            <a:ext cx="88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т лавок менял ведут свое происхождение современные банки. Само слово «банк» происходит от староанглийского слова bank, что означало «скамья», на которой сидел меняла. Когда менялу уличали в обмане, его скамью и стол ломали. Banca rotta — разбитая скамья. Потом этими словами стали обозначать крах предприятия или банка, т. е. банкротство. Итальянские торговые, финансовые дома и агентства, ведущие свое происхождение от лавок менял, ста­ли прообразом крупных финансовых капиталистических предприятий. Уже в XIV в., на заре капиталистического общества, в Италии банкирские компании обладали колоссальными капиталами и пускали в оборот огромные вклады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4136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уровен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1341360"/>
            <a:ext cx="3816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5ff6"/>
                </a:solidFill>
                <a:latin typeface="Arial"/>
              </a:rPr>
              <a:t>Центральный 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2060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2565360"/>
            <a:ext cx="3673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оммерческие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банки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213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573360"/>
            <a:ext cx="5400720" cy="216000"/>
          </a:xfrm>
          <a:prstGeom prst="rect">
            <a:avLst/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3789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78936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923640" y="3860640"/>
            <a:ext cx="432000" cy="3600360"/>
          </a:xfrm>
          <a:custGeom>
            <a:avLst/>
            <a:gdLst>
              <a:gd name="textAreaLeft" fmla="*/ 0 w 432000"/>
              <a:gd name="textAreaRight" fmla="*/ 155880 w 4320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734080"/>
            <a:ext cx="35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лиент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фирмы и частные лица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370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уровен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9162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здателем двухуровневой банковской системы считается Великобрит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ое законодатель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ражданский кодекс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от 21 октября 1994г, измен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 февраля, 12 августа 1996г.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4 октября 1997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Федеральный зако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О банках и банковск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ятельности» от 19 июн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1г. № 82-Ф3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57720"/>
            <a:ext cx="4032360" cy="2663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держит основные полож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 регулировании банковско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еятельности и банковски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пераций (в том числ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 договорам банковского вклада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счета) и 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асчетах с помощью чек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3357720"/>
            <a:ext cx="4032000" cy="30240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егулирует отношения в обла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дела между банка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кредитными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дной стороны, и гражданами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редприятиями,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ругой стороны отношения 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между собой; так же устанавлива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сновные принцип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государственного регулирова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й деятель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и и их фун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68280"/>
            <a:ext cx="88200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Банк – это финансовая организация, которая производит, хранит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распределяет, обменивает и контролирует денежные средства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ращение денег и ценных бума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421000"/>
            <a:ext cx="2519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в зависимости о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ормы собствен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2280"/>
            <a:ext cx="2987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6064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fb3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кционер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421000"/>
            <a:ext cx="3059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e1e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униципаль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78936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4149720"/>
            <a:ext cx="230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e9f1"/>
              </a:gs>
              <a:gs pos="100000">
                <a:srgbClr val="c8d8e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меша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87280" y="2708280"/>
            <a:ext cx="28908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84360" y="3357720"/>
            <a:ext cx="935280" cy="50292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852640"/>
            <a:ext cx="21600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357720"/>
            <a:ext cx="720720" cy="43164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 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1197000"/>
            <a:ext cx="3887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Центральный Банк РФ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213000"/>
            <a:ext cx="3456000" cy="86544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50000">
                <a:srgbClr val="ffcc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dc3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оммерческие банк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13372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новацион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20500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ор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2133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потеч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ирже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00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емель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х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4941720"/>
            <a:ext cx="26636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ло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раст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14972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16360" y="4076640"/>
            <a:ext cx="57600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4076640"/>
            <a:ext cx="71892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342900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3357720"/>
            <a:ext cx="358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843280" y="2852640"/>
            <a:ext cx="433440" cy="432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00720" y="2852280"/>
            <a:ext cx="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651640" y="2852280"/>
            <a:ext cx="64908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едит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89000"/>
            <a:ext cx="50403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доставление денежных средств в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ременное пользование за плат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628640"/>
            <a:ext cx="404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дитный догов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341360"/>
            <a:ext cx="4535280" cy="187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глашение между банком и тем, кто у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его одалживает деньги (заемщиком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яющее обязанности и пра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аждой из сторон: срок предоставл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редита, плату за пользова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м и гарантии возврата денег банк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640" y="335772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инципы кредит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4005360"/>
            <a:ext cx="54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СРОЧ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ПЛ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ВОЗВР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ГАРАНТИРОВАН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4284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133344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1413000"/>
            <a:ext cx="206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ПОЗИ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1197000"/>
            <a:ext cx="57610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се виды денежных средств, переданные 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ладельцами на временное хранение в 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с предоставлением ему права использовать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деньги для кредит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3500280"/>
            <a:ext cx="3240000" cy="64800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560 h 648000"/>
              <a:gd name="textAreaBottom" fmla="*/ 505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 востреб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852640"/>
            <a:ext cx="3240000" cy="64764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рочны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492280"/>
            <a:ext cx="576360" cy="9367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349360"/>
            <a:ext cx="1297080" cy="5749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0" y="2349000"/>
            <a:ext cx="9144000" cy="324036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 rot="19727400">
            <a:off x="250560" y="764640"/>
            <a:ext cx="217152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о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300720" y="3429000"/>
            <a:ext cx="2171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л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732720" y="3645000"/>
            <a:ext cx="799920" cy="78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219640" y="4292640"/>
            <a:ext cx="3524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цент за кре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5084640"/>
            <a:ext cx="4176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станавливается в процентах 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умме кредита в расчете на 1 год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пользования заемных средст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2:08:51Z</dcterms:created>
  <dc:creator>Надежда</dc:creator>
  <dc:description/>
  <cp:keywords/>
  <dc:language>en-US</dc:language>
  <cp:lastModifiedBy>MAMA</cp:lastModifiedBy>
  <dcterms:modified xsi:type="dcterms:W3CDTF">2009-12-06T04:14:00Z</dcterms:modified>
  <cp:revision>5</cp:revision>
  <dc:subject/>
  <dc:title>Банковская систе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