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65B-C8EE-4C7C-A8A2-620DE892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EAF-071F-4EE6-94A3-6E6E16B1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E7E-82B8-4B2B-8D94-75409B83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D9A-6BCD-4C01-9AAE-8A87CAAC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431B3-A891-4C71-B613-5B366C67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D9009-43D0-4348-9001-E96E20C7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081E1-E93B-48A8-B897-2A745B55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78CD3-B7C4-4A82-A439-A1077118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18C92-08F4-4F71-BAB6-2E26F265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222AE-A3E6-48E6-8B23-71F19F1B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5E8C0-6E04-45EB-B5E3-1A77BF0B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E45-35BA-4788-8015-9A35B883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4C0E5-126E-45B0-ADB6-536D1E6F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09B79-1FA0-41C1-BA77-931D15D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CA2E9-8FF5-4C82-9FA8-04EB89E7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E6719-9616-4B92-9189-90B83CF1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B6295-944B-4DA8-83FB-8273728A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CE3-C195-491D-9A3B-FF023BB8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670-3C0B-434B-92A5-F4CDA948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C53-2EA0-48A4-B074-099E5C70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207-BC4F-46BE-AC04-722FFEDC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4C2-D4D0-456D-BC86-01623EF3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2F0-0ABF-4250-BBB1-34DBBA5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0B9-EF4B-4F7E-90C9-475A14C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327A-448F-4331-8452-5AA6BD6728F9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C202-9F6E-4E43-99C8-EF3C6B830F4A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8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B36DF-A76E-43DF-8BA4-E4DA9296CA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ABDC5155-EB95-48EF-9DC7-1CA006C38603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717400">
            <a:off x="178920" y="1196640"/>
            <a:ext cx="2876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озвр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341360"/>
            <a:ext cx="5616360" cy="35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редит должен быть возвращен воврем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133720"/>
            <a:ext cx="4321080" cy="358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роверка кредитоспособ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24280"/>
            <a:ext cx="3087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дитоспособность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2565360"/>
            <a:ext cx="5364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личие у заемщика готовности и возмож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время выполнить свои обязательства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редитному договору – вернуть займ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ыплатить проценты по нем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4005360"/>
            <a:ext cx="4133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арантиров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128592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76720" y="4724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437000"/>
            <a:ext cx="417672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Собственность заемщика, котору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он передает под контроль или 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распоряжение банка, разрешая е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продать, если он сам не смож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вернуть долг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2158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ль Центрального банка в регулировании кредитно-денежной системы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411400">
            <a:off x="703080" y="870120"/>
            <a:ext cx="2087280" cy="345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ич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нег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18000">
            <a:off x="2124000" y="1413000"/>
            <a:ext cx="1944720" cy="36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анков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1628640"/>
            <a:ext cx="194472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Банкир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ави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ва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584800">
            <a:off x="5003640" y="1483920"/>
            <a:ext cx="1884600" cy="359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егулир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нежно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редит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сс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073600">
            <a:off x="6659280" y="980640"/>
            <a:ext cx="1871640" cy="345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нтроль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ость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ммерч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66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ЦБ не ведет операций с фирмами или гражданами и имеет дело только с банками внутри страны и за ее рубежом. Главная задача ЦБ – борьба с инфляци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и ЦБ по регулированию эконом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Контроль за созданием и деятельностью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Определение правил денежных операций с национальной и иностранными валютами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Регулирование масштабов кредитной эмиссии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исхождение банк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59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лово “банк” происходит от итальянского “banco” и означает “стол”, «скамья». Предшественниками банков были средневековые менялы – представители денежно-торгового капитала; они принимали денежные средства у купцов и специализировались на обмене денег различных городов и стран. Со временем менялы стали использовать эти вклады, а также собственные денежные средства для выдачи ссуд и получения процентов, что означало превращение менял в банкиров.</a:t>
            </a:r>
            <a:br>
              <a:rPr sz="1800"/>
            </a:b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 капиталистическая банковская система возникла в XVI в., причём банкиры вышли из среды либо золотых дел мастеров, либо купц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2774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8672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енялы были уже в Древней Греции. Они знали до тонкостей все пересчеты, могли сразу определить, какая монета и какого государства лежит перед ними, сколько монет другого города нужно выдать за нее. Опытным глазом меняла мог в куче монет найти фальшивую. Древний философ Эпиктет говорил, что для этого менялы (в Греции они назывались «трапезиты») пользовались четырьмя чув­ствами: зрением, осязанием, обонянием и слухом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919240" cy="27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14972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т лавок менял ведут свое происхождение современные банки. Само слово «банк» происходит от староанглийского слова bank, что означало «скамья», на которой сидел меняла. Когда менялу уличали в обмане, его скамью и стол ломали. Banca rotta — разбитая скамья. Потом этими словами стали обозначать крах предприятия или банка, т. е. банкротство. Итальянские торговые, финансовые дома и агентства, ведущие свое происхождение от лавок менял, ста­ли прообразом крупных финансовых капиталистических предприятий. Уже в XIV в., на заре капиталистического общества, в Италии банкирские компании обладали колоссальными капиталами и пускали в оборот огромные вклады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413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1341360"/>
            <a:ext cx="38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5ff6"/>
                </a:solidFill>
                <a:latin typeface="Arial"/>
              </a:rPr>
              <a:t>Центральный 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060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65360"/>
            <a:ext cx="367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2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573360"/>
            <a:ext cx="5400720" cy="216000"/>
          </a:xfrm>
          <a:prstGeom prst="rect">
            <a:avLst/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3789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78936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923640" y="386064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734080"/>
            <a:ext cx="35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фирмы и частные лица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916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здателем двухуровневой банковской системы считается Великобрит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ое законодатель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ражданский кодекс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от 21 октября 1994г, измен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 февраля, 12 августа 1996г.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4 октября 1997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Федеральный зако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О банках и банковск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» от 19 июн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1г. № 82-Ф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4032360" cy="266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держит основные полож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 регулировании банковско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еятельности и банковски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пераций (в том числ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договорам банковского вклада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счета) и 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четах с помощью чек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3357720"/>
            <a:ext cx="4032000" cy="30240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егулирует отношения в обла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дела между банка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кредитными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дной стороны, и гражданами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едприятиями,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ругой стороны отношения 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ежду собой; так же устанавлива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сновные принцип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осударственного регулирова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й деятель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и и их фун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8200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анк – это финансовая организация, которая производит, хранит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аспределяет, обменивает и контролирует денежные средства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ращение денег и ценных бума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421000"/>
            <a:ext cx="2519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в зависимости о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ормы собствен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29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6064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fb3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кционер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421000"/>
            <a:ext cx="3059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1e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78936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4149720"/>
            <a:ext cx="230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e9f1"/>
              </a:gs>
              <a:gs pos="100000">
                <a:srgbClr val="c8d8e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ша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2708280"/>
            <a:ext cx="28908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4360" y="3357720"/>
            <a:ext cx="935280" cy="50292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852640"/>
            <a:ext cx="21600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357720"/>
            <a:ext cx="720720" cy="43164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1197000"/>
            <a:ext cx="3887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нтральный Банк РФ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213000"/>
            <a:ext cx="3456000" cy="86544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50000">
                <a:srgbClr val="ffcc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dc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оммерческие банк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13372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20500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ор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133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потеч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ирже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емель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х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4941720"/>
            <a:ext cx="26636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ло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раст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4972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16360" y="4076640"/>
            <a:ext cx="57600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71892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42900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43280" y="2852640"/>
            <a:ext cx="433440" cy="43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00720" y="2852280"/>
            <a:ext cx="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51640" y="2852280"/>
            <a:ext cx="64908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едит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89000"/>
            <a:ext cx="50403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доставление денежных средств в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ременное пользование за плат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628640"/>
            <a:ext cx="40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дитный догов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341360"/>
            <a:ext cx="4535280" cy="187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глашение между банком и тем, кто у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его одалживает деньги (заемщиком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яющее обязанности и пра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аждой из сторон: срок предоставл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редита, плату за пользова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м и гарантии возврата денег банк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335772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нципы кредит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005360"/>
            <a:ext cx="54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РОЧ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Л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ГАРАНТИРОВАН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41300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ПОЗИ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1197000"/>
            <a:ext cx="5761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се виды денежных средств, переданные 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ладельцами на временное хранение в 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с предоставлением ему права использовать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еньги для кредит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3500280"/>
            <a:ext cx="3240000" cy="64800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560 h 648000"/>
              <a:gd name="textAreaBottom" fmla="*/ 505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 востреб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852640"/>
            <a:ext cx="3240000" cy="64764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рочны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492280"/>
            <a:ext cx="576360" cy="9367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349360"/>
            <a:ext cx="1297080" cy="574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2349000"/>
            <a:ext cx="9144000" cy="324036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19727400">
            <a:off x="250560" y="764640"/>
            <a:ext cx="217152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о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00720" y="3429000"/>
            <a:ext cx="2171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799920" cy="78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219640" y="4292640"/>
            <a:ext cx="3524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цент за кре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5084640"/>
            <a:ext cx="4176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станавливается в процентах 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умме кредита в расчете на 1 год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ования заемных средст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08:51Z</dcterms:created>
  <dc:creator>Надежда</dc:creator>
  <dc:description/>
  <cp:keywords/>
  <dc:language>en-US</dc:language>
  <cp:lastModifiedBy>MAMA</cp:lastModifiedBy>
  <dcterms:modified xsi:type="dcterms:W3CDTF">2009-12-06T04:14:00Z</dcterms:modified>
  <cp:revision>5</cp:revision>
  <dc:subject/>
  <dc:title>Банковская сис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