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0FE-23C4-4BAB-96F8-19311C93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68AA-A1B9-4DBD-B2A7-8BAFED56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795-D04C-4A6A-AA79-0768A8F5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2BB-54A0-45B6-A546-247ED820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D90D0-2BA8-4A01-9570-6E8EC64D4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5DFA3-ECBB-4C9D-8C21-42A2998E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A6C69-9382-40C1-9292-B5117EE7C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D6F94-7C56-4337-BACA-E43882D8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889B7-FB2F-47EA-91DD-BD92B6A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EE1E7-A70E-4DD0-BC3D-D9381103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ED090-2A45-4C49-88F7-C2C98579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B2D7-A3D5-4AB6-9030-EFBD8251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14EBD-F953-4FCE-9E41-B97518DB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4D520-D8EF-4DC0-9F87-BD883CC6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DC2F0-5838-4268-9501-06663DBB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A587D-5779-469F-9AE0-86CBC452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9CE51-99FC-4EF8-A483-D70C88B6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F16-7A7B-46E3-996F-CAB4A5CD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8CEB-F730-4D96-985C-5BFE2C58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AEA-B418-4CBB-95C9-F99C783E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057-B402-43EA-98AA-E283DFC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F4D-1EAF-458C-BC8C-AE39FAD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ED97-F65D-4801-A4C1-358ADB1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DF0D-5D63-413D-AA43-6A42521C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DD0A-EA09-4563-BDBD-28D1002D4D66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E31B-01B2-497C-95BA-075CF55A89D2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8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0F1A9-124B-47D8-8B4B-8F78C19E47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F2AF6E6F-C014-466B-9C41-43C83DE38836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 rot="20717400">
            <a:off x="178920" y="1196640"/>
            <a:ext cx="287676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возвр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56000" y="1341360"/>
            <a:ext cx="5616360" cy="358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Кредит должен быть возвращен воврем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1700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27280" y="2133720"/>
            <a:ext cx="4321080" cy="358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Проверка кредитоспособ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2924280"/>
            <a:ext cx="3087720" cy="54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едитоспособность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/>
          <p:nvPr/>
        </p:nvSpPr>
        <p:spPr>
          <a:xfrm>
            <a:off x="3672000" y="2565360"/>
            <a:ext cx="536400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ffffff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Наличие у заемщика готовности и возмож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овремя выполнить свои обязательства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кредитному договору – вернуть займ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выплатить проценты по нем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268360" y="4005360"/>
            <a:ext cx="4133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арантирован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1285920" cy="743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3276720" y="4724280"/>
            <a:ext cx="12286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ло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443700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Собственность заемщика, котору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он передает под контроль или 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распоряжение банка, разрешая е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продать, если он сам не смож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Arial"/>
              </a:rPr>
              <a:t>вернуть долг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84360" y="4508640"/>
            <a:ext cx="21589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оль Центрального банка в регулировании кредитно-денежной системы стр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2411400">
            <a:off x="703080" y="870120"/>
            <a:ext cx="2087280" cy="3457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ус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лич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нег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218000">
            <a:off x="2124000" y="1413000"/>
            <a:ext cx="1944720" cy="3671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анков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92360" y="1628640"/>
            <a:ext cx="1944720" cy="3673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Банкир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ави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ва»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584800">
            <a:off x="5003640" y="1483920"/>
            <a:ext cx="1884600" cy="3598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егулир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нежно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редит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сс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20073600">
            <a:off x="6659280" y="980640"/>
            <a:ext cx="1871640" cy="3456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нтроль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-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остью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коммерч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к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66100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ЦБ не ведет операций с фирмами или гражданами и имеет дело только с банками внутри страны и за ее рубежом. Главная задача ЦБ – борьба с инфляцией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ункции ЦБ по регулированию эконом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Контроль за созданием и деятельностью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Определение правил денежных операций с национальной и иностранными валютами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Регулирование масштабов кредитной эмиссии коммерческих банков.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роисхождение банк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597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лово “банк” происходит от итальянского “banco” и означает “стол”, «скамья». Предшественниками банков были средневековые менялы – представители денежно-торгового капитала; они принимали денежные средства у купцов и специализировались на обмене денег различных городов и стран. Со временем менялы стали использовать эти вклады, а также собственные денежные средства для выдачи ссуд и получения процентов, что означало превращение менял в банкиров.</a:t>
            </a:r>
            <a:br>
              <a:rPr sz="1800"/>
            </a:b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 Англии капиталистическая банковская система возникла в XVI в., причём банкиры вышли из среды либо золотых дел мастеров, либо купцов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56360" y="1700280"/>
            <a:ext cx="27748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8672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Менялы были уже в Древней Греции. Они знали до тонкостей все пересчеты, могли сразу определить, какая монета и какого государства лежит перед ними, сколько монет другого города нужно выдать за нее. Опытным глазом меняла мог в куче монет найти фальшивую. Древний философ Эпиктет говорил, что для этого менялы (в Греции они назывались «трапезиты») пользовались четырьмя чув­ствами: зрением, осязанием, обонянием и слухом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12000" y="1413000"/>
            <a:ext cx="2919240" cy="274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50920" y="4149720"/>
            <a:ext cx="88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т лавок менял ведут свое происхождение современные банки. Само слово «банк» происходит от староанглийского слова bank, что означало «скамья», на которой сидел меняла. Когда менялу уличали в обмане, его скамью и стол ломали. Banca rotta — разбитая скамья. Потом этими словами стали обозначать крах предприятия или банка, т. е. банкротство. Итальянские торговые, финансовые дома и агентства, ведущие свое происхождение от лавок менял, ста­ли прообразом крупных финансовых капиталистических предприятий. Уже в XIV в., на заре капиталистического общества, в Италии банкирские компании обладали колоссальными капиталами и пускали в оборот огромные вклады.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34136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1 уровень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1341360"/>
            <a:ext cx="381636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05ff6"/>
                </a:solidFill>
                <a:latin typeface="Arial"/>
              </a:rPr>
              <a:t>Центральный 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2060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367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Коммерческие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банки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3213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3573360"/>
            <a:ext cx="5400720" cy="216000"/>
          </a:xfrm>
          <a:prstGeom prst="rect">
            <a:avLst/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4000" y="3789360"/>
            <a:ext cx="287280" cy="431640"/>
          </a:xfrm>
          <a:prstGeom prst="downArrow">
            <a:avLst>
              <a:gd name="adj1" fmla="val 50000"/>
              <a:gd name="adj2" fmla="val 37563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3789360"/>
            <a:ext cx="287640" cy="431640"/>
          </a:xfrm>
          <a:prstGeom prst="downArrow">
            <a:avLst>
              <a:gd name="adj1" fmla="val 50000"/>
              <a:gd name="adj2" fmla="val 37516"/>
            </a:avLst>
          </a:prstGeom>
          <a:solidFill>
            <a:srgbClr val="205ff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4221000"/>
            <a:ext cx="1008000" cy="122400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224000"/>
              <a:gd name="textAreaBottom" fmla="*/ 1175040 h 1224000"/>
            </a:gdLst>
            <a:ahLst/>
            <a:rect l="textAreaLeft" t="textAreaTop" r="textAreaRight" b="textAreaBottom"/>
            <a:pathLst>
              <a:path w="21600" h="26227">
                <a:moveTo>
                  <a:pt x="3600" y="0"/>
                </a:moveTo>
                <a:arcTo wR="3600" hR="3600" stAng="16200000" swAng="-5400000"/>
                <a:lnTo>
                  <a:pt x="0" y="22627"/>
                </a:lnTo>
                <a:arcTo wR="3600" hR="3600" stAng="10800000" swAng="-5400000"/>
                <a:lnTo>
                  <a:pt x="18000" y="26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be0e3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3923640" y="3860640"/>
            <a:ext cx="432000" cy="3600360"/>
          </a:xfrm>
          <a:custGeom>
            <a:avLst/>
            <a:gdLst>
              <a:gd name="textAreaLeft" fmla="*/ 0 w 432000"/>
              <a:gd name="textAreaRight" fmla="*/ 155880 w 43200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734080"/>
            <a:ext cx="352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Клиент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фирмы и частные лица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3700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 уровен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191628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здателем двухуровневой банковской системы считается Великобрит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ое законодательст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Гражданский кодекс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от 21 октября 1994г, измен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 февраля, 12 августа 1996г.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4 октября 1997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1484280"/>
            <a:ext cx="37432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cccc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Федеральный закон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«О банках и банковск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деятельности» от 19 июн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1г. № 82-Ф3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907920"/>
            <a:ext cx="287280" cy="576360"/>
          </a:xfrm>
          <a:prstGeom prst="upArrow">
            <a:avLst>
              <a:gd name="adj1" fmla="val 50000"/>
              <a:gd name="adj2" fmla="val 5015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57720"/>
            <a:ext cx="4032360" cy="2663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Содержит основные полож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 регулировании банковско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еятельности и банковских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пераций (в том числ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о договорам банковского вклада,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счета) и о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асчетах с помощью чеко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357720"/>
            <a:ext cx="4032000" cy="302400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Регулирует отношения в обла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го дела между банка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и кредитными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дной стороны, и гражданами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предприятиями, организациями, с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другой стороны отношения банков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между собой; так же устанавливае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основные принцип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государственного регулирова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банковской деятельност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72360" y="2852640"/>
            <a:ext cx="288720" cy="505080"/>
          </a:xfrm>
          <a:prstGeom prst="downArrow">
            <a:avLst>
              <a:gd name="adj1" fmla="val 50000"/>
              <a:gd name="adj2" fmla="val 43734"/>
            </a:avLst>
          </a:prstGeom>
          <a:solidFill>
            <a:srgbClr val="ffcccc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и и их функ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68280"/>
            <a:ext cx="8820000" cy="10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Банк – это финансовая организация, которая производит, хранит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распределяет, обменивает и контролирует денежные средства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обращение денег и ценных бума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421000"/>
            <a:ext cx="251928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Банк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в зависимости от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ормы собствен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492280"/>
            <a:ext cx="2987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86064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9ffb3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Акционер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2421000"/>
            <a:ext cx="305928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1e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униципаль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56360" y="3789360"/>
            <a:ext cx="29876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Межгосударстве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4149720"/>
            <a:ext cx="23036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e9f1"/>
              </a:gs>
              <a:gs pos="100000">
                <a:srgbClr val="c8d8e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Смешанный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87280" y="2708280"/>
            <a:ext cx="28908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3357720"/>
            <a:ext cx="935280" cy="50292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2852640"/>
            <a:ext cx="216000" cy="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51640" y="3357720"/>
            <a:ext cx="720720" cy="431640"/>
          </a:xfrm>
          <a:prstGeom prst="line">
            <a:avLst/>
          </a:prstGeom>
          <a:ln w="9360">
            <a:solidFill>
              <a:srgbClr val="205ff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Банковская система Р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56000" y="1197000"/>
            <a:ext cx="3887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Центральный Банк РФ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3213000"/>
            <a:ext cx="3456000" cy="86544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50000">
                <a:srgbClr val="ffccff"/>
              </a:gs>
              <a:gs pos="100000">
                <a:srgbClr val="ff66ff"/>
              </a:gs>
            </a:gsLst>
            <a:lin ang="5400000"/>
          </a:gradFill>
          <a:ln w="9360">
            <a:solidFill>
              <a:srgbClr val="dc3a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оммерческие банки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13372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нновацион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2205000"/>
            <a:ext cx="2663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ор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2133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потеч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ирже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80000" y="321300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емельн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х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4941720"/>
            <a:ext cx="2663640" cy="6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лог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436572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растовые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00720" y="4149720"/>
            <a:ext cx="0" cy="647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16360" y="4076640"/>
            <a:ext cx="57600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08720" y="4076640"/>
            <a:ext cx="718920" cy="5047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3429000"/>
            <a:ext cx="2872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3357720"/>
            <a:ext cx="358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843280" y="2852640"/>
            <a:ext cx="433440" cy="43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500720" y="2852280"/>
            <a:ext cx="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651640" y="2852280"/>
            <a:ext cx="649080" cy="36036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редитов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89000"/>
            <a:ext cx="504036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доставление денежных средств в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ременное пользование за плат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9280" y="1628640"/>
            <a:ext cx="4048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едитный догов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1341360"/>
            <a:ext cx="4535280" cy="1873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оглашение между банком и тем, кто у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его одалживает деньги (заемщиком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яющее обязанности и пра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аждой из сторон: срок предоставл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кредита, плату за пользова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им и гарантии возврата денег банк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640" y="3357720"/>
            <a:ext cx="53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ринципы кредит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4005360"/>
            <a:ext cx="547236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СРОЧ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Л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ОЗВРАТ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ГАРАНТИРОВАН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4284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1333440" cy="1143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68360" y="1413000"/>
            <a:ext cx="2066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ЕПОЗИ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"/>
          <p:cNvSpPr/>
          <p:nvPr/>
        </p:nvSpPr>
        <p:spPr>
          <a:xfrm>
            <a:off x="2987640" y="1197000"/>
            <a:ext cx="576108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се виды денежных средств, переданные и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владельцами на временное хранение в бан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с предоставлением ему права использовать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деньги для кредит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3500280"/>
            <a:ext cx="3240000" cy="64800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560 h 648000"/>
              <a:gd name="textAreaBottom" fmla="*/ 505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о востребова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852640"/>
            <a:ext cx="3240000" cy="647640"/>
          </a:xfrm>
          <a:custGeom>
            <a:avLst/>
            <a:gdLst>
              <a:gd name="textAreaLeft" fmla="*/ 712440 w 3240000"/>
              <a:gd name="textAreaRight" fmla="*/ 2527560 w 3240000"/>
              <a:gd name="textAreaTop" fmla="*/ 142200 h 647640"/>
              <a:gd name="textAreaBottom" fmla="*/ 5054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50000">
                <a:srgbClr val="ffffff"/>
              </a:gs>
              <a:gs pos="100000">
                <a:srgbClr val="990099"/>
              </a:gs>
            </a:gsLst>
            <a:lin ang="5400000"/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рочны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2492280"/>
            <a:ext cx="576360" cy="9367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349360"/>
            <a:ext cx="1297080" cy="574920"/>
          </a:xfrm>
          <a:prstGeom prst="line">
            <a:avLst/>
          </a:prstGeom>
          <a:ln w="2844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0" y="2349000"/>
            <a:ext cx="9144000" cy="3240360"/>
          </a:xfrm>
          <a:prstGeom prst="line">
            <a:avLst/>
          </a:prstGeom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 rot="19727400">
            <a:off x="250560" y="764640"/>
            <a:ext cx="217152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оч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00720" y="3429000"/>
            <a:ext cx="217188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тно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732720" y="3645000"/>
            <a:ext cx="799920" cy="780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5219640" y="4292640"/>
            <a:ext cx="3524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цент за кред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5084640"/>
            <a:ext cx="417672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Устанавливается в процентах к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сумме кредита в расчете на 1 год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спользования заемных средств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2:08:51Z</dcterms:created>
  <dc:creator>Надежда</dc:creator>
  <dc:description/>
  <cp:keywords/>
  <dc:language>en-US</dc:language>
  <cp:lastModifiedBy>MAMA</cp:lastModifiedBy>
  <dcterms:modified xsi:type="dcterms:W3CDTF">2009-12-06T04:14:00Z</dcterms:modified>
  <cp:revision>5</cp:revision>
  <dc:subject/>
  <dc:title>Банковская систе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