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media/image8.jpeg" ContentType="image/jpeg"/>
  <Override PartName="/ppt/media/image13.jpeg" ContentType="image/jpeg"/>
  <Override PartName="/ppt/media/image4.gif" ContentType="image/gif"/>
  <Override PartName="/ppt/media/image7.wmf" ContentType="image/x-wmf"/>
  <Override PartName="/ppt/media/image12.wmf" ContentType="image/x-wmf"/>
  <Override PartName="/ppt/media/image5.gif" ContentType="image/gif"/>
  <Override PartName="/ppt/media/image9.png" ContentType="image/png"/>
  <Override PartName="/ppt/media/image10.gif" ContentType="image/gif"/>
  <Override PartName="/ppt/media/image6.gif" ContentType="image/gif"/>
  <Override PartName="/ppt/media/image11.gif" ContentType="image/gi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683F-1BC1-4524-AC65-809C55FA5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1626-53FF-40C7-B4CF-5515FE1D0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B15E-5E35-4DC9-96A9-7FF0B9B5F0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0429A-495C-4326-B5A5-F83D87F83A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49CE0D9-54B5-4E12-B260-939B6DED6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E12941B-86D5-4786-B00B-4A6A1D7D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A1BF11-366C-4203-AC57-F99D1F82B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B24DA8-D1A7-4D23-BF5D-EA097E328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B479227-BFE6-4998-A88B-A5052FC052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88D7A4B-4671-469B-9A33-5B9B188CC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E45947-C036-457D-8F56-A9D4FF2F0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65161-D483-4190-8583-0F33BE2E9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7D7E1-D527-4CD1-B999-FC358A44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81678F3-2253-4000-8B1C-6E6EB6466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974A5B7-7330-4AFC-8B79-F2F5D3BD8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842833E-F328-4A3E-BE9C-57916A57F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B705146-0020-443C-8A73-90DACDE87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6F4D0-29FF-471B-A38F-81687BBE0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E468-E22F-4589-844F-0CBE006C0F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5A8EF-EDE4-4EB2-926B-C03D5B10AF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536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050F2-1D26-4526-AE89-2BAD0C67E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1BF6-27A9-4F82-9BF4-8EB0EBC2DC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84EE1-1554-4A4F-8546-95F1073EAB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BD2D-C984-400D-AF93-1AA3BE90B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205ff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453360"/>
            <a:ext cx="213372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879640" y="6453360"/>
            <a:ext cx="28958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40360" y="6453360"/>
            <a:ext cx="539640" cy="47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FE0311-5CC3-4575-9068-C8D288FB9E07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ldNum" idx="4"/>
          </p:nvPr>
        </p:nvSpPr>
        <p:spPr>
          <a:xfrm>
            <a:off x="8100720" y="6244920"/>
            <a:ext cx="585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1D937-B7AA-401E-B9A8-37932598CC0F}" type="slidenum"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205ff6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205ff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205ff6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205ff6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05ff6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205ff6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205ff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05ff6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205ff6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205ff6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205ff6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205ff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gif"/><Relationship Id="rId3" Type="http://schemas.openxmlformats.org/officeDocument/2006/relationships/image" Target="../media/image11.gi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wmf"/><Relationship Id="rId3" Type="http://schemas.openxmlformats.org/officeDocument/2006/relationships/image" Target="../media/image13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wmf"/><Relationship Id="rId3" Type="http://schemas.openxmlformats.org/officeDocument/2006/relationships/image" Target="../media/image4.gif"/><Relationship Id="rId4" Type="http://schemas.openxmlformats.org/officeDocument/2006/relationships/image" Target="../media/image5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image" Target="../media/image8.jpeg"/><Relationship Id="rId4" Type="http://schemas.openxmlformats.org/officeDocument/2006/relationships/slide" Target="slide7.xml"/><Relationship Id="rId5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331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Менеджмен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195640" y="5734080"/>
            <a:ext cx="626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Савка Н.В., учитель истории и обществознания, 2009г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46AA6A-7E7E-40AE-9F59-86B1650BD05E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fld id="{7BF3B8D3-25EB-4EFB-A429-10FCD1F91A2E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395280" y="1413000"/>
            <a:ext cx="84978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Теория Х</a:t>
            </a: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 Макгрегора: люди изначально не любят трудиться и при любой возможности избегают работы; у них нет честолюбия, и они стараются избавиться от ответственности, предпочитая, чтобы ими руководили другие; больше всего люди хотят защищенности, и чтобы заставить их трудиться, необходимо … </a:t>
            </a:r>
            <a:r>
              <a:rPr b="0" i="1" lang="ru-RU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68360" y="2924280"/>
            <a:ext cx="835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Использовать принуждение, контроль и угрозу наказан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39640" y="3573360"/>
            <a:ext cx="82803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Теория У: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труд – процесс естественный, и если условия благоприятны, люди готовы принять на себя ответственность; работники заинтересованы в целях организации, значительная часть их обладает способностью к творческому решению проблем. Следующие этой теории руководители в управлении используют …</a:t>
            </a:r>
            <a:r>
              <a:rPr b="0" i="1" lang="en-US" sz="1800" spc="-1" strike="noStrike">
                <a:solidFill>
                  <a:srgbClr val="990000"/>
                </a:solidFill>
                <a:latin typeface="Arial"/>
              </a:rPr>
              <a:t>что?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95280" y="5805360"/>
            <a:ext cx="83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пособность персонала обсуждать, принимать и предлагать решения, цели и задачи предприят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2"/>
          <a:stretch/>
        </p:blipFill>
        <p:spPr>
          <a:xfrm>
            <a:off x="7020000" y="2565360"/>
            <a:ext cx="952560" cy="857160"/>
          </a:xfrm>
          <a:prstGeom prst="rect">
            <a:avLst/>
          </a:prstGeom>
          <a:ln w="0">
            <a:noFill/>
          </a:ln>
        </p:spPr>
      </p:pic>
      <p:pic>
        <p:nvPicPr>
          <p:cNvPr id="145" name="" descr=""/>
          <p:cNvPicPr/>
          <p:nvPr/>
        </p:nvPicPr>
        <p:blipFill>
          <a:blip r:embed="rId3"/>
          <a:stretch/>
        </p:blipFill>
        <p:spPr>
          <a:xfrm>
            <a:off x="4284720" y="4653000"/>
            <a:ext cx="1047600" cy="1047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987640" y="836640"/>
            <a:ext cx="5977080" cy="259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5e4600"/>
              </a:gs>
              <a:gs pos="50000">
                <a:srgbClr val="cc9900"/>
              </a:gs>
              <a:gs pos="100000">
                <a:srgbClr val="5e46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истема наблюдения за деятельностью фирмы</a:t>
            </a:r>
            <a:br>
              <a:rPr sz="1800"/>
            </a:b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контроль количества, качества, сохран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одукции, расходованием ресурсов, соблюдени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правовых норм, инструкций, договоров и т.д.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) предварительный контроль (на стад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оставл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Б) текущий контроль (на стадии выполнения планов)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) заключительный контроль (при оценке результатов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79280" y="260280"/>
            <a:ext cx="3025800" cy="325296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 txBox="1"/>
          <p:nvPr/>
        </p:nvSpPr>
        <p:spPr>
          <a:xfrm>
            <a:off x="468360" y="1341360"/>
            <a:ext cx="1942920" cy="1150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80"/>
                </a:solidFill>
                <a:latin typeface="Impact"/>
              </a:rPr>
              <a:t>Контроль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800080"/>
              </a:solidFill>
              <a:latin typeface="Impact"/>
              <a:ea typeface="Impact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826920" y="3716280"/>
            <a:ext cx="1781280" cy="803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"/>
              </a:rPr>
              <a:t>Ревиз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2771640" y="3645000"/>
            <a:ext cx="5472360" cy="1152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66ff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Комплексная проверка всех или отдель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сторон деятельности фирм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539640" y="4941720"/>
            <a:ext cx="806472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Современной формой управления, нацеленной на максимализацию прибыли и обеспечение стабильной работы фирмы, является комплексная система синхронного анализа, планирования и контроля –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979640" y="5950080"/>
            <a:ext cx="453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663300"/>
                </a:solidFill>
                <a:latin typeface="Arial"/>
              </a:rPr>
              <a:t>Контроллинг (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controlling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1000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11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Факторы производств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— ресурсы, необходимые для производства товаров и услуг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341000"/>
            <a:ext cx="8229600" cy="478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трудов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руд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вестицион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капитал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совокупность созданных прошлым трудом человека благ. К факторам производства относится не весь капитал, а только реальный капитал — здания, сооружения, станки, машины и оборудование, инструменты и проч. — то есть все то, что используется для производства и транспортировки товаров и услуг. Финансовый же капитал (акции, облигации, банковские депозиты и деньги) к факторам производства не относится, поскольку не связан с реальным производством, а выступает в качестве инструмента получения реального капитала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иродные ресурсы, или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земля </a:t>
            </a:r>
            <a:r>
              <a:rPr b="1" lang="en-US" sz="1600" spc="-1" strike="noStrike">
                <a:solidFill>
                  <a:srgbClr val="990000"/>
                </a:solidFill>
                <a:latin typeface="Arial"/>
              </a:rPr>
              <a:t>(все сельскохозяйственные угодья и городские земли, которые отведены под жилищную или промышленную застройку, а также совокупность природных условий, необходимых для производства товаров и услуг)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 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сырьевые ресурсы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предпринимательский талант, или предпринимательские способности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информация; специфической формой информации является </a:t>
            </a:r>
            <a:r>
              <a:rPr b="1" lang="en-US" sz="1600" spc="-1" strike="noStrike">
                <a:solidFill>
                  <a:srgbClr val="205ff6"/>
                </a:solidFill>
                <a:latin typeface="Arial"/>
              </a:rPr>
              <a:t>технология</a:t>
            </a: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;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205ff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205ff6"/>
                </a:solidFill>
                <a:latin typeface="Arial"/>
              </a:rPr>
              <a:t>знания, или управленческие способности. </a:t>
            </a: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0" y="5373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Факторы производства могут быть соединены различными способами, решение о способе соединения принимает менеджер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324000" y="620640"/>
            <a:ext cx="3133440" cy="241452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 txBox="1"/>
          <p:nvPr/>
        </p:nvSpPr>
        <p:spPr>
          <a:xfrm>
            <a:off x="4140360" y="189000"/>
            <a:ext cx="2676240" cy="1285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Менеджмент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89" name=""/>
          <p:cNvSpPr/>
          <p:nvPr/>
        </p:nvSpPr>
        <p:spPr>
          <a:xfrm>
            <a:off x="3995640" y="1484280"/>
            <a:ext cx="4969080" cy="936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еятельность по управлению и координац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аботы предприятия и его 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140360" y="2565360"/>
            <a:ext cx="4608360" cy="432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ука об управлении организацие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140360" y="3284640"/>
            <a:ext cx="4752720" cy="431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«Команда» руководителей предприят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 rot="5400000">
            <a:off x="3527640" y="1448640"/>
            <a:ext cx="503280" cy="4316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1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"/>
          <p:cNvSpPr txBox="1"/>
          <p:nvPr/>
        </p:nvSpPr>
        <p:spPr>
          <a:xfrm rot="5400000">
            <a:off x="3594240" y="2532600"/>
            <a:ext cx="48744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2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4" name=""/>
          <p:cNvSpPr txBox="1"/>
          <p:nvPr/>
        </p:nvSpPr>
        <p:spPr>
          <a:xfrm rot="5400000">
            <a:off x="3630960" y="3288600"/>
            <a:ext cx="414360" cy="40644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Arial"/>
              </a:rPr>
              <a:t>3</a:t>
            </a:r>
            <a:endParaRPr b="0" i="1" lang="en-US" sz="18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5" name=""/>
          <p:cNvSpPr txBox="1"/>
          <p:nvPr/>
        </p:nvSpPr>
        <p:spPr>
          <a:xfrm>
            <a:off x="468360" y="4005360"/>
            <a:ext cx="215244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8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Менеджер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8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96" name=""/>
          <p:cNvSpPr/>
          <p:nvPr/>
        </p:nvSpPr>
        <p:spPr>
          <a:xfrm>
            <a:off x="3132000" y="3933720"/>
            <a:ext cx="504216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33"/>
              </a:gs>
              <a:gs pos="100000">
                <a:srgbClr val="99ff33"/>
              </a:gs>
            </a:gsLst>
            <a:lin ang="135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Лицо, занимающее определенную должность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на предприятии и обладающее властью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правом принимать ре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179280" y="4581360"/>
            <a:ext cx="1714680" cy="1187640"/>
            <a:chOff x="179280" y="4581360"/>
            <a:chExt cx="1714680" cy="1187640"/>
          </a:xfrm>
        </p:grpSpPr>
        <p:sp>
          <p:nvSpPr>
            <p:cNvPr id="98" name=""/>
            <p:cNvSpPr/>
            <p:nvPr/>
          </p:nvSpPr>
          <p:spPr>
            <a:xfrm flipH="1">
              <a:off x="900000" y="4581360"/>
              <a:ext cx="432000" cy="7192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99" name=""/>
            <p:cNvSpPr txBox="1"/>
            <p:nvPr/>
          </p:nvSpPr>
          <p:spPr>
            <a:xfrm>
              <a:off x="179280" y="5157720"/>
              <a:ext cx="171468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6666"/>
                  </a:solidFill>
                  <a:latin typeface="Times New Roman"/>
                </a:rPr>
                <a:t>облада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6666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763640" y="4581360"/>
            <a:ext cx="1681200" cy="1258920"/>
            <a:chOff x="1763640" y="4581360"/>
            <a:chExt cx="1681200" cy="1258920"/>
          </a:xfrm>
        </p:grpSpPr>
        <p:sp>
          <p:nvSpPr>
            <p:cNvPr id="101" name=""/>
            <p:cNvSpPr/>
            <p:nvPr/>
          </p:nvSpPr>
          <p:spPr>
            <a:xfrm>
              <a:off x="1763640" y="4581360"/>
              <a:ext cx="1079640" cy="79236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2" name=""/>
            <p:cNvSpPr txBox="1"/>
            <p:nvPr/>
          </p:nvSpPr>
          <p:spPr>
            <a:xfrm>
              <a:off x="2340000" y="5229360"/>
              <a:ext cx="1104840" cy="6109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000080"/>
                  </a:solidFill>
                  <a:latin typeface="Times New Roman"/>
                </a:rPr>
                <a:t>уме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80"/>
                </a:solidFill>
                <a:latin typeface="Times New Roman"/>
                <a:ea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2627280" y="4508640"/>
            <a:ext cx="2671920" cy="1187280"/>
            <a:chOff x="2627280" y="4508640"/>
            <a:chExt cx="2671920" cy="1187280"/>
          </a:xfrm>
        </p:grpSpPr>
        <p:sp>
          <p:nvSpPr>
            <p:cNvPr id="104" name=""/>
            <p:cNvSpPr/>
            <p:nvPr/>
          </p:nvSpPr>
          <p:spPr>
            <a:xfrm>
              <a:off x="2627280" y="4508640"/>
              <a:ext cx="2232000" cy="649080"/>
            </a:xfrm>
            <a:prstGeom prst="line">
              <a:avLst/>
            </a:prstGeom>
            <a:ln w="28440">
              <a:solidFill>
                <a:srgbClr val="0066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205ff6"/>
                </a:solidFill>
                <a:latin typeface="Arial"/>
              </a:endParaRPr>
            </a:p>
          </p:txBody>
        </p:sp>
        <p:sp>
          <p:nvSpPr>
            <p:cNvPr id="105" name=""/>
            <p:cNvSpPr txBox="1"/>
            <p:nvPr/>
          </p:nvSpPr>
          <p:spPr>
            <a:xfrm>
              <a:off x="4356000" y="5084640"/>
              <a:ext cx="943200" cy="6112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CanDown">
                <a:avLst>
                  <a:gd name="adj" fmla="val 33333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800000"/>
                  </a:solidFill>
                  <a:latin typeface="Times New Roman"/>
                </a:rPr>
                <a:t>быть</a:t>
              </a:r>
              <a:endPara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800000"/>
                </a:solidFill>
                <a:latin typeface="Times New Roman"/>
                <a:ea typeface="Times New Roman"/>
              </a:endParaRPr>
            </a:p>
          </p:txBody>
        </p:sp>
      </p:grpSp>
      <p:pic>
        <p:nvPicPr>
          <p:cNvPr id="106" name="" descr=""/>
          <p:cNvPicPr/>
          <p:nvPr/>
        </p:nvPicPr>
        <p:blipFill>
          <a:blip r:embed="rId3"/>
          <a:stretch/>
        </p:blipFill>
        <p:spPr>
          <a:xfrm>
            <a:off x="5796000" y="4941720"/>
            <a:ext cx="809640" cy="73368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tretch/>
        </p:blipFill>
        <p:spPr>
          <a:xfrm>
            <a:off x="6804000" y="4941720"/>
            <a:ext cx="952560" cy="85752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5"/>
          <a:stretch/>
        </p:blipFill>
        <p:spPr>
          <a:xfrm>
            <a:off x="8101080" y="5013360"/>
            <a:ext cx="743040" cy="74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1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Уровн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11280" y="1197000"/>
            <a:ext cx="4681440" cy="333864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4211640" y="1125360"/>
            <a:ext cx="453708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Высший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председатель совет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директоров, генеральный директор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езидент компани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5364000" y="2421000"/>
            <a:ext cx="3600720" cy="1728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6666"/>
                </a:solidFill>
                <a:latin typeface="Arial"/>
              </a:rPr>
              <a:t>Средний</a:t>
            </a:r>
            <a:r>
              <a:rPr b="0" lang="en-US" sz="1800" spc="-1" strike="noStrike">
                <a:solidFill>
                  <a:srgbClr val="0066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заместите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я: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маркетингу», «Директор по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ерсоналу», начальники цех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руководители отдел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653000"/>
            <a:ext cx="5689800" cy="86364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Низовой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руководители первичных, низов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 – начальники участков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абораторий, секторов, бригадиры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Основные функции менеджмент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 txBox="1"/>
          <p:nvPr/>
        </p:nvSpPr>
        <p:spPr>
          <a:xfrm>
            <a:off x="324000" y="1484280"/>
            <a:ext cx="3024000" cy="79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latin typeface="Arial"/>
              </a:rPr>
              <a:t>Организация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527280" y="1268280"/>
            <a:ext cx="5616720" cy="2232000"/>
          </a:xfrm>
          <a:prstGeom prst="roundRect">
            <a:avLst>
              <a:gd name="adj" fmla="val 16667"/>
            </a:avLst>
          </a:prstGeom>
          <a:solidFill>
            <a:srgbClr val="ffcc00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создания структуры предприятия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ыполнения ее работниками своих функций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пределить структуру и соподчинение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одразделени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Определить место, время производств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дукции, маршруты ее движения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 предприят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7" name=""/>
          <p:cNvSpPr txBox="1"/>
          <p:nvPr/>
        </p:nvSpPr>
        <p:spPr>
          <a:xfrm>
            <a:off x="250920" y="3645000"/>
            <a:ext cx="316224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333399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"/>
              </a:rPr>
              <a:t>Планирование</a:t>
            </a:r>
            <a:endParaRPr b="0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333399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"/>
              <a:ea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92360" y="3645000"/>
            <a:ext cx="5543640" cy="302400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Процесс изучения и решения проблем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будущего: определение целей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рганизации,  и способов их реализаци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buClr>
                <a:srgbClr val="205ff6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ое – определение основных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направлений развития на 10-15 лет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2. Среднесрочное на 3-5 лет (конкретизация задач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атегических планов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3. Текущее планирование сроком до 1 год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(с разбивкой по кварталам), охватывают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все стороны деятельности)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19" name="">
            <a:hlinkClick r:id="rId4" action="ppaction://hlinksldjump"/>
          </p:cNvPr>
          <p:cNvSpPr/>
          <p:nvPr/>
        </p:nvSpPr>
        <p:spPr>
          <a:xfrm>
            <a:off x="8244000" y="6453360"/>
            <a:ext cx="900000" cy="404640"/>
          </a:xfrm>
          <a:custGeom>
            <a:avLst/>
            <a:gdLst>
              <a:gd name="textAreaLeft" fmla="*/ 25920 w 900000"/>
              <a:gd name="textAreaRight" fmla="*/ 874080 w 900000"/>
              <a:gd name="textAreaTop" fmla="*/ 25920 h 404640"/>
              <a:gd name="textAreaBottom" fmla="*/ 378720 h 404640"/>
            </a:gdLst>
            <a:ahLst/>
            <a:rect l="textAreaLeft" t="textAreaTop" r="textAreaRight" b="textAreaBottom"/>
            <a:pathLst>
              <a:path w="48019" h="21600">
                <a:moveTo>
                  <a:pt x="0" y="0"/>
                </a:moveTo>
                <a:lnTo>
                  <a:pt x="48019" y="0"/>
                </a:lnTo>
                <a:lnTo>
                  <a:pt x="48019" y="21600"/>
                </a:lnTo>
                <a:lnTo>
                  <a:pt x="0" y="21600"/>
                </a:lnTo>
                <a:close/>
              </a:path>
              <a:path fill="lightenLess" w="48019" h="21600">
                <a:moveTo>
                  <a:pt x="0" y="0"/>
                </a:moveTo>
                <a:lnTo>
                  <a:pt x="48019" y="0"/>
                </a:lnTo>
                <a:lnTo>
                  <a:pt x="46619" y="1400"/>
                </a:lnTo>
                <a:lnTo>
                  <a:pt x="1400" y="1400"/>
                </a:lnTo>
                <a:close/>
              </a:path>
              <a:path fill="darken" w="48019" h="21600">
                <a:moveTo>
                  <a:pt x="48019" y="0"/>
                </a:moveTo>
                <a:lnTo>
                  <a:pt x="48019" y="21600"/>
                </a:lnTo>
                <a:lnTo>
                  <a:pt x="46619" y="20200"/>
                </a:lnTo>
                <a:lnTo>
                  <a:pt x="46619" y="1400"/>
                </a:lnTo>
                <a:close/>
              </a:path>
              <a:path fill="darkenLess" w="48019" h="21600">
                <a:moveTo>
                  <a:pt x="4801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6619" y="20200"/>
                </a:lnTo>
                <a:close/>
              </a:path>
              <a:path fill="lighten" w="4801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8019" h="21600">
                <a:moveTo>
                  <a:pt x="17003" y="3794"/>
                </a:moveTo>
                <a:lnTo>
                  <a:pt x="31016" y="10800"/>
                </a:lnTo>
                <a:lnTo>
                  <a:pt x="17003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53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Arial"/>
              </a:rPr>
              <a:t>Эффективная организация труда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6320" y="1341360"/>
            <a:ext cx="8893080" cy="8636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8000"/>
              </a:gs>
              <a:gs pos="50000">
                <a:srgbClr val="99cc00"/>
              </a:gs>
              <a:gs pos="100000">
                <a:srgbClr val="0080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66"/>
                </a:solidFill>
                <a:latin typeface="Arial"/>
              </a:rPr>
              <a:t>Организационные методы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представляют собой установление связей 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отношений между должностями работников. Эти методы носят пассивный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66"/>
                </a:solidFill>
                <a:latin typeface="Arial"/>
              </a:rPr>
              <a:t>характер.  Они обеспечивают развитие персонала и упорядочивают управление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95280" y="2276640"/>
            <a:ext cx="8748720" cy="1728720"/>
          </a:xfrm>
          <a:prstGeom prst="rect">
            <a:avLst/>
          </a:prstGeom>
          <a:gradFill rotWithShape="0">
            <a:gsLst>
              <a:gs pos="0">
                <a:srgbClr val="cc9900"/>
              </a:gs>
              <a:gs pos="50000">
                <a:srgbClr val="ffff99"/>
              </a:gs>
              <a:gs pos="100000">
                <a:srgbClr val="cc9900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663300"/>
                </a:solidFill>
                <a:latin typeface="Arial"/>
              </a:rPr>
              <a:t>Административные методы</a:t>
            </a: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 – это управление и регулирование деятельнос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персонала на основе приказов, распоряжений, конкретных заданий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методы могут и сопровождаться поощрениями и штрафами за успешную ил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неуспешную работу. Возможны три формы проявления этих методов: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Обязательное предписание, согласительные (консультация, компромисс)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3300"/>
                </a:solidFill>
                <a:latin typeface="Arial"/>
              </a:rPr>
              <a:t>рекомендации (совет, предписание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0" y="4164120"/>
            <a:ext cx="9144000" cy="1368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205ff6"/>
              </a:gs>
              <a:gs pos="50000">
                <a:srgbClr val="ccffff"/>
              </a:gs>
              <a:gs pos="100000">
                <a:srgbClr val="205ff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99"/>
                </a:solidFill>
                <a:latin typeface="Arial"/>
              </a:rPr>
              <a:t>Экономические методы</a:t>
            </a: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 – косвенное воздействие на объект управления. Эт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етоды не действуют автоматически, трудно определить силу их влияния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результат. С их помощью осуществляется материальное стимулирование, он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могут выступать как планирование, анализ, ценообразование, финансирование,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99"/>
                </a:solidFill>
                <a:latin typeface="Arial"/>
              </a:rPr>
              <a:t>предоставление экономической самостоятельности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95280" y="5661000"/>
            <a:ext cx="8497800" cy="936720"/>
          </a:xfrm>
          <a:prstGeom prst="rect">
            <a:avLst/>
          </a:prstGeom>
          <a:gradFill rotWithShape="0">
            <a:gsLst>
              <a:gs pos="0">
                <a:srgbClr val="ff0066"/>
              </a:gs>
              <a:gs pos="50000">
                <a:srgbClr val="ffccff"/>
              </a:gs>
              <a:gs pos="100000">
                <a:srgbClr val="ff0066"/>
              </a:gs>
            </a:gsLst>
            <a:lin ang="5400000"/>
          </a:gra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00"/>
                </a:solidFill>
                <a:latin typeface="Arial"/>
              </a:rPr>
              <a:t>Психологические методы</a:t>
            </a: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 – побуждение работников к эффективной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деятельности через психологическое воздействие. Нацелены н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формирование благоприятного климата в коллективе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25" name="">
            <a:hlinkClick r:id="" action="ppaction://hlinkshowjump?jump=previousslide"/>
          </p:cNvPr>
          <p:cNvSpPr/>
          <p:nvPr/>
        </p:nvSpPr>
        <p:spPr>
          <a:xfrm>
            <a:off x="8459640" y="6381720"/>
            <a:ext cx="684360" cy="476280"/>
          </a:xfrm>
          <a:custGeom>
            <a:avLst/>
            <a:gdLst>
              <a:gd name="textAreaLeft" fmla="*/ 30600 w 684360"/>
              <a:gd name="textAreaRight" fmla="*/ 653760 w 684360"/>
              <a:gd name="textAreaTop" fmla="*/ 30600 h 476280"/>
              <a:gd name="textAreaBottom" fmla="*/ 445680 h 476280"/>
            </a:gdLst>
            <a:ahLst/>
            <a:rect l="textAreaLeft" t="textAreaTop" r="textAreaRight" b="textAreaBottom"/>
            <a:pathLst>
              <a:path w="31030" h="21600">
                <a:moveTo>
                  <a:pt x="0" y="0"/>
                </a:moveTo>
                <a:lnTo>
                  <a:pt x="31030" y="0"/>
                </a:lnTo>
                <a:lnTo>
                  <a:pt x="31030" y="21600"/>
                </a:lnTo>
                <a:lnTo>
                  <a:pt x="0" y="21600"/>
                </a:lnTo>
                <a:close/>
              </a:path>
              <a:path fill="lightenLess" w="31030" h="21600">
                <a:moveTo>
                  <a:pt x="0" y="0"/>
                </a:moveTo>
                <a:lnTo>
                  <a:pt x="31030" y="0"/>
                </a:lnTo>
                <a:lnTo>
                  <a:pt x="29630" y="1400"/>
                </a:lnTo>
                <a:lnTo>
                  <a:pt x="1400" y="1400"/>
                </a:lnTo>
                <a:close/>
              </a:path>
              <a:path fill="darken" w="31030" h="21600">
                <a:moveTo>
                  <a:pt x="31030" y="0"/>
                </a:moveTo>
                <a:lnTo>
                  <a:pt x="31030" y="21600"/>
                </a:lnTo>
                <a:lnTo>
                  <a:pt x="29630" y="20200"/>
                </a:lnTo>
                <a:lnTo>
                  <a:pt x="29630" y="1400"/>
                </a:lnTo>
                <a:close/>
              </a:path>
              <a:path fill="darkenLess" w="31030" h="21600">
                <a:moveTo>
                  <a:pt x="3103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630" y="20200"/>
                </a:lnTo>
                <a:close/>
              </a:path>
              <a:path fill="lighten" w="3103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1030" h="21600">
                <a:moveTo>
                  <a:pt x="8508" y="10800"/>
                </a:moveTo>
                <a:lnTo>
                  <a:pt x="22521" y="3794"/>
                </a:lnTo>
                <a:lnTo>
                  <a:pt x="22521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395280" y="549360"/>
            <a:ext cx="3024360" cy="14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006666"/>
                  </a:solidFill>
                  <a:miter/>
                </a:ln>
                <a:solidFill>
                  <a:srgbClr val="33cc33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Impact"/>
              </a:rPr>
              <a:t>Мотивация</a:t>
            </a:r>
            <a:endParaRPr b="0" lang="en-US" sz="1800" spc="1" strike="noStrike">
              <a:ln w="12600">
                <a:solidFill>
                  <a:srgbClr val="006666"/>
                </a:solidFill>
                <a:miter/>
              </a:ln>
              <a:solidFill>
                <a:srgbClr val="33cc33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27" name=""/>
          <p:cNvSpPr/>
          <p:nvPr/>
        </p:nvSpPr>
        <p:spPr>
          <a:xfrm>
            <a:off x="3780000" y="549360"/>
            <a:ext cx="5111640" cy="1152360"/>
          </a:xfrm>
          <a:prstGeom prst="roundRect">
            <a:avLst>
              <a:gd name="adj" fmla="val 16667"/>
            </a:avLst>
          </a:prstGeom>
          <a:solidFill>
            <a:srgbClr val="66ff66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Создание заинтересованности персонала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205ff6"/>
                </a:solidFill>
                <a:latin typeface="Arial"/>
              </a:rPr>
              <a:t>в достижении целей фирмы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84240" y="1916280"/>
            <a:ext cx="9059760" cy="4752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4859280" y="5950080"/>
            <a:ext cx="37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99"/>
                </a:solidFill>
                <a:latin typeface="Arial"/>
              </a:rPr>
              <a:t>Пирамида Маслоу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179280" y="2781360"/>
            <a:ext cx="3529080" cy="1512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цел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труктура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задачи  организ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технология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люди (кадры)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284720" y="2421000"/>
            <a:ext cx="439092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4572000" y="2492280"/>
            <a:ext cx="36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990000"/>
                </a:solidFill>
                <a:latin typeface="Arial"/>
              </a:rPr>
              <a:t>среда  прямого воздейств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05ff6"/>
                </a:solidFill>
                <a:latin typeface="Arial"/>
              </a:rPr>
              <a:t>потребители; конкуренты; оставщики; законы  и  государственные  органы; профсоюзы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84720" y="4149720"/>
            <a:ext cx="4535280" cy="158436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4572000" y="4282920"/>
            <a:ext cx="4032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реда  косвенного  воздействия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политика; экономика; социальные  факторы; технология; международные  отношения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619280" y="765000"/>
            <a:ext cx="5848200" cy="13971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Triangle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Факторы внутренней среды и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ffcc"/>
                    </a:gs>
                    <a:gs pos="100000">
                      <a:srgbClr val="ff9999"/>
                    </a:gs>
                  </a:gsLst>
                  <a:lin ang="5400000"/>
                </a:gradFill>
                <a:latin typeface="Times New Roman"/>
              </a:rPr>
              <a:t>внешней среды организации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ffcc"/>
                  </a:gs>
                  <a:gs pos="100000">
                    <a:srgbClr val="ff9999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2627280" y="1197000"/>
            <a:ext cx="3548160" cy="979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b2b2b2"/>
                  </a:solidFill>
                  <a:miter/>
                </a:ln>
                <a:solidFill>
                  <a:srgbClr val="339966"/>
                </a:soli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Коммуникации</a:t>
            </a:r>
            <a:endParaRPr b="0" lang="en-US" sz="1800" spc="1" strike="noStrike">
              <a:ln w="12600">
                <a:solidFill>
                  <a:srgbClr val="b2b2b2"/>
                </a:solidFill>
                <a:miter/>
              </a:ln>
              <a:solidFill>
                <a:srgbClr val="339966"/>
              </a:soli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116000" y="2060640"/>
            <a:ext cx="7343640" cy="5047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205ff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2133720"/>
            <a:ext cx="4753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обмен  информацией  с  другими  людьми 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2770200"/>
            <a:ext cx="7920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В  процессе  обмена  информацией  можно  выделить  четыре  базовых  элемента: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отправитель (адресан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генерирующее  идеи  или  собирающее  информацию  и  передающее  ее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сообщение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обственно  информация, закодированная  с  помощью  символов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канал 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– средство  передачи  информации;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990000"/>
                </a:solidFill>
                <a:latin typeface="Arial"/>
              </a:rPr>
              <a:t>получатель (адресат)</a:t>
            </a: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 – лицо, которому  предназначена  информация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05ff6"/>
                </a:solidFill>
                <a:latin typeface="Arial"/>
              </a:rPr>
              <a:t>Самыми  эффективными  являются  коммуникации  путем  личных  контактов.</a:t>
            </a:r>
            <a:endParaRPr b="0" lang="en-US" sz="1800" spc="-1" strike="noStrike">
              <a:solidFill>
                <a:srgbClr val="205ff6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1T01:55:41Z</dcterms:created>
  <dc:creator>Надежда</dc:creator>
  <dc:description/>
  <cp:keywords/>
  <dc:language>en-US</dc:language>
  <cp:lastModifiedBy>Admin</cp:lastModifiedBy>
  <dcterms:modified xsi:type="dcterms:W3CDTF">2010-02-20T09:20:05Z</dcterms:modified>
  <cp:revision>5</cp:revision>
  <dc:subject/>
  <dc:title>Менеджмент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101950921049</vt:lpwstr>
  </property>
</Properties>
</file>