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5.gif" ContentType="image/gif"/>
  <Override PartName="/ppt/media/image9.png" ContentType="image/png"/>
  <Override PartName="/ppt/media/image10.gif" ContentType="image/gif"/>
  <Override PartName="/ppt/media/image6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8004-FC6D-4D7A-9EEF-6E179DA9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6701-C8DD-43E4-B64C-95C57A5E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CC24-92EA-47C9-AA84-4813D90F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334B-01B3-481F-8777-2A292761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6026C-2B53-4869-88E4-E6E303EE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41DC5-42FD-4536-B5C2-E0851358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E9C90-C7FF-4DDA-9D0C-4F2208A5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FE4B8-F307-4D61-9556-6F58A3A2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7CB99-DA63-4EFC-AC38-BFA19A4A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F0234-DDCF-489C-9A6A-749F58B3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C6402-816E-4CCE-9F9A-3C5BAA7E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9FA6-95F0-4A7B-BAAB-37E6903D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A4EE8-BDFF-4964-9614-0A1E1F45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932AA-D978-4C9A-9904-68A796B8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B8C55-07AE-4D1A-9967-D84FEA6F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45023-DDDF-4191-82C5-C4098D3AE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A8DA1-1898-42D4-9C82-4433478C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E49D-AE2E-412D-BAE7-CD9B45E9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7533-67C6-4B44-A1FD-3ACD96B6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3136-E41B-48DE-8444-97E3D9A2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9916-4309-4A70-843C-E9776814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5420-C861-4FE7-9F15-230A6E45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C41C-F600-4C52-BA1D-C1F577D5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4E5D-57F6-4DAE-B668-A09837AC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BA1F-018A-4112-91F9-3C149569DF77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1A36-E367-44A1-94C6-8E420760A377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" Target="slide7.xml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енедж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A52FA-C0D3-4F2D-AF8D-BD6D43F4DAC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B8EB526C-7C32-42A0-BA93-F6DB05D24D63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41300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Теория Х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Макгрегора: люди изначально не любят трудиться и при любой возможности избегают работы; у них нет честолюбия, и они стараются избавиться от ответственности, предпочитая, чтобы ими руководили другие; больше всего люди хотят защищенности, и чтобы заставить их трудиться, необходимо … 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292428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Использовать принуждение, контроль и угрозу наказан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57336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Теория У: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труд – процесс естественный, и если условия благоприятны, люди готовы принять на себя ответственность; работники заинтересованы в целях организации, значительная часть их обладает способностью к творческому решению проблем. Следующие этой теории руководители в управлении используют …</a:t>
            </a:r>
            <a:r>
              <a:rPr b="0" i="1" lang="en-US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5805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пособность персонала обсуждать, принимать и предлагать решения, цели и задачи предприят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020000" y="256536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284720" y="465300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987640" y="836640"/>
            <a:ext cx="5977080" cy="25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4600"/>
              </a:gs>
              <a:gs pos="50000">
                <a:srgbClr val="cc9900"/>
              </a:gs>
              <a:gs pos="100000">
                <a:srgbClr val="5e46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стема наблюдения за деятельностью фирмы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контроль количества, качества, сохран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дукции, расходованием ресурсов, соблюдени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вых норм, инструкций, договоров и т.д.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) предварительный контроль (на стад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ставл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) текущий контроль (на стадии выполн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) заключительный контроль (при оценке результатов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025800" cy="3252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68360" y="1341360"/>
            <a:ext cx="1942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Контро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26920" y="3716280"/>
            <a:ext cx="17812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Ревиз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3645000"/>
            <a:ext cx="5472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Комплексная проверка всех или отдель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сторон деятельности фирм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4941720"/>
            <a:ext cx="806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временной формой управления, нацеленной на максимализацию прибыли и обеспечение стабильной работы фирмы, является комплексная система синхронного анализа, планирования и контроля –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59500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онтроллинг (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controlling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акторы производств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— ресурсы, необходимые для производства товаров и усл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трудов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труд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инвестиционн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капитал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(совокупность созданных прошлым трудом человека благ. К факторам производства относится не весь капитал, а только реальный капитал — здания, сооружения, станки, машины и оборудование, инструменты и проч. — то есть все то, что используется для производства и транспортировки товаров и услуг. Финансовый же капитал (акции, облигации, банковские депозиты и деньги) к факторам производства не относится, поскольку не связан с реальным производством, а выступает в качестве инструмента получения реального капитала)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природн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земля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(все сельскохозяйственные угодья и городские земли, которые отведены под жилищную или промышленную застройку, а также совокупность природных условий, необходимых для производства товаров и услуг)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сырьевые ресурсы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предпринимательский талант, или предпринимательские способности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информация; специфической формой информации является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технология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знания, или управленческие способности.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37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Факторы производства могут быть соединены различными способами, решение о способе соединения принимает менеджер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3133440" cy="2414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140360" y="189000"/>
            <a:ext cx="2676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неджмен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1484280"/>
            <a:ext cx="4969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еятельность по управлению и координац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аботы предприятия и его 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2565360"/>
            <a:ext cx="460836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ука об управлении организацие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3284640"/>
            <a:ext cx="475272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«Команда» руководителей предприят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5400000">
            <a:off x="3527640" y="1448640"/>
            <a:ext cx="50328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5400000">
            <a:off x="3594240" y="2532600"/>
            <a:ext cx="4874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 rot="5400000">
            <a:off x="3630960" y="3288600"/>
            <a:ext cx="41436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4005360"/>
            <a:ext cx="2152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недже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3933720"/>
            <a:ext cx="50421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100000">
                <a:srgbClr val="99ff33"/>
              </a:gs>
            </a:gsLst>
            <a:lin ang="135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Лицо, занимающее определенную долж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на предприятии и обладающее властью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правом принимать ре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79280" y="4581360"/>
            <a:ext cx="1714680" cy="1187640"/>
            <a:chOff x="179280" y="4581360"/>
            <a:chExt cx="1714680" cy="1187640"/>
          </a:xfrm>
        </p:grpSpPr>
        <p:sp>
          <p:nvSpPr>
            <p:cNvPr id="98" name=""/>
            <p:cNvSpPr/>
            <p:nvPr/>
          </p:nvSpPr>
          <p:spPr>
            <a:xfrm flipH="1">
              <a:off x="900000" y="4581360"/>
              <a:ext cx="432000" cy="7192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179280" y="5157720"/>
              <a:ext cx="171468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66"/>
                  </a:solidFill>
                  <a:latin typeface="Times New Roman"/>
                </a:rPr>
                <a:t>облада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763640" y="4581360"/>
            <a:ext cx="1681200" cy="1258920"/>
            <a:chOff x="1763640" y="4581360"/>
            <a:chExt cx="1681200" cy="1258920"/>
          </a:xfrm>
        </p:grpSpPr>
        <p:sp>
          <p:nvSpPr>
            <p:cNvPr id="101" name=""/>
            <p:cNvSpPr/>
            <p:nvPr/>
          </p:nvSpPr>
          <p:spPr>
            <a:xfrm>
              <a:off x="1763640" y="4581360"/>
              <a:ext cx="1079640" cy="7923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2340000" y="5229360"/>
              <a:ext cx="1104840" cy="61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latin typeface="Times New Roman"/>
                </a:rPr>
                <a:t>уме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627280" y="4508640"/>
            <a:ext cx="2671920" cy="1187280"/>
            <a:chOff x="2627280" y="4508640"/>
            <a:chExt cx="2671920" cy="1187280"/>
          </a:xfrm>
        </p:grpSpPr>
        <p:sp>
          <p:nvSpPr>
            <p:cNvPr id="104" name=""/>
            <p:cNvSpPr/>
            <p:nvPr/>
          </p:nvSpPr>
          <p:spPr>
            <a:xfrm>
              <a:off x="2627280" y="4508640"/>
              <a:ext cx="2232000" cy="6490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4356000" y="5084640"/>
              <a:ext cx="94320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бы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796000" y="4941720"/>
            <a:ext cx="809640" cy="733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804000" y="4941720"/>
            <a:ext cx="952560" cy="857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8101080" y="5013360"/>
            <a:ext cx="7430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ровн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4681440" cy="3338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211640" y="1125360"/>
            <a:ext cx="45370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Высший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председатель совет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иректоров, генеральный директор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езидент компан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2421000"/>
            <a:ext cx="3600720" cy="172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Средний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заместите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уководителя: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маркетингу»,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рсоналу», начальники цех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уководители отдел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653000"/>
            <a:ext cx="568980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изовой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руководители первичных, низов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азделений – начальники участк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лабораторий, секторов, бригадир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новные функци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4000" y="1484280"/>
            <a:ext cx="302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Организ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27280" y="1268280"/>
            <a:ext cx="5616720" cy="2232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цесс создания структуры предприятия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ыполнения ее работниками своих функций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пределить структуру и соподчинени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2. Определить место, время производст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дукции, маршруты ее движ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 предприят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0920" y="3645000"/>
            <a:ext cx="3162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иров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3645000"/>
            <a:ext cx="5543640" cy="302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цесс изучения и решения пробл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удущего: определение целей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рганизации,  и способов их реализац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тегическое – определение основ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правлений развития на 10-15 лет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2. Среднесрочное на 3-5 лет (конкретизация задач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тегических планов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3. Текущее планирование сроком до 1 год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(с разбивкой по кварталам), охватываю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се стороны деятельности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>
            <a:hlinkClick r:id="rId4" action="ppaction://hlinksldjump"/>
          </p:cNvPr>
          <p:cNvSpPr/>
          <p:nvPr/>
        </p:nvSpPr>
        <p:spPr>
          <a:xfrm>
            <a:off x="8244000" y="6453360"/>
            <a:ext cx="900000" cy="404640"/>
          </a:xfrm>
          <a:custGeom>
            <a:avLst/>
            <a:gdLst>
              <a:gd name="textAreaLeft" fmla="*/ 25920 w 900000"/>
              <a:gd name="textAreaRight" fmla="*/ 874080 w 90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8019" h="21600">
                <a:moveTo>
                  <a:pt x="0" y="0"/>
                </a:moveTo>
                <a:lnTo>
                  <a:pt x="48019" y="0"/>
                </a:lnTo>
                <a:lnTo>
                  <a:pt x="48019" y="21600"/>
                </a:lnTo>
                <a:lnTo>
                  <a:pt x="0" y="21600"/>
                </a:lnTo>
                <a:close/>
              </a:path>
              <a:path fill="lightenLess" w="48019" h="21600">
                <a:moveTo>
                  <a:pt x="0" y="0"/>
                </a:moveTo>
                <a:lnTo>
                  <a:pt x="48019" y="0"/>
                </a:lnTo>
                <a:lnTo>
                  <a:pt x="46619" y="1400"/>
                </a:lnTo>
                <a:lnTo>
                  <a:pt x="1400" y="1400"/>
                </a:lnTo>
                <a:close/>
              </a:path>
              <a:path fill="darken" w="48019" h="21600">
                <a:moveTo>
                  <a:pt x="48019" y="0"/>
                </a:moveTo>
                <a:lnTo>
                  <a:pt x="48019" y="21600"/>
                </a:lnTo>
                <a:lnTo>
                  <a:pt x="46619" y="20200"/>
                </a:lnTo>
                <a:lnTo>
                  <a:pt x="46619" y="1400"/>
                </a:lnTo>
                <a:close/>
              </a:path>
              <a:path fill="darkenLess" w="48019" h="21600">
                <a:moveTo>
                  <a:pt x="48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19" y="20200"/>
                </a:lnTo>
                <a:close/>
              </a:path>
              <a:path fill="lighten" w="48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19" h="21600">
                <a:moveTo>
                  <a:pt x="17003" y="3794"/>
                </a:moveTo>
                <a:lnTo>
                  <a:pt x="31016" y="10800"/>
                </a:lnTo>
                <a:lnTo>
                  <a:pt x="170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ффективная организация тру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1341360"/>
            <a:ext cx="8893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99cc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Организационные методы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представляют собой установление связей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тношений между должностями работников. Эти методы носят пассивны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характер.  Они обеспечивают развитие персонала и упорядочивают управление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2276640"/>
            <a:ext cx="8748720" cy="1728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99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Административные методы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– это управление и регулирование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персонала на основе приказов, распоряжений, конкретных заданий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методы могут и сопровождаться поощрениями и штрафами за успешную и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неуспешную работу. Возможны три формы проявления этих методов: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Обязательное предписание, согласительные (консультация, компромисс)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рекомендации (совет, предписание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64120"/>
            <a:ext cx="9144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5ff6"/>
              </a:gs>
              <a:gs pos="50000">
                <a:srgbClr val="ccffff"/>
              </a:gs>
              <a:gs pos="100000">
                <a:srgbClr val="205ff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Экономические методы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– косвенное воздействие на объект управления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етоды не действуют автоматически, трудно определить силу их влияния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результат. С их помощью осуществляется материальное стимулирование, он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огут выступать как планирование, анализ, ценообразование, финансирование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едоставление экономической самостоятельност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5661000"/>
            <a:ext cx="8497800" cy="9367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ccff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Психологические методы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 – побуждение работников к эффективн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деятельности через психологическое воздействие. Нацелены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формирование благоприятного климата в коллективе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95280" y="549360"/>
            <a:ext cx="3024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6666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тивация</a:t>
            </a:r>
            <a:endParaRPr b="0" lang="en-US" sz="1800" spc="1" strike="noStrike">
              <a:ln w="12600">
                <a:solidFill>
                  <a:srgbClr val="006666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0" y="549360"/>
            <a:ext cx="5111640" cy="115236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Создание заинтересованности персонал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в достижении целей фирмы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4240" y="1916280"/>
            <a:ext cx="9059760" cy="4752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59280" y="59500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ирамида Масло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2781360"/>
            <a:ext cx="3529080" cy="151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цел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уктура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задач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технология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люди (кадры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421000"/>
            <a:ext cx="439092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2492280"/>
            <a:ext cx="36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реда  прямого воздейств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отребители; конкуренты; оставщики; законы  и  государственные  органы; профсоюзы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84720" y="4149720"/>
            <a:ext cx="453528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42829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реда  косвенного  воздействия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политика; экономика; социальные  факторы; технология; международные  отно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619280" y="765000"/>
            <a:ext cx="584820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Факторы внутренней среды 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нешней среды организ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627280" y="1197000"/>
            <a:ext cx="354816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99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ммуникаци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3399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16000" y="2060640"/>
            <a:ext cx="734364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2133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бмен  информацией  с  другими  людьм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277020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В  процессе  обмена  информацией  можно  выделить  четыре  базовых  элемента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отправитель (адресант)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лицо, генерирующее  идеи  или  собирающее  информацию  и  передающее  ее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ообщение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собственно  информация, закодированная  с  помощью  символов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канал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средство  передачи  информ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получатель (адресат)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лицо, которому  предназначена  информац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амыми  эффективными  являются  коммуникации  путем  личных  контакт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55:41Z</dcterms:created>
  <dc:creator>Надежда</dc:creator>
  <dc:description/>
  <cp:keywords/>
  <dc:language>en-US</dc:language>
  <cp:lastModifiedBy>Admin</cp:lastModifiedBy>
  <dcterms:modified xsi:type="dcterms:W3CDTF">2010-02-20T09:20:05Z</dcterms:modified>
  <cp:revision>5</cp:revision>
  <dc:subject/>
  <dc:title>Менеджмен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