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gif" ContentType="image/gif"/>
  <Override PartName="/ppt/media/image7.wmf" ContentType="image/x-wmf"/>
  <Override PartName="/ppt/media/image12.wmf" ContentType="image/x-wmf"/>
  <Override PartName="/ppt/media/image5.gif" ContentType="image/gif"/>
  <Override PartName="/ppt/media/image9.png" ContentType="image/png"/>
  <Override PartName="/ppt/media/image10.gif" ContentType="image/gif"/>
  <Override PartName="/ppt/media/image6.gif" ContentType="image/gif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A63B-FE1F-42E1-807B-81ED5BAA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B2A7-85DD-4969-BADD-47A9F17E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5190-90E2-4422-AA86-CB2EDBBC6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C2A2-5E03-43CF-AA5B-4BC099615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F78C5-1F0C-48FC-9BC9-7625252B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4BFA8-1AC7-440F-A21B-D2D173F7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E390F-2A2E-402E-A835-D6FD6AB2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92CD8-1C47-4A35-9B0D-D36913D9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8E454-2B13-4D33-BCE5-D48985B7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574F2-D328-4F4A-8763-B10D40E5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31E31-24AA-4A92-9F9F-DE76C406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29A0-29F8-4963-9A87-23CA67A7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EE09F-A1DC-45A7-A5E8-D5CCB439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F9F15-B6E6-4B3F-B8DB-ACC2E7DC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CA7D7-C5EC-4889-A9C5-8C3587BD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BE21E-8E18-41A8-8008-32E69E519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D493E-4605-48D8-BA66-8D23FAAE2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056E-7BD9-4DCD-962D-265A7A3C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29D4-176F-4428-B85E-8990365F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C43E-3460-4C08-9CBA-61D0873A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55C4-D280-48E9-9D52-FD0240CE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6704-9934-41EA-A944-53C07FBF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3FD7-07BB-45F9-BD7D-4B138FA8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3119-8C84-4124-8571-1FE718E8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201B-8840-436C-B710-FB669CEEDEB0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9577-CF97-4D52-B74F-5760205C8B52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" Target="slide7.xml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енеджмен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5640" y="5734080"/>
            <a:ext cx="62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Савка Н.В., учитель истории и обществознания, 2009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DBF2E-3B13-4F88-BD0D-153F2455287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926F07C0-3528-4BE8-86C9-8D4D18541BBC}" type="datetime1">
              <a:rPr lang="en-US"/>
              <a:t>07/29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413000"/>
            <a:ext cx="849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Теория Х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Макгрегора: люди изначально не любят трудиться и при любой возможности избегают работы; у них нет честолюбия, и они стараются избавиться от ответственности, предпочитая, чтобы ими руководили другие; больше всего люди хотят защищенности, и чтобы заставить их трудиться, необходимо … </a:t>
            </a:r>
            <a:r>
              <a:rPr b="0" i="1" lang="ru-RU" sz="1800" spc="-1" strike="noStrike">
                <a:solidFill>
                  <a:srgbClr val="990000"/>
                </a:solidFill>
                <a:latin typeface="Arial"/>
              </a:rPr>
              <a:t>что?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292428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Использовать принуждение, контроль и угрозу наказан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57336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Теория У: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труд – процесс естественный, и если условия благоприятны, люди готовы принять на себя ответственность; работники заинтересованы в целях организации, значительная часть их обладает способностью к творческому решению проблем. Следующие этой теории руководители в управлении используют …</a:t>
            </a:r>
            <a:r>
              <a:rPr b="0" i="1" lang="en-US" sz="1800" spc="-1" strike="noStrike">
                <a:solidFill>
                  <a:srgbClr val="990000"/>
                </a:solidFill>
                <a:latin typeface="Arial"/>
              </a:rPr>
              <a:t>что?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58053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Способность персонала обсуждать, принимать и предлагать решения, цели и задачи предприят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020000" y="2565360"/>
            <a:ext cx="952560" cy="857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284720" y="465300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987640" y="836640"/>
            <a:ext cx="5977080" cy="25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4600"/>
              </a:gs>
              <a:gs pos="50000">
                <a:srgbClr val="cc9900"/>
              </a:gs>
              <a:gs pos="100000">
                <a:srgbClr val="5e46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истема наблюдения за деятельностью фирмы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контроль количества, качества, сохран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дукции, расходованием ресурсов, соблюдением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вых норм, инструкций, договоров и т.д.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) предварительный контроль (на стад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ставления планов)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) текущий контроль (на стадии выполнения планов)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) заключительный контроль (при оценке результатов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3025800" cy="3252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468360" y="1341360"/>
            <a:ext cx="19429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Impact"/>
              </a:rPr>
              <a:t>Контро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Impact"/>
              <a:ea typeface="Impac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26920" y="3716280"/>
            <a:ext cx="178128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Ревиз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3645000"/>
            <a:ext cx="547236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Комплексная проверка всех или отдель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сторон деятельности фирм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4941720"/>
            <a:ext cx="806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овременной формой управления, нацеленной на максимализацию прибыли и обеспечение стабильной работы фирмы, является комплексная система синхронного анализа, планирования и контроля –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595008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онтроллинг (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controlling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Факторы производств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— ресурсы, необходимые для производства товаров и услу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трудовые ресурсы, или 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труд</a:t>
            </a: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инвестиционные ресурсы, или 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капитал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(совокупность созданных прошлым трудом человека благ. К факторам производства относится не весь капитал, а только реальный капитал — здания, сооружения, станки, машины и оборудование, инструменты и проч. — то есть все то, что используется для производства и транспортировки товаров и услуг. Финансовый же капитал (акции, облигации, банковские депозиты и деньги) к факторам производства не относится, поскольку не связан с реальным производством, а выступает в качестве инструмента получения реального капитала)</a:t>
            </a: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 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природные ресурсы, или 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земля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(все сельскохозяйственные угодья и городские земли, которые отведены под жилищную или промышленную застройку, а также совокупность природных условий, необходимых для производства товаров и услуг)</a:t>
            </a: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 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сырьевые ресурсы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предпринимательский талант, или предпринимательские способности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информация; специфической формой информации является 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технология</a:t>
            </a: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знания, или управленческие способности.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37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Факторы производства могут быть соединены различными способами, решение о способе соединения принимает менеджер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3133440" cy="2414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140360" y="189000"/>
            <a:ext cx="26762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енеджмен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"/>
          <p:cNvSpPr/>
          <p:nvPr/>
        </p:nvSpPr>
        <p:spPr>
          <a:xfrm>
            <a:off x="3995640" y="1484280"/>
            <a:ext cx="496908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еятельность по управлению и координац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аботы предприятия и его подразделени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40360" y="2565360"/>
            <a:ext cx="460836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ука об управлении организацие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40360" y="3284640"/>
            <a:ext cx="475272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«Команда» руководителей предприят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5400000">
            <a:off x="3527640" y="1448640"/>
            <a:ext cx="503280" cy="43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 rot="5400000">
            <a:off x="3594240" y="2532600"/>
            <a:ext cx="487440" cy="40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 rot="5400000">
            <a:off x="3630960" y="3288600"/>
            <a:ext cx="414360" cy="40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4005360"/>
            <a:ext cx="2152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недже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/>
          <p:nvPr/>
        </p:nvSpPr>
        <p:spPr>
          <a:xfrm>
            <a:off x="3132000" y="3933720"/>
            <a:ext cx="50421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33"/>
              </a:gs>
              <a:gs pos="100000">
                <a:srgbClr val="99ff33"/>
              </a:gs>
            </a:gsLst>
            <a:lin ang="135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Лицо, занимающее определенную долж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на предприятии и обладающее властью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правом принимать реш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79280" y="4581360"/>
            <a:ext cx="1714680" cy="1187640"/>
            <a:chOff x="179280" y="4581360"/>
            <a:chExt cx="1714680" cy="1187640"/>
          </a:xfrm>
        </p:grpSpPr>
        <p:sp>
          <p:nvSpPr>
            <p:cNvPr id="98" name=""/>
            <p:cNvSpPr/>
            <p:nvPr/>
          </p:nvSpPr>
          <p:spPr>
            <a:xfrm flipH="1">
              <a:off x="900000" y="4581360"/>
              <a:ext cx="432000" cy="71928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179280" y="5157720"/>
              <a:ext cx="171468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6666"/>
                  </a:solidFill>
                  <a:latin typeface="Times New Roman"/>
                </a:rPr>
                <a:t>облада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66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763640" y="4581360"/>
            <a:ext cx="1681200" cy="1258920"/>
            <a:chOff x="1763640" y="4581360"/>
            <a:chExt cx="1681200" cy="1258920"/>
          </a:xfrm>
        </p:grpSpPr>
        <p:sp>
          <p:nvSpPr>
            <p:cNvPr id="101" name=""/>
            <p:cNvSpPr/>
            <p:nvPr/>
          </p:nvSpPr>
          <p:spPr>
            <a:xfrm>
              <a:off x="1763640" y="4581360"/>
              <a:ext cx="1079640" cy="79236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2340000" y="5229360"/>
              <a:ext cx="1104840" cy="610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80"/>
                  </a:solidFill>
                  <a:latin typeface="Times New Roman"/>
                </a:rPr>
                <a:t>уме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627280" y="4508640"/>
            <a:ext cx="2671920" cy="1187280"/>
            <a:chOff x="2627280" y="4508640"/>
            <a:chExt cx="2671920" cy="1187280"/>
          </a:xfrm>
        </p:grpSpPr>
        <p:sp>
          <p:nvSpPr>
            <p:cNvPr id="104" name=""/>
            <p:cNvSpPr/>
            <p:nvPr/>
          </p:nvSpPr>
          <p:spPr>
            <a:xfrm>
              <a:off x="2627280" y="4508640"/>
              <a:ext cx="2232000" cy="64908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4356000" y="5084640"/>
              <a:ext cx="94320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бы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</p:txBody>
        </p:sp>
      </p:grp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796000" y="4941720"/>
            <a:ext cx="809640" cy="733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6804000" y="4941720"/>
            <a:ext cx="952560" cy="857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8101080" y="5013360"/>
            <a:ext cx="7430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Уровни менеджмен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4681440" cy="3338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211640" y="1125360"/>
            <a:ext cx="45370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Высший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председатель совет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иректоров, генеральный директор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езидент компан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2421000"/>
            <a:ext cx="3600720" cy="1728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Средний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заместител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уководителя: «директор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маркетингу», «Директор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ерсоналу», начальники цехов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уководители отделов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4653000"/>
            <a:ext cx="568980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изовой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– руководители первичных, низов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одразделений – начальники участков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лабораторий, секторов, бригадир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сновные функции менеджмен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24000" y="1484280"/>
            <a:ext cx="302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Организа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27280" y="1268280"/>
            <a:ext cx="5616720" cy="22320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оцесс создания структуры предприятия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ыполнения ее работниками своих функций: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Определить структуру и соподчинение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одразделени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2. Определить место, время производств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одукции, маршруты ее движ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 предприяти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50920" y="3645000"/>
            <a:ext cx="3162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иров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92360" y="3645000"/>
            <a:ext cx="5543640" cy="3024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оцесс изучения и решения проблем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будущего: определение целей деяте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организации,  и способов их реализаци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ратегическое – определение основ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правлений развития на 10-15 лет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2. Среднесрочное на 3-5 лет (конкретизация задач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ратегических планов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3. Текущее планирование сроком до 1 год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(с разбивкой по кварталам), охватывают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се стороны деятельности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">
            <a:hlinkClick r:id="rId4" action="ppaction://hlinksldjump"/>
          </p:cNvPr>
          <p:cNvSpPr/>
          <p:nvPr/>
        </p:nvSpPr>
        <p:spPr>
          <a:xfrm>
            <a:off x="8244000" y="6453360"/>
            <a:ext cx="900000" cy="404640"/>
          </a:xfrm>
          <a:custGeom>
            <a:avLst/>
            <a:gdLst>
              <a:gd name="textAreaLeft" fmla="*/ 25920 w 900000"/>
              <a:gd name="textAreaRight" fmla="*/ 874080 w 900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8019" h="21600">
                <a:moveTo>
                  <a:pt x="0" y="0"/>
                </a:moveTo>
                <a:lnTo>
                  <a:pt x="48019" y="0"/>
                </a:lnTo>
                <a:lnTo>
                  <a:pt x="48019" y="21600"/>
                </a:lnTo>
                <a:lnTo>
                  <a:pt x="0" y="21600"/>
                </a:lnTo>
                <a:close/>
              </a:path>
              <a:path fill="lightenLess" w="48019" h="21600">
                <a:moveTo>
                  <a:pt x="0" y="0"/>
                </a:moveTo>
                <a:lnTo>
                  <a:pt x="48019" y="0"/>
                </a:lnTo>
                <a:lnTo>
                  <a:pt x="46619" y="1400"/>
                </a:lnTo>
                <a:lnTo>
                  <a:pt x="1400" y="1400"/>
                </a:lnTo>
                <a:close/>
              </a:path>
              <a:path fill="darken" w="48019" h="21600">
                <a:moveTo>
                  <a:pt x="48019" y="0"/>
                </a:moveTo>
                <a:lnTo>
                  <a:pt x="48019" y="21600"/>
                </a:lnTo>
                <a:lnTo>
                  <a:pt x="46619" y="20200"/>
                </a:lnTo>
                <a:lnTo>
                  <a:pt x="46619" y="1400"/>
                </a:lnTo>
                <a:close/>
              </a:path>
              <a:path fill="darkenLess" w="48019" h="21600">
                <a:moveTo>
                  <a:pt x="48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19" y="20200"/>
                </a:lnTo>
                <a:close/>
              </a:path>
              <a:path fill="lighten" w="48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19" h="21600">
                <a:moveTo>
                  <a:pt x="17003" y="3794"/>
                </a:moveTo>
                <a:lnTo>
                  <a:pt x="31016" y="10800"/>
                </a:lnTo>
                <a:lnTo>
                  <a:pt x="1700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Эффективная организация тру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1341360"/>
            <a:ext cx="8893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99cc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Организационные методы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представляют собой установление связей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отношений между должностями работников. Эти методы носят пассивны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характер.  Они обеспечивают развитие персонала и упорядочивают управление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2276640"/>
            <a:ext cx="8748720" cy="17287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99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Административные методы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– это управление и регулирование деяте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персонала на основе приказов, распоряжений, конкретных заданий. Э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методы могут и сопровождаться поощрениями и штрафами за успешную ил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неуспешную работу. Возможны три формы проявления этих методов: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Обязательное предписание, согласительные (консультация, компромисс)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рекомендации (совет, предписание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164120"/>
            <a:ext cx="914400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05ff6"/>
              </a:gs>
              <a:gs pos="50000">
                <a:srgbClr val="ccffff"/>
              </a:gs>
              <a:gs pos="100000">
                <a:srgbClr val="205ff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Экономические методы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– косвенное воздействие на объект управления. Э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методы не действуют автоматически, трудно определить силу их влияния н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результат. С их помощью осуществляется материальное стимулирование, он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могут выступать как планирование, анализ, ценообразование, финансирование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редоставление экономической самостоятельност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5661000"/>
            <a:ext cx="8497800" cy="93672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ccff"/>
              </a:gs>
              <a:gs pos="100000">
                <a:srgbClr val="ff006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Психологические методы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 – побуждение работников к эффективной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деятельности через психологическое воздействие. Нацелены н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формирование благоприятного климата в коллективе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8508" y="10800"/>
                </a:moveTo>
                <a:lnTo>
                  <a:pt x="22521" y="3794"/>
                </a:lnTo>
                <a:lnTo>
                  <a:pt x="225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95280" y="549360"/>
            <a:ext cx="3024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6666"/>
                  </a:solidFill>
                  <a:miter/>
                </a:ln>
                <a:solidFill>
                  <a:srgbClr val="33cc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тивация</a:t>
            </a:r>
            <a:endParaRPr b="0" lang="en-US" sz="1800" spc="1" strike="noStrike">
              <a:ln w="12600">
                <a:solidFill>
                  <a:srgbClr val="006666"/>
                </a:solidFill>
                <a:miter/>
              </a:ln>
              <a:solidFill>
                <a:srgbClr val="33cc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/>
          <p:cNvSpPr/>
          <p:nvPr/>
        </p:nvSpPr>
        <p:spPr>
          <a:xfrm>
            <a:off x="3780000" y="549360"/>
            <a:ext cx="5111640" cy="1152360"/>
          </a:xfrm>
          <a:prstGeom prst="roundRect">
            <a:avLst>
              <a:gd name="adj" fmla="val 16667"/>
            </a:avLst>
          </a:prstGeom>
          <a:solidFill>
            <a:srgbClr val="66ff6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Создание заинтересованности персонал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в достижении целей фирмы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4240" y="1916280"/>
            <a:ext cx="9059760" cy="4752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859280" y="59500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ирамида Маслоу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9280" y="2781360"/>
            <a:ext cx="3529080" cy="151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цели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руктура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задачи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технология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люди (кадры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2421000"/>
            <a:ext cx="4390920" cy="1584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2492280"/>
            <a:ext cx="36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реда  прямого воздейств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отребители; конкуренты; оставщики; законы  и  государственные  органы; профсоюзы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84720" y="4149720"/>
            <a:ext cx="4535280" cy="1584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428292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среда  косвенного  воздействия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политика; экономика; социальные  факторы; технология; международные  отнош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619280" y="765000"/>
            <a:ext cx="5848200" cy="13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Факторы внутренней среды 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нешней среды организа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627280" y="1197000"/>
            <a:ext cx="354816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3399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оммуникаци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339966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16000" y="2060640"/>
            <a:ext cx="7343640" cy="504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0920" y="213372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обмен  информацией  с  другими  людьм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277020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В  процессе  обмена  информацией  можно  выделить  четыре  базовых  элемента: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отправитель (адресант)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– лицо, генерирующее  идеи  или  собирающее  информацию  и  передающее  ее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сообщение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собственно  информация, закодированная  с  помощью  символов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канал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средство  передачи  информ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получатель (адресат)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– лицо, которому  предназначена  информац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амыми  эффективными  являются  коммуникации  путем  личных  контактов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1:55:41Z</dcterms:created>
  <dc:creator>Надежда</dc:creator>
  <dc:description/>
  <cp:keywords/>
  <dc:language>en-US</dc:language>
  <cp:lastModifiedBy>Admin</cp:lastModifiedBy>
  <dcterms:modified xsi:type="dcterms:W3CDTF">2010-02-20T09:20:05Z</dcterms:modified>
  <cp:revision>5</cp:revision>
  <dc:subject/>
  <dc:title>Менеджмен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