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BBF4-40ED-4D8B-98C7-EA3A9E0D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5B41-3899-4939-9DB7-120EF699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E2F-6E52-4DDE-BBD9-E1027E1D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48A9-A3CB-4DFD-8B53-751D8062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AE134-AAF8-46AA-82A0-AC4271D4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E91E8-2168-48B1-977A-F4C940FB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70BB7-251A-443F-9927-84BA28EB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35513-D222-407A-B306-AB3E8143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270D6-14FD-48F3-BAF3-F0AB8FEA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6439D-7029-4C98-9494-F8BED6D1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EB7EB-9DB4-4F6E-9E2B-F1A7FB3E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443B-CC2F-4087-83D0-B3428F19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EAF7D-4DE1-451E-9CB6-38FD8FF2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5B1C6-C623-4F95-9CF3-E8A99462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2AEE4-572D-4BC5-9FC1-7AABE6E3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E4E41-94F8-463F-B5D2-A6C584EB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1D305-9D6F-4907-A9AF-09F17B68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1752-CA15-4987-858E-DDE5F8D2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C01-1A02-4DB0-B22E-1FB0FBE7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C49-9EF9-47A3-A6CD-06F0810B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081D-9BE6-43D6-8E3F-91607FAB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4157-90E3-4D09-8173-94D34766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FC8-EE87-417D-893D-A6F0BEE1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C92D-432D-45F7-9982-AF604EAE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1334-6F08-4710-A9A1-CC2E8FB4AE77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AA95-2504-4563-9B0B-98774D953FF6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" Target="slide7.xm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енедж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26B4B-6907-4B55-A493-3B12B0D34AB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AE80BC48-5659-4F89-B0A7-17788E96705B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1300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Х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29242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57336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Теория У: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</a:t>
            </a:r>
            <a:r>
              <a:rPr b="0" i="1" lang="en-US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80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020000" y="256536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284720" y="465300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987640" y="836640"/>
            <a:ext cx="597708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стема наблюдения за деятельностью фирмы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контроль количества, качества, сохран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вых норм, инструкций, договоров и т.д.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) предварительный контроль (на стад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ставл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25800" cy="3252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68360" y="1341360"/>
            <a:ext cx="1942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Контр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26920" y="3716280"/>
            <a:ext cx="1781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Реви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3645000"/>
            <a:ext cx="5472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Комплексная проверка всех или отдель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сторон деятельности фирм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494172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нтроллинг (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ontrolling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акторы производст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ресурсы, необходимые для производства товаров и у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трудов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руд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вестицион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капитал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ирод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земля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ехнология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3133440" cy="2414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140360" y="189000"/>
            <a:ext cx="2676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1484280"/>
            <a:ext cx="4969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2565360"/>
            <a:ext cx="460836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3284640"/>
            <a:ext cx="475272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5400000">
            <a:off x="3527640" y="144864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5400000">
            <a:off x="3594240" y="2532600"/>
            <a:ext cx="4874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 rot="5400000">
            <a:off x="3630960" y="3288600"/>
            <a:ext cx="41436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4005360"/>
            <a:ext cx="215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едж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3933720"/>
            <a:ext cx="50421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100000">
                <a:srgbClr val="99ff33"/>
              </a:gs>
            </a:gsLst>
            <a:lin ang="135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Лицо, занимающее определенную долж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на предприятии и обладающее властью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авом принимать ре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79280" y="4581360"/>
            <a:ext cx="1714680" cy="1187640"/>
            <a:chOff x="179280" y="4581360"/>
            <a:chExt cx="1714680" cy="1187640"/>
          </a:xfrm>
        </p:grpSpPr>
        <p:sp>
          <p:nvSpPr>
            <p:cNvPr id="98" name=""/>
            <p:cNvSpPr/>
            <p:nvPr/>
          </p:nvSpPr>
          <p:spPr>
            <a:xfrm flipH="1">
              <a:off x="900000" y="4581360"/>
              <a:ext cx="432000" cy="7192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79280" y="5157720"/>
              <a:ext cx="17146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66"/>
                  </a:solidFill>
                  <a:latin typeface="Times New Roman"/>
                </a:rPr>
                <a:t>облада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763640" y="4581360"/>
            <a:ext cx="1681200" cy="1258920"/>
            <a:chOff x="1763640" y="4581360"/>
            <a:chExt cx="1681200" cy="1258920"/>
          </a:xfrm>
        </p:grpSpPr>
        <p:sp>
          <p:nvSpPr>
            <p:cNvPr id="101" name=""/>
            <p:cNvSpPr/>
            <p:nvPr/>
          </p:nvSpPr>
          <p:spPr>
            <a:xfrm>
              <a:off x="1763640" y="4581360"/>
              <a:ext cx="1079640" cy="7923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2340000" y="5229360"/>
              <a:ext cx="1104840" cy="61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Times New Roman"/>
                </a:rPr>
                <a:t>уме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627280" y="4508640"/>
            <a:ext cx="2671920" cy="1187280"/>
            <a:chOff x="2627280" y="4508640"/>
            <a:chExt cx="2671920" cy="1187280"/>
          </a:xfrm>
        </p:grpSpPr>
        <p:sp>
          <p:nvSpPr>
            <p:cNvPr id="104" name=""/>
            <p:cNvSpPr/>
            <p:nvPr/>
          </p:nvSpPr>
          <p:spPr>
            <a:xfrm>
              <a:off x="2627280" y="4508640"/>
              <a:ext cx="2232000" cy="6490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356000" y="5084640"/>
              <a:ext cx="94320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бы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796000" y="4941720"/>
            <a:ext cx="809640" cy="733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8101080" y="5013360"/>
            <a:ext cx="7430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ровн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4681440" cy="3338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211640" y="1125360"/>
            <a:ext cx="45370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Высший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председатель совет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2421000"/>
            <a:ext cx="360072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Средний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заместите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653000"/>
            <a:ext cx="568980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изовой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руководители первичных, низов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новные функци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4000" y="1484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рганиз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27280" y="1268280"/>
            <a:ext cx="5616720" cy="2232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920" y="3645000"/>
            <a:ext cx="316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иров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3645000"/>
            <a:ext cx="5543640" cy="30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3794"/>
                </a:moveTo>
                <a:lnTo>
                  <a:pt x="31016" y="10800"/>
                </a:lnTo>
                <a:lnTo>
                  <a:pt x="170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ффективная организация т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341360"/>
            <a:ext cx="889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99cc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Организационные методы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представляют собой установление связей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характер.  Они обеспечивают развитие персонала и упорядочивают управление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2276640"/>
            <a:ext cx="8748720" cy="1728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99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Административные методы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– это управление и регулирование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рекомендации (совет, предписание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64120"/>
            <a:ext cx="9144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5ff6"/>
              </a:gs>
              <a:gs pos="50000">
                <a:srgbClr val="ccffff"/>
              </a:gs>
              <a:gs pos="100000">
                <a:srgbClr val="205ff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Экономические методы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– косвенное воздействие на объект управления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5661000"/>
            <a:ext cx="8497800" cy="936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cc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Психологические методы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– побуждение работников к эффектив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549360"/>
            <a:ext cx="302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66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тивация</a:t>
            </a:r>
            <a:endParaRPr b="0" lang="en-US" sz="1800" spc="1" strike="noStrike">
              <a:ln w="12600">
                <a:solidFill>
                  <a:srgbClr val="006666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549360"/>
            <a:ext cx="5111640" cy="115236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4240" y="1916280"/>
            <a:ext cx="9059760" cy="4752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5928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2781360"/>
            <a:ext cx="3529080" cy="151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421000"/>
            <a:ext cx="439092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49228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прямого воздейств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4149720"/>
            <a:ext cx="453528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2829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реда  косвенного  воздействия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политика; экономика; социальные  факторы; технология; международные  отно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19280" y="765000"/>
            <a:ext cx="58482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акторы внутренней среды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нешней среды организ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627280" y="1197000"/>
            <a:ext cx="35481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ммуникаци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2060640"/>
            <a:ext cx="734364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7702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отправитель (адресан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генерирующее  идеи  или  собирающее  информацию  и  передающее  ее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ообщение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обственно  информация, закодированная  с  помощью  символов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канал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редство  передачи  информ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получатель (адреса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которому  предназначена  информац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55:41Z</dcterms:created>
  <dc:creator>Надежда</dc:creator>
  <dc:description/>
  <cp:keywords/>
  <dc:language>en-US</dc:language>
  <cp:lastModifiedBy>Admin</cp:lastModifiedBy>
  <dcterms:modified xsi:type="dcterms:W3CDTF">2010-02-20T09:20:05Z</dcterms:modified>
  <cp:revision>5</cp:revision>
  <dc:subject/>
  <dc:title>Менеджме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