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gif" ContentType="image/gif"/>
  <Override PartName="/ppt/media/image12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6.png" ContentType="image/pn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9626-2865-4696-91E6-5ED9D8FD0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06E8-1D82-48DC-9E06-2B7BDB9E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FD29-9A15-42C3-BE2C-2E32C5B0C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4037-66EF-4234-A2D5-00CFE817C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490F9A-C97A-4670-AEA2-B049C689B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E5022-BAE8-4921-A87F-86910E96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8066A-04FE-406C-A0A5-F8703ED9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FF745-A764-4081-B0E5-92B441F7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E36C8-2AEC-4B96-BAA7-218829F5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9A45FB-A445-48D0-A1B8-B34C9031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C6FF2-DB77-4FEB-A606-6C5B7DFD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DA97-A4FF-44F9-932D-9E824F25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EA814-7A6A-46D1-A5A0-FABDA476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C2368-6263-4F7C-BB1A-2D5E1E1E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9FC42D-AE0A-40C1-8BD5-AE6DD433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94EEA-C6E1-488C-99F4-3E1AC4E9F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F7844-C913-4F0B-AA73-9100D616A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C5FE-47CD-44A5-95A2-3137891A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8BD9-1C6A-4C8B-8FE3-A429B71B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9908-AD5D-4D5A-9EE9-60A67C97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5F73-5659-4238-9365-A4D2D118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DF55-A1FD-49D0-A8F6-EAE243A0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0E14-8C9C-421D-9546-4200927D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7E44-AA3C-4FE4-A2E2-3F2CA556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B28E-BAEB-4EDF-85D7-E9E0BC0DE5FA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207B-E066-4FFD-97EE-6F4B39DA97AD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Государственный долг: причины возникновения и следств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95640" y="5734080"/>
            <a:ext cx="62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Савка Н.В., учитель истории и обществознания, 2009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62CF3-409C-41CF-9AB8-D55328C4123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23ACCF21-43F5-457E-9444-6084FFC252ED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3288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1916280"/>
          <a:ext cx="3924360" cy="4028760"/>
        </p:xfrm>
        <a:graphic>
          <a:graphicData uri="http://schemas.openxmlformats.org/drawingml/2006/table">
            <a:tbl>
              <a:tblPr/>
              <a:tblGrid>
                <a:gridCol w="2911320"/>
                <a:gridCol w="10130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,994 млрд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5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ямые налог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свенные налог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гали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азенные имущества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лин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 доходы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0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9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,994 млрд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оценты по гос. долгу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рмия и флот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ин. внутренних дел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ин. путей сообщени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ин.финансов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ин. образовани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 расходы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4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468360" y="148428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Бюджет России в 1905 г.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4512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356000" y="1916280"/>
          <a:ext cx="4248360" cy="4249440"/>
        </p:xfrm>
        <a:graphic>
          <a:graphicData uri="http://schemas.openxmlformats.org/drawingml/2006/table">
            <a:tbl>
              <a:tblPr/>
              <a:tblGrid>
                <a:gridCol w="3143520"/>
                <a:gridCol w="1104840"/>
              </a:tblGrid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432,7 тр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05f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9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лог на прибыль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оходный налог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ДС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кциз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нта за прир. ресурс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05ff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487,4 тр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2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нешняя безопасность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нутренняя безопасность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ос. предприяти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осударственное управление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05ff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4500720" y="1484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Бюджет России в 1995 г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Каково может быть соотношение доходов и расходов в государственном бюджете?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Какими причинами могут быть вызваны такие ситуации?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Какие методы применяли государи России в случае дефицита государственного бюджета?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Какие из этих методов применимы сейчас? Назовите другие, новые методы, преодоления дефицита гос.бюджета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755640" y="1413000"/>
            <a:ext cx="2809800" cy="11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Times New Roman"/>
              </a:rPr>
              <a:t>Профици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Times New Roman"/>
              </a:rPr>
              <a:t>бюдже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Times New Roman"/>
              <a:ea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24360" y="1413000"/>
            <a:ext cx="5040360" cy="115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экономическое понятие, которое означает,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что доходная часть бюджета превышает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асходную часть бюджета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3141720"/>
            <a:ext cx="8497800" cy="23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родолжите предложение: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Профицит может использоваться на: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окращение привлечения доходов от продажи государственного или муниципального имущества; направление средств на погашение дополнительных обязательств; увеличение расходов, в т. ч. за счет передачи части доходов бюджетам других уровней; уменьшение налоговых доходов путем внесения изменений в налоговое законодательство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68360" y="476280"/>
            <a:ext cx="4867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ff">
                    <a:alpha val="99000"/>
                  </a:srgbClr>
                </a:solidFill>
                <a:latin typeface="Arial"/>
              </a:rPr>
              <a:t>Государственный дол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ff">
                  <a:alpha val="99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1125360"/>
            <a:ext cx="7490160" cy="23050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результат финансовых заимствований государства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осуществляемые для покрытия дефицита бюджета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Государственный долг равен сумме дефицит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прошлых лет с учётом вычета бюджетных излишков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Государственный долг складывается из задолженност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центрального правительства, региональных и мест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органов власти, государственных организаций, предприятий.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3573360"/>
            <a:ext cx="8496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нутренний долг государства продолжает расти. Резкий скачок его роста произошел осенью 2008 года, когда кризис вплотную добрался и до России. Только за октябрь месяц внутренний государственный долг увеличился почти на 8 млрд. рублей и составил 1 трлн. 378,500 млрд. рублей. На 1 февраля 2009 года эта сумма увеличилась уже до 1 трлн. 423,268 млрд. рублей. Кроме того, в 2009 году предлагается увеличить внутренний долг государства еще на 300 млрд. рублей. В 2009 году России предстоит выплатить внешних долгов на сумму 141 млрд. долларов, из которых на долю государства приходится только 5 млрд. долларов, а остальное – долги банковского и прочих секторов экономики. </a:t>
            </a:r>
            <a:br>
              <a:rPr sz="1800"/>
            </a:b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95280" y="1557360"/>
            <a:ext cx="338472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Усиление неравенств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 доходах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3933720"/>
            <a:ext cx="3527280" cy="151308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еревод части национальног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одукта за границу в связ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 выплатой платежей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олгу и процент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иностранцам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32360" y="1557360"/>
            <a:ext cx="338472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одрыв экономически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имулов из-за увелич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логов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03640" y="4221000"/>
            <a:ext cx="338472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Эффект вытесн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частных инвестици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124000" y="2133720"/>
            <a:ext cx="4608720" cy="2663640"/>
            <a:chOff x="2124000" y="2133720"/>
            <a:chExt cx="4608720" cy="2663640"/>
          </a:xfrm>
        </p:grpSpPr>
        <p:sp>
          <p:nvSpPr>
            <p:cNvPr id="150" name=""/>
            <p:cNvSpPr/>
            <p:nvPr/>
          </p:nvSpPr>
          <p:spPr>
            <a:xfrm>
              <a:off x="2124000" y="2924280"/>
              <a:ext cx="4608720" cy="86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Следствия возникновения</a:t>
              </a: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государственного долга</a:t>
              </a: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356000" y="2133720"/>
              <a:ext cx="0" cy="790560"/>
            </a:xfrm>
            <a:prstGeom prst="line">
              <a:avLst/>
            </a:prstGeom>
            <a:ln w="2844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80000" y="2133720"/>
              <a:ext cx="1152360" cy="0"/>
            </a:xfrm>
            <a:prstGeom prst="line">
              <a:avLst/>
            </a:prstGeom>
            <a:ln w="38160">
              <a:solidFill>
                <a:srgbClr val="205ff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27640" y="3789360"/>
              <a:ext cx="0" cy="1008000"/>
            </a:xfrm>
            <a:prstGeom prst="line">
              <a:avLst/>
            </a:prstGeom>
            <a:ln w="381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51280" y="4797360"/>
              <a:ext cx="1152360" cy="0"/>
            </a:xfrm>
            <a:prstGeom prst="line">
              <a:avLst/>
            </a:prstGeom>
            <a:ln w="38160">
              <a:solidFill>
                <a:srgbClr val="205ff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 rot="20780400">
            <a:off x="395280" y="1484280"/>
            <a:ext cx="34196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Государствен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бюдж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95640" y="1413000"/>
            <a:ext cx="489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баланс запланированных расходов и доходов правительства за определенный период (за год).</a:t>
            </a:r>
            <a:r>
              <a:rPr b="0" lang="en-US" sz="24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3716280"/>
            <a:ext cx="72723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Государственный бюджет содержит: </a:t>
            </a:r>
            <a:br>
              <a:rPr sz="2000"/>
            </a:b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- перечень программ расходов: на образование, на оборону и т.д.; и </a:t>
            </a:r>
            <a:br>
              <a:rPr sz="1800"/>
            </a:b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- перечень источников получения доходов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95280" y="333360"/>
            <a:ext cx="3527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фици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сударственног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юдже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333360"/>
            <a:ext cx="4895640" cy="115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лан государственных расход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больше, чем план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государственных доходов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995640" y="1628640"/>
            <a:ext cx="4643640" cy="4626000"/>
            <a:chOff x="3995640" y="1628640"/>
            <a:chExt cx="4643640" cy="4626000"/>
          </a:xfrm>
        </p:grpSpPr>
        <p:grpSp>
          <p:nvGrpSpPr>
            <p:cNvPr id="90" name=""/>
            <p:cNvGrpSpPr/>
            <p:nvPr/>
          </p:nvGrpSpPr>
          <p:grpSpPr>
            <a:xfrm>
              <a:off x="3995640" y="1628640"/>
              <a:ext cx="4643640" cy="4626000"/>
              <a:chOff x="3995640" y="1628640"/>
              <a:chExt cx="4643640" cy="4626000"/>
            </a:xfrm>
          </p:grpSpPr>
          <p:pic>
            <p:nvPicPr>
              <p:cNvPr id="9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995640" y="2781360"/>
                <a:ext cx="4643640" cy="347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 txBox="1"/>
              <p:nvPr/>
            </p:nvSpPr>
            <p:spPr>
              <a:xfrm>
                <a:off x="5580000" y="1628640"/>
                <a:ext cx="1619280" cy="762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Deflate">
                  <a:avLst>
                    <a:gd name="adj" fmla="val 26227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Impact"/>
                  </a:rPr>
                  <a:t>Доходы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  <a:ea typeface="Impact"/>
                </a:endParaRPr>
              </a:p>
            </p:txBody>
          </p:sp>
        </p:grpSp>
        <p:sp>
          <p:nvSpPr>
            <p:cNvPr id="93" name=""/>
            <p:cNvSpPr txBox="1"/>
            <p:nvPr/>
          </p:nvSpPr>
          <p:spPr>
            <a:xfrm>
              <a:off x="5219640" y="2997360"/>
              <a:ext cx="1876320" cy="523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олюдь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50920" y="1484280"/>
            <a:ext cx="3889440" cy="5200560"/>
            <a:chOff x="250920" y="1484280"/>
            <a:chExt cx="3889440" cy="5200560"/>
          </a:xfrm>
        </p:grpSpPr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324000" y="2637000"/>
              <a:ext cx="3060720" cy="40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 txBox="1"/>
            <p:nvPr/>
          </p:nvSpPr>
          <p:spPr>
            <a:xfrm>
              <a:off x="250920" y="1484280"/>
              <a:ext cx="3889440" cy="117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Расходы в Древней Руси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356000" cy="3268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684360" y="3933720"/>
            <a:ext cx="216216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трель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5113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788000" y="1700280"/>
          <a:ext cx="4032000" cy="4181400"/>
        </p:xfrm>
        <a:graphic>
          <a:graphicData uri="http://schemas.openxmlformats.org/drawingml/2006/table">
            <a:tbl>
              <a:tblPr/>
              <a:tblGrid>
                <a:gridCol w="2963880"/>
                <a:gridCol w="1068120"/>
              </a:tblGrid>
              <a:tr h="47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,22 м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3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Таможенный и кабацкий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трелецкий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нь и оброк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Ямские, пологичные и конские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"Запросные" деньг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 (пошлины и т. д.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5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,22 м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ойско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азенные предприятия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осударственное управление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стальные расходы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8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5435640" y="1341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Бюджет России в 1680 г.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21733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9280" y="3284640"/>
            <a:ext cx="4032360" cy="3282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2109960" cy="251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25732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859280" y="2349360"/>
          <a:ext cx="3889440" cy="3062520"/>
        </p:xfrm>
        <a:graphic>
          <a:graphicData uri="http://schemas.openxmlformats.org/drawingml/2006/table">
            <a:tbl>
              <a:tblPr/>
              <a:tblGrid>
                <a:gridCol w="2797200"/>
                <a:gridCol w="10922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8,5 м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ушная подать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свенные налог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гали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лин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6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8,5 м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рмия и флот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бщественные постройки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осударственное управление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стальные расходы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5435640" y="1773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Бюджет России в 1724 г.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28414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етр Первый (1672-1725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3375000" cy="3170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203640" y="3141720"/>
            <a:ext cx="1871640" cy="1384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24000" y="3933720"/>
            <a:ext cx="309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Екатерина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32360" y="450864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 1769 году в России появились первые бумажные деньги, которые стали называться ассигнациями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292720" y="260280"/>
            <a:ext cx="2857680" cy="4191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558972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205ff6"/>
                </a:solidFill>
                <a:uFillTx/>
                <a:latin typeface="Arial"/>
              </a:rPr>
              <a:t>К концу царствования государственный долг составил 215 млн рублей.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2462040" cy="2521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2846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Александр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I (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император в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1801-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1825гг.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851280" y="549360"/>
            <a:ext cx="5016600" cy="3598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00720" y="4282920"/>
            <a:ext cx="41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ибытие М.И.Кутузова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48592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о время войны с Наполеоном (1812-1815) было выпущено огромное количество бумажных денег (244,5 млн рублей), и цены выросли более чем в 3 раза по сравнению с концом царствования Екатерины II. Одновременно были </a:t>
            </a: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урезаны бюджеты всех невоенных ведомств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843280" y="260280"/>
            <a:ext cx="1460520" cy="1460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916360" y="2060640"/>
            <a:ext cx="1849320" cy="1395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395280" y="907920"/>
            <a:ext cx="2040120" cy="244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50920" y="3213000"/>
            <a:ext cx="2665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крин Е.Ф.-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истр финансов в 1823-1844г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5435640" y="189000"/>
            <a:ext cx="2792520" cy="2644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79280" y="436572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 протяжении 20 следующих лет (уже при Николае I) соблюдался режим строгой экономии и прекращен беспорядочный выпуск ассигнаций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501336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Был установлен общий курс ассигнаций по отношению к серебряному рублю для всех видов денежных операций (денежную реформу 1839-1843 гг. Канкрина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2660400" cy="3772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4292640"/>
            <a:ext cx="34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Александр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– император России 1825-1855г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79280" y="4932360"/>
            <a:ext cx="2987640" cy="1925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3952800" y="0"/>
            <a:ext cx="519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05:38:50Z</dcterms:created>
  <dc:creator>Надежда</dc:creator>
  <dc:description/>
  <cp:keywords/>
  <dc:language>en-US</dc:language>
  <cp:lastModifiedBy>Надежда</cp:lastModifiedBy>
  <dcterms:modified xsi:type="dcterms:W3CDTF">2009-10-26T11:38:37Z</dcterms:modified>
  <cp:revision>6</cp:revision>
  <dc:subject/>
  <dc:title>Государственный долг: причины возникновения и следств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