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gif" ContentType="image/gif"/>
  <Override PartName="/ppt/media/image12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6.png" ContentType="image/pn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6378-C9F4-47AC-8D12-061E07135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9C20-828F-4AB6-A0EF-FD1FE5C0C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D579-0E5F-4361-90F5-3CA75E4AC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C3F1-E941-4615-8A45-DDF3299FA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01306C-5C09-432A-958C-AA1723549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110BDF-4AD0-404D-80D2-DB67B3F10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6F7AAE-A9AE-47A1-80DF-9A1AD4926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9C48DA-3162-4A14-9E5D-D23E30332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78C117-032E-42D0-9107-BCBD28C12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AAA610-3933-41E1-8541-142BCEE43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7BDAC4-473A-40BD-830E-D5C95976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7F1B-D531-4A8E-BE82-5CD722031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33C1C7-D8BC-4F2F-AAE7-D467E14C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AA33B0-6A4E-4D38-8872-A9671F774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8CC4FB-661E-411C-86BB-3889F6387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929426-F4E0-40A3-9A2C-390E8B1A5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C010BB-2FE0-4A79-9A80-E2E881260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D05B-563B-4CB5-A4A9-860C0743B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0925-9BF8-417A-BA5E-D13B1DC50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260C-C806-416A-9B66-4B468E35A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DA34-C762-4D45-9C85-0C02ABA54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0DFA-DB77-430D-B7B7-747EBFFA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494F-C851-43A9-839A-FA0595792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904B-4084-4835-85FA-E8F442D99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66699-7642-4236-852F-00C4666CF4F8}" type="slidenum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4"/>
          </p:nvPr>
        </p:nvSpPr>
        <p:spPr>
          <a:xfrm>
            <a:off x="8100720" y="6244920"/>
            <a:ext cx="58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C45C0-77A7-4F67-A237-D11B9F00C837}" type="slidenum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05ff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05ff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05ff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gif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Государственный долг: причины возникновения и следств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195640" y="5734080"/>
            <a:ext cx="62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Савка Н.В., учитель истории и обществознания, 2009г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789A5B-51EF-4B49-8D48-ED46C26E18A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fld id="{E495505E-1E43-48A1-A03E-37CBA290AE2E}" type="datetime1">
              <a:rPr lang="en-US"/>
              <a:t>07/30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232884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0" y="1916280"/>
          <a:ext cx="3924360" cy="4028760"/>
        </p:xfrm>
        <a:graphic>
          <a:graphicData uri="http://schemas.openxmlformats.org/drawingml/2006/table">
            <a:tbl>
              <a:tblPr/>
              <a:tblGrid>
                <a:gridCol w="2911320"/>
                <a:gridCol w="101304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оход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1,994 млрд руб)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 %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555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рямые налоги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Косвенные налоги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егалии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Казенные имущества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длины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ругие доходы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0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0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9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асход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1,994 млрд руб)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 %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98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роценты по гос. долгу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Армия и флот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ин. внутренних дел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ин. путей сообщения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ин.финансов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ин. образования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ругие расходы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5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4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2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7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468360" y="1484280"/>
            <a:ext cx="31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5ff6"/>
                </a:solidFill>
                <a:latin typeface="Arial"/>
              </a:rPr>
              <a:t>Бюджет России в 1905 г.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245124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356000" y="1916280"/>
          <a:ext cx="4248360" cy="4249440"/>
        </p:xfrm>
        <a:graphic>
          <a:graphicData uri="http://schemas.openxmlformats.org/drawingml/2006/table">
            <a:tbl>
              <a:tblPr/>
              <a:tblGrid>
                <a:gridCol w="3143520"/>
                <a:gridCol w="1104840"/>
              </a:tblGrid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оход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432,7 трлн руб)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205ff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 %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92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алог на прибыль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доходный налог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ДС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Акцизы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ента за прир. ресурсы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ругие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7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2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5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05ff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асход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487,4 трлн руб)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 %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527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нешняя безопасность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нутренняя безопасность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Гос. предприятия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Государственное управление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ругие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0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7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05ff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4500720" y="148428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5ff6"/>
                </a:solidFill>
                <a:latin typeface="Arial"/>
              </a:rPr>
              <a:t>Бюджет России в 1995 г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Каково может быть соотношение доходов и расходов в государственном бюджете?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Какими причинами могут быть вызваны такие ситуации?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Какие методы применяли государи России в случае дефицита государственного бюджета?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Какие из этих методов применимы сейчас? Назовите другие, новые методы, преодоления дефицита гос.бюджета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755640" y="1413000"/>
            <a:ext cx="2809800" cy="11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Times New Roman"/>
              </a:rPr>
              <a:t>Профици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Times New Roman"/>
              </a:rPr>
              <a:t>бюдже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Times New Roman"/>
              <a:ea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24360" y="1413000"/>
            <a:ext cx="5040360" cy="1152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экономическое понятие, которое означает,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что доходная часть бюджета превышает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расходную часть бюджета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5280" y="3141720"/>
            <a:ext cx="8497800" cy="23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Продолжите предложение: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Профицит может использоваться на: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сокращение привлечения доходов от продажи государственного или муниципального имущества; направление средств на погашение дополнительных обязательств; увеличение расходов, в т. ч. за счет передачи части доходов бюджетам других уровней; уменьшение налоговых доходов путем внесения изменений в налоговое законодательство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68360" y="476280"/>
            <a:ext cx="4867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ff">
                    <a:alpha val="99000"/>
                  </a:srgbClr>
                </a:solidFill>
                <a:latin typeface="Arial"/>
              </a:rPr>
              <a:t>Государственный дол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ff">
                  <a:alpha val="99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87280" y="1125360"/>
            <a:ext cx="7490160" cy="23050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результат финансовых заимствований государства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осуществляемые для покрытия дефицита бюджета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Государственный долг равен сумме дефицитов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прошлых лет с учётом вычета бюджетных излишков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Государственный долг складывается из задолженности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центрального правительства, региональных и местных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органов власти, государственных организаций, предприятий.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0920" y="3573360"/>
            <a:ext cx="8496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Внутренний долг государства продолжает расти. Резкий скачок его роста произошел осенью 2008 года, когда кризис вплотную добрался и до России. Только за октябрь месяц внутренний государственный долг увеличился почти на 8 млрд. рублей и составил 1 трлн. 378,500 млрд. рублей. На 1 февраля 2009 года эта сумма увеличилась уже до 1 трлн. 423,268 млрд. рублей. Кроме того, в 2009 году предлагается увеличить внутренний долг государства еще на 300 млрд. рублей. В 2009 году России предстоит выплатить внешних долгов на сумму 141 млрд. долларов, из которых на долю государства приходится только 5 млрд. долларов, а остальное – долги банковского и прочих секторов экономики. </a:t>
            </a:r>
            <a:br>
              <a:rPr sz="1800"/>
            </a:b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95280" y="1557360"/>
            <a:ext cx="338472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Усиление неравенств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в доходах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4000" y="3933720"/>
            <a:ext cx="3527280" cy="1513080"/>
          </a:xfrm>
          <a:prstGeom prst="rect">
            <a:avLst/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еревод части национального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родукта за границу в связ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с выплатой платежей по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долгу и процентов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иностранцам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32360" y="1557360"/>
            <a:ext cx="338472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одрыв экономических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стимулов из-за увеличения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налогов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03640" y="4221000"/>
            <a:ext cx="3384720" cy="11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Эффект вытеснения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частных инвестиций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124000" y="2133720"/>
            <a:ext cx="4608720" cy="2663640"/>
            <a:chOff x="2124000" y="2133720"/>
            <a:chExt cx="4608720" cy="2663640"/>
          </a:xfrm>
        </p:grpSpPr>
        <p:sp>
          <p:nvSpPr>
            <p:cNvPr id="150" name=""/>
            <p:cNvSpPr/>
            <p:nvPr/>
          </p:nvSpPr>
          <p:spPr>
            <a:xfrm>
              <a:off x="2124000" y="2924280"/>
              <a:ext cx="4608720" cy="86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Следствия возникновения</a:t>
              </a: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государственного долга</a:t>
              </a: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4356000" y="2133720"/>
              <a:ext cx="0" cy="790560"/>
            </a:xfrm>
            <a:prstGeom prst="line">
              <a:avLst/>
            </a:prstGeom>
            <a:ln w="2844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780000" y="2133720"/>
              <a:ext cx="1152360" cy="0"/>
            </a:xfrm>
            <a:prstGeom prst="line">
              <a:avLst/>
            </a:prstGeom>
            <a:ln w="38160">
              <a:solidFill>
                <a:srgbClr val="205ff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427640" y="3789360"/>
              <a:ext cx="0" cy="1008000"/>
            </a:xfrm>
            <a:prstGeom prst="line">
              <a:avLst/>
            </a:prstGeom>
            <a:ln w="381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851280" y="4797360"/>
              <a:ext cx="1152360" cy="0"/>
            </a:xfrm>
            <a:prstGeom prst="line">
              <a:avLst/>
            </a:prstGeom>
            <a:ln w="38160">
              <a:solidFill>
                <a:srgbClr val="205ff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 rot="20780400">
            <a:off x="395280" y="1484280"/>
            <a:ext cx="341964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Times New Roman"/>
              </a:rPr>
              <a:t>Государственн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Times New Roman"/>
              </a:rPr>
              <a:t>бюдж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Times New Roman"/>
              <a:ea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95640" y="1413000"/>
            <a:ext cx="489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баланс запланированных расходов и доходов правительства за определенный период (за год).</a:t>
            </a:r>
            <a:r>
              <a:rPr b="0" lang="en-US" sz="24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42920" y="3716280"/>
            <a:ext cx="72723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Государственный бюджет содержит: </a:t>
            </a:r>
            <a:br>
              <a:rPr sz="2000"/>
            </a:b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- перечень программ расходов: на образование, на оборону и т.д.; и </a:t>
            </a:r>
            <a:br>
              <a:rPr sz="1800"/>
            </a:b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- перечень источников получения доходов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95280" y="333360"/>
            <a:ext cx="35272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фици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осударственног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юджет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" name=""/>
          <p:cNvSpPr/>
          <p:nvPr/>
        </p:nvSpPr>
        <p:spPr>
          <a:xfrm>
            <a:off x="4067280" y="333360"/>
            <a:ext cx="4895640" cy="1152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лан государственных расходов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больше, чем план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государственных доходов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995640" y="1628640"/>
            <a:ext cx="4643640" cy="4626000"/>
            <a:chOff x="3995640" y="1628640"/>
            <a:chExt cx="4643640" cy="4626000"/>
          </a:xfrm>
        </p:grpSpPr>
        <p:grpSp>
          <p:nvGrpSpPr>
            <p:cNvPr id="90" name=""/>
            <p:cNvGrpSpPr/>
            <p:nvPr/>
          </p:nvGrpSpPr>
          <p:grpSpPr>
            <a:xfrm>
              <a:off x="3995640" y="1628640"/>
              <a:ext cx="4643640" cy="4626000"/>
              <a:chOff x="3995640" y="1628640"/>
              <a:chExt cx="4643640" cy="4626000"/>
            </a:xfrm>
          </p:grpSpPr>
          <p:pic>
            <p:nvPicPr>
              <p:cNvPr id="9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995640" y="2781360"/>
                <a:ext cx="4643640" cy="347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" name=""/>
              <p:cNvSpPr txBox="1"/>
              <p:nvPr/>
            </p:nvSpPr>
            <p:spPr>
              <a:xfrm>
                <a:off x="5580000" y="1628640"/>
                <a:ext cx="1619280" cy="762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Deflate">
                  <a:avLst>
                    <a:gd name="adj" fmla="val 26227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Impact"/>
                  </a:rPr>
                  <a:t>Доходы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Impact"/>
                  <a:ea typeface="Impact"/>
                </a:endParaRPr>
              </a:p>
            </p:txBody>
          </p:sp>
        </p:grpSp>
        <p:sp>
          <p:nvSpPr>
            <p:cNvPr id="93" name=""/>
            <p:cNvSpPr txBox="1"/>
            <p:nvPr/>
          </p:nvSpPr>
          <p:spPr>
            <a:xfrm>
              <a:off x="5219640" y="2997360"/>
              <a:ext cx="1876320" cy="5238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полюдье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50920" y="1484280"/>
            <a:ext cx="3889440" cy="5200560"/>
            <a:chOff x="250920" y="1484280"/>
            <a:chExt cx="3889440" cy="5200560"/>
          </a:xfrm>
        </p:grpSpPr>
        <p:pic>
          <p:nvPicPr>
            <p:cNvPr id="95" name="" descr=""/>
            <p:cNvPicPr/>
            <p:nvPr/>
          </p:nvPicPr>
          <p:blipFill>
            <a:blip r:embed="rId3"/>
            <a:stretch/>
          </p:blipFill>
          <p:spPr>
            <a:xfrm>
              <a:off x="324000" y="2637000"/>
              <a:ext cx="3060720" cy="40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 txBox="1"/>
            <p:nvPr/>
          </p:nvSpPr>
          <p:spPr>
            <a:xfrm>
              <a:off x="250920" y="1484280"/>
              <a:ext cx="3889440" cy="1177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Расходы в Древней Руси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4356000" cy="3268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684360" y="3933720"/>
            <a:ext cx="2162160" cy="524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трельц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25113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788000" y="1700280"/>
          <a:ext cx="4032000" cy="4181400"/>
        </p:xfrm>
        <a:graphic>
          <a:graphicData uri="http://schemas.openxmlformats.org/drawingml/2006/table">
            <a:tbl>
              <a:tblPr/>
              <a:tblGrid>
                <a:gridCol w="2963880"/>
                <a:gridCol w="1068120"/>
              </a:tblGrid>
              <a:tr h="478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оход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1,22 млн руб)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 %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839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Таможенный и кабацкий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Стрелецкий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нь и оброк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Ямские, пологичные и конские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"Запросные" деньги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ругие (пошлины и т. д.)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3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2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9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53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асход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1,22 млн руб)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 %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31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ойско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Казенные предприятия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Государственное управление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Остальные расходы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7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8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5435640" y="13413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5ff6"/>
                </a:solidFill>
                <a:latin typeface="Arial"/>
              </a:rPr>
              <a:t>Бюджет России в 1680 г.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611280" y="404640"/>
            <a:ext cx="21733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79280" y="3284640"/>
            <a:ext cx="4032360" cy="32828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395280" y="189000"/>
            <a:ext cx="2109960" cy="2519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0" y="25732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859280" y="2349360"/>
          <a:ext cx="3889440" cy="3062520"/>
        </p:xfrm>
        <a:graphic>
          <a:graphicData uri="http://schemas.openxmlformats.org/drawingml/2006/table">
            <a:tbl>
              <a:tblPr/>
              <a:tblGrid>
                <a:gridCol w="2797200"/>
                <a:gridCol w="109224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оход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8,5 млн руб)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 %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31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душная подать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Косвенные налоги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егалии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длины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ругие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6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5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5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асход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8,5 млн руб)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 %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554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Армия и флот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Общественные постройки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Государственное управление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Остальные расходы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3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5435640" y="177336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5ff6"/>
                </a:solidFill>
                <a:latin typeface="Arial"/>
              </a:rPr>
              <a:t>Бюджет России в 1724 г.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284148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етр Первый (1672-1725)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24000" y="692280"/>
            <a:ext cx="3375000" cy="31701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3203640" y="3141720"/>
            <a:ext cx="1871640" cy="13842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24000" y="3933720"/>
            <a:ext cx="3095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Екатерина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II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932360" y="4508640"/>
            <a:ext cx="39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В 1769 году в России появились первые бумажные деньги, которые стали называться ассигнациями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5292720" y="260280"/>
            <a:ext cx="2857680" cy="4191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5280" y="558972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205ff6"/>
                </a:solidFill>
                <a:uFillTx/>
                <a:latin typeface="Arial"/>
              </a:rPr>
              <a:t>К концу царствования государственный долг составил 215 млн рублей.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68360" y="620640"/>
            <a:ext cx="2462040" cy="25210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24000" y="328464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Александр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I (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император в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1801-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1825гг.)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3851280" y="549360"/>
            <a:ext cx="5016600" cy="35989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500720" y="4282920"/>
            <a:ext cx="41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рибытие М.И.Кутузова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485928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Во время войны с Наполеоном (1812-1815) было выпущено огромное количество бумажных денег (244,5 млн рублей), и цены выросли более чем в 3 раза по сравнению с концом царствования Екатерины II. Одновременно были </a:t>
            </a:r>
            <a:r>
              <a:rPr b="1" lang="ru-RU" sz="1800" spc="-1" strike="noStrike">
                <a:solidFill>
                  <a:srgbClr val="205ff6"/>
                </a:solidFill>
                <a:latin typeface="Arial"/>
              </a:rPr>
              <a:t>урезаны бюджеты всех невоенных ведомств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843280" y="260280"/>
            <a:ext cx="1460520" cy="14605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2916360" y="2060640"/>
            <a:ext cx="1849320" cy="1395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395280" y="907920"/>
            <a:ext cx="2040120" cy="244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50920" y="3213000"/>
            <a:ext cx="2665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нкрин Е.Ф.-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нистр финансов в 1823-1844гг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5435640" y="189000"/>
            <a:ext cx="2792520" cy="26445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79280" y="436572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На протяжении 20 следующих лет (уже при Николае I) соблюдался режим строгой экономии и прекращен беспорядочный выпуск ассигнаций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9280" y="501336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Был установлен общий курс ассигнаций по отношению к серебряному рублю для всех видов денежных операций (денежную реформу 1839-1843 гг. Канкрина)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2660400" cy="3772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4292640"/>
            <a:ext cx="34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Александр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II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– император России 1825-1855гг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79280" y="4932360"/>
            <a:ext cx="2987640" cy="19256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3952800" y="0"/>
            <a:ext cx="5191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2T05:38:50Z</dcterms:created>
  <dc:creator>Надежда</dc:creator>
  <dc:description/>
  <cp:keywords/>
  <dc:language>en-US</dc:language>
  <cp:lastModifiedBy>Надежда</cp:lastModifiedBy>
  <dcterms:modified xsi:type="dcterms:W3CDTF">2009-10-26T11:38:37Z</dcterms:modified>
  <cp:revision>6</cp:revision>
  <dc:subject/>
  <dc:title>Государственный долг: причины возникновения и следств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950921049</vt:lpwstr>
  </property>
</Properties>
</file>