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gif" ContentType="image/gif"/>
  <Override PartName="/ppt/media/image12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6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A9A6-0587-4EDD-BB97-472CC9331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BF57-E96A-47EA-A20C-A1C6CA45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ABB3-AB60-4205-A8DC-4D79EE407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FA1F-9D6B-4D1B-A9AD-1050879D8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3B154-6A5E-471C-BC67-E7FC82A0D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883E3-50D6-4182-981F-FFADF1DC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399B5-A9D8-40CF-AEB0-8C418301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65551-BD09-4F65-9872-1A6864F2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32ED6-5085-45CA-A188-A03A788B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84138-DB20-41B8-A65C-C9DF7AD7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AD301-8E81-48F4-B0C0-BFBB7AB9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424C-EC53-4799-B00C-E9D8F907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51500-2479-4BF2-8243-ACC15081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75ECF-005A-44AA-A2B3-1F0C7BB5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425F6-5E86-43AD-8613-AD054D82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8DFEC-BB50-47D8-A6D4-88C8DCFE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A3C72-664F-421B-AFF4-C5F2ED958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E50C-425B-4750-9E51-02F35837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DA0C-ECCB-4D58-99AE-8D6F8854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5EBD-2B98-4F9C-B0E6-0C31DDC9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D9FA-2581-45FA-93C2-2C05321B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F627-74F7-4676-BB56-D3DF5D0C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746B-385C-4672-B963-B57FEB69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A3B5-33FD-4504-B4D0-B74F7F4F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A4D4-31CE-4C93-B277-04A59F062A4C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3623-C52D-4241-B67F-EFF4507ED529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осударственный долг: причины возникновения и следств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573408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авка Н.В., учитель истории и обществознания, 2009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F8BFF-231A-48A3-8222-CA9CFBEB58B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057FB5FA-7B88-486D-A453-1041C5C93B6C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3288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916280"/>
          <a:ext cx="3924360" cy="4028760"/>
        </p:xfrm>
        <a:graphic>
          <a:graphicData uri="http://schemas.openxmlformats.org/drawingml/2006/table">
            <a:tbl>
              <a:tblPr/>
              <a:tblGrid>
                <a:gridCol w="2911320"/>
                <a:gridCol w="10130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994 млрд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5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ямые нало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свенные нало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гали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азенные имущества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лин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 до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9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994 млрд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оценты по гос. долгу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рмия и флот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 внутренних дел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 путей сообщени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финансов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 образовани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 рас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468360" y="148428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905 г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4512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356000" y="1916280"/>
          <a:ext cx="4248360" cy="4249440"/>
        </p:xfrm>
        <a:graphic>
          <a:graphicData uri="http://schemas.openxmlformats.org/drawingml/2006/table">
            <a:tbl>
              <a:tblPr/>
              <a:tblGrid>
                <a:gridCol w="3143520"/>
                <a:gridCol w="1104840"/>
              </a:tblGrid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432,7 тр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9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лог на прибыл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оходный налог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ДС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кциз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нта за прир. ресурс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487,4 тр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2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нешняя безопасност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нутренняя безопасност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. предприяти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ударственное управление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4500720" y="1484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995 г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ово может быть соотношение доходов и расходов в государственном бюджете?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ими причинами могут быть вызваны такие ситуации?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ие методы применяли государи России в случае дефицита государственного бюджета?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ие из этих методов применимы сейчас? Назовите другие, новые методы, преодоления дефицита гос.бюджета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755640" y="1413000"/>
            <a:ext cx="2809800" cy="11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Times New Roman"/>
              </a:rPr>
              <a:t>Профици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Times New Roman"/>
              </a:rPr>
              <a:t>бюдже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24360" y="1413000"/>
            <a:ext cx="5040360" cy="115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экономическое понятие, которое означает,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что доходная часть бюджета превышает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асходную часть бюджета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3141720"/>
            <a:ext cx="8497800" cy="23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одолжите предложение: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Профицит может использоваться на: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окращение привлечения доходов от продажи государственного или муниципального имущества; направление средств на погашение дополнительных обязательств; увеличение расходов, в т. ч. за счет передачи части доходов бюджетам других уровней; уменьшение налоговых доходов путем внесения изменений в налоговое законодательство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68360" y="476280"/>
            <a:ext cx="4867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ff">
                    <a:alpha val="99000"/>
                  </a:srgbClr>
                </a:solidFill>
                <a:latin typeface="Arial"/>
              </a:rPr>
              <a:t>Государственный дол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ff">
                  <a:alpha val="99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1125360"/>
            <a:ext cx="7490160" cy="2305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результат финансовых заимствований государства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осуществляемые для покрытия дефицита бюджета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Государственный долг равен сумме дефицит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прошлых лет с учётом вычета бюджетных излишк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Государственный долг складывается из задолженност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центрального правительства, региональных и мест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органов власти, государственных организаций, предприятий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3573360"/>
            <a:ext cx="849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нутренний долг государства продолжает расти. Резкий скачок его роста произошел осенью 2008 года, когда кризис вплотную добрался и до России. Только за октябрь месяц внутренний государственный долг увеличился почти на 8 млрд. рублей и составил 1 трлн. 378,500 млрд. рублей. На 1 февраля 2009 года эта сумма увеличилась уже до 1 трлн. 423,268 млрд. рублей. Кроме того, в 2009 году предлагается увеличить внутренний долг государства еще на 300 млрд. рублей. В 2009 году России предстоит выплатить внешних долгов на сумму 141 млрд. долларов, из которых на долю государства приходится только 5 млрд. долларов, а остальное – долги банковского и прочих секторов экономики. </a:t>
            </a:r>
            <a:br>
              <a:rPr sz="1800"/>
            </a:b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95280" y="1557360"/>
            <a:ext cx="338472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Усиление неравенств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 доходах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3933720"/>
            <a:ext cx="3527280" cy="151308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еревод части национальног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дукта за границу в связ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 выплатой платежей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олгу и процент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иностранцам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1557360"/>
            <a:ext cx="338472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одрыв экономически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имулов из-за увелич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логов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03640" y="4221000"/>
            <a:ext cx="338472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Эффект вытесн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частных инвестиц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124000" y="2133720"/>
            <a:ext cx="4608720" cy="2663640"/>
            <a:chOff x="2124000" y="2133720"/>
            <a:chExt cx="4608720" cy="2663640"/>
          </a:xfrm>
        </p:grpSpPr>
        <p:sp>
          <p:nvSpPr>
            <p:cNvPr id="150" name=""/>
            <p:cNvSpPr/>
            <p:nvPr/>
          </p:nvSpPr>
          <p:spPr>
            <a:xfrm>
              <a:off x="2124000" y="2924280"/>
              <a:ext cx="4608720" cy="86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Следствия возникновения</a:t>
              </a: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государственного долга</a:t>
              </a: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356000" y="2133720"/>
              <a:ext cx="0" cy="790560"/>
            </a:xfrm>
            <a:prstGeom prst="line">
              <a:avLst/>
            </a:prstGeom>
            <a:ln w="2844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80000" y="2133720"/>
              <a:ext cx="1152360" cy="0"/>
            </a:xfrm>
            <a:prstGeom prst="line">
              <a:avLst/>
            </a:prstGeom>
            <a:ln w="38160">
              <a:solidFill>
                <a:srgbClr val="205ff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27640" y="3789360"/>
              <a:ext cx="0" cy="1008000"/>
            </a:xfrm>
            <a:prstGeom prst="line">
              <a:avLst/>
            </a:prstGeom>
            <a:ln w="381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51280" y="4797360"/>
              <a:ext cx="1152360" cy="0"/>
            </a:xfrm>
            <a:prstGeom prst="line">
              <a:avLst/>
            </a:prstGeom>
            <a:ln w="38160">
              <a:solidFill>
                <a:srgbClr val="205ff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 rot="20780400">
            <a:off x="395280" y="1484280"/>
            <a:ext cx="34196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Государствен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бюдж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95640" y="1413000"/>
            <a:ext cx="48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баланс запланированных расходов и доходов правительства за определенный период (за год).</a:t>
            </a: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3716280"/>
            <a:ext cx="7272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Государственный бюджет содержит: </a:t>
            </a:r>
            <a:br>
              <a:rPr sz="2000"/>
            </a:b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- перечень программ расходов: на образование, на оборону и т.д.; и </a:t>
            </a:r>
            <a:br>
              <a:rPr sz="1800"/>
            </a:b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- перечень источников получения доходов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95280" y="333360"/>
            <a:ext cx="3527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фици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сударственног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юдже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333360"/>
            <a:ext cx="489564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лан государственных расход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больше, чем план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государственных доходов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995640" y="1628640"/>
            <a:ext cx="4643640" cy="4626000"/>
            <a:chOff x="3995640" y="1628640"/>
            <a:chExt cx="4643640" cy="4626000"/>
          </a:xfrm>
        </p:grpSpPr>
        <p:grpSp>
          <p:nvGrpSpPr>
            <p:cNvPr id="90" name=""/>
            <p:cNvGrpSpPr/>
            <p:nvPr/>
          </p:nvGrpSpPr>
          <p:grpSpPr>
            <a:xfrm>
              <a:off x="3995640" y="1628640"/>
              <a:ext cx="4643640" cy="4626000"/>
              <a:chOff x="3995640" y="1628640"/>
              <a:chExt cx="4643640" cy="4626000"/>
            </a:xfrm>
          </p:grpSpPr>
          <p:pic>
            <p:nvPicPr>
              <p:cNvPr id="9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995640" y="2781360"/>
                <a:ext cx="4643640" cy="347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 txBox="1"/>
              <p:nvPr/>
            </p:nvSpPr>
            <p:spPr>
              <a:xfrm>
                <a:off x="5580000" y="1628640"/>
                <a:ext cx="1619280" cy="762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eflate">
                  <a:avLst>
                    <a:gd name="adj" fmla="val 2622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Impact"/>
                  </a:rPr>
                  <a:t>Доходы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  <a:ea typeface="Impact"/>
                </a:endParaRPr>
              </a:p>
            </p:txBody>
          </p:sp>
        </p:grpSp>
        <p:sp>
          <p:nvSpPr>
            <p:cNvPr id="93" name=""/>
            <p:cNvSpPr txBox="1"/>
            <p:nvPr/>
          </p:nvSpPr>
          <p:spPr>
            <a:xfrm>
              <a:off x="5219640" y="2997360"/>
              <a:ext cx="1876320" cy="523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олюдь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50920" y="1484280"/>
            <a:ext cx="3889440" cy="5200560"/>
            <a:chOff x="250920" y="1484280"/>
            <a:chExt cx="3889440" cy="5200560"/>
          </a:xfrm>
        </p:grpSpPr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324000" y="2637000"/>
              <a:ext cx="3060720" cy="40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 txBox="1"/>
            <p:nvPr/>
          </p:nvSpPr>
          <p:spPr>
            <a:xfrm>
              <a:off x="250920" y="1484280"/>
              <a:ext cx="3889440" cy="117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асходы в Древней Руси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356000" cy="3268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84360" y="3933720"/>
            <a:ext cx="216216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трель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5113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788000" y="1700280"/>
          <a:ext cx="4032000" cy="4181400"/>
        </p:xfrm>
        <a:graphic>
          <a:graphicData uri="http://schemas.openxmlformats.org/drawingml/2006/table">
            <a:tbl>
              <a:tblPr/>
              <a:tblGrid>
                <a:gridCol w="2963880"/>
                <a:gridCol w="1068120"/>
              </a:tblGrid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22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3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Таможенный и кабацкий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трелецкий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нь и оброк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Ямские, пологичные и конские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"Запросные" день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 (пошлины и т. д.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5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22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ойско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азенные предприятия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ударственное управление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стальные рас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5435640" y="1341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680 г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21733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9280" y="3284640"/>
            <a:ext cx="4032360" cy="3282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2109960" cy="25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2573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859280" y="2349360"/>
          <a:ext cx="3889440" cy="3062520"/>
        </p:xfrm>
        <a:graphic>
          <a:graphicData uri="http://schemas.openxmlformats.org/drawingml/2006/table">
            <a:tbl>
              <a:tblPr/>
              <a:tblGrid>
                <a:gridCol w="2797200"/>
                <a:gridCol w="10922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8,5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ушная подат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свенные нало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гали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лин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6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8,5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рмия и флот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бщественные постройки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ударственное управление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стальные рас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5435640" y="1773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724 г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28414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етр Первый (1672-1725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3375000" cy="3170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203640" y="3141720"/>
            <a:ext cx="1871640" cy="1384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4000" y="3933720"/>
            <a:ext cx="309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Екатерина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32360" y="450864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 1769 году в России появились первые бумажные деньги, которые стали называться ассигнациями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292720" y="260280"/>
            <a:ext cx="2857680" cy="4191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558972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205ff6"/>
                </a:solidFill>
                <a:uFillTx/>
                <a:latin typeface="Arial"/>
              </a:rPr>
              <a:t>К концу царствования государственный долг составил 215 млн рублей.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2462040" cy="2521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284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Александр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 (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император в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1801-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1825гг.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851280" y="549360"/>
            <a:ext cx="5016600" cy="3598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00720" y="4282920"/>
            <a:ext cx="41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ибытие М.И.Кутузова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4859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о время войны с Наполеоном (1812-1815) было выпущено огромное количество бумажных денег (244,5 млн рублей), и цены выросли более чем в 3 раза по сравнению с концом царствования Екатерины II. Одновременно были </a:t>
            </a: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урезаны бюджеты всех невоенных ведомств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843280" y="260280"/>
            <a:ext cx="1460520" cy="1460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916360" y="2060640"/>
            <a:ext cx="1849320" cy="1395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95280" y="907920"/>
            <a:ext cx="2040120" cy="244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0920" y="3213000"/>
            <a:ext cx="2665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крин Е.Ф.-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стр финансов в 1823-1844г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5435640" y="189000"/>
            <a:ext cx="2792520" cy="2644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79280" y="436572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 протяжении 20 следующих лет (уже при Николае I) соблюдался режим строгой экономии и прекращен беспорядочный выпуск ассигнаций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501336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Был установлен общий курс ассигнаций по отношению к серебряному рублю для всех видов денежных операций (денежную реформу 1839-1843 гг. Канкрина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660400" cy="3772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4292640"/>
            <a:ext cx="34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Александр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– император России 1825-1855г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79280" y="4932360"/>
            <a:ext cx="2987640" cy="1925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3952800" y="0"/>
            <a:ext cx="519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05:38:50Z</dcterms:created>
  <dc:creator>Надежда</dc:creator>
  <dc:description/>
  <cp:keywords/>
  <dc:language>en-US</dc:language>
  <cp:lastModifiedBy>Надежда</cp:lastModifiedBy>
  <dcterms:modified xsi:type="dcterms:W3CDTF">2009-10-26T11:38:37Z</dcterms:modified>
  <cp:revision>6</cp:revision>
  <dc:subject/>
  <dc:title>Государственный долг: причины возникновения и следств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