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A86-D185-4657-BFEB-CEAA2073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591-8938-467F-AC0A-CEBC0FD0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4DA-3348-487B-AEE8-D1D52DED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907E-62F3-407E-A437-094540B9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B1F61-8E27-4F01-B2AF-AFF23080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C50B5-C5D7-4F51-8C56-43571B1B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D25DA-69FC-40C7-82EC-CF839B02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E177A-2E8B-46E2-AEE2-032F436E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84202-621F-4801-BADE-CDFFE50E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B808C-461D-41EE-B715-6F0F0249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BA953-E322-46AF-9110-784059F5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62E-B859-48DA-9BD5-1700C309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50471-3F4E-4512-8940-4CB80F74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20750-F1BC-4EA0-97CC-89DE9A05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B7373-B8F9-4930-8133-087878B3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E4A38-B96E-49A2-8829-4E5380A0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F49C2-66A4-4A70-9355-8AA65627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BEE-FEA9-4F44-A6E9-8487B67C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A9B-28D6-495E-82E4-5458B64A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296-34BC-4BD4-A31A-77404D73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127-2E94-463A-9003-E0E3633B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F4EF-42E7-4697-8552-449448B4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D4B7-9768-46AA-B8A3-98E3EB4E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1CF-0AC4-4059-BB00-A717BFB2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476D-D296-4A56-9E06-A36469715BF0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D516-1CB1-4C02-8F25-71733FA7997A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осударственный долг: причины возникновения и 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FA8BE-84AC-4553-8E4D-FB612027B1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08D26AA5-19C1-4E6D-80CB-0C57F373D368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916280"/>
          <a:ext cx="3924360" cy="4028760"/>
        </p:xfrm>
        <a:graphic>
          <a:graphicData uri="http://schemas.openxmlformats.org/drawingml/2006/table">
            <a:tbl>
              <a:tblPr/>
              <a:tblGrid>
                <a:gridCol w="2911320"/>
                <a:gridCol w="1013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ям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имуществ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до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центы по гос. долгу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внутренних дел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путей сообще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финансов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образова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68360" y="148428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05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356000" y="1916280"/>
          <a:ext cx="4248360" cy="4249440"/>
        </p:xfrm>
        <a:graphic>
          <a:graphicData uri="http://schemas.openxmlformats.org/drawingml/2006/table">
            <a:tbl>
              <a:tblPr/>
              <a:tblGrid>
                <a:gridCol w="3143520"/>
                <a:gridCol w="1104840"/>
              </a:tblGrid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32,7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лог на прибыл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оходный налог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ДС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кциз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нта за прир. ресурс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87,4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еш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ен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. предприят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500720" y="148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95 г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ово может быть соотношение доходов и расходов в государственном бюджете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ми причинами могут быть вызваны такие ситуации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методы применяли государи России в случае дефицита государственного бюджета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из этих методов применимы сейчас? Назовите другие, новые методы, преодоления дефицита гос.бюджет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55640" y="1413000"/>
            <a:ext cx="280980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Профиц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бюдж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1413000"/>
            <a:ext cx="5040360" cy="115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кономическое понятие, которое означает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то доходная часть бюджета превышае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сходную часть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141720"/>
            <a:ext cx="84978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одолжите предложение: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рофицит может использоваться на: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ращение привлечения доходов от продажи государственного или муниципального имущества; направление средств на погашение дополнительных обязательств; увеличение расходов, в т. ч. за счет передачи части доходов бюджетам других уровней; уменьшение налоговых доходов путем внесения изменений в налоговое законодательство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76280"/>
            <a:ext cx="486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>
                    <a:alpha val="99000"/>
                  </a:srgbClr>
                </a:solidFill>
                <a:latin typeface="Arial"/>
              </a:rPr>
              <a:t>Государственный дол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>
                  <a:alpha val="9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125360"/>
            <a:ext cx="7490160" cy="2305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результат финансовых заимствований государств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существляемые для покрытия дефицита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равен сумме дефици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рошлых лет с учётом вычета бюджетных излишк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складывается из задолжен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центрального правительства, региональных и мест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рганов власти, государственных организаций, предприятий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3573360"/>
            <a:ext cx="849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нутренний долг государства продолжает расти. Резкий скачок его роста произошел осенью 2008 года, когда кризис вплотную добрался и до России. Только за октябрь месяц внутренний государственный долг увеличился почти на 8 млрд. рублей и составил 1 трлн. 378,500 млрд. рублей. На 1 февраля 2009 года эта сумма увеличилась уже до 1 трлн. 423,268 млрд. рублей. Кроме того, в 2009 году предлагается увеличить внутренний долг государства еще на 300 млрд. рублей. В 2009 году России предстоит выплатить внешних долгов на сумму 141 млрд. долларов, из которых на долю государства приходится только 5 млрд. долларов, а остальное – долги банковского и прочих секторов экономики. </a:t>
            </a:r>
            <a:br>
              <a:rPr sz="1800"/>
            </a:b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Усиление неравен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дохода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933720"/>
            <a:ext cx="352728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евод части национальног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та за границу в связ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 выплатой платежей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лгу и процен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остранца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ыв экономиче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имулов из-за увелич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ог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4221000"/>
            <a:ext cx="338472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ффект вытесн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астных инвестиц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24000" y="2133720"/>
            <a:ext cx="4608720" cy="2663640"/>
            <a:chOff x="2124000" y="2133720"/>
            <a:chExt cx="4608720" cy="2663640"/>
          </a:xfrm>
        </p:grpSpPr>
        <p:sp>
          <p:nvSpPr>
            <p:cNvPr id="150" name=""/>
            <p:cNvSpPr/>
            <p:nvPr/>
          </p:nvSpPr>
          <p:spPr>
            <a:xfrm>
              <a:off x="2124000" y="2924280"/>
              <a:ext cx="4608720" cy="86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Следствия возникновения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государственного долга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356000" y="2133720"/>
              <a:ext cx="0" cy="790560"/>
            </a:xfrm>
            <a:prstGeom prst="line">
              <a:avLst/>
            </a:prstGeom>
            <a:ln w="2844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0000" y="213372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7640" y="3789360"/>
              <a:ext cx="0" cy="100800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51280" y="479736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20780400">
            <a:off x="395280" y="1484280"/>
            <a:ext cx="3419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Государствен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бюдж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141300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аланс запланированных расходов и доходов правительства за определенный период (за год).</a:t>
            </a: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716280"/>
            <a:ext cx="7272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осударственный бюджет содержит: </a:t>
            </a:r>
            <a:br>
              <a:rPr sz="20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программ расходов: на образование, на оборону и т.д.; и </a:t>
            </a:r>
            <a:br>
              <a:rPr sz="18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источников получения доход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333360"/>
            <a:ext cx="3527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фици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сударственн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юдж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33360"/>
            <a:ext cx="489564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лан государственных расход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ольше, чем пла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государственных доход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1628640"/>
            <a:ext cx="4643640" cy="4626000"/>
            <a:chOff x="3995640" y="1628640"/>
            <a:chExt cx="4643640" cy="462600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1628640"/>
              <a:ext cx="4643640" cy="4626000"/>
              <a:chOff x="3995640" y="1628640"/>
              <a:chExt cx="4643640" cy="4626000"/>
            </a:xfrm>
          </p:grpSpPr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95640" y="2781360"/>
                <a:ext cx="4643640" cy="34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 txBox="1"/>
              <p:nvPr/>
            </p:nvSpPr>
            <p:spPr>
              <a:xfrm>
                <a:off x="5580000" y="1628640"/>
                <a:ext cx="161928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Impact"/>
                  </a:rPr>
                  <a:t>Доходы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  <a:ea typeface="Impact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5219640" y="2997360"/>
              <a:ext cx="1876320" cy="523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людь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0920" y="1484280"/>
            <a:ext cx="3889440" cy="5200560"/>
            <a:chOff x="250920" y="1484280"/>
            <a:chExt cx="3889440" cy="520056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324000" y="2637000"/>
              <a:ext cx="3060720" cy="40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250920" y="1484280"/>
              <a:ext cx="3889440" cy="117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асходы в Древней Рус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356000" cy="326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3933720"/>
            <a:ext cx="216216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рель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11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88000" y="1700280"/>
          <a:ext cx="4032000" cy="4181400"/>
        </p:xfrm>
        <a:graphic>
          <a:graphicData uri="http://schemas.openxmlformats.org/drawingml/2006/table">
            <a:tbl>
              <a:tblPr/>
              <a:tblGrid>
                <a:gridCol w="2963880"/>
                <a:gridCol w="1068120"/>
              </a:tblGrid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аможенный и каба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треле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нь и оброк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мские, пологичные и конск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Запросные" день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(пошлины и т. д.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ойско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предприятия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435640" y="134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680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2173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4032360" cy="3282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109960" cy="25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859280" y="2349360"/>
          <a:ext cx="3889440" cy="3062520"/>
        </p:xfrm>
        <a:graphic>
          <a:graphicData uri="http://schemas.openxmlformats.org/drawingml/2006/table">
            <a:tbl>
              <a:tblPr/>
              <a:tblGrid>
                <a:gridCol w="2797200"/>
                <a:gridCol w="1092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ушная пода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щественные постройк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35640" y="1773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724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8414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тр Первый (1672-1725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375000" cy="317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03640" y="3141720"/>
            <a:ext cx="1871640" cy="1384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393372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45086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1769 году в России появились первые бумажные деньги, которые стали называться ассигнациями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292720" y="260280"/>
            <a:ext cx="285768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589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05ff6"/>
                </a:solidFill>
                <a:uFillTx/>
                <a:latin typeface="Arial"/>
              </a:rPr>
              <a:t>К концу царствования государственный долг составил 215 млн рублей.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462040" cy="252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28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 (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мператор в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1801-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825гг.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851280" y="549360"/>
            <a:ext cx="5016600" cy="3598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00720" y="428292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ибытие М.И.Кутузов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859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о время войны с Наполеоном (1812-1815) было выпущено огромное количество бумажных денег (244,5 млн рублей), и цены выросли более чем в 3 раза по сравнению с концом царствования Екатерины II. Одновременно были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урезаны бюджеты всех невоенных ведомств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16360" y="2060640"/>
            <a:ext cx="1849320" cy="13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5280" y="907920"/>
            <a:ext cx="2040120" cy="244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3213000"/>
            <a:ext cx="266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крин Е.Ф.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р финансов в 1823-1844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435640" y="189000"/>
            <a:ext cx="2792520" cy="2644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9280" y="43657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отяжении 20 следующих лет (уже при Николае I) соблюдался режим строгой экономии и прекращен беспорядочный выпуск ассигнаций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5013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ыл установлен общий курс ассигнаций по отношению к серебряному рублю для всех видов денежных операций (денежную реформу 1839-1843 гг. Канкрина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60400" cy="3772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29264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император России 1825-1855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4932360"/>
            <a:ext cx="2987640" cy="192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5:38:50Z</dcterms:created>
  <dc:creator>Надежда</dc:creator>
  <dc:description/>
  <cp:keywords/>
  <dc:language>en-US</dc:language>
  <cp:lastModifiedBy>Надежда</cp:lastModifiedBy>
  <dcterms:modified xsi:type="dcterms:W3CDTF">2009-10-26T11:38:37Z</dcterms:modified>
  <cp:revision>6</cp:revision>
  <dc:subject/>
  <dc:title>Государственный долг: причины возникновения и следств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