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026-D8F2-4AC9-8629-E2D60E72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75D-0AB8-428D-B809-BC6250C8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16C-5F49-45C3-B38C-C3746BB7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3CD-42DD-42A9-A0FC-0164AB4A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EE26E-775D-4290-B435-90E62657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6E732-FBCD-4678-B0FC-67CC94D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BA491-830C-4F1B-9A65-419A0DD8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F79D-E453-4550-ACDD-642C2E0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5C0C0-68E4-46D8-8C6F-B873750B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7B9B3-716C-4047-A4C2-C8FF00FC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9E4F-F5C3-467F-8E89-08D4A2FE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754-447B-4A83-AB6C-6B795FF0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DB6DB-75F6-4679-8497-8DE20D8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C2390-375F-45B5-8C74-3CAB189C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C7413-C24D-4AAE-B434-61092762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EAEEB-51A2-434C-A043-9CB46E9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9EDFE-CD60-4299-88A7-492DC900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9D1-B399-4E59-81DA-27AD089C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B48-D492-4169-9838-333B093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86E-24D8-43C4-BC56-81DCF7F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6BE-DDD8-46F9-B155-5214522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0DB-C78E-4ADE-852C-AAF436F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ADB-820F-4E53-9282-B6F7C96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CEA-B8CC-4038-95F1-6F8CDB7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F596-C031-4069-A2A5-E57FCD414173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583-5352-4AAC-AE53-40F356F78325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сударственный долг: причины возникновения и 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CCEBC-7890-47AB-B9EB-9D4D2B98D9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9657E556-D6EB-47DF-A039-C1B85A80E184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916280"/>
          <a:ext cx="3924360" cy="4028760"/>
        </p:xfrm>
        <a:graphic>
          <a:graphicData uri="http://schemas.openxmlformats.org/drawingml/2006/table">
            <a:tbl>
              <a:tblPr/>
              <a:tblGrid>
                <a:gridCol w="2911320"/>
                <a:gridCol w="10130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ям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имущества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до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994 млрд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центы по гос. долгу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внутренних дел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путей сообще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финанс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ин. образован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8360" y="148428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05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451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356000" y="1916280"/>
          <a:ext cx="4248360" cy="4249440"/>
        </p:xfrm>
        <a:graphic>
          <a:graphicData uri="http://schemas.openxmlformats.org/drawingml/2006/table">
            <a:tbl>
              <a:tblPr/>
              <a:tblGrid>
                <a:gridCol w="3143520"/>
                <a:gridCol w="1104840"/>
              </a:tblGrid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32,7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лог на прибыл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оходный нало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ДС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циз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нта за прир. ресурс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487,4 тр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еш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енняя безопаснос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. предприятия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 w="5760">
                      <a:solidFill>
                        <a:srgbClr val="205ff6"/>
                      </a:solidFill>
                    </a:lnR>
                    <a:lnT w="5760">
                      <a:solidFill>
                        <a:srgbClr val="205ff6"/>
                      </a:solidFill>
                    </a:lnT>
                    <a:lnB w="5760">
                      <a:solidFill>
                        <a:srgbClr val="205ff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05ff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4500720" y="1484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995 г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ово может быть соотношение доходов и расходов в государственном бюджете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ми причинами могут быть вызваны такие ситуации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методы применяли государи России в случае дефицита государственного бюджета?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Какие из этих методов применимы сейчас? Назовите другие, новые методы, преодоления дефицита гос.бюджета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55640" y="1413000"/>
            <a:ext cx="280980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Профиц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бюдж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1413000"/>
            <a:ext cx="5040360" cy="115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кономическое понятие, которое означает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то доходная часть бюджета превышае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сходную часть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141720"/>
            <a:ext cx="849780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родолжите предложение: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фицит может использоваться на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ращение привлечения доходов от продажи государственного или муниципального имущества; направление средств на погашение дополнительных обязательств; увеличение расходов, в т. ч. за счет передачи части доходов бюджетам других уровней; уменьшение налоговых доходов путем внесения изменений в налоговое законодательство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4867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>
                    <a:alpha val="99000"/>
                  </a:srgbClr>
                </a:solidFill>
                <a:latin typeface="Arial"/>
              </a:rPr>
              <a:t>Государственный дол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>
                  <a:alpha val="9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125360"/>
            <a:ext cx="7490160" cy="2305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результат финансовых заимствований государств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существляемые для покрытия дефицита бюджета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равен сумме дефици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прошлых лет с учётом вычета бюджетных излишк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Государственный долг складывается из задолжен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центрального правительства, региональных и мест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рганов власти, государственных организаций, предприятий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57336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нутренний долг государства продолжает расти. Резкий скачок его роста произошел осенью 2008 года, когда кризис вплотную добрался и до России. Только за октябрь месяц внутренний государственный долг увеличился почти на 8 млрд. рублей и составил 1 трлн. 378,500 млрд. рублей. На 1 февраля 2009 года эта сумма увеличилась уже до 1 трлн. 423,268 млрд. рублей. Кроме того, в 2009 году предлагается увеличить внутренний долг государства еще на 300 млрд. рублей. В 2009 году России предстоит выплатить внешних долгов на сумму 141 млрд. долларов, из которых на долю государства приходится только 5 млрд. долларов, а остальное – долги банковского и прочих секторов экономики.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528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Усиление неравен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дохода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933720"/>
            <a:ext cx="3527280" cy="15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евод части национальног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та за границу в связ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 выплатой платежей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лгу и процент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остранца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1557360"/>
            <a:ext cx="3384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ыв экономиче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имулов из-за увелич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ог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4221000"/>
            <a:ext cx="338472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Эффект вытесн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частных инвестиц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124000" y="2133720"/>
            <a:ext cx="4608720" cy="2663640"/>
            <a:chOff x="2124000" y="2133720"/>
            <a:chExt cx="4608720" cy="2663640"/>
          </a:xfrm>
        </p:grpSpPr>
        <p:sp>
          <p:nvSpPr>
            <p:cNvPr id="150" name=""/>
            <p:cNvSpPr/>
            <p:nvPr/>
          </p:nvSpPr>
          <p:spPr>
            <a:xfrm>
              <a:off x="2124000" y="2924280"/>
              <a:ext cx="4608720" cy="86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Следствия возникновения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государственного долга</a:t>
              </a:r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56000" y="2133720"/>
              <a:ext cx="0" cy="790560"/>
            </a:xfrm>
            <a:prstGeom prst="line">
              <a:avLst/>
            </a:prstGeom>
            <a:ln w="2844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0000" y="213372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640" y="3789360"/>
              <a:ext cx="0" cy="100800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4797360"/>
              <a:ext cx="1152360" cy="0"/>
            </a:xfrm>
            <a:prstGeom prst="line">
              <a:avLst/>
            </a:prstGeom>
            <a:ln w="38160">
              <a:solidFill>
                <a:srgbClr val="205ff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 rot="20780400">
            <a:off x="395280" y="1484280"/>
            <a:ext cx="3419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Государ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бюдж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41300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аланс запланированных расходов и доходов правительства за определенный период (за год).</a:t>
            </a: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3716280"/>
            <a:ext cx="727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осударственный бюджет содержит: </a:t>
            </a:r>
            <a:br>
              <a:rPr sz="20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программ расходов: на образование, на оборону и т.д.; и </a:t>
            </a:r>
            <a:br>
              <a:rPr sz="1800"/>
            </a:b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- перечень источников получения доход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333360"/>
            <a:ext cx="352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фици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сударственног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юдж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33360"/>
            <a:ext cx="489564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лан государственных расход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ольше, чем пла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государственных доход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1628640"/>
            <a:ext cx="4643640" cy="4626000"/>
            <a:chOff x="3995640" y="1628640"/>
            <a:chExt cx="4643640" cy="462600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1628640"/>
              <a:ext cx="4643640" cy="4626000"/>
              <a:chOff x="3995640" y="1628640"/>
              <a:chExt cx="4643640" cy="4626000"/>
            </a:xfrm>
          </p:grpSpPr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5640" y="2781360"/>
                <a:ext cx="4643640" cy="347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 txBox="1"/>
              <p:nvPr/>
            </p:nvSpPr>
            <p:spPr>
              <a:xfrm>
                <a:off x="5580000" y="1628640"/>
                <a:ext cx="161928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Impact"/>
                  </a:rPr>
                  <a:t>Доходы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  <a:ea typeface="Impact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5219640" y="2997360"/>
              <a:ext cx="1876320" cy="52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полюдь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50920" y="1484280"/>
            <a:ext cx="3889440" cy="5200560"/>
            <a:chOff x="250920" y="1484280"/>
            <a:chExt cx="3889440" cy="520056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324000" y="2637000"/>
              <a:ext cx="3060720" cy="40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250920" y="1484280"/>
              <a:ext cx="3889440" cy="11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асходы в Древней Рус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356000" cy="3268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3933720"/>
            <a:ext cx="216216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11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700280"/>
          <a:ext cx="4032000" cy="4181400"/>
        </p:xfrm>
        <a:graphic>
          <a:graphicData uri="http://schemas.openxmlformats.org/drawingml/2006/table">
            <a:tbl>
              <a:tblPr/>
              <a:tblGrid>
                <a:gridCol w="2963880"/>
                <a:gridCol w="106812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моженный и каба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трелецкий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нь и оброк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Ямские, пологичные и конски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Запросные" день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 (пошлины и т. д.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,22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ойско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азенные предприятия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435640" y="1341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680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21733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4032360" cy="328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1099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573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859280" y="2349360"/>
          <a:ext cx="3889440" cy="3062520"/>
        </p:xfrm>
        <a:graphic>
          <a:graphicData uri="http://schemas.openxmlformats.org/drawingml/2006/table">
            <a:tbl>
              <a:tblPr/>
              <a:tblGrid>
                <a:gridCol w="2797200"/>
                <a:gridCol w="1092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о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ушная подать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свенные налог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егалии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лин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ругие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Расход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8,5 млн руб)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%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рмия и флот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бщественные постройки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Государственное управление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Остальные расходы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435640" y="1773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Бюджет России в 1724 г.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8414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тр Первый (1672-1725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375000" cy="31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871640" cy="1384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3933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Екатерина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 1769 году в России появились первые бумажные деньги, которые стали называться ассигнациями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292720" y="260280"/>
            <a:ext cx="285768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58972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05ff6"/>
                </a:solidFill>
                <a:uFillTx/>
                <a:latin typeface="Arial"/>
              </a:rPr>
              <a:t>К концу царствования государственный долг составил 215 млн рублей.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462040" cy="252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2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 (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мператор в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1801-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825гг.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51280" y="549360"/>
            <a:ext cx="5016600" cy="3598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00720" y="428292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ибытие М.И.Кутузова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859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о время войны с Наполеоном (1812-1815) было выпущено огромное количество бумажных денег (244,5 млн рублей), и цены выросли более чем в 3 раза по сравнению с концом царствования Екатерины II. Одновременно были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урезаны бюджеты всех невоенных ведомств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16360" y="2060640"/>
            <a:ext cx="1849320" cy="1395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3213000"/>
            <a:ext cx="2665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крин Е.Ф.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р финансов в 1823-1844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435640" y="189000"/>
            <a:ext cx="2792520" cy="2644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4365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отяжении 20 следующих лет (уже при Николае I) соблюдался режим строгой экономии и прекращен беспорядочный выпуск ассигнаций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013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ыл установлен общий курс ассигнаций по отношению к серебряному рублю для всех видов денежных операций (денежную реформу 1839-1843 гг. Канкрина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60400" cy="3772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4292640"/>
            <a:ext cx="34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лександр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император России 1825-1855г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4932360"/>
            <a:ext cx="2987640" cy="192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952800" y="0"/>
            <a:ext cx="519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5:38:50Z</dcterms:created>
  <dc:creator>Надежда</dc:creator>
  <dc:description/>
  <cp:keywords/>
  <dc:language>en-US</dc:language>
  <cp:lastModifiedBy>Надежда</cp:lastModifiedBy>
  <dcterms:modified xsi:type="dcterms:W3CDTF">2009-10-26T11:38:37Z</dcterms:modified>
  <cp:revision>6</cp:revision>
  <dc:subject/>
  <dc:title>Государственный долг: причины возникновения и следств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