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6CB-42CA-4827-99AA-CD919764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40B-1D93-4711-85B1-85AC9E9F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528-04D0-4AA3-B0B6-B19F23E9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001-B3E4-47F6-9B0D-D235CC47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46790-D543-479A-B618-01DA68F5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416BB-B8F5-422A-AAE6-2C94CF97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E26F7-7241-4E20-B16F-DCD710F8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667D8-9F5A-44C7-BEB0-488BDECA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6A98B-899A-46AF-A383-2890D4AF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0B381-FEF9-47B0-B8DB-1B69D156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9340A-AC5B-4A6C-8E09-3D5C6AA8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81EF-20B6-4303-9456-DB9E9A76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BF68A-46E5-4598-B2F7-DBB64ABD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4C632-2403-4304-B813-2828D0A5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8554C-A073-4B1E-97F1-8057E72E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D836D-C2F2-40B1-AED6-4409680A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AD8AA-A295-420A-90F0-7F4E191F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303-BFD4-474C-8BE5-BC0C08DC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FEF-0AB7-4DD2-926A-DD70D98A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49D-BD15-4C62-86FD-A550F627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3E0-B59E-4FFD-8B66-5BC8F8B3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B5C-6B9D-4C30-A8AF-A4A9C982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6EE-770E-407E-AF77-B71D963B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92E-A7E8-4AD2-A22C-458FF14D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0573-4E24-4FB8-B2DD-8576F616F602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188D-BDE5-446F-8594-DCF295AF5F33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осударственный долг: причины возникновения и 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D265F-CB3F-4D9B-9D37-5C0BD41C4D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50970235-BF1D-4727-95CF-EB04502C1F14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916280"/>
          <a:ext cx="3924360" cy="4028760"/>
        </p:xfrm>
        <a:graphic>
          <a:graphicData uri="http://schemas.openxmlformats.org/drawingml/2006/table">
            <a:tbl>
              <a:tblPr/>
              <a:tblGrid>
                <a:gridCol w="2911320"/>
                <a:gridCol w="1013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ям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имуществ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до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центы по гос. долгу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внутренних дел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путей сообще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финансов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образова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68360" y="14842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05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356000" y="1916280"/>
          <a:ext cx="4248360" cy="4249440"/>
        </p:xfrm>
        <a:graphic>
          <a:graphicData uri="http://schemas.openxmlformats.org/drawingml/2006/table">
            <a:tbl>
              <a:tblPr/>
              <a:tblGrid>
                <a:gridCol w="3143520"/>
                <a:gridCol w="1104840"/>
              </a:tblGrid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32,7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лог на прибыл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оходный налог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ДС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кциз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нта за прир. ресурс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87,4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еш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ен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. предприят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500720" y="148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95 г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ово может быть соотношение доходов и расходов в государственном бюджете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ми причинами могут быть вызваны такие ситуации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методы применяли государи России в случае дефицита государственного бюджета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из этих методов применимы сейчас? Назовите другие, новые методы, преодоления дефицита гос.бюджет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55640" y="1413000"/>
            <a:ext cx="280980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Профиц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бюдж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1413000"/>
            <a:ext cx="5040360" cy="115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кономическое понятие, которое означает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то доходная часть бюджета превышае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сходную часть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141720"/>
            <a:ext cx="84978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должите предложение: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официт может использоваться на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ращение привлечения доходов от продажи государственного или муниципального имущества; направление средств на погашение дополнительных обязательств; увеличение расходов, в т. ч. за счет передачи части доходов бюджетам других уровней; уменьшение налоговых доходов путем внесения изменений в налоговое законодательство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486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>
                    <a:alpha val="99000"/>
                  </a:srgbClr>
                </a:solidFill>
                <a:latin typeface="Arial"/>
              </a:rPr>
              <a:t>Государственный дол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>
                  <a:alpha val="9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490160" cy="2305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результат финансовых заимствований государств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существляемые для покрытия дефицита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равен сумме дефици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ошлых лет с учётом вычета бюджетных излишк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складывается из задолжен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центрального правительства, региональных и мест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рганов власти, государственных организаций, предприятий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573360"/>
            <a:ext cx="84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нутренний долг государства продолжает расти. Резкий скачок его роста произошел осенью 2008 года, когда кризис вплотную добрался и до России. Только за октябрь месяц внутренний государственный долг увеличился почти на 8 млрд. рублей и составил 1 трлн. 378,500 млрд. рублей. На 1 февраля 2009 года эта сумма увеличилась уже до 1 трлн. 423,268 млрд. рублей. Кроме того, в 2009 году предлагается увеличить внутренний долг государства еще на 300 млрд. рублей. В 2009 году России предстоит выплатить внешних долгов на сумму 141 млрд. долларов, из которых на долю государства приходится только 5 млрд. долларов, а остальное – долги банковского и прочих секторов экономики. </a:t>
            </a:r>
            <a:br>
              <a:rPr sz="1800"/>
            </a:b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Усиление неравен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дохода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33720"/>
            <a:ext cx="352728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евод части национальног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та за границу в связ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 выплатой платежей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лгу и процен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остранца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ыв экономиче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имулов из-за увелич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ог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4221000"/>
            <a:ext cx="3384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ффект вытесн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астных инвестиц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24000" y="2133720"/>
            <a:ext cx="4608720" cy="2663640"/>
            <a:chOff x="2124000" y="2133720"/>
            <a:chExt cx="4608720" cy="2663640"/>
          </a:xfrm>
        </p:grpSpPr>
        <p:sp>
          <p:nvSpPr>
            <p:cNvPr id="150" name=""/>
            <p:cNvSpPr/>
            <p:nvPr/>
          </p:nvSpPr>
          <p:spPr>
            <a:xfrm>
              <a:off x="2124000" y="2924280"/>
              <a:ext cx="4608720" cy="86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Следствия возникновения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осударственного долга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56000" y="2133720"/>
              <a:ext cx="0" cy="790560"/>
            </a:xfrm>
            <a:prstGeom prst="line">
              <a:avLst/>
            </a:prstGeom>
            <a:ln w="2844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0000" y="213372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7640" y="3789360"/>
              <a:ext cx="0" cy="100800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51280" y="479736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20780400">
            <a:off x="395280" y="1484280"/>
            <a:ext cx="3419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Государств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бюдж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1413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аланс запланированных расходов и доходов правительства за определенный период (за год).</a:t>
            </a: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716280"/>
            <a:ext cx="727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сударственный бюджет содержит: </a:t>
            </a:r>
            <a:br>
              <a:rPr sz="20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программ расходов: на образование, на оборону и т.д.; и </a:t>
            </a:r>
            <a:br>
              <a:rPr sz="18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источников получения доход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333360"/>
            <a:ext cx="3527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фици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сударственн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юдж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33360"/>
            <a:ext cx="489564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лан государственных расход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ольше, чем пла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государственных доход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1628640"/>
            <a:ext cx="4643640" cy="4626000"/>
            <a:chOff x="3995640" y="1628640"/>
            <a:chExt cx="4643640" cy="462600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1628640"/>
              <a:ext cx="4643640" cy="4626000"/>
              <a:chOff x="3995640" y="1628640"/>
              <a:chExt cx="4643640" cy="4626000"/>
            </a:xfrm>
          </p:grpSpPr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5640" y="2781360"/>
                <a:ext cx="4643640" cy="34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 txBox="1"/>
              <p:nvPr/>
            </p:nvSpPr>
            <p:spPr>
              <a:xfrm>
                <a:off x="5580000" y="1628640"/>
                <a:ext cx="161928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Impact"/>
                  </a:rPr>
                  <a:t>Доходы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5219640" y="2997360"/>
              <a:ext cx="1876320" cy="523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людь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0920" y="1484280"/>
            <a:ext cx="3889440" cy="5200560"/>
            <a:chOff x="250920" y="1484280"/>
            <a:chExt cx="3889440" cy="520056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324000" y="2637000"/>
              <a:ext cx="3060720" cy="40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250920" y="1484280"/>
              <a:ext cx="3889440" cy="11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асходы в Древней Рус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356000" cy="326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3933720"/>
            <a:ext cx="21621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рель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11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88000" y="1700280"/>
          <a:ext cx="4032000" cy="4181400"/>
        </p:xfrm>
        <a:graphic>
          <a:graphicData uri="http://schemas.openxmlformats.org/drawingml/2006/table">
            <a:tbl>
              <a:tblPr/>
              <a:tblGrid>
                <a:gridCol w="2963880"/>
                <a:gridCol w="106812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аможенный и каба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реле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нь и оброк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мские, пологичные и конск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Запросные" день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(пошлины и т. д.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йско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предприяти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435640" y="134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680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2173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4032360" cy="3282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109960" cy="25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859280" y="2349360"/>
          <a:ext cx="3889440" cy="3062520"/>
        </p:xfrm>
        <a:graphic>
          <a:graphicData uri="http://schemas.openxmlformats.org/drawingml/2006/table">
            <a:tbl>
              <a:tblPr/>
              <a:tblGrid>
                <a:gridCol w="2797200"/>
                <a:gridCol w="1092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ушная пода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щественные постройк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35640" y="177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724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8414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тр Первый (1672-1725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375000" cy="317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03640" y="3141720"/>
            <a:ext cx="1871640" cy="1384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3933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4508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1769 году в России появились первые бумажные деньги, которые стали называться ассигнациями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92720" y="260280"/>
            <a:ext cx="285768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58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05ff6"/>
                </a:solidFill>
                <a:uFillTx/>
                <a:latin typeface="Arial"/>
              </a:rPr>
              <a:t>К концу царствования государственный долг составил 215 млн рублей.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462040" cy="252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2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 (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мператор в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1801-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825гг.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51280" y="549360"/>
            <a:ext cx="5016600" cy="3598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00720" y="428292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ибытие М.И.Кутузов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859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о время войны с Наполеоном (1812-1815) было выпущено огромное количество бумажных денег (244,5 млн рублей), и цены выросли более чем в 3 раза по сравнению с концом царствования Екатерины II. Одновременно были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урезаны бюджеты всех невоенных ведомств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2060640"/>
            <a:ext cx="1849320" cy="13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907920"/>
            <a:ext cx="204012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3213000"/>
            <a:ext cx="266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крин Е.Ф.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р финансов в 1823-1844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435640" y="189000"/>
            <a:ext cx="2792520" cy="2644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43657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отяжении 20 следующих лет (уже при Николае I) соблюдался режим строгой экономии и прекращен беспорядочный выпуск ассигнаций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5013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ыл установлен общий курс ассигнаций по отношению к серебряному рублю для всех видов денежных операций (денежную реформу 1839-1843 гг. Канкрина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60400" cy="377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29264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император России 1825-1855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4932360"/>
            <a:ext cx="2987640" cy="192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5:38:50Z</dcterms:created>
  <dc:creator>Надежда</dc:creator>
  <dc:description/>
  <cp:keywords/>
  <dc:language>en-US</dc:language>
  <cp:lastModifiedBy>Надежда</cp:lastModifiedBy>
  <dcterms:modified xsi:type="dcterms:W3CDTF">2009-10-26T11:38:37Z</dcterms:modified>
  <cp:revision>6</cp:revision>
  <dc:subject/>
  <dc:title>Государственный долг: причины возникновения и следств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