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7D1-9E4D-4D59-AC5A-AE8AEBA7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CD0-20D3-4674-8690-B1996B50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EB8-87C9-4F1C-B7C3-879962FA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698-E13E-4766-9ED5-3F0084DC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05D9-A050-48AE-93DA-C233B8DC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055D-CB80-40B0-826E-D00267BB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F592-DC73-4BBA-863E-07FC19BD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AE3D-AF7E-4A30-9C95-CF8E8E29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FE72-F58A-4FCB-A60A-A8A527E3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B61C-508D-43C4-81DD-237EB95B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D8F3-F366-4719-9EC2-D030A3A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E3D-388C-4191-B869-115B100C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EBBC-E4E5-427D-858D-420EF576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8E3F-F5D3-4592-ADFA-E5A8F72E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4D50-3057-4AEA-B9FE-0E0A3652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90A4-8D02-4CF4-A04B-6228D1EB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9C6E-9477-460E-B3E0-9C696FE8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412B-F912-4DF8-B635-BCD43B18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2C877-5744-4DD0-B2BA-F7C20EC6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7A3E-A96D-47E0-B403-3C9DA5AB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BD34-2790-44CE-BBE5-2092C509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13B86-44DC-4042-9A68-B1342B9E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2A1-5575-4712-A3D7-5ED5B4AE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E2AF-83AE-42C1-A0AD-B9A685A6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5D263-61F4-4C2F-99C1-F56E646F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9CFCA-5ED0-4293-8C6A-C4B65D79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024A-B583-4E78-8DC0-A693F7D9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6C82-E20A-4B44-AECB-5C2FE76F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DDF3-F43C-4A69-9F26-CC251FB0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1528-AE5A-41BA-82D0-8A83FF54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F16-89A6-436D-BFE9-06D53D17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F13-3E2B-4857-8643-0BCBE9BE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BD2-F290-4E2C-9C6B-EEB6F629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7C7-8277-4055-A49B-74D384C2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953-27C5-41F9-99A9-A18E55A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84F-F8AA-472E-9E24-F630356D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762E-AD5D-466A-B580-729AC73F15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BDA6-E4D7-4E7E-BE60-23072AEE18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4846-D402-4BF1-91BE-13102E2FB5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то такой потреб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ОУ «СОШ №5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ева Ма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149481"/>
          <p:cNvPicPr/>
          <p:nvPr/>
        </p:nvPicPr>
        <p:blipFill>
          <a:blip r:embed="rId1"/>
          <a:stretch/>
        </p:blipFill>
        <p:spPr>
          <a:xfrm>
            <a:off x="6443640" y="260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Физиологические потребности (еда, вода, одежда, жилье, воспроизведение рода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Социальные потребности (потребность в любви, дружбе, общении с людьми, имеющими те же интересы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59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132000" y="177336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а в магазинах пищевых продуктов, вещей, товаров для дома. Приобретение кварти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щевые продукты, предметы быта, одежда, квартира, мебел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0"/>
          <p:cNvSpPr/>
          <p:nvPr/>
        </p:nvSpPr>
        <p:spPr>
          <a:xfrm>
            <a:off x="3203640" y="4005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емьи. Участие в культурной и общественной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обственной семьи и укрепление родительской. Формирование круга друзей и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05120"/>
                <a:gridCol w="3071880"/>
                <a:gridCol w="2908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отребность в безопасности (защита от преступников и внешних врагов, защита от нищеты и помощь при болезнях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2987640" y="1773360"/>
            <a:ext cx="3168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Установка различных видов защиты своего имущества, информации и пра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осредственное участие в защите себя, родных и близких, об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рабочего мес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0360" y="1773360"/>
            <a:ext cx="320364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еталлические двери, система сигнализации, страхование иму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внутренних и внешних вооруженных си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казание мед. помощи, социальной защи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808360"/>
                <a:gridCol w="3166920"/>
                <a:gridCol w="2989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отребность в уважении (со стороны других людей и самоуважения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отребность в самореализации (в развитии своих возможностей и способностей и их активном использован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1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59280" y="1844640"/>
            <a:ext cx="30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ий уровень реализации себя в работе, семье, обще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енное выполнение всех жизненных прав, обязанностей и возмож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987640" y="407664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образования (в том числе дополнительного). Добиваться решения поставленных жизненных зада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в школе, колледже, ВУЗе. Устроиться на работу, соответствующую твоим склонностям и интере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Волшебная палочк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каждого из вас есть волшебная палочка, которая может исполнить одно заветное жел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жите чего бы вы хотели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употребив сло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ители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Группа 9"/>
          <p:cNvGrpSpPr/>
          <p:nvPr/>
        </p:nvGrpSpPr>
        <p:grpSpPr>
          <a:xfrm>
            <a:off x="7862760" y="160560"/>
            <a:ext cx="1149480" cy="2620800"/>
            <a:chOff x="7862760" y="160560"/>
            <a:chExt cx="1149480" cy="2620800"/>
          </a:xfrm>
        </p:grpSpPr>
        <p:grpSp>
          <p:nvGrpSpPr>
            <p:cNvPr id="202" name="Group 9"/>
            <p:cNvGrpSpPr/>
            <p:nvPr/>
          </p:nvGrpSpPr>
          <p:grpSpPr>
            <a:xfrm>
              <a:off x="7862760" y="160560"/>
              <a:ext cx="1149480" cy="2620800"/>
              <a:chOff x="7862760" y="160560"/>
              <a:chExt cx="1149480" cy="2620800"/>
            </a:xfrm>
          </p:grpSpPr>
          <p:sp>
            <p:nvSpPr>
              <p:cNvPr id="203" name="AutoShape 7"/>
              <p:cNvSpPr/>
              <p:nvPr/>
            </p:nvSpPr>
            <p:spPr>
              <a:xfrm rot="811800">
                <a:off x="7956000" y="260280"/>
                <a:ext cx="962280" cy="914400"/>
              </a:xfrm>
              <a:prstGeom prst="pie">
                <a:avLst/>
              </a:prstGeom>
              <a:gradFill rotWithShape="0">
                <a:gsLst>
                  <a:gs pos="0">
                    <a:srgbClr val="d0dae2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13500000" blurRad="0" rotWithShape="0">
                  <a:srgbClr val="e7edf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 flipH="1">
                <a:off x="8101080" y="981000"/>
                <a:ext cx="288720" cy="1800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5" name="Прямая соединительная линия 7"/>
            <p:cNvSpPr/>
            <p:nvPr/>
          </p:nvSpPr>
          <p:spPr>
            <a:xfrm flipH="1">
              <a:off x="7929720" y="928440"/>
              <a:ext cx="428400" cy="1428840"/>
            </a:xfrm>
            <a:prstGeom prst="line">
              <a:avLst/>
            </a:prstGeom>
            <a:ln w="9360">
              <a:solidFill>
                <a:srgbClr val="83b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j0205582"/>
          <p:cNvPicPr/>
          <p:nvPr/>
        </p:nvPicPr>
        <p:blipFill>
          <a:blip r:embed="rId1"/>
          <a:stretch/>
        </p:blipFill>
        <p:spPr>
          <a:xfrm>
            <a:off x="0" y="3573360"/>
            <a:ext cx="1944720" cy="178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ческие потребности безграничны, а ресурсов для их удовлетворения недостато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должна к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учше обеспе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дей материаль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ами из ограниченн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а ресурсов, которым 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лагает. А каждый потребитель должен с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j0199283"/>
          <p:cNvPicPr/>
          <p:nvPr/>
        </p:nvPicPr>
        <p:blipFill>
          <a:blip r:embed="rId2"/>
          <a:stretch/>
        </p:blipFill>
        <p:spPr>
          <a:xfrm>
            <a:off x="7093080" y="2349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4266"/>
          <p:cNvPicPr/>
          <p:nvPr/>
        </p:nvPicPr>
        <p:blipFill>
          <a:blip r:embed="rId3"/>
          <a:stretch/>
        </p:blipFill>
        <p:spPr>
          <a:xfrm>
            <a:off x="0" y="1773360"/>
            <a:ext cx="2089080" cy="203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92152"/>
          <p:cNvPicPr/>
          <p:nvPr/>
        </p:nvPicPr>
        <p:blipFill>
          <a:blip r:embed="rId4"/>
          <a:stretch/>
        </p:blipFill>
        <p:spPr>
          <a:xfrm>
            <a:off x="7236000" y="472428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51871"/>
          <p:cNvPicPr/>
          <p:nvPr/>
        </p:nvPicPr>
        <p:blipFill>
          <a:blip r:embed="rId5"/>
          <a:stretch/>
        </p:blipFill>
        <p:spPr>
          <a:xfrm>
            <a:off x="6877080" y="8366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тит деньги только на то, в чем он действительно нуждается, что приносит е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ьшую поль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 – очень разборчивый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рациональный потребитель"/>
          <p:cNvPicPr/>
          <p:nvPr/>
        </p:nvPicPr>
        <p:blipFill>
          <a:blip r:embed="rId1"/>
          <a:stretch/>
        </p:blipFill>
        <p:spPr>
          <a:xfrm>
            <a:off x="4643280" y="1989000"/>
            <a:ext cx="4294440" cy="3175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300840"/>
          <p:cNvPicPr/>
          <p:nvPr/>
        </p:nvPicPr>
        <p:blipFill>
          <a:blip r:embed="rId2"/>
          <a:stretch/>
        </p:blipFill>
        <p:spPr>
          <a:xfrm>
            <a:off x="971640" y="2781360"/>
            <a:ext cx="2592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, какие покупки ты и твоя семья сделала за последнюю неделю. Выпиши эти покупки с их стоимостью. Распредели покупки по следующим групп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2781360"/>
          <a:ext cx="82296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ти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8"/>
          <p:cNvSpPr/>
          <p:nvPr/>
        </p:nvSpPr>
        <p:spPr>
          <a:xfrm>
            <a:off x="395280" y="551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елай вывод, какой ты покупатель рациональный или нет. Объясни поче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и таблицу «Важность отдельных товаров». В графе «Товары» перечисли товары, которые удовлетворяют данную потребность; в графе «Необходимость» условными обозначениями «+», «-» или «+/-» отметь необходимость данного товара для удовлетворения этой потребности: «+» - товар нельзя заменить никаким другим товаром (например: хлеб); «-» - товар имеет заменитель (например, ветчина – мясо); «+/-» - товар заменить нечем только в определенных случаях (например, лим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4292640"/>
          <a:ext cx="8424720" cy="2378160"/>
        </p:xfrm>
        <a:graphic>
          <a:graphicData uri="http://schemas.openxmlformats.org/drawingml/2006/table">
            <a:tbl>
              <a:tblPr/>
              <a:tblGrid>
                <a:gridCol w="2809800"/>
                <a:gridCol w="2805120"/>
                <a:gridCol w="28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амовыр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 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ите примеры некоторых своих потребностей. Какие блага (товары и услуги) нужны, чтобы их удовлетвор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2400" y="155628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125360"/>
          <a:ext cx="8229600" cy="4483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AutoShape 73">
            <a:hlinkClick r:id="rId1" action="ppaction://hlinksldjump"/>
          </p:cNvPr>
          <p:cNvSpPr/>
          <p:nvPr/>
        </p:nvSpPr>
        <p:spPr>
          <a:xfrm>
            <a:off x="6156360" y="5950080"/>
            <a:ext cx="2808360" cy="62064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d0dae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268280"/>
          <a:ext cx="8229600" cy="44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66"/>
          <p:cNvSpPr/>
          <p:nvPr/>
        </p:nvSpPr>
        <p:spPr>
          <a:xfrm>
            <a:off x="176364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2050920" y="263700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8"/>
          <p:cNvSpPr/>
          <p:nvPr/>
        </p:nvSpPr>
        <p:spPr>
          <a:xfrm>
            <a:off x="205092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69"/>
          <p:cNvSpPr/>
          <p:nvPr/>
        </p:nvSpPr>
        <p:spPr>
          <a:xfrm>
            <a:off x="176364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0"/>
          <p:cNvSpPr/>
          <p:nvPr/>
        </p:nvSpPr>
        <p:spPr>
          <a:xfrm>
            <a:off x="205092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1"/>
          <p:cNvSpPr/>
          <p:nvPr/>
        </p:nvSpPr>
        <p:spPr>
          <a:xfrm>
            <a:off x="205092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2"/>
          <p:cNvSpPr/>
          <p:nvPr/>
        </p:nvSpPr>
        <p:spPr>
          <a:xfrm>
            <a:off x="176364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3"/>
          <p:cNvSpPr/>
          <p:nvPr/>
        </p:nvSpPr>
        <p:spPr>
          <a:xfrm>
            <a:off x="2050920" y="407664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74"/>
          <p:cNvSpPr/>
          <p:nvPr/>
        </p:nvSpPr>
        <p:spPr>
          <a:xfrm>
            <a:off x="2050920" y="450864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5"/>
          <p:cNvSpPr/>
          <p:nvPr/>
        </p:nvSpPr>
        <p:spPr>
          <a:xfrm>
            <a:off x="2050920" y="49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6"/>
          <p:cNvSpPr/>
          <p:nvPr/>
        </p:nvSpPr>
        <p:spPr>
          <a:xfrm>
            <a:off x="2050920" y="5373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j0205462"/>
          <p:cNvPicPr/>
          <p:nvPr/>
        </p:nvPicPr>
        <p:blipFill>
          <a:blip r:embed="rId1"/>
          <a:stretch/>
        </p:blipFill>
        <p:spPr>
          <a:xfrm>
            <a:off x="7378560" y="5100480"/>
            <a:ext cx="1765440" cy="17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183328"/>
          <p:cNvPicPr/>
          <p:nvPr/>
        </p:nvPicPr>
        <p:blipFill>
          <a:blip r:embed="rId2"/>
          <a:stretch/>
        </p:blipFill>
        <p:spPr>
          <a:xfrm>
            <a:off x="7000920" y="1357200"/>
            <a:ext cx="1806480" cy="1814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 1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магазине рядом со школой альбом для рисования стоит 20 рублей, а в магазине через 10 автобусных остановок – 17 рублей. В каком магазине покупка альбома обойдется дешев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825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ьб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рисования в магазине рядом со школ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оит доро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го с точки зрения экономики выгоднее куп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 как на приобретение более дешевого альбома прид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атить врем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 дорог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10 остановок)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ньги на дорог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836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71680" y="164304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единствен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349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4200" y="1000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ком случае цена на глобус увели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1680" y="221472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каждом книж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1680" y="27860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стало модно ставить на письменный 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1680" y="32860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можно заменить картой мира, занимающей     мало ме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1680" y="4143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лобусе поставил свою подпись Президен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глобус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214200" y="507204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то, что плати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Если его цена не устраивает, он ищет такой же, но более дешевый товар либо другой товар, отвечающий тем же самым требова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-17784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то такой потребитель и какую роль он играет в экономик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557360"/>
            <a:ext cx="8715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такой участник экономики, которым может быть отдельный человек, целое предприятие и даже государство, имеющий материальные и духовные потребности и возможности их удовлетворить, т. е. средства для покупки товаров и услуг, и, наконец, желание и умение использовать их п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на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7" descr="j0149481"/>
          <p:cNvPicPr/>
          <p:nvPr/>
        </p:nvPicPr>
        <p:blipFill>
          <a:blip r:embed="rId1"/>
          <a:stretch/>
        </p:blipFill>
        <p:spPr>
          <a:xfrm>
            <a:off x="6999120" y="486900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0285360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уда заводы и фабр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ют, какую продукцию им над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2637000"/>
            <a:ext cx="79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 об этом напоминает потребитель. Он покупает только нужные вещи, и если объем покупок увеличивается, то это является для производителей сигналом к действ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522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я в первую очередь характеризует наличие потре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Сказку о рыбаке и рыбк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А.С. Пушк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олотая рыбка исполн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я жадной старухи, 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уплыла от нее и старика, поняв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д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гранич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золотая рыбка сказка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старуха"/>
          <p:cNvPicPr/>
          <p:nvPr/>
        </p:nvPicPr>
        <p:blipFill>
          <a:blip r:embed="rId2"/>
          <a:stretch/>
        </p:blipFill>
        <p:spPr>
          <a:xfrm>
            <a:off x="324000" y="4365720"/>
            <a:ext cx="3192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авайте вспомни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1700280"/>
            <a:ext cx="813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надобность, нужда в чем-либо, требующая удовле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26920" y="436572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ие, потребность в безопасности, социальные, потребность в уважении, потребность в саморе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84360" y="1052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терм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ность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35002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виды потребностей вы знае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8:58Z</dcterms:created>
  <dc:creator>Sviridenkona</dc:creator>
  <dc:description/>
  <dc:language>en-US</dc:language>
  <cp:lastModifiedBy>Sviridenkona</cp:lastModifiedBy>
  <dcterms:modified xsi:type="dcterms:W3CDTF">2010-02-25T02:13:27Z</dcterms:modified>
  <cp:revision>44</cp:revision>
  <dc:subject/>
  <dc:title>Школа как потребитель</dc:title>
</cp:coreProperties>
</file>