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D26-EBAB-44F0-B07C-72A8F4CF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7F8-AD84-4971-939A-CE7629E4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F7B-1644-435F-8314-A0FF3A54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A89-1F2C-48DC-A5B6-16E501A1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73F-0A4A-47DA-899E-66AF58F9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4E06-1780-45C6-AF4F-29478F6F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7CB7-78C7-469C-8112-E33ACD6D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5307-DA8C-4FC7-A135-182D4E20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8D7C-4852-4AFF-9F47-67E01477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6640-5426-4D9B-8671-10C02BA5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F793-F70A-4CDD-951B-97B3FE0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BCA-D154-4E98-B749-099F12B2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C140-4BAC-44A6-9282-2E0598BB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CA5A-48BE-40F6-A9B0-265B079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C95-0713-4FA0-9AEF-4114F86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82D0-341E-43EA-A75A-BFD65929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5C39-3B85-4252-B3AC-AA000F90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7B31A-6D0C-4020-8487-9C1FBCA7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0550-9DC1-4D8C-8F43-B36EC3F0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FA85-B590-4E32-80EC-20BD8F7C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C9AA-F25C-4BD5-AC7C-3D2D99B9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02E8-7858-4B79-8EE3-A42613AD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1BEF-C59E-4752-893D-9E1A1982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2546C-C6D7-4F82-8830-C1838717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EB2A-BA97-4E38-9D9C-D6240FE0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356C-7548-4819-91C1-71497AE3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41AD-D6A2-4D3E-BEEE-2121A98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3C93-08BB-4AA8-861F-0D0C2CC0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C144-1BFA-461B-9980-BE81A6D7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F0273-AFA6-43E7-915A-3B237ED89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48D-0231-43EA-99E8-C6A797D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35B-C7B8-423E-941E-3E62B499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425-43E5-4407-881A-2C9EA3A0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FA47-100D-4CD0-B708-F19696EF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EEB-B797-4572-8B60-9F86CE50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5FF-70FB-43A7-9D4C-C5132279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ECED-D423-40ED-9812-C1A95F7E40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B3C5-6D15-4236-8D44-BC8A518A0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d0dae2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7258-1332-4D2C-9FD9-F27C79D108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то такой потребит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4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ОУ «СОШ №56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 Новокузне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ева Марина Игор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j0149481"/>
          <p:cNvPicPr/>
          <p:nvPr/>
        </p:nvPicPr>
        <p:blipFill>
          <a:blip r:embed="rId1"/>
          <a:stretch/>
        </p:blipFill>
        <p:spPr>
          <a:xfrm>
            <a:off x="6443640" y="2602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989440"/>
                <a:gridCol w="2985840"/>
                <a:gridCol w="2989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Физиологические потребности (еда, вода, одежда, жилье, воспроизведение рода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Социальные потребности (потребность в любви, дружбе, общении с людьми, имеющими те же интересы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59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60"/>
          <p:cNvSpPr/>
          <p:nvPr/>
        </p:nvSpPr>
        <p:spPr>
          <a:xfrm>
            <a:off x="3132000" y="1773360"/>
            <a:ext cx="30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купка в магазинах пищевых продуктов, вещей, товаров для дома. Приобретение кварти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6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ищевые продукты, предметы быта, одежда, квартира, мебель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90"/>
          <p:cNvSpPr/>
          <p:nvPr/>
        </p:nvSpPr>
        <p:spPr>
          <a:xfrm>
            <a:off x="3203640" y="4005360"/>
            <a:ext cx="273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емьи. Участие в культурной и общественной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91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здание собственной семьи и укрепление родительской. Формирование круга друзей и близки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05120"/>
                <a:gridCol w="3071880"/>
                <a:gridCol w="2908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Потребность в безопасности (защита от преступников и внешних врагов, защита от нищеты и помощь при болезнях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7"/>
          <p:cNvSpPr/>
          <p:nvPr/>
        </p:nvSpPr>
        <p:spPr>
          <a:xfrm>
            <a:off x="2987640" y="1773360"/>
            <a:ext cx="316872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Установка различных видов защиты своего имущества, информации и пра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осредственное участие в защите себя, родных и близких, об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олучение рабочего мест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0360" y="1773360"/>
            <a:ext cx="320364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Металлические двери, система сигнализации, страхование имуще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Создание внутренних и внешних вооруженных си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казание мед. помощи, социальной защиты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Заполним таблицу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79280" y="907920"/>
          <a:ext cx="8964720" cy="5761080"/>
        </p:xfrm>
        <a:graphic>
          <a:graphicData uri="http://schemas.openxmlformats.org/drawingml/2006/table">
            <a:tbl>
              <a:tblPr/>
              <a:tblGrid>
                <a:gridCol w="2808360"/>
                <a:gridCol w="3166920"/>
                <a:gridCol w="29894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довлетвор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 или услу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Потребность в уважении (со стороны других людей и самоуважения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 Потребность в самореализации (в развитии своих возможностей и способностей и их активном использовании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1"/>
          <p:cNvSpPr/>
          <p:nvPr/>
        </p:nvSpPr>
        <p:spPr>
          <a:xfrm>
            <a:off x="2987640" y="501336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59280" y="1844640"/>
            <a:ext cx="309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ий уровень реализации себя в работе, семье, обществен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156360" y="184464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чественное выполнение всех жизненных прав, обязанностей и возмож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2987640" y="4076640"/>
            <a:ext cx="331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образования (в том числе дополнительного). Добиваться решения поставленных жизненных зада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6227640" y="400536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в школе, колледже, ВУЗе. Устроиться на работу, соответствующую твоим склонностям и интерес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«Волшебная палочка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072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Правил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каждого из вас есть волшебная палочка, которая может исполнить одно заветное жел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ажите чего бы вы хотели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язательно употребив слово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ители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" name="Группа 9"/>
          <p:cNvGrpSpPr/>
          <p:nvPr/>
        </p:nvGrpSpPr>
        <p:grpSpPr>
          <a:xfrm>
            <a:off x="7862760" y="160560"/>
            <a:ext cx="1149480" cy="2620800"/>
            <a:chOff x="7862760" y="160560"/>
            <a:chExt cx="1149480" cy="2620800"/>
          </a:xfrm>
        </p:grpSpPr>
        <p:grpSp>
          <p:nvGrpSpPr>
            <p:cNvPr id="202" name="Group 9"/>
            <p:cNvGrpSpPr/>
            <p:nvPr/>
          </p:nvGrpSpPr>
          <p:grpSpPr>
            <a:xfrm>
              <a:off x="7862760" y="160560"/>
              <a:ext cx="1149480" cy="2620800"/>
              <a:chOff x="7862760" y="160560"/>
              <a:chExt cx="1149480" cy="2620800"/>
            </a:xfrm>
          </p:grpSpPr>
          <p:sp>
            <p:nvSpPr>
              <p:cNvPr id="203" name="AutoShape 7"/>
              <p:cNvSpPr/>
              <p:nvPr/>
            </p:nvSpPr>
            <p:spPr>
              <a:xfrm rot="811800">
                <a:off x="7956000" y="260280"/>
                <a:ext cx="962280" cy="914400"/>
              </a:xfrm>
              <a:prstGeom prst="pie">
                <a:avLst/>
              </a:prstGeom>
              <a:gradFill rotWithShape="0">
                <a:gsLst>
                  <a:gs pos="0">
                    <a:srgbClr val="d0dae2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  <a:effectLst>
                <a:outerShdw dist="53966" dir="13500000" blurRad="0" rotWithShape="0">
                  <a:srgbClr val="e7edf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Line 8"/>
              <p:cNvSpPr/>
              <p:nvPr/>
            </p:nvSpPr>
            <p:spPr>
              <a:xfrm flipH="1">
                <a:off x="8101080" y="981000"/>
                <a:ext cx="288720" cy="1800360"/>
              </a:xfrm>
              <a:prstGeom prst="lin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5" name="Прямая соединительная линия 7"/>
            <p:cNvSpPr/>
            <p:nvPr/>
          </p:nvSpPr>
          <p:spPr>
            <a:xfrm flipH="1">
              <a:off x="7929720" y="928440"/>
              <a:ext cx="428400" cy="1428840"/>
            </a:xfrm>
            <a:prstGeom prst="line">
              <a:avLst/>
            </a:prstGeom>
            <a:ln w="9360">
              <a:solidFill>
                <a:srgbClr val="83b1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6" descr="j0205582"/>
          <p:cNvPicPr/>
          <p:nvPr/>
        </p:nvPicPr>
        <p:blipFill>
          <a:blip r:embed="rId1"/>
          <a:stretch/>
        </p:blipFill>
        <p:spPr>
          <a:xfrm>
            <a:off x="0" y="3573360"/>
            <a:ext cx="1944720" cy="178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86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ловеческие потребности безграничны, а ресурсов для их удовлетворения недостаточ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а должна ка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учше обеспечи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юдей материаль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лагами из ограниченно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ичества ресурсов, которым о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олагает. А каждый потребитель должен ста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м потребител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j0199283"/>
          <p:cNvPicPr/>
          <p:nvPr/>
        </p:nvPicPr>
        <p:blipFill>
          <a:blip r:embed="rId2"/>
          <a:stretch/>
        </p:blipFill>
        <p:spPr>
          <a:xfrm>
            <a:off x="7093080" y="234936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j0234266"/>
          <p:cNvPicPr/>
          <p:nvPr/>
        </p:nvPicPr>
        <p:blipFill>
          <a:blip r:embed="rId3"/>
          <a:stretch/>
        </p:blipFill>
        <p:spPr>
          <a:xfrm>
            <a:off x="0" y="1773360"/>
            <a:ext cx="2089080" cy="203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j0292152"/>
          <p:cNvPicPr/>
          <p:nvPr/>
        </p:nvPicPr>
        <p:blipFill>
          <a:blip r:embed="rId4"/>
          <a:stretch/>
        </p:blipFill>
        <p:spPr>
          <a:xfrm>
            <a:off x="7236000" y="4724280"/>
            <a:ext cx="1538280" cy="1825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j0251871"/>
          <p:cNvPicPr/>
          <p:nvPr/>
        </p:nvPicPr>
        <p:blipFill>
          <a:blip r:embed="rId5"/>
          <a:stretch/>
        </p:blipFill>
        <p:spPr>
          <a:xfrm>
            <a:off x="6877080" y="83664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атит деньги только на то, в чем он действительно нуждается, что приносит ем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ибольшую польз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циональный потребитель – очень разборчивый челове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4" descr="рациональный потребитель"/>
          <p:cNvPicPr/>
          <p:nvPr/>
        </p:nvPicPr>
        <p:blipFill>
          <a:blip r:embed="rId1"/>
          <a:stretch/>
        </p:blipFill>
        <p:spPr>
          <a:xfrm>
            <a:off x="4643280" y="1989000"/>
            <a:ext cx="4294440" cy="3175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j0300840"/>
          <p:cNvPicPr/>
          <p:nvPr/>
        </p:nvPicPr>
        <p:blipFill>
          <a:blip r:embed="rId2"/>
          <a:stretch/>
        </p:blipFill>
        <p:spPr>
          <a:xfrm>
            <a:off x="971640" y="2781360"/>
            <a:ext cx="25923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спомни, какие покупки ты и твоя семья сделала за последнюю неделю. Выпиши эти покупки с их стоимостью. Распредели покупки по следующим групп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8360" y="2781360"/>
          <a:ext cx="8229600" cy="2590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ате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тиж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 Box 38"/>
          <p:cNvSpPr/>
          <p:nvPr/>
        </p:nvSpPr>
        <p:spPr>
          <a:xfrm>
            <a:off x="395280" y="5516640"/>
            <a:ext cx="84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делай вывод, какой ты покупатель рациональный или нет. Объясни почем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полни таблицу «Важность отдельных товаров». В графе «Товары» перечисли товары, которые удовлетворяют данную потребность; в графе «Необходимость» условными обозначениями «+», «-» или «+/-» отметь необходимость данного товара для удовлетворения этой потребности: «+» - товар нельзя заменить никаким другим товаром (например: хлеб); «-» - товар имеет заменитель (например, ветчина – мясо); «+/-» - товар заменить нечем только в определенных случаях (например, лим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95280" y="4292640"/>
          <a:ext cx="8424720" cy="2378160"/>
        </p:xfrm>
        <a:graphic>
          <a:graphicData uri="http://schemas.openxmlformats.org/drawingml/2006/table">
            <a:tbl>
              <a:tblPr/>
              <a:tblGrid>
                <a:gridCol w="2809800"/>
                <a:gridCol w="2805120"/>
                <a:gridCol w="280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треб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обход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ув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безопас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амовыра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л 12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едите примеры некоторых своих потребностей. Какие блага (товары и услуги) нужны, чтобы их удовлетвор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2400" y="1556280"/>
            <a:ext cx="7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§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125360"/>
          <a:ext cx="8229600" cy="4483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AutoShape 73">
            <a:hlinkClick r:id="rId1" action="ppaction://hlinksldjump"/>
          </p:cNvPr>
          <p:cNvSpPr/>
          <p:nvPr/>
        </p:nvSpPr>
        <p:spPr>
          <a:xfrm>
            <a:off x="6156360" y="5950080"/>
            <a:ext cx="2808360" cy="620640"/>
          </a:xfrm>
          <a:prstGeom prst="flowChartAlternateProcess">
            <a:avLst/>
          </a:prstGeom>
          <a:gradFill rotWithShape="0">
            <a:gsLst>
              <a:gs pos="0">
                <a:srgbClr val="99ccff"/>
              </a:gs>
              <a:gs pos="100000">
                <a:srgbClr val="d0dae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Задание экономист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1268280"/>
          <a:ext cx="8229600" cy="4483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упленный то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то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де покуп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Цена тов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тра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еб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невн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н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 рын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анда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не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зи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газ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р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66"/>
          <p:cNvSpPr/>
          <p:nvPr/>
        </p:nvSpPr>
        <p:spPr>
          <a:xfrm>
            <a:off x="176364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67"/>
          <p:cNvSpPr/>
          <p:nvPr/>
        </p:nvSpPr>
        <p:spPr>
          <a:xfrm>
            <a:off x="2050920" y="263700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8"/>
          <p:cNvSpPr/>
          <p:nvPr/>
        </p:nvSpPr>
        <p:spPr>
          <a:xfrm>
            <a:off x="2050920" y="220500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69"/>
          <p:cNvSpPr/>
          <p:nvPr/>
        </p:nvSpPr>
        <p:spPr>
          <a:xfrm>
            <a:off x="176364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70"/>
          <p:cNvSpPr/>
          <p:nvPr/>
        </p:nvSpPr>
        <p:spPr>
          <a:xfrm>
            <a:off x="2050920" y="31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71"/>
          <p:cNvSpPr/>
          <p:nvPr/>
        </p:nvSpPr>
        <p:spPr>
          <a:xfrm>
            <a:off x="205092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72"/>
          <p:cNvSpPr/>
          <p:nvPr/>
        </p:nvSpPr>
        <p:spPr>
          <a:xfrm>
            <a:off x="1763640" y="357336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73"/>
          <p:cNvSpPr/>
          <p:nvPr/>
        </p:nvSpPr>
        <p:spPr>
          <a:xfrm>
            <a:off x="2050920" y="407664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74"/>
          <p:cNvSpPr/>
          <p:nvPr/>
        </p:nvSpPr>
        <p:spPr>
          <a:xfrm>
            <a:off x="2050920" y="4508640"/>
            <a:ext cx="289080" cy="21564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AutoShape 75"/>
          <p:cNvSpPr/>
          <p:nvPr/>
        </p:nvSpPr>
        <p:spPr>
          <a:xfrm>
            <a:off x="2050920" y="4941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AutoShape 76"/>
          <p:cNvSpPr/>
          <p:nvPr/>
        </p:nvSpPr>
        <p:spPr>
          <a:xfrm>
            <a:off x="2050920" y="5373720"/>
            <a:ext cx="289080" cy="2160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j0205462"/>
          <p:cNvPicPr/>
          <p:nvPr/>
        </p:nvPicPr>
        <p:blipFill>
          <a:blip r:embed="rId1"/>
          <a:stretch/>
        </p:blipFill>
        <p:spPr>
          <a:xfrm>
            <a:off x="7378560" y="5100480"/>
            <a:ext cx="1765440" cy="1757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j0183328"/>
          <p:cNvPicPr/>
          <p:nvPr/>
        </p:nvPicPr>
        <p:blipFill>
          <a:blip r:embed="rId2"/>
          <a:stretch/>
        </p:blipFill>
        <p:spPr>
          <a:xfrm>
            <a:off x="7000920" y="1357200"/>
            <a:ext cx="1806480" cy="18147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адача 1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магазине рядом со школой альбом для рисования стоит 20 рублей, а в магазине через 10 автобусных остановок – 17 рублей. В каком магазине покупка альбома обойдется дешевле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2825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т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льбом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ля рисования в магазине рядом со школо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оит дорож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го с точки зрения экономики выгоднее купи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так как на приобретение более дешевого альбома придет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атить врем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а дорог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10 остановок)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ньги на дорог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68360" y="256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571680" y="164304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единствен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Задача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971640" y="234936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214200" y="1000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ком случае цена на глобус увеличитс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1680" y="221472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продается в каждом книжном магазин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71680" y="278604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стало модно ставить на письменный сто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71680" y="32860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обус можно заменить картой мира, занимающей     мало мес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1680" y="414324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глобусе поставил свою подпись Президент Российской Федерации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9" descr="глобус"/>
          <p:cNvPicPr/>
          <p:nvPr/>
        </p:nvPicPr>
        <p:blipFill>
          <a:blip r:embed="rId1"/>
          <a:stretch/>
        </p:blipFill>
        <p:spPr>
          <a:xfrm>
            <a:off x="7396200" y="0"/>
            <a:ext cx="1747800" cy="20718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4"/>
          <p:cNvSpPr/>
          <p:nvPr/>
        </p:nvSpPr>
        <p:spPr>
          <a:xfrm>
            <a:off x="214200" y="507204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вод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Цен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 то, что плати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Если его цена не устраивает, он ищет такой же, но более дешевый товар либо другой товар, отвечающий тем же самым требовани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7840" indent="-177840" algn="just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то такой потребитель и какую роль он играет в экономик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1557360"/>
            <a:ext cx="8715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это такой участник экономики, которым может быть отдельный человек, целое предприятие и даже государство, имеющий материальные и духовные потребности и возможности их удовлетворить, т. е. средства для покупки товаров и услуг, и, наконец, желание и умение использовать их п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значен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7" descr="j0149481"/>
          <p:cNvPicPr/>
          <p:nvPr/>
        </p:nvPicPr>
        <p:blipFill>
          <a:blip r:embed="rId1"/>
          <a:stretch/>
        </p:blipFill>
        <p:spPr>
          <a:xfrm>
            <a:off x="6999120" y="486900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j0285360"/>
          <p:cNvPicPr/>
          <p:nvPr/>
        </p:nvPicPr>
        <p:blipFill>
          <a:blip r:embed="rId1"/>
          <a:stretch/>
        </p:blipFill>
        <p:spPr>
          <a:xfrm>
            <a:off x="6886440" y="0"/>
            <a:ext cx="2257560" cy="2781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Подумай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3739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уда заводы и фабри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знают, какую продукцию им над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пуска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95280" y="2637000"/>
            <a:ext cx="799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 об этом напоминает потребитель. Он покупает только нужные вещи, и если объем покупок увеличивается, то это является для производителей сигналом к действию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522936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ителя в первую очередь характеризует наличие потребност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Вспомни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«Сказку о рыбаке и рыбке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А.С. Пушкин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олотая рыбка исполня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желания жадной старухи, 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том уплыла от нее и старика, поняв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людей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граничн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Picture 5" descr="золотая рыбка сказка"/>
          <p:cNvPicPr/>
          <p:nvPr/>
        </p:nvPicPr>
        <p:blipFill>
          <a:blip r:embed="rId1"/>
          <a:stretch/>
        </p:blipFill>
        <p:spPr>
          <a:xfrm>
            <a:off x="5940360" y="1268280"/>
            <a:ext cx="2952720" cy="214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старуха"/>
          <p:cNvPicPr/>
          <p:nvPr/>
        </p:nvPicPr>
        <p:blipFill>
          <a:blip r:embed="rId2"/>
          <a:stretch/>
        </p:blipFill>
        <p:spPr>
          <a:xfrm>
            <a:off x="324000" y="4365720"/>
            <a:ext cx="3192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Давайте вспомним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4360" y="1700280"/>
            <a:ext cx="81356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требност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это надобность, нужда в чем-либо, требующая удовлетв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26920" y="4365720"/>
            <a:ext cx="7993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ие, потребность в безопасности, социальные, потребность в уважении, потребность в самореализ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84360" y="105264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значает термин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потребность»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350028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виды потребностей вы знает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8:58Z</dcterms:created>
  <dc:creator>Sviridenkona</dc:creator>
  <dc:description/>
  <dc:language>en-US</dc:language>
  <cp:lastModifiedBy>Sviridenkona</cp:lastModifiedBy>
  <dcterms:modified xsi:type="dcterms:W3CDTF">2010-02-25T02:13:27Z</dcterms:modified>
  <cp:revision>44</cp:revision>
  <dc:subject/>
  <dc:title>Школа как потребитель</dc:title>
</cp:coreProperties>
</file>