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jpeg" ContentType="image/jpeg"/>
  <Override PartName="/ppt/media/image6.png" ContentType="image/png"/>
  <Override PartName="/ppt/media/image8.png" ContentType="image/png"/>
  <Override PartName="/ppt/media/image9.png" ContentType="image/png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4933-8FDE-4A63-95FB-B644643C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C862-24C3-4ADF-B3FF-DD625E2C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A7A7-FF0E-4CB4-AB2A-D7CC8322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4A67-B4AC-4CD9-9866-90914D9F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5510-4145-4DE5-AAB1-151F1B4D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6798-8F49-4759-8762-6FF1928D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3B8E-6179-4CAC-ACF2-71F6E5D7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E02B-371D-456D-BCDC-A2B00AB0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12C5-6EE1-4A8B-9F9B-DFEF1755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C755-EC07-4BC9-8DC1-12B72D41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487E-1BF9-4C31-B65A-673CD99F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34D2-284C-42BA-94C7-AA510C69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DD85-1E73-4253-B630-37390BF2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C757-55E4-4DD2-A32D-1E314BAC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5D1D-E439-4F62-83B9-1F580187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921D-8C64-4A34-BED8-B65A20F8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0A2D-D78C-4BDB-97AB-341441A6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CCDE-E4A0-4C8C-AE15-38CAA36A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86DE-2DCE-475F-A94D-FD169F0C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B585-47DD-48EC-B7F3-47EEF6CB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22C5-4D8B-4A67-8879-7E13AD2E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36FF-8899-4DDF-9C11-13B6E503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E7CF-EB23-41EF-B998-F8551A79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5717-6FEB-4238-8F2F-4A202B54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5102-F6DD-49DF-8A2A-E51F37CC16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22F8-69F6-4120-B562-0F4186A273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26560" y="2492280"/>
            <a:ext cx="7417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ПЛА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Сущность рынка, условия его успешного функционир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Основные функции ры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Плюсы и минусы рыночного механиз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Основные виды ры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539640" y="29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пособствует сохранению невоспроизводимых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оздает стимулов для производства товаров и услуг коллективного поль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гарантирует полной занятости и стабильного уровня це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оздает условия для развития науки, образования, учреждений культ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орождает социальную несправедливость и расслоение общества на богатых и бед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5050"/>
                </a:solidFill>
                <a:latin typeface="Arial"/>
              </a:rPr>
              <a:t>Недостатки рын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308720" y="1628640"/>
            <a:ext cx="136872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1672920" y="40068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Основные виды рынка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84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232000" y="2060640"/>
            <a:ext cx="691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Что такое рынок в общепринятом понят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Кому и зачем нужен рын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Укажите условия функционирования ры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Назовите функции рынка и расскажите об их реал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Каковы преимущества рыночной экономи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В чем заключаются недостатки рын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Перечислите виды рынков и приведите соответствующие прим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8ae"/>
                </a:solidFill>
                <a:latin typeface="Arial"/>
              </a:rPr>
              <a:t>Вопросы для закреп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50920" y="2204640"/>
            <a:ext cx="1752480" cy="1676520"/>
            <a:chOff x="250920" y="2204640"/>
            <a:chExt cx="1752480" cy="1676520"/>
          </a:xfrm>
        </p:grpSpPr>
        <p:grpSp>
          <p:nvGrpSpPr>
            <p:cNvPr id="272" name=""/>
            <p:cNvGrpSpPr/>
            <p:nvPr/>
          </p:nvGrpSpPr>
          <p:grpSpPr>
            <a:xfrm>
              <a:off x="250920" y="2204640"/>
              <a:ext cx="1752480" cy="1676520"/>
              <a:chOff x="250920" y="2204640"/>
              <a:chExt cx="1752480" cy="16765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250920" y="2204640"/>
                <a:ext cx="1752480" cy="167652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250920" y="2204640"/>
                <a:ext cx="1752480" cy="167652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 txBox="1"/>
            <p:nvPr/>
          </p:nvSpPr>
          <p:spPr>
            <a:xfrm>
              <a:off x="708120" y="2205000"/>
              <a:ext cx="752400" cy="148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000"/>
                            </p:stCondLst>
                            <p:childTnLst>
                              <p:par>
                                <p:cTn id="3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9000"/>
                            </p:stCondLst>
                            <p:childTnLst>
                              <p:par>
                                <p:cTn id="3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16000" y="2924280"/>
            <a:ext cx="7848720" cy="23050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115920"/>
            <a:ext cx="7128000" cy="144144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▲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РЫНОК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рыночная площадь, место торговли, т.е. место встречи продавцов и покупателей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292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▲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РЫНОК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форма функционирования экономики, при которой обеспечивается взаимодействие производства и потребления через обмен, куплю-продажу товаров и услуг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867280" y="1125360"/>
            <a:ext cx="2706840" cy="1828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08000" y="4941720"/>
            <a:ext cx="251928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333360"/>
            <a:ext cx="8280360" cy="11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Comic Sans MS"/>
              </a:rPr>
              <a:t>Материальная основа рынка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3645000"/>
            <a:ext cx="3311280" cy="2809800"/>
          </a:xfrm>
          <a:custGeom>
            <a:avLst/>
            <a:gdLst>
              <a:gd name="textAreaLeft" fmla="*/ 756000 w 3311280"/>
              <a:gd name="textAreaRight" fmla="*/ 2555280 w 3311280"/>
              <a:gd name="textAreaTop" fmla="*/ 641520 h 2809800"/>
              <a:gd name="textAreaBottom" fmla="*/ 2168280 h 280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това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1484280"/>
            <a:ext cx="3168720" cy="287964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57360 h 2879640"/>
              <a:gd name="textAreaBottom" fmla="*/ 222228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деньг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819520" y="3261600"/>
            <a:ext cx="3078720" cy="1080360"/>
            <a:chOff x="2819520" y="3261600"/>
            <a:chExt cx="3078720" cy="1080360"/>
          </a:xfrm>
        </p:grpSpPr>
        <p:sp>
          <p:nvSpPr>
            <p:cNvPr id="224" name="_s8208"/>
            <p:cNvSpPr/>
            <p:nvPr/>
          </p:nvSpPr>
          <p:spPr>
            <a:xfrm>
              <a:off x="3209400" y="3261600"/>
              <a:ext cx="2299320" cy="908280"/>
            </a:xfrm>
            <a:custGeom>
              <a:avLst/>
              <a:gdLst>
                <a:gd name="textAreaLeft" fmla="*/ 0 w 2299320"/>
                <a:gd name="textAreaRight" fmla="*/ 2299680 w 22993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37" y="17755"/>
                  </a:moveTo>
                  <a:arcTo wR="-7200" hR="-7200" stAng="6300000" swAng="-4500000"/>
                  <a:lnTo>
                    <a:pt x="1447" y="5400"/>
                  </a:lnTo>
                  <a:arcTo wR="10800" hR="10800" stAng="-9000000" swAng="4500000"/>
                  <a:lnTo>
                    <a:pt x="14294" y="-2240"/>
                  </a:lnTo>
                  <a:lnTo>
                    <a:pt x="17476" y="3271"/>
                  </a:lnTo>
                  <a:lnTo>
                    <a:pt x="11965" y="6453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8209"/>
            <p:cNvSpPr/>
            <p:nvPr/>
          </p:nvSpPr>
          <p:spPr>
            <a:xfrm rot="10800000">
              <a:off x="3209040" y="3433680"/>
              <a:ext cx="2299320" cy="908280"/>
            </a:xfrm>
            <a:custGeom>
              <a:avLst/>
              <a:gdLst>
                <a:gd name="textAreaLeft" fmla="*/ 0 w 2299320"/>
                <a:gd name="textAreaRight" fmla="*/ 2299680 w 22993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37" y="17755"/>
                  </a:moveTo>
                  <a:arcTo wR="-7200" hR="-7200" stAng="6300000" swAng="-4500000"/>
                  <a:lnTo>
                    <a:pt x="1447" y="5400"/>
                  </a:lnTo>
                  <a:arcTo wR="10800" hR="10800" stAng="-9000000" swAng="4500000"/>
                  <a:lnTo>
                    <a:pt x="14294" y="-2240"/>
                  </a:lnTo>
                  <a:lnTo>
                    <a:pt x="17476" y="3271"/>
                  </a:lnTo>
                  <a:lnTo>
                    <a:pt x="11965" y="6453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_s8210"/>
            <p:cNvSpPr/>
            <p:nvPr/>
          </p:nvSpPr>
          <p:spPr>
            <a:xfrm>
              <a:off x="4872600" y="3599640"/>
              <a:ext cx="1025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8211"/>
            <p:cNvSpPr/>
            <p:nvPr/>
          </p:nvSpPr>
          <p:spPr>
            <a:xfrm>
              <a:off x="2819520" y="3599640"/>
              <a:ext cx="1025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940360" y="4221000"/>
            <a:ext cx="2664000" cy="21542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194616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84720" y="5084640"/>
            <a:ext cx="237672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5084640"/>
            <a:ext cx="237636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19640" y="2637000"/>
            <a:ext cx="359892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2492280"/>
            <a:ext cx="237636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DownRibbonSharp"/>
          <p:cNvSpPr/>
          <p:nvPr/>
        </p:nvSpPr>
        <p:spPr>
          <a:xfrm>
            <a:off x="250920" y="260280"/>
            <a:ext cx="8785080" cy="1081080"/>
          </a:xfrm>
          <a:custGeom>
            <a:avLst/>
            <a:gdLst>
              <a:gd name="textAreaLeft" fmla="*/ 1209960 w 8785080"/>
              <a:gd name="textAreaRight" fmla="*/ 7575120 w 8785080"/>
              <a:gd name="textAreaTop" fmla="*/ 13320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75" y="0"/>
                </a:lnTo>
                <a:lnTo>
                  <a:pt x="5675" y="2663"/>
                </a:lnTo>
                <a:lnTo>
                  <a:pt x="15925" y="2663"/>
                </a:lnTo>
                <a:lnTo>
                  <a:pt x="15925" y="0"/>
                </a:lnTo>
                <a:lnTo>
                  <a:pt x="21600" y="0"/>
                </a:lnTo>
                <a:lnTo>
                  <a:pt x="18900" y="9469"/>
                </a:lnTo>
                <a:lnTo>
                  <a:pt x="21600" y="18937"/>
                </a:lnTo>
                <a:lnTo>
                  <a:pt x="18625" y="18937"/>
                </a:lnTo>
                <a:lnTo>
                  <a:pt x="18625" y="21600"/>
                </a:lnTo>
                <a:lnTo>
                  <a:pt x="2975" y="21600"/>
                </a:lnTo>
                <a:lnTo>
                  <a:pt x="2975" y="18937"/>
                </a:lnTo>
                <a:lnTo>
                  <a:pt x="0" y="18937"/>
                </a:lnTo>
                <a:lnTo>
                  <a:pt x="2700" y="9469"/>
                </a:lnTo>
                <a:close/>
              </a:path>
              <a:path fill="none" w="21600" h="21600">
                <a:moveTo>
                  <a:pt x="5675" y="2663"/>
                </a:moveTo>
                <a:lnTo>
                  <a:pt x="2975" y="2663"/>
                </a:lnTo>
                <a:lnTo>
                  <a:pt x="2975" y="18937"/>
                </a:lnTo>
              </a:path>
              <a:path fill="none" w="21600" h="21600">
                <a:moveTo>
                  <a:pt x="2975" y="2663"/>
                </a:moveTo>
                <a:lnTo>
                  <a:pt x="5675" y="0"/>
                </a:lnTo>
              </a:path>
              <a:path fill="none" w="21600" h="21600">
                <a:moveTo>
                  <a:pt x="15925" y="2663"/>
                </a:moveTo>
                <a:lnTo>
                  <a:pt x="18625" y="2663"/>
                </a:lnTo>
                <a:lnTo>
                  <a:pt x="18625" y="18937"/>
                </a:lnTo>
              </a:path>
              <a:path fill="none" w="21600" h="21600">
                <a:moveTo>
                  <a:pt x="18625" y="2663"/>
                </a:moveTo>
                <a:lnTo>
                  <a:pt x="15925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Условия возникнов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рыночной экономики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9084200">
            <a:off x="6784920" y="1680840"/>
            <a:ext cx="239760" cy="1025640"/>
          </a:xfrm>
          <a:prstGeom prst="downArrow">
            <a:avLst>
              <a:gd name="adj1" fmla="val 50000"/>
              <a:gd name="adj2" fmla="val 10694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9084200">
            <a:off x="4932000" y="1773000"/>
            <a:ext cx="289080" cy="3673440"/>
          </a:xfrm>
          <a:prstGeom prst="downArrow">
            <a:avLst>
              <a:gd name="adj1" fmla="val 50000"/>
              <a:gd name="adj2" fmla="val 31768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259000">
            <a:off x="3007800" y="1851120"/>
            <a:ext cx="289080" cy="3529080"/>
          </a:xfrm>
          <a:prstGeom prst="downArrow">
            <a:avLst>
              <a:gd name="adj1" fmla="val 50000"/>
              <a:gd name="adj2" fmla="val 30519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2636280"/>
            <a:ext cx="23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Общественное разделение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64000" y="263628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. Частная собственность на средства производства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2360" y="5299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. Конкуренц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52286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4. Свободное ценообразование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ae8"/>
                </a:solidFill>
                <a:latin typeface="Comic Sans MS"/>
              </a:rPr>
              <a:t>Основными субъектами рынка являются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2735280" cy="1008000"/>
          </a:xfrm>
          <a:prstGeom prst="rect">
            <a:avLst/>
          </a:prstGeom>
          <a:blipFill rotWithShape="0">
            <a:blip r:embed="rId1">
              <a:alphaModFix amt="50000"/>
            </a:blip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машнее хозяйств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68360" y="4869000"/>
            <a:ext cx="4248360" cy="129528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изнес (предпринимательство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51640" y="2060640"/>
            <a:ext cx="3240000" cy="122544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сударство (правительство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 flipH="1">
            <a:off x="323280" y="620640"/>
            <a:ext cx="8569080" cy="623736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Таким образом, рынок – это такая организация хозяйственной жизни, при которой производители, опираясь на спрос покупателей, самостоятельно решают </a:t>
            </a: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основные экономические вопро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835280" y="2276640"/>
            <a:ext cx="69847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DownRibbonSharp"/>
          <p:cNvSpPr/>
          <p:nvPr/>
        </p:nvSpPr>
        <p:spPr>
          <a:xfrm>
            <a:off x="611280" y="476280"/>
            <a:ext cx="8229600" cy="1139760"/>
          </a:xfrm>
          <a:custGeom>
            <a:avLst/>
            <a:gdLst>
              <a:gd name="textAreaLeft" fmla="*/ 1133280 w 8229600"/>
              <a:gd name="textAreaRight" fmla="*/ 7096320 w 8229600"/>
              <a:gd name="textAreaTop" fmla="*/ 140400 h 1139760"/>
              <a:gd name="textAreaBottom" fmla="*/ 1140120 h 11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75" y="0"/>
                </a:lnTo>
                <a:lnTo>
                  <a:pt x="5675" y="2663"/>
                </a:lnTo>
                <a:lnTo>
                  <a:pt x="15925" y="2663"/>
                </a:lnTo>
                <a:lnTo>
                  <a:pt x="15925" y="0"/>
                </a:lnTo>
                <a:lnTo>
                  <a:pt x="21600" y="0"/>
                </a:lnTo>
                <a:lnTo>
                  <a:pt x="18900" y="9469"/>
                </a:lnTo>
                <a:lnTo>
                  <a:pt x="21600" y="18937"/>
                </a:lnTo>
                <a:lnTo>
                  <a:pt x="18625" y="18937"/>
                </a:lnTo>
                <a:lnTo>
                  <a:pt x="18625" y="21600"/>
                </a:lnTo>
                <a:lnTo>
                  <a:pt x="2975" y="21600"/>
                </a:lnTo>
                <a:lnTo>
                  <a:pt x="2975" y="18937"/>
                </a:lnTo>
                <a:lnTo>
                  <a:pt x="0" y="18937"/>
                </a:lnTo>
                <a:lnTo>
                  <a:pt x="2700" y="9469"/>
                </a:lnTo>
                <a:close/>
              </a:path>
              <a:path fill="none" w="21600" h="21600">
                <a:moveTo>
                  <a:pt x="5675" y="2663"/>
                </a:moveTo>
                <a:lnTo>
                  <a:pt x="2975" y="2663"/>
                </a:lnTo>
                <a:lnTo>
                  <a:pt x="2975" y="18937"/>
                </a:lnTo>
              </a:path>
              <a:path fill="none" w="21600" h="21600">
                <a:moveTo>
                  <a:pt x="2975" y="2663"/>
                </a:moveTo>
                <a:lnTo>
                  <a:pt x="5675" y="0"/>
                </a:lnTo>
              </a:path>
              <a:path fill="none" w="21600" h="21600">
                <a:moveTo>
                  <a:pt x="15925" y="2663"/>
                </a:moveTo>
                <a:lnTo>
                  <a:pt x="18625" y="2663"/>
                </a:lnTo>
                <a:lnTo>
                  <a:pt x="18625" y="18937"/>
                </a:lnTo>
              </a:path>
              <a:path fill="none" w="21600" h="21600">
                <a:moveTo>
                  <a:pt x="18625" y="2663"/>
                </a:moveTo>
                <a:lnTo>
                  <a:pt x="15925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8ae"/>
                </a:solidFill>
                <a:latin typeface="Arial"/>
              </a:rPr>
              <a:t>Сформулируйте данные вопросы и раскройте их содерж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95280" y="1916280"/>
            <a:ext cx="1752480" cy="1676160"/>
            <a:chOff x="395280" y="1916280"/>
            <a:chExt cx="1752480" cy="1676160"/>
          </a:xfrm>
        </p:grpSpPr>
        <p:grpSp>
          <p:nvGrpSpPr>
            <p:cNvPr id="253" name=""/>
            <p:cNvGrpSpPr/>
            <p:nvPr/>
          </p:nvGrpSpPr>
          <p:grpSpPr>
            <a:xfrm>
              <a:off x="395280" y="1916280"/>
              <a:ext cx="1752480" cy="1676160"/>
              <a:chOff x="395280" y="1916280"/>
              <a:chExt cx="1752480" cy="1676160"/>
            </a:xfrm>
          </p:grpSpPr>
          <p:sp>
            <p:nvSpPr>
              <p:cNvPr id="254" name=""/>
              <p:cNvSpPr/>
              <p:nvPr/>
            </p:nvSpPr>
            <p:spPr>
              <a:xfrm flipV="1">
                <a:off x="395280" y="1916280"/>
                <a:ext cx="1752480" cy="167616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395280" y="1916280"/>
                <a:ext cx="1752480" cy="167616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 txBox="1"/>
            <p:nvPr/>
          </p:nvSpPr>
          <p:spPr>
            <a:xfrm>
              <a:off x="852480" y="1916280"/>
              <a:ext cx="752400" cy="14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484360" y="2852640"/>
            <a:ext cx="5486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ae8"/>
                </a:solidFill>
                <a:latin typeface="Comic Sans MS"/>
              </a:rPr>
              <a:t>Основные функции рынка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6408720" cy="3628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39640" y="173412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пираясь на материалы учебника Куликова Л.М. «Основы экономических знаний» (С.102-104), рассмотрите основные функции рынка и дайте им объясн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эффективное распределение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ибкость, высокая адаптивность (т.е. приспосабливаемость) к изменяющимся услови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вобода выбора и действий производителей и потребит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аксимальное использование достижений НТ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пособность к удовлетворению разнообразных потребностей, повышению качества товаров и услу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5050"/>
                </a:solidFill>
                <a:latin typeface="Comic Sans MS"/>
              </a:rPr>
              <a:t>Преимущества рынк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308720" y="1628640"/>
            <a:ext cx="133524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00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0:52:40Z</dcterms:created>
  <dc:creator>USER</dc:creator>
  <dc:description/>
  <dc:language>en-US</dc:language>
  <cp:lastModifiedBy>USER</cp:lastModifiedBy>
  <dcterms:modified xsi:type="dcterms:W3CDTF">2009-01-29T07:46:30Z</dcterms:modified>
  <cp:revision>4</cp:revision>
  <dc:subject/>
  <dc:title>Слайд 1</dc:title>
</cp:coreProperties>
</file>