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FCD-2C89-4456-BCBA-C559EAC5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AF4-0491-499E-9593-88DA6D95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EBC-CB8C-4474-ABFB-C2D72958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65C-545E-4F5A-82FF-A6B90355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2FED-025B-4D3B-881F-98F6188F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4A97-EAE5-4FC6-914C-C78F45D1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4A41-EF4D-4F20-B210-906D9A87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559A-1D71-41DC-82B6-02B97DC5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BCF5-10B6-4665-AFAF-424B7EEB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5C6E-EE29-40A2-8DF2-0D5B4E62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0E44-80FD-4E36-BB42-38E5A235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DDA-93F1-45BD-ACCC-70BE8917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4CBC-A40F-48EB-8D79-38B714C7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37C1-A790-4B8D-A9BE-78BF8584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1DE7-5FA5-45F9-9575-939EE4BE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9C55-A4D5-4E4E-B04A-C476B36C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FF1D-5DDD-46A0-8E1E-DB19336D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5AF-8E90-49A0-81F3-97CF0960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8F1-3C69-40CA-A48F-935BC988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A45-440D-4BAD-85B8-927DEB37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C8C-6DFA-41EE-A7DF-7C508020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DAB2-CF02-460B-97FF-E2823117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51B-4FA6-4893-B33B-E30C2001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CC81-DD8D-4F6F-9A92-40FA5BC8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0069-E11E-42DC-BCFA-65FA695E9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21A4-A74F-40AD-8CD6-2808D529A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417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А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Сущность рынка, условия его успешного функцион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функции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юсы и минусы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виды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пособствует сохранению невоспроизводим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стимулов для производства товаров и услуг коллективного 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гарантирует полной занятости и стабильного уровня ц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условия для развития науки, образования, учреждени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рождает социальную несправедливость и расслоение общества на богатых и бед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Недостатки ры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672920" y="40068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Основные виды рынк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84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32000" y="206064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Что такое рынок в общепринятом понят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ому и зачем нужен ры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Укажите условия функционирования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Назовите функции рынка и расскажите об их ре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аковы преимущества рыночной эконом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В чем заключаются недостатки ры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Перечислите виды рынков и приведите соответствующи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8ae"/>
                </a:solidFill>
                <a:latin typeface="Arial"/>
              </a:rPr>
              <a:t>Вопросы для закреп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0920" y="2204640"/>
            <a:ext cx="1752480" cy="1676520"/>
            <a:chOff x="250920" y="2204640"/>
            <a:chExt cx="1752480" cy="1676520"/>
          </a:xfrm>
        </p:grpSpPr>
        <p:grpSp>
          <p:nvGrpSpPr>
            <p:cNvPr id="272" name=""/>
            <p:cNvGrpSpPr/>
            <p:nvPr/>
          </p:nvGrpSpPr>
          <p:grpSpPr>
            <a:xfrm>
              <a:off x="250920" y="2204640"/>
              <a:ext cx="1752480" cy="1676520"/>
              <a:chOff x="250920" y="2204640"/>
              <a:chExt cx="1752480" cy="16765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>
              <a:off x="708120" y="2205000"/>
              <a:ext cx="752400" cy="148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924280"/>
            <a:ext cx="7848720" cy="23050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15920"/>
            <a:ext cx="7128000" cy="14414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рыночная площадь, место торговли, т.е. место встречи продавцов и покупателе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форма функционирования экономики, при которой обеспечивается взаимодействие производства и потребления через обмен, куплю-продажу товаров и услуг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270684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25192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8280360" cy="11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Материальная основа рынк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645000"/>
            <a:ext cx="3311280" cy="280980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641520 h 2809800"/>
              <a:gd name="textAreaBottom" fmla="*/ 2168280 h 28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тов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484280"/>
            <a:ext cx="3168720" cy="28796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ень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19520" y="3261600"/>
            <a:ext cx="3078720" cy="1080360"/>
            <a:chOff x="2819520" y="3261600"/>
            <a:chExt cx="3078720" cy="1080360"/>
          </a:xfrm>
        </p:grpSpPr>
        <p:sp>
          <p:nvSpPr>
            <p:cNvPr id="224" name="_s8208"/>
            <p:cNvSpPr/>
            <p:nvPr/>
          </p:nvSpPr>
          <p:spPr>
            <a:xfrm>
              <a:off x="3209400" y="326160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8209"/>
            <p:cNvSpPr/>
            <p:nvPr/>
          </p:nvSpPr>
          <p:spPr>
            <a:xfrm rot="10800000">
              <a:off x="3209040" y="343368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8210"/>
            <p:cNvSpPr/>
            <p:nvPr/>
          </p:nvSpPr>
          <p:spPr>
            <a:xfrm>
              <a:off x="487260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8211"/>
            <p:cNvSpPr/>
            <p:nvPr/>
          </p:nvSpPr>
          <p:spPr>
            <a:xfrm>
              <a:off x="281952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664000" cy="2154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9461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84720" y="5084640"/>
            <a:ext cx="23767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508464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2637000"/>
            <a:ext cx="35989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49228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DownRibbonSharp"/>
          <p:cNvSpPr/>
          <p:nvPr/>
        </p:nvSpPr>
        <p:spPr>
          <a:xfrm>
            <a:off x="250920" y="260280"/>
            <a:ext cx="8785080" cy="1081080"/>
          </a:xfrm>
          <a:custGeom>
            <a:avLst/>
            <a:gdLst>
              <a:gd name="textAreaLeft" fmla="*/ 1209960 w 8785080"/>
              <a:gd name="textAreaRight" fmla="*/ 7575120 w 8785080"/>
              <a:gd name="textAreaTop" fmla="*/ 1332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Условия возникнов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рыночной экономики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084200">
            <a:off x="6784920" y="1680840"/>
            <a:ext cx="239760" cy="1025640"/>
          </a:xfrm>
          <a:prstGeom prst="downArrow">
            <a:avLst>
              <a:gd name="adj1" fmla="val 50000"/>
              <a:gd name="adj2" fmla="val 10694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084200">
            <a:off x="4932000" y="1773000"/>
            <a:ext cx="289080" cy="3673440"/>
          </a:xfrm>
          <a:prstGeom prst="downArrow">
            <a:avLst>
              <a:gd name="adj1" fmla="val 50000"/>
              <a:gd name="adj2" fmla="val 31768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259000">
            <a:off x="3007800" y="1851120"/>
            <a:ext cx="289080" cy="3529080"/>
          </a:xfrm>
          <a:prstGeom prst="downArrow">
            <a:avLst>
              <a:gd name="adj1" fmla="val 50000"/>
              <a:gd name="adj2" fmla="val 30519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63628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щественное разделение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2636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Частная собственность на средства производств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5299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Конкуренц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2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 Свободное ценообразова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Comic Sans MS"/>
              </a:rPr>
              <a:t>Основными субъектами рынка являются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2735280" cy="1008000"/>
          </a:xfrm>
          <a:prstGeom prst="rect">
            <a:avLst/>
          </a:prstGeom>
          <a:blipFill rotWithShape="0">
            <a:blip r:embed="rId1">
              <a:alphaModFix amt="50000"/>
            </a:blip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машнее хозяйств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869000"/>
            <a:ext cx="4248360" cy="12952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знес (предпринима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2060640"/>
            <a:ext cx="3240000" cy="12254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 (прави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flipH="1">
            <a:off x="323280" y="620640"/>
            <a:ext cx="8569080" cy="623736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аким образом, рынок – это такая организация хозяйственной жизни, при которой производители, опираясь на спрос покупателей, самостоятельно решают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основные экономическ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35280" y="2276640"/>
            <a:ext cx="698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DownRibbonSharp"/>
          <p:cNvSpPr/>
          <p:nvPr/>
        </p:nvSpPr>
        <p:spPr>
          <a:xfrm>
            <a:off x="611280" y="476280"/>
            <a:ext cx="8229600" cy="1139760"/>
          </a:xfrm>
          <a:custGeom>
            <a:avLst/>
            <a:gdLst>
              <a:gd name="textAreaLeft" fmla="*/ 1133280 w 8229600"/>
              <a:gd name="textAreaRight" fmla="*/ 7096320 w 8229600"/>
              <a:gd name="textAreaTop" fmla="*/ 140400 h 1139760"/>
              <a:gd name="textAreaBottom" fmla="*/ 114012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Сформулируйте данные вопросы и раскройте их 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5280" y="1916280"/>
            <a:ext cx="1752480" cy="1676160"/>
            <a:chOff x="395280" y="1916280"/>
            <a:chExt cx="1752480" cy="1676160"/>
          </a:xfrm>
        </p:grpSpPr>
        <p:grpSp>
          <p:nvGrpSpPr>
            <p:cNvPr id="253" name=""/>
            <p:cNvGrpSpPr/>
            <p:nvPr/>
          </p:nvGrpSpPr>
          <p:grpSpPr>
            <a:xfrm>
              <a:off x="395280" y="1916280"/>
              <a:ext cx="1752480" cy="1676160"/>
              <a:chOff x="395280" y="1916280"/>
              <a:chExt cx="1752480" cy="167616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852480" y="1916280"/>
              <a:ext cx="752400" cy="14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5486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e8"/>
                </a:solidFill>
                <a:latin typeface="Comic Sans MS"/>
              </a:rPr>
              <a:t>Основные функции рынк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6408720" cy="36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9640" y="17341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пираясь на материалы учебника Куликова Л.М. «Основы экономических знаний» (С.102-104), рассмотрите основные функции рынка и дайте им объяс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ффективное распределение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бкость, высокая адаптивность (т.е. приспосабливаемость) к изменяющимся услови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вобода выбора и действий производителей и потреб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ксимальное использование достижений НТ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особность к удовлетворению разнообразных потребностей, повышению качества товаров и 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Comic Sans MS"/>
              </a:rPr>
              <a:t>Преимущества рын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352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0:52:40Z</dcterms:created>
  <dc:creator>USER</dc:creator>
  <dc:description/>
  <dc:language>en-US</dc:language>
  <cp:lastModifiedBy>USER</cp:lastModifiedBy>
  <dcterms:modified xsi:type="dcterms:W3CDTF">2009-01-29T07:46:30Z</dcterms:modified>
  <cp:revision>4</cp:revision>
  <dc:subject/>
  <dc:title>Слайд 1</dc:title>
</cp:coreProperties>
</file>