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5D8-2C22-46A1-951E-FA36821F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F3D-6B6A-4B06-8CD8-1F5E5B54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AC76-B09A-4093-8F1D-E7312B14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74D-BDEE-48B0-9E7F-14908743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5F7C-1BC2-49DB-8170-759342CE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E4EA-3972-4759-B3E9-FAB4F93C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DDAF-9C2A-4DCC-A4AB-78FD27CD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F27D-100E-4463-BBC4-BF3019AA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E450-9078-49DA-AFE6-A888B2A4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40F9-CC24-4C28-BC2C-4849E1D2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1BAD-B5A8-4AAB-8DEE-78D5E0A4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6CC-99EA-4482-9938-6B89AB18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2E3C-3373-47B6-BE3C-E57DF119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BE68-3165-432C-97EA-9D7A9854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F24C-505F-438C-878D-9F6F4478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ED05-EB40-4D40-BD98-D9185619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8E35-AF1E-4438-86BE-7CA0D129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0D3-454C-4EA4-824B-F8860306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7EC-049A-43B6-B4C8-2FEAFFA1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0FFA-8029-44AA-BB53-BE4CE0AD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6B6-5D48-409F-AAF5-700361B0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A6E-07ED-4E21-A382-3BFD1D0C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423-7782-4E3A-9BDE-0732F38B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56A-EEB7-429B-A4E7-97301691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FF07-68D5-4333-8398-C64F24546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9A10-798B-4F9A-ABB2-B3DB2718F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7417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А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Сущность рынка, условия его успешного функцион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функции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юсы и минусы рыночного меха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виды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пособствует сохранению невоспроизводим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стимулов для производства товаров и услуг коллективного 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гарантирует полной занятости и стабильного уровня ц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условия для развития науки, образования, учреждени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рождает социальную несправедливость и расслоение общества на богатых и бед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Недостатки рын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687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672920" y="40068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Основные виды рынк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84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32000" y="206064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Что такое рынок в общепринятом понят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ому и зачем нужен ры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Укажите условия функционирования ры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Назовите функции рынка и расскажите об их реа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аковы преимущества рыночной эконом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В чем заключаются недостатки ры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Перечислите виды рынков и приведите соответствующие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8ae"/>
                </a:solidFill>
                <a:latin typeface="Arial"/>
              </a:rPr>
              <a:t>Вопросы для закреп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0920" y="2204640"/>
            <a:ext cx="1752480" cy="1676520"/>
            <a:chOff x="250920" y="2204640"/>
            <a:chExt cx="1752480" cy="1676520"/>
          </a:xfrm>
        </p:grpSpPr>
        <p:grpSp>
          <p:nvGrpSpPr>
            <p:cNvPr id="272" name=""/>
            <p:cNvGrpSpPr/>
            <p:nvPr/>
          </p:nvGrpSpPr>
          <p:grpSpPr>
            <a:xfrm>
              <a:off x="250920" y="2204640"/>
              <a:ext cx="1752480" cy="1676520"/>
              <a:chOff x="250920" y="2204640"/>
              <a:chExt cx="1752480" cy="16765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 txBox="1"/>
            <p:nvPr/>
          </p:nvSpPr>
          <p:spPr>
            <a:xfrm>
              <a:off x="708120" y="2205000"/>
              <a:ext cx="752400" cy="148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9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16000" y="2924280"/>
            <a:ext cx="7848720" cy="23050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15920"/>
            <a:ext cx="7128000" cy="14414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рыночная площадь, место торговли, т.е. место встречи продавцов и покупателей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форма функционирования экономики, при которой обеспечивается взаимодействие производства и потребления через обмен, куплю-продажу товаров и услуг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270684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25192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33360"/>
            <a:ext cx="8280360" cy="11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Comic Sans MS"/>
              </a:rPr>
              <a:t>Материальная основа рынк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645000"/>
            <a:ext cx="3311280" cy="280980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641520 h 2809800"/>
              <a:gd name="textAreaBottom" fmla="*/ 2168280 h 280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това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1484280"/>
            <a:ext cx="3168720" cy="28796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57360 h 2879640"/>
              <a:gd name="textAreaBottom" fmla="*/ 222228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день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19520" y="3261600"/>
            <a:ext cx="3078720" cy="1080360"/>
            <a:chOff x="2819520" y="3261600"/>
            <a:chExt cx="3078720" cy="1080360"/>
          </a:xfrm>
        </p:grpSpPr>
        <p:sp>
          <p:nvSpPr>
            <p:cNvPr id="224" name="_s8208"/>
            <p:cNvSpPr/>
            <p:nvPr/>
          </p:nvSpPr>
          <p:spPr>
            <a:xfrm>
              <a:off x="3209400" y="326160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8209"/>
            <p:cNvSpPr/>
            <p:nvPr/>
          </p:nvSpPr>
          <p:spPr>
            <a:xfrm rot="10800000">
              <a:off x="3209040" y="343368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8210"/>
            <p:cNvSpPr/>
            <p:nvPr/>
          </p:nvSpPr>
          <p:spPr>
            <a:xfrm>
              <a:off x="487260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8211"/>
            <p:cNvSpPr/>
            <p:nvPr/>
          </p:nvSpPr>
          <p:spPr>
            <a:xfrm>
              <a:off x="281952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664000" cy="2154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19461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84720" y="5084640"/>
            <a:ext cx="23767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508464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2637000"/>
            <a:ext cx="35989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49228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DownRibbonSharp"/>
          <p:cNvSpPr/>
          <p:nvPr/>
        </p:nvSpPr>
        <p:spPr>
          <a:xfrm>
            <a:off x="250920" y="260280"/>
            <a:ext cx="8785080" cy="1081080"/>
          </a:xfrm>
          <a:custGeom>
            <a:avLst/>
            <a:gdLst>
              <a:gd name="textAreaLeft" fmla="*/ 1209960 w 8785080"/>
              <a:gd name="textAreaRight" fmla="*/ 7575120 w 8785080"/>
              <a:gd name="textAreaTop" fmla="*/ 13320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Условия возникнов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рыночной экономики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9084200">
            <a:off x="6784920" y="1680840"/>
            <a:ext cx="239760" cy="1025640"/>
          </a:xfrm>
          <a:prstGeom prst="downArrow">
            <a:avLst>
              <a:gd name="adj1" fmla="val 50000"/>
              <a:gd name="adj2" fmla="val 10694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084200">
            <a:off x="4932000" y="1773000"/>
            <a:ext cx="289080" cy="3673440"/>
          </a:xfrm>
          <a:prstGeom prst="downArrow">
            <a:avLst>
              <a:gd name="adj1" fmla="val 50000"/>
              <a:gd name="adj2" fmla="val 31768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259000">
            <a:off x="3007800" y="1851120"/>
            <a:ext cx="289080" cy="3529080"/>
          </a:xfrm>
          <a:prstGeom prst="downArrow">
            <a:avLst>
              <a:gd name="adj1" fmla="val 50000"/>
              <a:gd name="adj2" fmla="val 30519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2636280"/>
            <a:ext cx="23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бщественное разделение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26362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Частная собственность на средства производств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5299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Конкуренц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228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. Свободное ценообразование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ae8"/>
                </a:solidFill>
                <a:latin typeface="Comic Sans MS"/>
              </a:rPr>
              <a:t>Основными субъектами рынка являются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2735280" cy="1008000"/>
          </a:xfrm>
          <a:prstGeom prst="rect">
            <a:avLst/>
          </a:prstGeom>
          <a:blipFill rotWithShape="0">
            <a:blip r:embed="rId1">
              <a:alphaModFix amt="50000"/>
            </a:blip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машнее хозяйств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360" y="4869000"/>
            <a:ext cx="4248360" cy="12952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знес (предпринима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2060640"/>
            <a:ext cx="3240000" cy="12254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сударство (прави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flipH="1">
            <a:off x="323280" y="620640"/>
            <a:ext cx="8569080" cy="623736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Таким образом, рынок – это такая организация хозяйственной жизни, при которой производители, опираясь на спрос покупателей, самостоятельно решают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основные экономически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35280" y="2276640"/>
            <a:ext cx="698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DownRibbonSharp"/>
          <p:cNvSpPr/>
          <p:nvPr/>
        </p:nvSpPr>
        <p:spPr>
          <a:xfrm>
            <a:off x="611280" y="476280"/>
            <a:ext cx="8229600" cy="1139760"/>
          </a:xfrm>
          <a:custGeom>
            <a:avLst/>
            <a:gdLst>
              <a:gd name="textAreaLeft" fmla="*/ 1133280 w 8229600"/>
              <a:gd name="textAreaRight" fmla="*/ 7096320 w 8229600"/>
              <a:gd name="textAreaTop" fmla="*/ 140400 h 1139760"/>
              <a:gd name="textAreaBottom" fmla="*/ 114012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8ae"/>
                </a:solidFill>
                <a:latin typeface="Arial"/>
              </a:rPr>
              <a:t>Сформулируйте данные вопросы и раскройте их содерж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95280" y="1916280"/>
            <a:ext cx="1752480" cy="1676160"/>
            <a:chOff x="395280" y="1916280"/>
            <a:chExt cx="1752480" cy="1676160"/>
          </a:xfrm>
        </p:grpSpPr>
        <p:grpSp>
          <p:nvGrpSpPr>
            <p:cNvPr id="253" name=""/>
            <p:cNvGrpSpPr/>
            <p:nvPr/>
          </p:nvGrpSpPr>
          <p:grpSpPr>
            <a:xfrm>
              <a:off x="395280" y="1916280"/>
              <a:ext cx="1752480" cy="1676160"/>
              <a:chOff x="395280" y="1916280"/>
              <a:chExt cx="1752480" cy="167616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 txBox="1"/>
            <p:nvPr/>
          </p:nvSpPr>
          <p:spPr>
            <a:xfrm>
              <a:off x="852480" y="1916280"/>
              <a:ext cx="752400" cy="14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5486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e8"/>
                </a:solidFill>
                <a:latin typeface="Comic Sans MS"/>
              </a:rPr>
              <a:t>Основные функции рынк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6408720" cy="3628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9640" y="173412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пираясь на материалы учебника Куликова Л.М. «Основы экономических знаний» (С.102-104), рассмотрите основные функции рынка и дайте им объясн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ффективное распределение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ибкость, высокая адаптивность (т.е. приспосабливаемость) к изменяющимся услови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вобода выбора и действий производителей и потреб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ксимальное использование достижений НТ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особность к удовлетворению разнообразных потребностей, повышению качества товаров и у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Comic Sans MS"/>
              </a:rPr>
              <a:t>Преимущества рынк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352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0:52:40Z</dcterms:created>
  <dc:creator>USER</dc:creator>
  <dc:description/>
  <dc:language>en-US</dc:language>
  <cp:lastModifiedBy>USER</cp:lastModifiedBy>
  <dcterms:modified xsi:type="dcterms:W3CDTF">2009-01-29T07:46:30Z</dcterms:modified>
  <cp:revision>4</cp:revision>
  <dc:subject/>
  <dc:title>Слайд 1</dc:title>
</cp:coreProperties>
</file>