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E51-72F5-47B0-AEEF-751679F0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4A1-9723-40EE-9775-8BE19F89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285D-5C01-4345-802E-30C36029A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E222-CE0B-4120-BCF5-AB217B8E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79C2-6682-4747-8597-073C78306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E9F6-D60A-42CB-BC51-3BA99D4E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F4B1-A986-46EA-B719-035B806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FEA4-91E6-42A2-B752-4DB4F5FA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6F97-DA07-43B6-A656-A105C2FA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3244-2029-4378-AA81-40D43E57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7345-15F3-400B-B08A-A6150AB9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14D-68CB-49C3-9FDD-060A574F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FA57E-1F71-4B16-874C-2499728C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D146-5EB9-4401-9873-A00C042F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8788-90AA-4DE8-948C-4BB45F76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781F-A660-4BB9-ABFD-C9E6636B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F104-C4B8-42C9-A54E-87A967C9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F40-CA55-455D-85B5-7E2F6F50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2A0-1153-4FFC-9F73-8B85200F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044-62E7-4C25-8689-10114C52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C786-67F4-4217-BEB6-0C1432C4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111-5829-4AE7-93F2-50DEEA9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D1B-338A-4C5D-ADA1-D76591E2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6D12-9AF1-40FF-8300-8DE7D032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2958-8849-4E33-98BE-ABC36E1FAD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6E32-BC86-4326-85F8-6F6AA0328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4170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А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Сущность рынка, условия его успешного функцион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функции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Плюсы и минусы рыночного механиз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Основные виды ры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39640" y="299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пособствует сохранению невоспроизводимых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стимулов для производства товаров и услуг коллективного 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гарантирует полной занятости и стабильного уровня цен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е создает условия для развития науки, образования, учреждений куль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порождает социальную несправедливость и расслоение общества на богатых и бед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Arial"/>
              </a:rPr>
              <a:t>Недостатки рын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6872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672920" y="40068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Основные виды рынка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8403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2232000" y="206064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Что такое рынок в общепринятом поняти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ому и зачем нужен рыно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Укажите условия функционирования рын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Назовите функции рынка и расскажите об их ре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Каковы преимущества рыночной экономик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В чем заключаются недостатки рынк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Comic Sans MS"/>
              </a:rPr>
              <a:t>Перечислите виды рынков и приведите соответствующие 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cc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8ae"/>
                </a:solidFill>
                <a:latin typeface="Arial"/>
              </a:rPr>
              <a:t>Вопросы для закрепл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2204640"/>
            <a:ext cx="1752480" cy="1676520"/>
            <a:chOff x="250920" y="2204640"/>
            <a:chExt cx="1752480" cy="1676520"/>
          </a:xfrm>
        </p:grpSpPr>
        <p:grpSp>
          <p:nvGrpSpPr>
            <p:cNvPr id="272" name=""/>
            <p:cNvGrpSpPr/>
            <p:nvPr/>
          </p:nvGrpSpPr>
          <p:grpSpPr>
            <a:xfrm>
              <a:off x="250920" y="2204640"/>
              <a:ext cx="1752480" cy="1676520"/>
              <a:chOff x="250920" y="2204640"/>
              <a:chExt cx="1752480" cy="1676520"/>
            </a:xfrm>
          </p:grpSpPr>
          <p:sp>
            <p:nvSpPr>
              <p:cNvPr id="273" name=""/>
              <p:cNvSpPr/>
              <p:nvPr/>
            </p:nvSpPr>
            <p:spPr>
              <a:xfrm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250920" y="2204640"/>
                <a:ext cx="1752480" cy="167652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 txBox="1"/>
            <p:nvPr/>
          </p:nvSpPr>
          <p:spPr>
            <a:xfrm>
              <a:off x="708120" y="2205000"/>
              <a:ext cx="752400" cy="148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000"/>
                            </p:stCondLst>
                            <p:childTnLst>
                              <p:par>
                                <p:cTn id="3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9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16000" y="2924280"/>
            <a:ext cx="7848720" cy="23050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8360" y="115920"/>
            <a:ext cx="7128000" cy="144144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1810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32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рыночная площадь, место торговли, т.е. место встречи продавцов и покупателей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314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      ▲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РЫНОК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– форма функционирования экономики, при которой обеспечивается взаимодействие производства и потребления через обмен, куплю-продажу товаров и услуг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2706840" cy="18288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08000" y="4941720"/>
            <a:ext cx="251928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5280" y="333360"/>
            <a:ext cx="8280360" cy="1130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Comic Sans MS"/>
              </a:rPr>
              <a:t>Материальная основа рынка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3645000"/>
            <a:ext cx="3311280" cy="2809800"/>
          </a:xfrm>
          <a:custGeom>
            <a:avLst/>
            <a:gdLst>
              <a:gd name="textAreaLeft" fmla="*/ 756000 w 3311280"/>
              <a:gd name="textAreaRight" fmla="*/ 2555280 w 3311280"/>
              <a:gd name="textAreaTop" fmla="*/ 641520 h 2809800"/>
              <a:gd name="textAreaBottom" fmla="*/ 2168280 h 280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това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1484280"/>
            <a:ext cx="3168720" cy="287964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57360 h 2879640"/>
              <a:gd name="textAreaBottom" fmla="*/ 2222280 h 28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деньг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819520" y="3261600"/>
            <a:ext cx="3078720" cy="1080360"/>
            <a:chOff x="2819520" y="3261600"/>
            <a:chExt cx="3078720" cy="1080360"/>
          </a:xfrm>
        </p:grpSpPr>
        <p:sp>
          <p:nvSpPr>
            <p:cNvPr id="224" name="_s8208"/>
            <p:cNvSpPr/>
            <p:nvPr/>
          </p:nvSpPr>
          <p:spPr>
            <a:xfrm>
              <a:off x="3209400" y="326160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_s8209"/>
            <p:cNvSpPr/>
            <p:nvPr/>
          </p:nvSpPr>
          <p:spPr>
            <a:xfrm rot="10800000">
              <a:off x="3209040" y="3433680"/>
              <a:ext cx="2299320" cy="908280"/>
            </a:xfrm>
            <a:custGeom>
              <a:avLst/>
              <a:gdLst>
                <a:gd name="textAreaLeft" fmla="*/ 0 w 2299320"/>
                <a:gd name="textAreaRight" fmla="*/ 2299680 w 2299320"/>
                <a:gd name="textAreaTop" fmla="*/ 0 h 908280"/>
                <a:gd name="textAreaBottom" fmla="*/ 90864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8937" y="17755"/>
                  </a:moveTo>
                  <a:arcTo wR="-7200" hR="-7200" stAng="6300000" swAng="-4500000"/>
                  <a:lnTo>
                    <a:pt x="1447" y="5400"/>
                  </a:lnTo>
                  <a:arcTo wR="10800" hR="10800" stAng="-9000000" swAng="4500000"/>
                  <a:lnTo>
                    <a:pt x="14294" y="-2240"/>
                  </a:lnTo>
                  <a:lnTo>
                    <a:pt x="17476" y="3271"/>
                  </a:lnTo>
                  <a:lnTo>
                    <a:pt x="11965" y="6453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_s8210"/>
            <p:cNvSpPr/>
            <p:nvPr/>
          </p:nvSpPr>
          <p:spPr>
            <a:xfrm>
              <a:off x="487260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_s8211"/>
            <p:cNvSpPr/>
            <p:nvPr/>
          </p:nvSpPr>
          <p:spPr>
            <a:xfrm>
              <a:off x="2819520" y="3599640"/>
              <a:ext cx="102564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664000" cy="2154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194616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084720" y="5084640"/>
            <a:ext cx="23767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508464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637000"/>
            <a:ext cx="359892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2492280"/>
            <a:ext cx="2376360" cy="9144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DownRibbonSharp"/>
          <p:cNvSpPr/>
          <p:nvPr/>
        </p:nvSpPr>
        <p:spPr>
          <a:xfrm>
            <a:off x="250920" y="260280"/>
            <a:ext cx="8785080" cy="1081080"/>
          </a:xfrm>
          <a:custGeom>
            <a:avLst/>
            <a:gdLst>
              <a:gd name="textAreaLeft" fmla="*/ 1209960 w 8785080"/>
              <a:gd name="textAreaRight" fmla="*/ 7575120 w 8785080"/>
              <a:gd name="textAreaTop" fmla="*/ 13320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Условия возникнов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рыночной экономики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9084200">
            <a:off x="6784920" y="1680840"/>
            <a:ext cx="239760" cy="1025640"/>
          </a:xfrm>
          <a:prstGeom prst="downArrow">
            <a:avLst>
              <a:gd name="adj1" fmla="val 50000"/>
              <a:gd name="adj2" fmla="val 10694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084200">
            <a:off x="4932000" y="1773000"/>
            <a:ext cx="289080" cy="3673440"/>
          </a:xfrm>
          <a:prstGeom prst="downArrow">
            <a:avLst>
              <a:gd name="adj1" fmla="val 50000"/>
              <a:gd name="adj2" fmla="val 31768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259000">
            <a:off x="3007800" y="1851120"/>
            <a:ext cx="289080" cy="3529080"/>
          </a:xfrm>
          <a:prstGeom prst="downArrow">
            <a:avLst>
              <a:gd name="adj1" fmla="val 50000"/>
              <a:gd name="adj2" fmla="val 30519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2636280"/>
            <a:ext cx="23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ffffff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Общественное разделение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263628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2. Частная собственность на средства производств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2360" y="5299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3. Конкуренц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5228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4. Свободное ценообразование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ae8"/>
                </a:solidFill>
                <a:latin typeface="Comic Sans MS"/>
              </a:rPr>
              <a:t>Основными субъектами рынка являются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2735280" cy="1008000"/>
          </a:xfrm>
          <a:prstGeom prst="rect">
            <a:avLst/>
          </a:prstGeom>
          <a:blipFill rotWithShape="0">
            <a:blip r:embed="rId1">
              <a:alphaModFix amt="50000"/>
            </a:blip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омашнее хозяйство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68360" y="4869000"/>
            <a:ext cx="4248360" cy="129528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изнес (предпринима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2060640"/>
            <a:ext cx="3240000" cy="12254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  <a:effectLst>
            <a:outerShdw dist="107932" dir="135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сударство (правительство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 flipH="1">
            <a:off x="323280" y="620640"/>
            <a:ext cx="8569080" cy="6237360"/>
          </a:xfrm>
          <a:prstGeom prst="horizontalScrol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аким образом, рынок – это такая организация хозяйственной жизни, при которой производители, опираясь на спрос покупателей, самостоятельно решают </a:t>
            </a:r>
            <a:r>
              <a:rPr b="1" lang="en-US" sz="2800" spc="-1" strike="noStrike">
                <a:solidFill>
                  <a:srgbClr val="ff5050"/>
                </a:solidFill>
                <a:latin typeface="Comic Sans MS"/>
              </a:rPr>
              <a:t>основные экономическ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835280" y="2276640"/>
            <a:ext cx="6984720" cy="41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DownRibbonSharp"/>
          <p:cNvSpPr/>
          <p:nvPr/>
        </p:nvSpPr>
        <p:spPr>
          <a:xfrm>
            <a:off x="611280" y="476280"/>
            <a:ext cx="8229600" cy="1139760"/>
          </a:xfrm>
          <a:custGeom>
            <a:avLst/>
            <a:gdLst>
              <a:gd name="textAreaLeft" fmla="*/ 1133280 w 8229600"/>
              <a:gd name="textAreaRight" fmla="*/ 7096320 w 8229600"/>
              <a:gd name="textAreaTop" fmla="*/ 140400 h 1139760"/>
              <a:gd name="textAreaBottom" fmla="*/ 1140120 h 11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75" y="0"/>
                </a:lnTo>
                <a:lnTo>
                  <a:pt x="5675" y="2663"/>
                </a:lnTo>
                <a:lnTo>
                  <a:pt x="15925" y="2663"/>
                </a:lnTo>
                <a:lnTo>
                  <a:pt x="15925" y="0"/>
                </a:lnTo>
                <a:lnTo>
                  <a:pt x="21600" y="0"/>
                </a:lnTo>
                <a:lnTo>
                  <a:pt x="18900" y="9469"/>
                </a:lnTo>
                <a:lnTo>
                  <a:pt x="21600" y="18937"/>
                </a:lnTo>
                <a:lnTo>
                  <a:pt x="18625" y="18937"/>
                </a:lnTo>
                <a:lnTo>
                  <a:pt x="18625" y="21600"/>
                </a:lnTo>
                <a:lnTo>
                  <a:pt x="2975" y="21600"/>
                </a:lnTo>
                <a:lnTo>
                  <a:pt x="2975" y="18937"/>
                </a:lnTo>
                <a:lnTo>
                  <a:pt x="0" y="18937"/>
                </a:lnTo>
                <a:lnTo>
                  <a:pt x="2700" y="9469"/>
                </a:lnTo>
                <a:close/>
              </a:path>
              <a:path fill="none" w="21600" h="21600">
                <a:moveTo>
                  <a:pt x="5675" y="2663"/>
                </a:moveTo>
                <a:lnTo>
                  <a:pt x="2975" y="2663"/>
                </a:lnTo>
                <a:lnTo>
                  <a:pt x="2975" y="18937"/>
                </a:lnTo>
              </a:path>
              <a:path fill="none" w="21600" h="21600">
                <a:moveTo>
                  <a:pt x="2975" y="2663"/>
                </a:moveTo>
                <a:lnTo>
                  <a:pt x="5675" y="0"/>
                </a:lnTo>
              </a:path>
              <a:path fill="none" w="21600" h="21600">
                <a:moveTo>
                  <a:pt x="15925" y="2663"/>
                </a:moveTo>
                <a:lnTo>
                  <a:pt x="18625" y="2663"/>
                </a:lnTo>
                <a:lnTo>
                  <a:pt x="18625" y="18937"/>
                </a:lnTo>
              </a:path>
              <a:path fill="none" w="21600" h="21600">
                <a:moveTo>
                  <a:pt x="18625" y="2663"/>
                </a:moveTo>
                <a:lnTo>
                  <a:pt x="15925" y="0"/>
                </a:lnTo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8ae"/>
                </a:solidFill>
                <a:latin typeface="Arial"/>
              </a:rPr>
              <a:t>Сформулируйте данные вопросы и раскройте их содерж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95280" y="1916280"/>
            <a:ext cx="1752480" cy="1676160"/>
            <a:chOff x="395280" y="1916280"/>
            <a:chExt cx="1752480" cy="1676160"/>
          </a:xfrm>
        </p:grpSpPr>
        <p:grpSp>
          <p:nvGrpSpPr>
            <p:cNvPr id="253" name=""/>
            <p:cNvGrpSpPr/>
            <p:nvPr/>
          </p:nvGrpSpPr>
          <p:grpSpPr>
            <a:xfrm>
              <a:off x="395280" y="1916280"/>
              <a:ext cx="1752480" cy="1676160"/>
              <a:chOff x="395280" y="1916280"/>
              <a:chExt cx="1752480" cy="1676160"/>
            </a:xfrm>
          </p:grpSpPr>
          <p:sp>
            <p:nvSpPr>
              <p:cNvPr id="254" name=""/>
              <p:cNvSpPr/>
              <p:nvPr/>
            </p:nvSpPr>
            <p:spPr>
              <a:xfrm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395280" y="1916280"/>
                <a:ext cx="1752480" cy="1676160"/>
              </a:xfrm>
              <a:prstGeom prst="line">
                <a:avLst/>
              </a:prstGeom>
              <a:ln w="7632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852480" y="1916280"/>
              <a:ext cx="752400" cy="14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4360" y="2852640"/>
            <a:ext cx="5486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ae8"/>
                </a:solidFill>
                <a:latin typeface="Comic Sans MS"/>
              </a:rPr>
              <a:t>Основные функции рынка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6408720" cy="36288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9640" y="1734120"/>
            <a:ext cx="813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Опираясь на материалы учебника Куликова Л.М. «Основы экономических знаний» (С.102-104), рассмотрите основные функции рынка и дайте им объясн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эффективное распределение ресур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ибкость, высокая адаптивность (т.е. приспосабливаемость) к изменяющимся условия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вобода выбора и действий производителей и потребител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ксимальное использование достижений НТ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особность к удовлетворению разнообразных потребностей, повышению качества товаров и услу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590480" y="418320"/>
            <a:ext cx="5963040" cy="99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Comic Sans MS"/>
              </a:rPr>
              <a:t>Преимущества рынк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308720" y="1628640"/>
            <a:ext cx="13352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0:52:40Z</dcterms:created>
  <dc:creator>USER</dc:creator>
  <dc:description/>
  <dc:language>en-US</dc:language>
  <cp:lastModifiedBy>USER</cp:lastModifiedBy>
  <dcterms:modified xsi:type="dcterms:W3CDTF">2009-01-29T07:46:30Z</dcterms:modified>
  <cp:revision>4</cp:revision>
  <dc:subject/>
  <dc:title>Слайд 1</dc:title>
</cp:coreProperties>
</file>