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12.png" ContentType="image/png"/>
  <Override PartName="/ppt/media/image4.jpeg" ContentType="image/jpeg"/>
  <Override PartName="/ppt/media/image6.png" ContentType="image/png"/>
  <Override PartName="/ppt/media/image8.png" ContentType="image/png"/>
  <Override PartName="/ppt/media/image9.png" ContentType="image/png"/>
  <Override PartName="/ppt/media/image10.gif" ContentType="image/gif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FB50-9BD6-4F52-87B9-F594F3F30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1F0B-DEBB-4269-B493-11A708CE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B3B1-14D3-40FA-8E3B-02378C71C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0373-CC3B-48E8-977D-93AF196EB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7F37-F572-4213-B704-B43EF2A7B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8FA6-384A-490D-ACF5-5AD1D6E6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4EEB-E770-4D7F-B66E-6F6B4020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E03C-58FA-485F-A1E0-7C74B646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C034-0014-4BF1-A754-8EC0AB69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B518-476B-43E5-B3EC-590B40AE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2B26-DBE1-4C0C-A5EE-30137F7D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25D8-07A7-4A59-9083-0C439E49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53B4-6D33-4340-82C8-59DD1179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BF6C-02BC-4C7F-BFED-6AABE73C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7508-F768-4C59-9BEF-41F9C412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78666-5341-48CF-BBD4-9E9746830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0A80-DB2D-43F5-8172-2469DC5F4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CD76-CA6C-417A-81D6-9189B704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9FFC-B2DD-4892-871A-E691E11D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5637-DC54-4243-A1F0-9BD106A0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F687-DE27-4FCE-BE86-8B74E6A7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892B-00FC-461F-A39D-C2F9AE8B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E196-77B9-43AB-8AFE-857B2933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D53B-064A-44B3-809E-1DAF8695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CB41-0ABB-4FF4-99D0-B11894EEA3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F69C-1F50-4656-9113-16D0D663DD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826560" y="2492280"/>
            <a:ext cx="741708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ПЛА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Сущность рынка, условия его успешного функционир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Основные функции ры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Плюсы и минусы рыночного механиз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Основные виды ры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100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539640" y="299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способствует сохранению невоспроизводимых ресур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создает стимулов для производства товаров и услуг коллективного пользо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гарантирует полной занятости и стабильного уровня цен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создает условия для развития науки, образования, учреждений культу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порождает социальную несправедливость и расслоение общества на богатых и бедн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590480" y="41832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5050"/>
                </a:solidFill>
                <a:latin typeface="Arial"/>
              </a:rPr>
              <a:t>Недостатки рынк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7308720" y="1628640"/>
            <a:ext cx="136872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3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6000"/>
                            </p:stCondLst>
                            <p:childTnLst>
                              <p:par>
                                <p:cTn id="3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1672920" y="40068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Основные виды рынка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8403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2232000" y="2060640"/>
            <a:ext cx="691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Что такое рынок в общепринятом поняти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Кому и зачем нужен рыно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Укажите условия функционирования ры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Назовите функции рынка и расскажите об их реализ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Каковы преимущества рыночной экономик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В чем заключаются недостатки рын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Перечислите виды рынков и приведите соответствующие приме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99"/>
          </a:solidFill>
          <a:ln w="57240">
            <a:solidFill>
              <a:srgbClr val="ffcc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8ae"/>
                </a:solidFill>
                <a:latin typeface="Arial"/>
              </a:rPr>
              <a:t>Вопросы для закрепл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50920" y="2204640"/>
            <a:ext cx="1752480" cy="1676520"/>
            <a:chOff x="250920" y="2204640"/>
            <a:chExt cx="1752480" cy="1676520"/>
          </a:xfrm>
        </p:grpSpPr>
        <p:grpSp>
          <p:nvGrpSpPr>
            <p:cNvPr id="272" name=""/>
            <p:cNvGrpSpPr/>
            <p:nvPr/>
          </p:nvGrpSpPr>
          <p:grpSpPr>
            <a:xfrm>
              <a:off x="250920" y="2204640"/>
              <a:ext cx="1752480" cy="1676520"/>
              <a:chOff x="250920" y="2204640"/>
              <a:chExt cx="1752480" cy="1676520"/>
            </a:xfrm>
          </p:grpSpPr>
          <p:sp>
            <p:nvSpPr>
              <p:cNvPr id="273" name=""/>
              <p:cNvSpPr/>
              <p:nvPr/>
            </p:nvSpPr>
            <p:spPr>
              <a:xfrm flipV="1">
                <a:off x="250920" y="2204640"/>
                <a:ext cx="1752480" cy="167652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flipV="1">
                <a:off x="250920" y="2204640"/>
                <a:ext cx="1752480" cy="167652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 txBox="1"/>
            <p:nvPr/>
          </p:nvSpPr>
          <p:spPr>
            <a:xfrm>
              <a:off x="708120" y="2205000"/>
              <a:ext cx="752400" cy="148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55261c"/>
                      </a:gs>
                    </a:gsLst>
                    <a:lin ang="5400000"/>
                  </a:gra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0"/>
                            </p:stCondLst>
                            <p:childTnLst>
                              <p:par>
                                <p:cTn id="3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7000"/>
                            </p:stCondLst>
                            <p:childTnLst>
                              <p:par>
                                <p:cTn id="3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8000"/>
                            </p:stCondLst>
                            <p:childTnLst>
                              <p:par>
                                <p:cTn id="3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9000"/>
                            </p:stCondLst>
                            <p:childTnLst>
                              <p:par>
                                <p:cTn id="3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16000" y="2924280"/>
            <a:ext cx="7848720" cy="23050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8360" y="115920"/>
            <a:ext cx="7128000" cy="144144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1810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▲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РЫНОК</a:t>
            </a: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рыночная площадь, место торговли, т.е. место встречи продавцов и покупателей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42920" y="314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▲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РЫНОК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– форма функционирования экономики, при которой обеспечивается взаимодействие производства и потребления через обмен, куплю-продажу товаров и услуг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867280" y="1125360"/>
            <a:ext cx="2706840" cy="18288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08000" y="4941720"/>
            <a:ext cx="251928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95280" y="333360"/>
            <a:ext cx="8280360" cy="11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Comic Sans MS"/>
              </a:rPr>
              <a:t>Материальная основа рынка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3645000"/>
            <a:ext cx="3311280" cy="2809800"/>
          </a:xfrm>
          <a:custGeom>
            <a:avLst/>
            <a:gdLst>
              <a:gd name="textAreaLeft" fmla="*/ 756000 w 3311280"/>
              <a:gd name="textAreaRight" fmla="*/ 2555280 w 3311280"/>
              <a:gd name="textAreaTop" fmla="*/ 641520 h 2809800"/>
              <a:gd name="textAreaBottom" fmla="*/ 2168280 h 2809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това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08720" y="1484280"/>
            <a:ext cx="3168720" cy="2879640"/>
          </a:xfrm>
          <a:custGeom>
            <a:avLst/>
            <a:gdLst>
              <a:gd name="textAreaLeft" fmla="*/ 723240 w 3168720"/>
              <a:gd name="textAreaRight" fmla="*/ 2445480 w 3168720"/>
              <a:gd name="textAreaTop" fmla="*/ 657360 h 2879640"/>
              <a:gd name="textAreaBottom" fmla="*/ 2222280 h 28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деньг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819520" y="3261600"/>
            <a:ext cx="3078720" cy="1080360"/>
            <a:chOff x="2819520" y="3261600"/>
            <a:chExt cx="3078720" cy="1080360"/>
          </a:xfrm>
        </p:grpSpPr>
        <p:sp>
          <p:nvSpPr>
            <p:cNvPr id="224" name="_s8208"/>
            <p:cNvSpPr/>
            <p:nvPr/>
          </p:nvSpPr>
          <p:spPr>
            <a:xfrm>
              <a:off x="3209400" y="3261600"/>
              <a:ext cx="2299320" cy="908280"/>
            </a:xfrm>
            <a:custGeom>
              <a:avLst/>
              <a:gdLst>
                <a:gd name="textAreaLeft" fmla="*/ 0 w 2299320"/>
                <a:gd name="textAreaRight" fmla="*/ 2299680 w 2299320"/>
                <a:gd name="textAreaTop" fmla="*/ 0 h 908280"/>
                <a:gd name="textAreaBottom" fmla="*/ 908640 h 90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937" y="17755"/>
                  </a:moveTo>
                  <a:arcTo wR="-7200" hR="-7200" stAng="6300000" swAng="-4500000"/>
                  <a:lnTo>
                    <a:pt x="1447" y="5400"/>
                  </a:lnTo>
                  <a:arcTo wR="10800" hR="10800" stAng="-9000000" swAng="4500000"/>
                  <a:lnTo>
                    <a:pt x="14294" y="-2240"/>
                  </a:lnTo>
                  <a:lnTo>
                    <a:pt x="17476" y="3271"/>
                  </a:lnTo>
                  <a:lnTo>
                    <a:pt x="11965" y="6453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_s8209"/>
            <p:cNvSpPr/>
            <p:nvPr/>
          </p:nvSpPr>
          <p:spPr>
            <a:xfrm rot="10800000">
              <a:off x="3209040" y="3433680"/>
              <a:ext cx="2299320" cy="908280"/>
            </a:xfrm>
            <a:custGeom>
              <a:avLst/>
              <a:gdLst>
                <a:gd name="textAreaLeft" fmla="*/ 0 w 2299320"/>
                <a:gd name="textAreaRight" fmla="*/ 2299680 w 2299320"/>
                <a:gd name="textAreaTop" fmla="*/ 0 h 908280"/>
                <a:gd name="textAreaBottom" fmla="*/ 908640 h 90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937" y="17755"/>
                  </a:moveTo>
                  <a:arcTo wR="-7200" hR="-7200" stAng="6300000" swAng="-4500000"/>
                  <a:lnTo>
                    <a:pt x="1447" y="5400"/>
                  </a:lnTo>
                  <a:arcTo wR="10800" hR="10800" stAng="-9000000" swAng="4500000"/>
                  <a:lnTo>
                    <a:pt x="14294" y="-2240"/>
                  </a:lnTo>
                  <a:lnTo>
                    <a:pt x="17476" y="3271"/>
                  </a:lnTo>
                  <a:lnTo>
                    <a:pt x="11965" y="6453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_s8210"/>
            <p:cNvSpPr/>
            <p:nvPr/>
          </p:nvSpPr>
          <p:spPr>
            <a:xfrm>
              <a:off x="4872600" y="3599640"/>
              <a:ext cx="102564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_s8211"/>
            <p:cNvSpPr/>
            <p:nvPr/>
          </p:nvSpPr>
          <p:spPr>
            <a:xfrm>
              <a:off x="2819520" y="3599640"/>
              <a:ext cx="102564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940360" y="4221000"/>
            <a:ext cx="2664000" cy="21542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194616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084720" y="5084640"/>
            <a:ext cx="237672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5280" y="5084640"/>
            <a:ext cx="237636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19640" y="2637000"/>
            <a:ext cx="359892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5280" y="2492280"/>
            <a:ext cx="237636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DownRibbonSharp"/>
          <p:cNvSpPr/>
          <p:nvPr/>
        </p:nvSpPr>
        <p:spPr>
          <a:xfrm>
            <a:off x="250920" y="260280"/>
            <a:ext cx="8785080" cy="1081080"/>
          </a:xfrm>
          <a:custGeom>
            <a:avLst/>
            <a:gdLst>
              <a:gd name="textAreaLeft" fmla="*/ 1209960 w 8785080"/>
              <a:gd name="textAreaRight" fmla="*/ 7575120 w 8785080"/>
              <a:gd name="textAreaTop" fmla="*/ 13320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675" y="0"/>
                </a:lnTo>
                <a:lnTo>
                  <a:pt x="5675" y="2663"/>
                </a:lnTo>
                <a:lnTo>
                  <a:pt x="15925" y="2663"/>
                </a:lnTo>
                <a:lnTo>
                  <a:pt x="15925" y="0"/>
                </a:lnTo>
                <a:lnTo>
                  <a:pt x="21600" y="0"/>
                </a:lnTo>
                <a:lnTo>
                  <a:pt x="18900" y="9469"/>
                </a:lnTo>
                <a:lnTo>
                  <a:pt x="21600" y="18937"/>
                </a:lnTo>
                <a:lnTo>
                  <a:pt x="18625" y="18937"/>
                </a:lnTo>
                <a:lnTo>
                  <a:pt x="18625" y="21600"/>
                </a:lnTo>
                <a:lnTo>
                  <a:pt x="2975" y="21600"/>
                </a:lnTo>
                <a:lnTo>
                  <a:pt x="2975" y="18937"/>
                </a:lnTo>
                <a:lnTo>
                  <a:pt x="0" y="18937"/>
                </a:lnTo>
                <a:lnTo>
                  <a:pt x="2700" y="9469"/>
                </a:lnTo>
                <a:close/>
              </a:path>
              <a:path fill="none" w="21600" h="21600">
                <a:moveTo>
                  <a:pt x="5675" y="2663"/>
                </a:moveTo>
                <a:lnTo>
                  <a:pt x="2975" y="2663"/>
                </a:lnTo>
                <a:lnTo>
                  <a:pt x="2975" y="18937"/>
                </a:lnTo>
              </a:path>
              <a:path fill="none" w="21600" h="21600">
                <a:moveTo>
                  <a:pt x="2975" y="2663"/>
                </a:moveTo>
                <a:lnTo>
                  <a:pt x="5675" y="0"/>
                </a:lnTo>
              </a:path>
              <a:path fill="none" w="21600" h="21600">
                <a:moveTo>
                  <a:pt x="15925" y="2663"/>
                </a:moveTo>
                <a:lnTo>
                  <a:pt x="18625" y="2663"/>
                </a:lnTo>
                <a:lnTo>
                  <a:pt x="18625" y="18937"/>
                </a:lnTo>
              </a:path>
              <a:path fill="none" w="21600" h="21600">
                <a:moveTo>
                  <a:pt x="18625" y="2663"/>
                </a:moveTo>
                <a:lnTo>
                  <a:pt x="15925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Условия возникнов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рыночной экономики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9084200">
            <a:off x="6784920" y="1680840"/>
            <a:ext cx="239760" cy="1025640"/>
          </a:xfrm>
          <a:prstGeom prst="downArrow">
            <a:avLst>
              <a:gd name="adj1" fmla="val 50000"/>
              <a:gd name="adj2" fmla="val 106944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9084200">
            <a:off x="4932000" y="1773000"/>
            <a:ext cx="289080" cy="3673440"/>
          </a:xfrm>
          <a:prstGeom prst="downArrow">
            <a:avLst>
              <a:gd name="adj1" fmla="val 50000"/>
              <a:gd name="adj2" fmla="val 317684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2259000">
            <a:off x="3007800" y="1851120"/>
            <a:ext cx="289080" cy="3529080"/>
          </a:xfrm>
          <a:prstGeom prst="downArrow">
            <a:avLst>
              <a:gd name="adj1" fmla="val 50000"/>
              <a:gd name="adj2" fmla="val 305199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2636280"/>
            <a:ext cx="23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Общественное разделение тру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64000" y="263628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. Частная собственность на средства производства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12360" y="5299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3. Конкуренци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56360" y="52286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4. Свободное ценообразование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590480" y="41832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ae8"/>
                </a:solidFill>
                <a:latin typeface="Comic Sans MS"/>
              </a:rPr>
              <a:t>Основными субъектами рынка являются: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24000" y="2205000"/>
            <a:ext cx="2735280" cy="1008000"/>
          </a:xfrm>
          <a:prstGeom prst="rect">
            <a:avLst/>
          </a:prstGeom>
          <a:blipFill rotWithShape="0">
            <a:blip r:embed="rId1">
              <a:alphaModFix amt="50000"/>
            </a:blip>
            <a:stretch/>
          </a:blipFill>
          <a:ln w="0">
            <a:noFill/>
          </a:ln>
          <a:effectLst>
            <a:outerShdw dist="107932" dir="13500000" blurRad="0" rotWithShape="0">
              <a:srgbClr val="008ae8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омашнее хозяйств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68360" y="4869000"/>
            <a:ext cx="4248360" cy="129528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stretch/>
          </a:blipFill>
          <a:ln w="0">
            <a:noFill/>
          </a:ln>
          <a:effectLst>
            <a:outerShdw dist="107932" dir="135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изнес (предпринимательство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51640" y="2060640"/>
            <a:ext cx="3240000" cy="122544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  <a:effectLst>
            <a:outerShdw dist="107932" dir="135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осударство (правительство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 flipH="1">
            <a:off x="323280" y="620640"/>
            <a:ext cx="8569080" cy="623736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Таким образом, рынок – это такая организация хозяйственной жизни, при которой производители, опираясь на спрос покупателей, самостоятельно решают </a:t>
            </a:r>
            <a:r>
              <a:rPr b="1" lang="en-US" sz="2800" spc="-1" strike="noStrike">
                <a:solidFill>
                  <a:srgbClr val="ff5050"/>
                </a:solidFill>
                <a:latin typeface="Comic Sans MS"/>
              </a:rPr>
              <a:t>основные экономические вопрос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835280" y="2276640"/>
            <a:ext cx="698472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DownRibbonSharp"/>
          <p:cNvSpPr/>
          <p:nvPr/>
        </p:nvSpPr>
        <p:spPr>
          <a:xfrm>
            <a:off x="611280" y="476280"/>
            <a:ext cx="8229600" cy="1139760"/>
          </a:xfrm>
          <a:custGeom>
            <a:avLst/>
            <a:gdLst>
              <a:gd name="textAreaLeft" fmla="*/ 1133280 w 8229600"/>
              <a:gd name="textAreaRight" fmla="*/ 7096320 w 8229600"/>
              <a:gd name="textAreaTop" fmla="*/ 140400 h 1139760"/>
              <a:gd name="textAreaBottom" fmla="*/ 1140120 h 113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675" y="0"/>
                </a:lnTo>
                <a:lnTo>
                  <a:pt x="5675" y="2663"/>
                </a:lnTo>
                <a:lnTo>
                  <a:pt x="15925" y="2663"/>
                </a:lnTo>
                <a:lnTo>
                  <a:pt x="15925" y="0"/>
                </a:lnTo>
                <a:lnTo>
                  <a:pt x="21600" y="0"/>
                </a:lnTo>
                <a:lnTo>
                  <a:pt x="18900" y="9469"/>
                </a:lnTo>
                <a:lnTo>
                  <a:pt x="21600" y="18937"/>
                </a:lnTo>
                <a:lnTo>
                  <a:pt x="18625" y="18937"/>
                </a:lnTo>
                <a:lnTo>
                  <a:pt x="18625" y="21600"/>
                </a:lnTo>
                <a:lnTo>
                  <a:pt x="2975" y="21600"/>
                </a:lnTo>
                <a:lnTo>
                  <a:pt x="2975" y="18937"/>
                </a:lnTo>
                <a:lnTo>
                  <a:pt x="0" y="18937"/>
                </a:lnTo>
                <a:lnTo>
                  <a:pt x="2700" y="9469"/>
                </a:lnTo>
                <a:close/>
              </a:path>
              <a:path fill="none" w="21600" h="21600">
                <a:moveTo>
                  <a:pt x="5675" y="2663"/>
                </a:moveTo>
                <a:lnTo>
                  <a:pt x="2975" y="2663"/>
                </a:lnTo>
                <a:lnTo>
                  <a:pt x="2975" y="18937"/>
                </a:lnTo>
              </a:path>
              <a:path fill="none" w="21600" h="21600">
                <a:moveTo>
                  <a:pt x="2975" y="2663"/>
                </a:moveTo>
                <a:lnTo>
                  <a:pt x="5675" y="0"/>
                </a:lnTo>
              </a:path>
              <a:path fill="none" w="21600" h="21600">
                <a:moveTo>
                  <a:pt x="15925" y="2663"/>
                </a:moveTo>
                <a:lnTo>
                  <a:pt x="18625" y="2663"/>
                </a:lnTo>
                <a:lnTo>
                  <a:pt x="18625" y="18937"/>
                </a:lnTo>
              </a:path>
              <a:path fill="none" w="21600" h="21600">
                <a:moveTo>
                  <a:pt x="18625" y="2663"/>
                </a:moveTo>
                <a:lnTo>
                  <a:pt x="15925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8ae"/>
                </a:solidFill>
                <a:latin typeface="Arial"/>
              </a:rPr>
              <a:t>Сформулируйте данные вопросы и раскройте их содерж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95280" y="1916280"/>
            <a:ext cx="1752480" cy="1676160"/>
            <a:chOff x="395280" y="1916280"/>
            <a:chExt cx="1752480" cy="1676160"/>
          </a:xfrm>
        </p:grpSpPr>
        <p:grpSp>
          <p:nvGrpSpPr>
            <p:cNvPr id="253" name=""/>
            <p:cNvGrpSpPr/>
            <p:nvPr/>
          </p:nvGrpSpPr>
          <p:grpSpPr>
            <a:xfrm>
              <a:off x="395280" y="1916280"/>
              <a:ext cx="1752480" cy="1676160"/>
              <a:chOff x="395280" y="1916280"/>
              <a:chExt cx="1752480" cy="1676160"/>
            </a:xfrm>
          </p:grpSpPr>
          <p:sp>
            <p:nvSpPr>
              <p:cNvPr id="254" name=""/>
              <p:cNvSpPr/>
              <p:nvPr/>
            </p:nvSpPr>
            <p:spPr>
              <a:xfrm flipV="1">
                <a:off x="395280" y="1916280"/>
                <a:ext cx="1752480" cy="167616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flipV="1">
                <a:off x="395280" y="1916280"/>
                <a:ext cx="1752480" cy="167616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 txBox="1"/>
            <p:nvPr/>
          </p:nvSpPr>
          <p:spPr>
            <a:xfrm>
              <a:off x="852480" y="1916280"/>
              <a:ext cx="752400" cy="148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55261c"/>
                      </a:gs>
                    </a:gsLst>
                    <a:lin ang="5400000"/>
                  </a:gra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484360" y="2852640"/>
            <a:ext cx="54864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590480" y="41832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ae8"/>
                </a:solidFill>
                <a:latin typeface="Comic Sans MS"/>
              </a:rPr>
              <a:t>Основные функции рынка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332000" y="2997360"/>
            <a:ext cx="6408720" cy="36288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539640" y="173412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Опираясь на материалы учебника Куликова Л.М. «Основы экономических знаний» (С.102-104), рассмотрите основные функции рынка и дайте им объясн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эффективное распределение ресур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гибкость, высокая адаптивность (т.е. приспосабливаемость) к изменяющимся условия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вобода выбора и действий производителей и потребител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аксимальное использование достижений НТ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пособность к удовлетворению разнообразных потребностей, повышению качества товаров и услу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590480" y="41832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5050"/>
                </a:solidFill>
                <a:latin typeface="Comic Sans MS"/>
              </a:rPr>
              <a:t>Преимущества рынка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7308720" y="1628640"/>
            <a:ext cx="133524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6000"/>
                            </p:stCondLst>
                            <p:childTnLst>
                              <p:par>
                                <p:cTn id="2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000"/>
                            </p:stCondLst>
                            <p:childTnLst>
                              <p:par>
                                <p:cTn id="2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20:52:40Z</dcterms:created>
  <dc:creator>USER</dc:creator>
  <dc:description/>
  <dc:language>en-US</dc:language>
  <cp:lastModifiedBy>USER</cp:lastModifiedBy>
  <dcterms:modified xsi:type="dcterms:W3CDTF">2009-01-29T07:46:30Z</dcterms:modified>
  <cp:revision>4</cp:revision>
  <dc:subject/>
  <dc:title>Слайд 1</dc:title>
</cp:coreProperties>
</file>