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10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8B8-46F8-4AFB-9DD5-BE0F84B6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4A4-F85F-48DE-8558-729671F5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6DF-26D3-425D-BA33-BD52DDF6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090-3682-4EAB-80B3-4F263942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87FAE-812B-49FB-9595-1EB7C1FF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684F1-3772-43F8-BBCF-7FDAAA3C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714D9-6529-46B3-B5BA-54478829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E710D-65DF-49EF-B60A-3BD2CF84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EC4CB-43BD-4A99-AC71-81260DBB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5A3DD-E770-4EB1-A1D4-91C11831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E2BA4-27D4-4BEF-B519-92F46E06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4AC-F916-4E63-9A1E-3E119E65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6BB93-1C5D-4476-A9BE-9180356E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950CF-F692-48AC-87E7-A93813C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8F146-2510-427B-965D-82855E1C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85C79-AF7E-4FCF-A7A5-22F95163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764B1-DD39-45BC-A5A7-39D3B400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1D4-DC3A-4619-8937-E5F2E514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285-047F-49A1-A446-50084F9B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EB2-A4DB-45FF-B508-767202CB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08A-4EF9-4D46-B5BA-6D4ECF07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FAD-FD89-433D-9E11-284616FA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7E9-EF4D-4A07-82AF-5161DAED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D5F-FD00-4D69-95F6-D557B3B3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7908-433E-463F-9551-FFC94D9FB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9B77-1FD6-4423-96C0-A2A5FF7F5E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номика  10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370548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Учител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Василёнок В.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ОУ СОШ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Калинин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285360"/>
          <p:cNvPicPr/>
          <p:nvPr/>
        </p:nvPicPr>
        <p:blipFill>
          <a:blip r:embed="rId1"/>
          <a:stretch/>
        </p:blipFill>
        <p:spPr>
          <a:xfrm>
            <a:off x="4732200" y="2236680"/>
            <a:ext cx="2845080" cy="3311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9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87280" y="549360"/>
            <a:ext cx="6840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од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95280" y="1773360"/>
            <a:ext cx="3672000" cy="1726920"/>
          </a:xfrm>
          <a:prstGeom prst="downArrowCallout">
            <a:avLst>
              <a:gd name="adj1" fmla="val 53163"/>
              <a:gd name="adj2" fmla="val 53158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003640" y="1773360"/>
            <a:ext cx="3600720" cy="1726920"/>
          </a:xfrm>
          <a:prstGeom prst="downArrowCallout">
            <a:avLst>
              <a:gd name="adj1" fmla="val 52131"/>
              <a:gd name="adj2" fmla="val 52126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Не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ilecab2"/>
          <p:cNvSpPr/>
          <p:nvPr/>
        </p:nvSpPr>
        <p:spPr>
          <a:xfrm>
            <a:off x="250920" y="3716280"/>
            <a:ext cx="3960720" cy="2089080"/>
          </a:xfrm>
          <a:prstGeom prst="pie">
            <a:avLst/>
          </a:prstGeom>
          <a:solidFill>
            <a:srgbClr val="9933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ц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кидки и прем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Дешевые  распрода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etter"/>
          <p:cNvSpPr/>
          <p:nvPr/>
        </p:nvSpPr>
        <p:spPr>
          <a:xfrm>
            <a:off x="5076720" y="3716280"/>
            <a:ext cx="3743280" cy="2017800"/>
          </a:xfrm>
          <a:prstGeom prst="pi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24880" y="4089240"/>
            <a:ext cx="37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о и над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ополнитель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Особое оформ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3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3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3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ubBanner"/>
          <p:cNvSpPr/>
          <p:nvPr/>
        </p:nvSpPr>
        <p:spPr>
          <a:xfrm>
            <a:off x="755640" y="189000"/>
            <a:ext cx="741672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476360" y="476280"/>
            <a:ext cx="5467320" cy="126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ahoma"/>
              </a:rPr>
              <a:t>Модели современного рынка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124000" y="2781360"/>
            <a:ext cx="3457800" cy="165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полис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79280" y="1773360"/>
            <a:ext cx="2592360" cy="1368360"/>
          </a:xfrm>
          <a:prstGeom prst="cube">
            <a:avLst>
              <a:gd name="adj" fmla="val 250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924360" y="4076640"/>
            <a:ext cx="3240000" cy="129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г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6118200" y="5200560"/>
            <a:ext cx="3025800" cy="16574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 мон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5" name="AutoShape 21"/>
          <p:cNvCxnSpPr>
            <a:stCxn id="141" idx="0"/>
          </p:cNvCxnSpPr>
          <p:nvPr/>
        </p:nvCxnSpPr>
        <p:spPr>
          <a:xfrm flipH="1" flipV="1" rot="10800000">
            <a:off x="2123640" y="3608640"/>
            <a:ext cx="3921840" cy="2454480"/>
          </a:xfrm>
          <a:prstGeom prst="curvedConnector5">
            <a:avLst>
              <a:gd name="adj1" fmla="val -5820"/>
              <a:gd name="adj2" fmla="val 49992"/>
              <a:gd name="adj3" fmla="val -582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AutoShape 26"/>
          <p:cNvSpPr/>
          <p:nvPr/>
        </p:nvSpPr>
        <p:spPr>
          <a:xfrm>
            <a:off x="0" y="5734080"/>
            <a:ext cx="2340000" cy="8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03" y="2753"/>
                </a:moveTo>
                <a:lnTo>
                  <a:pt x="25366" y="2753"/>
                </a:lnTo>
                <a:lnTo>
                  <a:pt x="25366" y="-1415"/>
                </a:lnTo>
                <a:lnTo>
                  <a:pt x="24970" y="-5658"/>
                </a:lnTo>
              </a:path>
              <a:path w="21600" h="21600">
                <a:moveTo>
                  <a:pt x="22303" y="0"/>
                </a:moveTo>
                <a:lnTo>
                  <a:pt x="22303" y="21600"/>
                </a:lnTo>
              </a:path>
            </a:pathLst>
          </a:cu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Несоверш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фирм, представленных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 производимой продукции Стандартная или разнообразна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или отсутствие барьеров на пути вхождения фирм в данную отрасль или выхода из 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ь доступности экономическ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755640" y="404640"/>
            <a:ext cx="7561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По каким критериям мы будем различать рыно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структуры, которые сложили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в тех или иных отрас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10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000" autoRev="1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1000" autoRev="1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000" autoRev="1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7" descr="Зол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258920" y="83664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2920" y="260280"/>
            <a:ext cx="84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Совершенная конкуренц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971640" y="1341360"/>
            <a:ext cx="2808360" cy="1440000"/>
          </a:xfrm>
          <a:prstGeom prst="rect">
            <a:avLst/>
          </a:prstGeom>
          <a:solidFill>
            <a:srgbClr val="ffcc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 продавц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куп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900000" y="3573360"/>
            <a:ext cx="2880000" cy="2160720"/>
          </a:xfrm>
          <a:prstGeom prst="rect">
            <a:avLst/>
          </a:prstGeom>
          <a:solidFill>
            <a:srgbClr val="b7c533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что и ни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меш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м фирмам вой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ынок, а стары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йти с н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003640" y="1268280"/>
            <a:ext cx="3600720" cy="2087640"/>
          </a:xfrm>
          <a:prstGeom prst="rect">
            <a:avLst/>
          </a:prstGeom>
          <a:solidFill>
            <a:srgbClr val="b7c533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можно точ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по какой ц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ет товар тот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й продав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5076720" y="3645000"/>
            <a:ext cx="3600720" cy="2087640"/>
          </a:xfrm>
          <a:prstGeom prst="rect">
            <a:avLst/>
          </a:prstGeom>
          <a:solidFill>
            <a:srgbClr val="b7c533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вар является однор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 всех продавцов име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мерно одинак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: зерно, цемен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з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324000" y="1557360"/>
            <a:ext cx="3528720" cy="1150920"/>
          </a:xfrm>
          <a:prstGeom prst="rect">
            <a:avLst/>
          </a:prstGeom>
          <a:solidFill>
            <a:srgbClr val="b7c533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носительно больш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ло произ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3429000"/>
            <a:ext cx="3527280" cy="3025800"/>
          </a:xfrm>
          <a:prstGeom prst="rect">
            <a:avLst/>
          </a:prstGeom>
          <a:solidFill>
            <a:srgbClr val="b7c533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на рынке похож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 идентичной (с точ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рения покупате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. Каждая ф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ает особый  товар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отли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м, оформлени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сти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211640" y="1557360"/>
            <a:ext cx="4392720" cy="1079640"/>
          </a:xfrm>
          <a:prstGeom prst="rect">
            <a:avLst/>
          </a:prstGeom>
          <a:solidFill>
            <a:srgbClr val="b7c533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 над ценами огранич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ожностью замены тов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27640" y="3500280"/>
            <a:ext cx="3889440" cy="2159280"/>
          </a:xfrm>
          <a:prstGeom prst="rect">
            <a:avLst/>
          </a:prstGeom>
          <a:solidFill>
            <a:srgbClr val="b7c53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упление в монополь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ынок- свободное; для э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наличие начал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о капитала, большего, ч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овершенной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760" y="325440"/>
            <a:ext cx="959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онополистическая конкурен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мол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619280" y="33336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Monotype Corsiva"/>
              </a:rPr>
              <a:t>О л и г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900000" y="1341360"/>
            <a:ext cx="2952720" cy="1584360"/>
          </a:xfrm>
          <a:prstGeom prst="rect">
            <a:avLst/>
          </a:prstGeom>
          <a:solidFill>
            <a:srgbClr val="b7c533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скольких круп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рм ( три – пять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68360" y="3860640"/>
            <a:ext cx="3384360" cy="2305080"/>
          </a:xfrm>
          <a:prstGeom prst="rect">
            <a:avLst/>
          </a:prstGeom>
          <a:solidFill>
            <a:srgbClr val="b7c533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е одноро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руда, нефть, стал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мент)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фференцирова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втомобили и др. товар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148360" y="1268280"/>
            <a:ext cx="3384360" cy="2741760"/>
          </a:xfrm>
          <a:prstGeom prst="rect">
            <a:avLst/>
          </a:prstGeom>
          <a:solidFill>
            <a:srgbClr val="b7c533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ценов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еценовой конкурен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«жестскость»  ц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крытый догово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глашение 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заци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оп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788000" y="4508640"/>
            <a:ext cx="3887640" cy="1655640"/>
          </a:xfrm>
          <a:prstGeom prst="rect">
            <a:avLst/>
          </a:prstGeom>
          <a:solidFill>
            <a:srgbClr val="b7c53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упление других фи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лигопольный рын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рудне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Без назва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1370160" y="26028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9933ff"/>
                </a:solidFill>
                <a:latin typeface="Monotype Corsiva"/>
              </a:rPr>
              <a:t>М о н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1341360"/>
            <a:ext cx="3168360" cy="1441440"/>
          </a:xfrm>
          <a:prstGeom prst="rect">
            <a:avLst/>
          </a:prstGeom>
          <a:solidFill>
            <a:srgbClr val="b7c533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од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в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4000" y="3933720"/>
            <a:ext cx="3527280" cy="1800360"/>
          </a:xfrm>
          <a:prstGeom prst="rect">
            <a:avLst/>
          </a:prstGeom>
          <a:solidFill>
            <a:srgbClr val="b7c533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одство товар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имеющ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н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4788000" y="1413000"/>
            <a:ext cx="3744720" cy="1441440"/>
          </a:xfrm>
          <a:prstGeom prst="rect">
            <a:avLst/>
          </a:prstGeom>
          <a:solidFill>
            <a:srgbClr val="b7c5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ый контроль объ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й товар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716360" y="3716280"/>
            <a:ext cx="3816360" cy="2303640"/>
          </a:xfrm>
          <a:prstGeom prst="rect">
            <a:avLst/>
          </a:prstGeom>
          <a:solidFill>
            <a:srgbClr val="b7c5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непреодоли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рьеров (авто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, лиценз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енты) для потен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иальных участ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88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9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3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4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8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9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603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604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864720" y="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66ff"/>
                </a:solidFill>
                <a:uFillTx/>
                <a:latin typeface="Maiandra GD"/>
              </a:rPr>
              <a:t>Повторим основные поня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959200" y="3429000"/>
            <a:ext cx="37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971640" y="620640"/>
            <a:ext cx="75610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Рыночный механ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Не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Совершенн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стическая            конкуренц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Олиг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9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96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96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6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960"/>
                            </p:stCondLst>
                            <p:childTnLst>
                              <p:par>
                                <p:cTn id="6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96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96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43040" y="2143080"/>
            <a:ext cx="7500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ahoma"/>
              </a:rPr>
              <a:t>Конкуренция и модели современного ры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j0233018"/>
          <p:cNvPicPr/>
          <p:nvPr/>
        </p:nvPicPr>
        <p:blipFill>
          <a:blip r:embed="rId2"/>
          <a:stretch/>
        </p:blipFill>
        <p:spPr>
          <a:xfrm>
            <a:off x="1444680" y="158760"/>
            <a:ext cx="18162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3214800" y="4071960"/>
            <a:ext cx="2428920" cy="20462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09548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понятие и сущность конкуренци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формы и виды конкурен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дать характеристику моделей  современного ры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ыночный механ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овой сиг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ос на товары, предъявляемый потребителями, и предложение товаров и услуг со стороны произв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j0234687"/>
          <p:cNvPicPr/>
          <p:nvPr/>
        </p:nvPicPr>
        <p:blipFill>
          <a:blip r:embed="rId1"/>
          <a:stretch/>
        </p:blipFill>
        <p:spPr>
          <a:xfrm>
            <a:off x="1547640" y="2781360"/>
            <a:ext cx="2448000" cy="1655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куренция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ерничество между участниками рыночных отношений за лучшие условия производства, продажи и купли това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j0149481"/>
          <p:cNvPicPr/>
          <p:nvPr/>
        </p:nvPicPr>
        <p:blipFill>
          <a:blip r:embed="rId1"/>
          <a:stretch/>
        </p:blipFill>
        <p:spPr>
          <a:xfrm>
            <a:off x="5265720" y="2523960"/>
            <a:ext cx="2973240" cy="30243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щность кон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н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19256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45080" y="1539720"/>
            <a:ext cx="56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аетс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своб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а экономически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шен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участника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ых  отношени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соперничеств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олу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симальной прибыли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й вы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3" descr="j0291984"/>
          <p:cNvPicPr/>
          <p:nvPr/>
        </p:nvPicPr>
        <p:blipFill>
          <a:blip r:embed="rId1"/>
          <a:stretch/>
        </p:blipFill>
        <p:spPr>
          <a:xfrm>
            <a:off x="1042920" y="2276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095480" y="277920"/>
            <a:ext cx="53481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Narrow"/>
              </a:rPr>
              <a:t>КОНКУРЕНЦИЯ  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 живительная сила рыночной экономики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на служит мощным стимулятором роста производства и повышении его эффектив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2" descr="j0283209"/>
          <p:cNvPicPr/>
          <p:nvPr/>
        </p:nvPicPr>
        <p:blipFill>
          <a:blip r:embed="rId1"/>
          <a:stretch/>
        </p:blipFill>
        <p:spPr>
          <a:xfrm>
            <a:off x="6227640" y="170028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341440" y="333360"/>
            <a:ext cx="18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556000" y="1484280"/>
            <a:ext cx="3816360" cy="244944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купателей, име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 на рын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39640" y="3933720"/>
            <a:ext cx="352764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пре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экономически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х, полит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ых)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4643280" y="4149720"/>
            <a:ext cx="338472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ость информаци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жении и спрос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а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е при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Cloud"/>
          <p:cNvSpPr/>
          <p:nvPr/>
        </p:nvSpPr>
        <p:spPr>
          <a:xfrm>
            <a:off x="3143160" y="3857760"/>
            <a:ext cx="2579760" cy="71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750760" y="2221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46280" y="260280"/>
            <a:ext cx="53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Для возникновения конкурен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4360" y="476280"/>
            <a:ext cx="7991280" cy="1152360"/>
          </a:xfrm>
          <a:prstGeom prst="rect">
            <a:avLst/>
          </a:prstGeom>
          <a:solidFill>
            <a:srgbClr val="46cd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Tahoma"/>
              </a:rPr>
              <a:t>Виды и форм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9640" y="1989000"/>
            <a:ext cx="273708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метод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осущест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0836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отрасл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инадл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44364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степен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835280" y="1628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516720" y="162864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4859280" y="162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468360" y="3357720"/>
            <a:ext cx="230328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о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39640" y="4724280"/>
            <a:ext cx="216072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цен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3851280" y="3429000"/>
            <a:ext cx="230508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утр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3780000" y="4797360"/>
            <a:ext cx="230472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6588000" y="3429000"/>
            <a:ext cx="216072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6732720" y="4724280"/>
            <a:ext cx="223200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полист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7" name="AutoShape 31"/>
          <p:cNvCxnSpPr>
            <a:stCxn id="115" idx="1"/>
            <a:endCxn id="122" idx="2"/>
          </p:cNvCxnSpPr>
          <p:nvPr/>
        </p:nvCxnSpPr>
        <p:spPr>
          <a:xfrm flipH="1" flipV="1" rot="10800000">
            <a:off x="538560" y="2457360"/>
            <a:ext cx="2520" cy="26276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Line 32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AutoShape 34"/>
          <p:cNvCxnSpPr>
            <a:stCxn id="116" idx="1"/>
            <a:endCxn id="124" idx="2"/>
          </p:cNvCxnSpPr>
          <p:nvPr/>
        </p:nvCxnSpPr>
        <p:spPr>
          <a:xfrm flipH="1" flipV="1" rot="10800000">
            <a:off x="3707280" y="2456280"/>
            <a:ext cx="72360" cy="2701080"/>
          </a:xfrm>
          <a:prstGeom prst="bentConnector3">
            <a:avLst>
              <a:gd name="adj1" fmla="val -32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Line 35"/>
          <p:cNvSpPr/>
          <p:nvPr/>
        </p:nvSpPr>
        <p:spPr>
          <a:xfrm>
            <a:off x="3492360" y="3789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1" name="AutoShape 37"/>
          <p:cNvCxnSpPr>
            <a:stCxn id="117" idx="1"/>
            <a:endCxn id="126" idx="2"/>
          </p:cNvCxnSpPr>
          <p:nvPr/>
        </p:nvCxnSpPr>
        <p:spPr>
          <a:xfrm flipH="1" flipV="1" rot="10800000">
            <a:off x="6442200" y="2457000"/>
            <a:ext cx="289440" cy="2952000"/>
          </a:xfrm>
          <a:prstGeom prst="bentConnector3">
            <a:avLst>
              <a:gd name="adj1" fmla="val -79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" name="Line 39"/>
          <p:cNvSpPr/>
          <p:nvPr/>
        </p:nvSpPr>
        <p:spPr>
          <a:xfrm>
            <a:off x="6227640" y="38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2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3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86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87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91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92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0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1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6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04:24Z</dcterms:created>
  <dc:creator>Агапов</dc:creator>
  <dc:description/>
  <dc:language>en-US</dc:language>
  <cp:lastModifiedBy>Наталия</cp:lastModifiedBy>
  <dcterms:modified xsi:type="dcterms:W3CDTF">2009-04-20T14:33:20Z</dcterms:modified>
  <cp:revision>41</cp:revision>
  <dc:subject/>
  <dc:title>Экономика  10 класс</dc:title>
</cp:coreProperties>
</file>