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2.jpeg" ContentType="image/jpeg"/>
  <Override PartName="/ppt/media/image6.gif" ContentType="image/gif"/>
  <Override PartName="/ppt/media/image10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CCAC-FCD3-4092-BF6D-3AC83755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5CA-79AA-4339-ABE9-D0D0B59E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2FC-A869-4D57-B844-8FE835F0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42B5-3E49-48B7-B3EE-2D76F0C3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BC0CE-1848-4259-B8CD-2620820D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9A0A8-FC40-498D-93A3-7E17963C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17900-3169-4D04-862D-0BE542DD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5D266-4420-46C8-8A3F-A37D430D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2624E-9BFE-40A1-BCD8-C46EF4CB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9D0FF-DB80-4AD0-B4CA-D11F0E9E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76FAE-636A-495C-9002-A9D325D7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4642-FA84-4E28-8B0B-BF88F6F6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5179A-6CE4-436B-B5BC-94D700EF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B0065-98F1-410C-AB3C-3AFD50BC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186F9-606B-48A9-9B76-329ED121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15F28-E4C2-44B6-A28A-66C8C12F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2EA6D-7C2F-4760-8CD6-71B2FAE5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84D-06A0-4F93-8C40-D36328E3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44C2-45BF-4120-A901-BBDB3381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92A-EFE4-49C4-8175-1C0D53F6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54BE-4273-413D-A312-6A31F1BD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76CF-61A2-4C80-9FD9-E3082351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956-164B-4DFD-923F-9F2AF500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75FC-D000-484B-9B87-DE9A435D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52BF-36FC-446E-B1FB-A1F25FC773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E7CA-B55B-487A-BC96-31D95398A8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номика  10 кла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99640" y="2420640"/>
            <a:ext cx="370548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Учитель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Василёнок В.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МОУ СОШ №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Калинингра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j0285360"/>
          <p:cNvPicPr/>
          <p:nvPr/>
        </p:nvPicPr>
        <p:blipFill>
          <a:blip r:embed="rId1"/>
          <a:stretch/>
        </p:blipFill>
        <p:spPr>
          <a:xfrm>
            <a:off x="4732200" y="2236680"/>
            <a:ext cx="2845080" cy="3311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85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90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187280" y="549360"/>
            <a:ext cx="6840720" cy="6476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етод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95280" y="1773360"/>
            <a:ext cx="3672000" cy="1726920"/>
          </a:xfrm>
          <a:prstGeom prst="downArrowCallout">
            <a:avLst>
              <a:gd name="adj1" fmla="val 53163"/>
              <a:gd name="adj2" fmla="val 53158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5003640" y="1773360"/>
            <a:ext cx="3600720" cy="1726920"/>
          </a:xfrm>
          <a:prstGeom prst="downArrowCallout">
            <a:avLst>
              <a:gd name="adj1" fmla="val 52131"/>
              <a:gd name="adj2" fmla="val 52126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Не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filecab2"/>
          <p:cNvSpPr/>
          <p:nvPr/>
        </p:nvSpPr>
        <p:spPr>
          <a:xfrm>
            <a:off x="250920" y="3716280"/>
            <a:ext cx="3960720" cy="2089080"/>
          </a:xfrm>
          <a:prstGeom prst="pie">
            <a:avLst/>
          </a:prstGeom>
          <a:solidFill>
            <a:srgbClr val="9933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ижение ц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кидки и прем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Дешевые  распродаж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etter"/>
          <p:cNvSpPr/>
          <p:nvPr/>
        </p:nvSpPr>
        <p:spPr>
          <a:xfrm>
            <a:off x="5076720" y="3716280"/>
            <a:ext cx="3743280" cy="2017800"/>
          </a:xfrm>
          <a:prstGeom prst="pi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024880" y="4089240"/>
            <a:ext cx="37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чество и надеж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Дополнительные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Особое оформ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3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3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3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3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ubBanner"/>
          <p:cNvSpPr/>
          <p:nvPr/>
        </p:nvSpPr>
        <p:spPr>
          <a:xfrm>
            <a:off x="755640" y="189000"/>
            <a:ext cx="7416720" cy="1511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1476360" y="476280"/>
            <a:ext cx="5467320" cy="1265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ahoma"/>
              </a:rPr>
              <a:t>Модели современного рынка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2124000" y="2781360"/>
            <a:ext cx="3457800" cy="165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ополист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179280" y="1773360"/>
            <a:ext cx="2592360" cy="1368360"/>
          </a:xfrm>
          <a:prstGeom prst="cube">
            <a:avLst>
              <a:gd name="adj" fmla="val 250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ерш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3924360" y="4076640"/>
            <a:ext cx="3240000" cy="129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лиг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6118200" y="5200560"/>
            <a:ext cx="3025800" cy="16574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истая мон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5" name="AutoShape 21"/>
          <p:cNvCxnSpPr>
            <a:stCxn id="141" idx="0"/>
          </p:cNvCxnSpPr>
          <p:nvPr/>
        </p:nvCxnSpPr>
        <p:spPr>
          <a:xfrm flipH="1" flipV="1" rot="10800000">
            <a:off x="2123640" y="3608640"/>
            <a:ext cx="3921840" cy="2454480"/>
          </a:xfrm>
          <a:prstGeom prst="curvedConnector5">
            <a:avLst>
              <a:gd name="adj1" fmla="val -5820"/>
              <a:gd name="adj2" fmla="val 49992"/>
              <a:gd name="adj3" fmla="val -582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AutoShape 26"/>
          <p:cNvSpPr/>
          <p:nvPr/>
        </p:nvSpPr>
        <p:spPr>
          <a:xfrm>
            <a:off x="0" y="5734080"/>
            <a:ext cx="2340000" cy="8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03" y="2753"/>
                </a:moveTo>
                <a:lnTo>
                  <a:pt x="25366" y="2753"/>
                </a:lnTo>
                <a:lnTo>
                  <a:pt x="25366" y="-1415"/>
                </a:lnTo>
                <a:lnTo>
                  <a:pt x="24970" y="-5658"/>
                </a:lnTo>
              </a:path>
              <a:path w="21600" h="21600">
                <a:moveTo>
                  <a:pt x="22303" y="0"/>
                </a:moveTo>
                <a:lnTo>
                  <a:pt x="22303" y="21600"/>
                </a:lnTo>
              </a:path>
            </a:pathLst>
          </a:cu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Несовершен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ичество фирм, представленных на ры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рактер производимой продукции Стандартная или разнообразная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ичие или отсутствие барьеров на пути вхождения фирм в данную отрасль или выхода из 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ь доступности экономической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755640" y="404640"/>
            <a:ext cx="7561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По каким критериям мы будем различать рыноч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структуры, которые сложилис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в тех или иных отраслях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8" dur="10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1000" autoRev="1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1000" autoRev="1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1000" autoRev="1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1" name="Picture 7" descr="Зол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258920" y="83664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12920" y="260280"/>
            <a:ext cx="845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Совершенная конкуренц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971640" y="1341360"/>
            <a:ext cx="2808360" cy="1440000"/>
          </a:xfrm>
          <a:prstGeom prst="rect">
            <a:avLst/>
          </a:prstGeom>
          <a:solidFill>
            <a:srgbClr val="ffcc00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о продавц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покупа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900000" y="3573360"/>
            <a:ext cx="2880000" cy="2160720"/>
          </a:xfrm>
          <a:prstGeom prst="rect">
            <a:avLst/>
          </a:prstGeom>
          <a:solidFill>
            <a:srgbClr val="b7c533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ичто и никт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меша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вым фирмам вой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рынок, а старым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йти с не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5003640" y="1268280"/>
            <a:ext cx="3600720" cy="2087640"/>
          </a:xfrm>
          <a:prstGeom prst="rect">
            <a:avLst/>
          </a:prstGeom>
          <a:solidFill>
            <a:srgbClr val="b7c533">
              <a:alpha val="5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гда можно точ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ть, по какой цен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ет товар тот 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ой продаве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5076720" y="3645000"/>
            <a:ext cx="3600720" cy="2087640"/>
          </a:xfrm>
          <a:prstGeom prst="rect">
            <a:avLst/>
          </a:prstGeom>
          <a:solidFill>
            <a:srgbClr val="b7c533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вар является однородны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у всех продавцов име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мерно одинаков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: зерно, цемен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нзи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000"/>
                            </p:stCondLst>
                            <p:childTnLst>
                              <p:par>
                                <p:cTn id="4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324000" y="1557360"/>
            <a:ext cx="3528720" cy="1150920"/>
          </a:xfrm>
          <a:prstGeom prst="rect">
            <a:avLst/>
          </a:prstGeom>
          <a:solidFill>
            <a:srgbClr val="b7c533">
              <a:alpha val="2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носительно больш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исло производ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250920" y="3429000"/>
            <a:ext cx="3527280" cy="3025800"/>
          </a:xfrm>
          <a:prstGeom prst="rect">
            <a:avLst/>
          </a:prstGeom>
          <a:solidFill>
            <a:srgbClr val="b7c533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на рынке похож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не идентичной (с точ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рения покупателей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. Каждая фир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ает особый  товар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ый отлич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м, оформление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стижност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4211640" y="1557360"/>
            <a:ext cx="4392720" cy="1079640"/>
          </a:xfrm>
          <a:prstGeom prst="rect">
            <a:avLst/>
          </a:prstGeom>
          <a:solidFill>
            <a:srgbClr val="b7c533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оль над ценами огранич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можностью замены това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427640" y="3500280"/>
            <a:ext cx="3889440" cy="2159280"/>
          </a:xfrm>
          <a:prstGeom prst="rect">
            <a:avLst/>
          </a:prstGeom>
          <a:solidFill>
            <a:srgbClr val="b7c533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тупление в монополь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ынок- свободное; для эт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обходимо наличие началь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го капитала, большего, ч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совершенной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5760" y="325440"/>
            <a:ext cx="959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Монополистическая конкурен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0"/>
                            </p:stCondLst>
                            <p:childTnLst>
                              <p:par>
                                <p:cTn id="5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мол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1619280" y="333360"/>
            <a:ext cx="464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66ff"/>
                </a:solidFill>
                <a:latin typeface="Monotype Corsiva"/>
              </a:rPr>
              <a:t>О л и г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900000" y="1341360"/>
            <a:ext cx="2952720" cy="1584360"/>
          </a:xfrm>
          <a:prstGeom prst="rect">
            <a:avLst/>
          </a:prstGeom>
          <a:solidFill>
            <a:srgbClr val="b7c533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скольких круп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рм ( три – пять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68360" y="3860640"/>
            <a:ext cx="3384360" cy="2305080"/>
          </a:xfrm>
          <a:prstGeom prst="rect">
            <a:avLst/>
          </a:prstGeom>
          <a:solidFill>
            <a:srgbClr val="b7c533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е однород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руда, нефть, стал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мент)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фференцирован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автомобили и др. товар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5148360" y="1268280"/>
            <a:ext cx="3384360" cy="2741760"/>
          </a:xfrm>
          <a:prstGeom prst="rect">
            <a:avLst/>
          </a:prstGeom>
          <a:solidFill>
            <a:srgbClr val="b7c533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ование ценов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неценовой конкуренц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«жестскость»  це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крытый договор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оглашение 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ециализации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опер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4788000" y="4508640"/>
            <a:ext cx="3887640" cy="1655640"/>
          </a:xfrm>
          <a:prstGeom prst="rect">
            <a:avLst/>
          </a:prstGeom>
          <a:solidFill>
            <a:srgbClr val="b7c533">
              <a:alpha val="2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тупление других фир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лигопольный рын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трудне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Без назва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1370160" y="260280"/>
            <a:ext cx="58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9933ff"/>
                </a:solidFill>
                <a:latin typeface="Monotype Corsiva"/>
              </a:rPr>
              <a:t>М о н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24000" y="1341360"/>
            <a:ext cx="3168360" cy="1441440"/>
          </a:xfrm>
          <a:prstGeom prst="rect">
            <a:avLst/>
          </a:prstGeom>
          <a:solidFill>
            <a:srgbClr val="b7c533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одн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в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324000" y="3933720"/>
            <a:ext cx="3527280" cy="1800360"/>
          </a:xfrm>
          <a:prstGeom prst="rect">
            <a:avLst/>
          </a:prstGeom>
          <a:solidFill>
            <a:srgbClr val="b7c533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одство товар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имеющ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мени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4788000" y="1413000"/>
            <a:ext cx="3744720" cy="1441440"/>
          </a:xfrm>
          <a:prstGeom prst="rect">
            <a:avLst/>
          </a:prstGeom>
          <a:solidFill>
            <a:srgbClr val="b7c53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ный контроль объе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й товара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4716360" y="3716280"/>
            <a:ext cx="3816360" cy="2303640"/>
          </a:xfrm>
          <a:prstGeom prst="rect">
            <a:avLst/>
          </a:prstGeom>
          <a:solidFill>
            <a:srgbClr val="b7c533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непреодолим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рьеров (автор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, лиценз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тенты) для потен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иальных участ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3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80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88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89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59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3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4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8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9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3000"/>
                            </p:stCondLst>
                            <p:childTnLst>
                              <p:par>
                                <p:cTn id="60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603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604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6"/>
          <p:cNvSpPr/>
          <p:nvPr/>
        </p:nvSpPr>
        <p:spPr>
          <a:xfrm>
            <a:off x="864720" y="0"/>
            <a:ext cx="75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66ff"/>
                </a:solidFill>
                <a:uFillTx/>
                <a:latin typeface="Maiandra GD"/>
              </a:rPr>
              <a:t>Повторим основные понят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959200" y="3429000"/>
            <a:ext cx="37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971640" y="620640"/>
            <a:ext cx="756108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Рыночный механиз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Не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Совершенн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стическая            конкуренц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Олиг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960"/>
                            </p:stCondLst>
                            <p:childTnLst>
                              <p:par>
                                <p:cTn id="6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960"/>
                            </p:stCondLst>
                            <p:childTnLst>
                              <p:par>
                                <p:cTn id="6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960"/>
                            </p:stCondLst>
                            <p:childTnLst>
                              <p:par>
                                <p:cTn id="6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960"/>
                            </p:stCondLst>
                            <p:childTnLst>
                              <p:par>
                                <p:cTn id="6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960"/>
                            </p:stCondLst>
                            <p:childTnLst>
                              <p:par>
                                <p:cTn id="6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960"/>
                            </p:stCondLst>
                            <p:childTnLst>
                              <p:par>
                                <p:cTn id="6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6960"/>
                            </p:stCondLst>
                            <p:childTnLst>
                              <p:par>
                                <p:cTn id="6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7960"/>
                            </p:stCondLst>
                            <p:childTnLst>
                              <p:par>
                                <p:cTn id="6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хема 6" descr=""/>
          <p:cNvPicPr/>
          <p:nvPr/>
        </p:nvPicPr>
        <p:blipFill>
          <a:blip r:embed="rId1"/>
          <a:stretch/>
        </p:blipFill>
        <p:spPr>
          <a:xfrm>
            <a:off x="493560" y="26820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43040" y="2143080"/>
            <a:ext cx="75009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ahoma"/>
              </a:rPr>
              <a:t>Конкуренция и модели современного ры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j0233018"/>
          <p:cNvPicPr/>
          <p:nvPr/>
        </p:nvPicPr>
        <p:blipFill>
          <a:blip r:embed="rId2"/>
          <a:stretch/>
        </p:blipFill>
        <p:spPr>
          <a:xfrm>
            <a:off x="1444680" y="158760"/>
            <a:ext cx="1816200" cy="1755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Microsoft Office\MEDIA\CAGCAT10\j0300840.wmf"/>
          <p:cNvPicPr/>
          <p:nvPr/>
        </p:nvPicPr>
        <p:blipFill>
          <a:blip r:embed="rId3"/>
          <a:stretch/>
        </p:blipFill>
        <p:spPr>
          <a:xfrm>
            <a:off x="3214800" y="4071960"/>
            <a:ext cx="2428920" cy="20462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1095480" y="56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понятие и сущность конкуренции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формы и виды конкурен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дать характеристику моделей  современного ры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ыночный механиз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новой сигн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рос на товары, предъявляемый потребителями, и предложение товаров и услуг со стороны произв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j0234687"/>
          <p:cNvPicPr/>
          <p:nvPr/>
        </p:nvPicPr>
        <p:blipFill>
          <a:blip r:embed="rId1"/>
          <a:stretch/>
        </p:blipFill>
        <p:spPr>
          <a:xfrm>
            <a:off x="1547640" y="2781360"/>
            <a:ext cx="2448000" cy="1655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онкуренция 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перничество между участниками рыночных отношений за лучшие условия производства, продажи и купли това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j0149481"/>
          <p:cNvPicPr/>
          <p:nvPr/>
        </p:nvPicPr>
        <p:blipFill>
          <a:blip r:embed="rId1"/>
          <a:stretch/>
        </p:blipFill>
        <p:spPr>
          <a:xfrm>
            <a:off x="5265720" y="2523960"/>
            <a:ext cx="2973240" cy="30243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ущность конк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р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ен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192560" y="178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745080" y="1539720"/>
            <a:ext cx="568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лючается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 свобо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ыбора экономически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ешений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участниками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ночных  отношений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словиях соперничеств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получ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симальной прибыли 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ной выг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3" descr="j0291984"/>
          <p:cNvPicPr/>
          <p:nvPr/>
        </p:nvPicPr>
        <p:blipFill>
          <a:blip r:embed="rId1"/>
          <a:stretch/>
        </p:blipFill>
        <p:spPr>
          <a:xfrm>
            <a:off x="1042920" y="2276640"/>
            <a:ext cx="1808280" cy="1914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7"/>
          <p:cNvSpPr/>
          <p:nvPr/>
        </p:nvSpPr>
        <p:spPr>
          <a:xfrm>
            <a:off x="1095480" y="277920"/>
            <a:ext cx="534816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Narrow"/>
              </a:rPr>
              <a:t>КОНКУРЕНЦИЯ   -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это  живительная сила рыночной экономики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Она служит мощным стимулятором роста производства и повышении его эффективн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2" descr="j0283209"/>
          <p:cNvPicPr/>
          <p:nvPr/>
        </p:nvPicPr>
        <p:blipFill>
          <a:blip r:embed="rId1"/>
          <a:stretch/>
        </p:blipFill>
        <p:spPr>
          <a:xfrm>
            <a:off x="6227640" y="1700280"/>
            <a:ext cx="2592360" cy="2879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341440" y="333360"/>
            <a:ext cx="18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2556000" y="1484280"/>
            <a:ext cx="3816360" cy="244944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е количество продавц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покупателей, имеющ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 на рын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539640" y="3933720"/>
            <a:ext cx="352764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сутствие прегра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экономически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ридических, полит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циальных) д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би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4643280" y="4149720"/>
            <a:ext cx="338472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ность информации 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ложении и спрос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а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рме прибы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Cloud"/>
          <p:cNvSpPr/>
          <p:nvPr/>
        </p:nvSpPr>
        <p:spPr>
          <a:xfrm>
            <a:off x="3143160" y="3857760"/>
            <a:ext cx="2579760" cy="711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2750760" y="2221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1646280" y="260280"/>
            <a:ext cx="53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Для возникновения конкурен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             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еобходим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10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3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10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684360" y="476280"/>
            <a:ext cx="7991280" cy="1152360"/>
          </a:xfrm>
          <a:prstGeom prst="rect">
            <a:avLst/>
          </a:prstGeom>
          <a:solidFill>
            <a:srgbClr val="46cd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Tahoma"/>
              </a:rPr>
              <a:t>Виды и форм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9640" y="1989000"/>
            <a:ext cx="273708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метод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осущест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0836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отраслев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ринадлеж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44364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степен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воб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1835280" y="1628640"/>
            <a:ext cx="1224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6516720" y="162864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4859280" y="162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18"/>
          <p:cNvSpPr/>
          <p:nvPr/>
        </p:nvSpPr>
        <p:spPr>
          <a:xfrm>
            <a:off x="468360" y="3357720"/>
            <a:ext cx="2303280" cy="71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ов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539640" y="4724280"/>
            <a:ext cx="216072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цено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20"/>
          <p:cNvSpPr/>
          <p:nvPr/>
        </p:nvSpPr>
        <p:spPr>
          <a:xfrm>
            <a:off x="3851280" y="3429000"/>
            <a:ext cx="230508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нутр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3780000" y="4797360"/>
            <a:ext cx="230472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ж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val 22"/>
          <p:cNvSpPr/>
          <p:nvPr/>
        </p:nvSpPr>
        <p:spPr>
          <a:xfrm>
            <a:off x="6588000" y="3429000"/>
            <a:ext cx="2160720" cy="863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23"/>
          <p:cNvSpPr/>
          <p:nvPr/>
        </p:nvSpPr>
        <p:spPr>
          <a:xfrm>
            <a:off x="6732720" y="4724280"/>
            <a:ext cx="2232000" cy="136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ополист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ск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не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7" name="AutoShape 31"/>
          <p:cNvCxnSpPr>
            <a:stCxn id="115" idx="1"/>
            <a:endCxn id="122" idx="2"/>
          </p:cNvCxnSpPr>
          <p:nvPr/>
        </p:nvCxnSpPr>
        <p:spPr>
          <a:xfrm flipH="1" flipV="1" rot="10800000">
            <a:off x="538560" y="2457360"/>
            <a:ext cx="2520" cy="26276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8" name="Line 32"/>
          <p:cNvSpPr/>
          <p:nvPr/>
        </p:nvSpPr>
        <p:spPr>
          <a:xfrm>
            <a:off x="324000" y="37162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9" name="AutoShape 34"/>
          <p:cNvCxnSpPr>
            <a:stCxn id="116" idx="1"/>
            <a:endCxn id="124" idx="2"/>
          </p:cNvCxnSpPr>
          <p:nvPr/>
        </p:nvCxnSpPr>
        <p:spPr>
          <a:xfrm flipH="1" flipV="1" rot="10800000">
            <a:off x="3707280" y="2456280"/>
            <a:ext cx="72360" cy="2701080"/>
          </a:xfrm>
          <a:prstGeom prst="bentConnector3">
            <a:avLst>
              <a:gd name="adj1" fmla="val -32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0" name="Line 35"/>
          <p:cNvSpPr/>
          <p:nvPr/>
        </p:nvSpPr>
        <p:spPr>
          <a:xfrm>
            <a:off x="3492360" y="378936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1" name="AutoShape 37"/>
          <p:cNvCxnSpPr>
            <a:stCxn id="117" idx="1"/>
            <a:endCxn id="126" idx="2"/>
          </p:cNvCxnSpPr>
          <p:nvPr/>
        </p:nvCxnSpPr>
        <p:spPr>
          <a:xfrm flipH="1" flipV="1" rot="10800000">
            <a:off x="6442200" y="2457000"/>
            <a:ext cx="289440" cy="2952000"/>
          </a:xfrm>
          <a:prstGeom prst="bentConnector3">
            <a:avLst>
              <a:gd name="adj1" fmla="val -7920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2" name="Line 39"/>
          <p:cNvSpPr/>
          <p:nvPr/>
        </p:nvSpPr>
        <p:spPr>
          <a:xfrm>
            <a:off x="6227640" y="3860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150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2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3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7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8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000"/>
                            </p:stCondLst>
                            <p:childTnLst>
                              <p:par>
                                <p:cTn id="2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15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86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87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91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92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15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0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1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5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6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7:04:24Z</dcterms:created>
  <dc:creator>Агапов</dc:creator>
  <dc:description/>
  <dc:language>en-US</dc:language>
  <cp:lastModifiedBy>Наталия</cp:lastModifiedBy>
  <dcterms:modified xsi:type="dcterms:W3CDTF">2009-04-20T14:33:20Z</dcterms:modified>
  <cp:revision>41</cp:revision>
  <dc:subject/>
  <dc:title>Экономика  10 класс</dc:title>
</cp:coreProperties>
</file>